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938A-A8F9-4F24-AF35-A642D3EF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E7E-6577-423A-9EC4-45960C1B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BF6-54D7-4512-A59A-24939D10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F7E-329A-4D58-92F6-5F3CFD78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FA30-A93F-4B51-8DB0-015B1897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DC54-633D-487A-93B6-DCC3B08B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11A0-7D6F-45B3-AA90-B21175CD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06EE-E1F1-42D3-86DB-50837914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A0C7-E4C8-4333-B35B-0D6A288B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91C5-A76C-42A5-B55D-D39E6A20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D026-B90F-41E9-9A00-2FF3FD5F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6ED-66B2-4763-AC33-016C16B9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17DB-6D4C-4073-9ED1-463BD737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ABEB-DEEF-4FD5-B05B-2030AB92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7495-AC88-4CE2-A957-25A1812B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69FE-D849-41E2-A804-5DECD4BB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309E-2AAD-4740-835F-A525E96B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BAE-9129-4A68-8FA9-8DA179C6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78A-E818-4B39-9738-D3C1C1C7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0464-CE9F-4804-B6D1-4C3ADD4D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AA17-55D8-463D-B770-49C917C7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B15-02A1-48B7-95E6-20DD64CD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2763-69C7-4D97-8C3C-CBEF5F3E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46B1-CA86-428A-9F8D-0DA7245D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7FE2-2FC3-4EC6-A532-3C604F9B9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E8F8-8090-4476-A875-FAD65E3E29D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6BBA-99E1-49AE-AF0E-D0C37BD9584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312;%B0%AE&amp;in=91&amp;cl=2&amp;cm=1&amp;sc=0&amp;lm=-1&amp;pn=90&amp;rn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312;%B0%AE&amp;in=16&amp;cl=2&amp;cm=1&amp;sc=0&amp;lm=-1&amp;pn=15&amp;rn=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F:\ppt\705\人教版四年级语文上册《母鸡》PPT课件\6545510_194557375181_2.jpg"/>
          <p:cNvPicPr/>
          <p:nvPr/>
        </p:nvPicPr>
        <p:blipFill>
          <a:blip r:embed="rId1"/>
          <a:srcRect l="8396" t="0" r="3873" b="5289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6"/>
          <p:cNvSpPr txBox="1"/>
          <p:nvPr/>
        </p:nvSpPr>
        <p:spPr>
          <a:xfrm>
            <a:off x="685800" y="477720"/>
            <a:ext cx="719136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8360">
                  <a:solidFill>
                    <a:srgbClr val="ffffff"/>
                  </a:solidFill>
                  <a:round/>
                </a:ln>
                <a:solidFill>
                  <a:srgbClr val="ffff00"/>
                </a:solidFill>
                <a:latin typeface="方正毡笔黑简体"/>
              </a:rPr>
              <a:t>人教版母鸡课件</a:t>
            </a:r>
            <a:r>
              <a:rPr b="0" lang="en-US" sz="4800" spc="1" strike="noStrike">
                <a:ln w="18360">
                  <a:solidFill>
                    <a:srgbClr val="ffffff"/>
                  </a:solidFill>
                  <a:round/>
                </a:ln>
                <a:solidFill>
                  <a:srgbClr val="ffff00"/>
                </a:solidFill>
                <a:latin typeface="方正毡笔黑简体"/>
              </a:rPr>
              <a:t>PPT</a:t>
            </a:r>
            <a:r>
              <a:rPr b="0" lang="zh-CN" sz="4800" spc="1" strike="noStrike">
                <a:ln w="18360">
                  <a:solidFill>
                    <a:srgbClr val="ffffff"/>
                  </a:solidFill>
                  <a:round/>
                </a:ln>
                <a:solidFill>
                  <a:srgbClr val="ffff00"/>
                </a:solidFill>
                <a:latin typeface="方正毡笔黑简体"/>
              </a:rPr>
              <a:t>模板下载</a:t>
            </a:r>
            <a:endParaRPr b="0" lang="en-US" sz="4800" spc="1" strike="noStrike">
              <a:ln w="18360">
                <a:solidFill>
                  <a:srgbClr val="ffffff"/>
                </a:solidFill>
                <a:round/>
              </a:ln>
              <a:solidFill>
                <a:srgbClr val="ffff00"/>
              </a:solidFill>
              <a:latin typeface="方正毡笔黑简体"/>
              <a:ea typeface="方正毡笔黑简体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7721640" y="2930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8"/>
          <p:cNvSpPr txBox="1"/>
          <p:nvPr/>
        </p:nvSpPr>
        <p:spPr>
          <a:xfrm>
            <a:off x="7262640" y="53737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efefe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老舍</a:t>
            </a:r>
            <a:endParaRPr b="1" lang="en-US" sz="1800" spc="1" strike="noStrike">
              <a:ln w="19080">
                <a:solidFill>
                  <a:srgbClr val="fefefe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F:\ppt\705\人教版四年级语文上册《母鸡》PPT课件\4181839_090019216599_2.jpg"/>
          <p:cNvPicPr/>
          <p:nvPr/>
        </p:nvPicPr>
        <p:blipFill>
          <a:blip r:embed="rId1"/>
          <a:srcRect l="2431" t="2897" r="10375" b="3675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ji2_061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ji2_059"/>
          <p:cNvPicPr/>
          <p:nvPr/>
        </p:nvPicPr>
        <p:blipFill>
          <a:blip r:embed="rId1"/>
          <a:stretch/>
        </p:blipFill>
        <p:spPr>
          <a:xfrm>
            <a:off x="-304920" y="166680"/>
            <a:ext cx="9753840" cy="652464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u=2392229512,1844039189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9197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5003640" y="12240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发生在一位游子与母亲之间。游子探亲期满离开故乡，母亲送他去车站。在车站，儿子放旅行包的拎带被挤断。眼看着就要到发车时间，母亲急忙从身上解下裤腰带，把旅行包扎好。解裤腰带时，由于心急又用力，她把脸都涨红了。儿子问母亲怎么回家呢？母亲说，不要紧，慢慢走。多少年来，儿子一直把母亲这根裤腰带珍藏在身边。多少年来，儿子一直在想，他母亲没有裤腰带是怎样走回几里外的家的。 另一个故事由发生在一个犯人同母亲之间，探监的日子，一位来自贫困山区的母亲，经过乘驴车、汽车和火车的辗转，探望服刑的儿子。在探监人五光十色的物品中，老母亲给儿子掏出用白布包着的葵花子。葵花子已经炒熟，老母亲全嗑好了。没有皮，白花花的像密密麻麻的雀舌头服刑的儿子接过这堆葵花子肉，手开始抖。母亲亦无言语，撩起衣襟拭泪。她千里迢迢探望儿子，卖掉了鸡蛋和小猪崽，还要节省许多开支才凑足路费，来之前，在白天的劳碌后，晚上在煤油灯下嗑瓜子。嗑好的瓜子肉放在一起，看它们像小山一点点增多，不舍得吃一粒。十多斤瓜子嗑了许多夜晚。在所有探监人当中，他母亲的衣着是最褴褛的。母亲一口一口嗑的瓜子，包含了千言万语。儿子“扑通”给母亲跪下，他忏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78CA-9A65-4E3B-AC04-FB54D3F649C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u=2011381153,2506338328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WordArt 7"/>
          <p:cNvSpPr txBox="1"/>
          <p:nvPr/>
        </p:nvSpPr>
        <p:spPr>
          <a:xfrm>
            <a:off x="1116000" y="1989000"/>
            <a:ext cx="345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cc99"/>
                </a:solidFill>
                <a:latin typeface="黑体"/>
              </a:rPr>
              <a:t>母爱</a:t>
            </a:r>
            <a:endParaRPr b="0" lang="en-US" sz="1800" spc="-1" strike="noStrike">
              <a:ln w="0">
                <a:noFill/>
              </a:ln>
              <a:solidFill>
                <a:srgbClr val="ffcc99"/>
              </a:solidFill>
              <a:latin typeface="黑体"/>
              <a:ea typeface="黑体"/>
            </a:endParaRPr>
          </a:p>
        </p:txBody>
      </p:sp>
      <p:sp>
        <p:nvSpPr>
          <p:cNvPr id="100" name="WordArt 9"/>
          <p:cNvSpPr txBox="1"/>
          <p:nvPr/>
        </p:nvSpPr>
        <p:spPr>
          <a:xfrm>
            <a:off x="6084720" y="765000"/>
            <a:ext cx="15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cc"/>
                </a:solidFill>
                <a:latin typeface="宋体"/>
              </a:rPr>
              <a:t>无私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99cc"/>
              </a:solidFill>
              <a:latin typeface="宋体"/>
              <a:ea typeface="宋体"/>
            </a:endParaRPr>
          </a:p>
        </p:txBody>
      </p:sp>
      <p:sp>
        <p:nvSpPr>
          <p:cNvPr id="101" name="WordArt 10"/>
          <p:cNvSpPr txBox="1"/>
          <p:nvPr/>
        </p:nvSpPr>
        <p:spPr>
          <a:xfrm>
            <a:off x="6156360" y="378936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8080"/>
                  </a:solidFill>
                  <a:round/>
                </a:ln>
                <a:solidFill>
                  <a:srgbClr val="339966"/>
                </a:solidFill>
                <a:latin typeface="宋体"/>
              </a:rPr>
              <a:t>勇敢</a:t>
            </a:r>
            <a:endParaRPr b="0" lang="en-US" sz="1800" spc="1" strike="noStrike">
              <a:ln w="9360">
                <a:solidFill>
                  <a:srgbClr val="808080"/>
                </a:solidFill>
                <a:round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102" name="WordArt 11"/>
          <p:cNvSpPr txBox="1"/>
          <p:nvPr/>
        </p:nvSpPr>
        <p:spPr>
          <a:xfrm>
            <a:off x="6227640" y="4797360"/>
            <a:ext cx="15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66ff"/>
                </a:solidFill>
                <a:latin typeface="宋体"/>
              </a:rPr>
              <a:t>辛苦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  <p:sp>
        <p:nvSpPr>
          <p:cNvPr id="103" name="WordArt 12"/>
          <p:cNvSpPr txBox="1"/>
          <p:nvPr/>
        </p:nvSpPr>
        <p:spPr>
          <a:xfrm>
            <a:off x="6156360" y="177336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00"/>
                </a:solidFill>
                <a:latin typeface="宋体"/>
              </a:rPr>
              <a:t>负责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104" name="WordArt 13"/>
          <p:cNvSpPr txBox="1"/>
          <p:nvPr/>
        </p:nvSpPr>
        <p:spPr>
          <a:xfrm>
            <a:off x="6156360" y="278136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cccc"/>
                </a:solidFill>
                <a:latin typeface="宋体"/>
              </a:rPr>
              <a:t>慈爱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cccc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2:37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02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