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0DD-6EA5-453B-9195-F2605600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C4D3-98A9-47E1-AB73-E4EE4735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1A62-9A45-442B-9347-7C3D1085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CA0A-9048-4E62-8A1F-876FA159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1A5D-E18A-4095-84F0-FDBEB8D0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0D5A-8E8A-424B-A752-42AD778F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2F65-81D8-42E3-AC26-96520089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BAA3-1A9A-4B06-9DC5-1FFB97B5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1FCD-D665-487A-9A41-61066E5E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779C-40A2-480D-B9BB-DD426010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0C34-E99C-4941-AE50-4A3DF6A8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27A-D7AA-470F-A067-2A5AB1BF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548A-2974-4E81-931C-0576D15F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22A1-D696-4A66-BD27-C5300CE5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4725-497D-4631-885E-54F0839C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8115-FDE6-4481-85E9-2EF80510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D3A9-AE32-4B83-BEE6-4F043536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EAE-8134-476E-A415-7AAF5FA7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A9C-B5CD-4EA2-92CE-91AD673C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D4B7-E20B-442E-AEAF-0C652A70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2B33-6601-4D77-BB0B-FA85CA26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C24-CC0C-4B82-BC7F-F51A7B4D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F67-0AC6-4D66-B4C2-14F680CB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B85A-D04C-4106-B7F7-9422CA0E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7B88-F9DD-4747-BDDF-50D28C430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05FC-55FF-45D3-A99E-60AC2467330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9664-2100-4403-A863-0F4E9484F4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9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4" descr="F:\ppt\705a\人教版四年级语文上册《颐和园》PPT课件\17321739_184856083000_2.jpg"/>
          <p:cNvPicPr/>
          <p:nvPr/>
        </p:nvPicPr>
        <p:blipFill>
          <a:blip r:embed="rId16"/>
          <a:srcRect l="0" t="0" r="6251" b="54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22448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方正超粗黑简体"/>
                <a:ea typeface="方正超粗黑简体"/>
              </a:rPr>
              <a:t>人教版颐和园课件</a:t>
            </a:r>
            <a:r>
              <a:rPr b="0" lang="en-US" sz="4000" spc="-1" strike="noStrike">
                <a:solidFill>
                  <a:srgbClr val="ffff00"/>
                </a:solidFill>
                <a:latin typeface="方正超粗黑简体"/>
                <a:ea typeface="方正超粗黑简体"/>
              </a:rPr>
              <a:t>PPT</a:t>
            </a:r>
            <a:r>
              <a:rPr b="0" lang="zh-CN" sz="4000" spc="-1" strike="noStrike">
                <a:solidFill>
                  <a:srgbClr val="ffff00"/>
                </a:solidFill>
                <a:latin typeface="方正超粗黑简体"/>
                <a:ea typeface="方正超粗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-11916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bjyhy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-14436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bjyhy1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2090880"/>
            <a:ext cx="9132840" cy="47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895480" y="990720"/>
            <a:ext cx="305748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0" lang="en-US" sz="8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14400" y="34290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描写景物，可写景物的颜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>
            <a:hlinkClick r:id="" action="ppaction://hlinkshowjump?jump=firstslide"/>
          </p:cNvPr>
          <p:cNvSpPr/>
          <p:nvPr/>
        </p:nvSpPr>
        <p:spPr>
          <a:xfrm>
            <a:off x="701028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25914" y="3837"/>
                </a:moveTo>
                <a:lnTo>
                  <a:pt x="28490" y="6448"/>
                </a:lnTo>
                <a:lnTo>
                  <a:pt x="28490" y="4707"/>
                </a:lnTo>
                <a:lnTo>
                  <a:pt x="30266" y="4707"/>
                </a:lnTo>
                <a:lnTo>
                  <a:pt x="30266" y="8224"/>
                </a:lnTo>
                <a:lnTo>
                  <a:pt x="32877" y="10800"/>
                </a:lnTo>
                <a:lnTo>
                  <a:pt x="31223" y="10800"/>
                </a:lnTo>
                <a:lnTo>
                  <a:pt x="31223" y="17989"/>
                </a:lnTo>
                <a:lnTo>
                  <a:pt x="20605" y="17989"/>
                </a:lnTo>
                <a:lnTo>
                  <a:pt x="20605" y="10800"/>
                </a:lnTo>
                <a:lnTo>
                  <a:pt x="18951" y="10800"/>
                </a:lnTo>
                <a:close/>
              </a:path>
              <a:path fill="darkenLess" w="51828" h="21600">
                <a:moveTo>
                  <a:pt x="28490" y="6448"/>
                </a:moveTo>
                <a:lnTo>
                  <a:pt x="28490" y="4707"/>
                </a:lnTo>
                <a:lnTo>
                  <a:pt x="30266" y="4707"/>
                </a:lnTo>
                <a:lnTo>
                  <a:pt x="30266" y="8224"/>
                </a:lnTo>
                <a:close/>
              </a:path>
              <a:path fill="darkenLess" w="51828" h="21600">
                <a:moveTo>
                  <a:pt x="24991" y="14299"/>
                </a:moveTo>
                <a:lnTo>
                  <a:pt x="26836" y="14299"/>
                </a:lnTo>
                <a:lnTo>
                  <a:pt x="26836" y="17989"/>
                </a:lnTo>
                <a:lnTo>
                  <a:pt x="31223" y="17989"/>
                </a:lnTo>
                <a:lnTo>
                  <a:pt x="31223" y="10800"/>
                </a:lnTo>
                <a:lnTo>
                  <a:pt x="20605" y="10800"/>
                </a:lnTo>
                <a:lnTo>
                  <a:pt x="20605" y="17989"/>
                </a:lnTo>
                <a:lnTo>
                  <a:pt x="24991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比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这条长廊有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700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多米长，分成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73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这条长廊很长很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>
            <a:hlinkClick r:id="" action="ppaction://hlinkshowjump?jump=firstslide"/>
          </p:cNvPr>
          <p:cNvSpPr/>
          <p:nvPr/>
        </p:nvSpPr>
        <p:spPr>
          <a:xfrm>
            <a:off x="6629400" y="57913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2895480" y="990720"/>
            <a:ext cx="305748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0" lang="en-US" sz="8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0880" y="34290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描写景物，可用具体的数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>
            <a:hlinkClick r:id="" action="ppaction://hlinkshowjump?jump=firstslide"/>
          </p:cNvPr>
          <p:cNvSpPr/>
          <p:nvPr/>
        </p:nvSpPr>
        <p:spPr>
          <a:xfrm>
            <a:off x="7391520" y="6019920"/>
            <a:ext cx="533160" cy="30456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8897" y="3837"/>
                </a:moveTo>
                <a:lnTo>
                  <a:pt x="21473" y="6448"/>
                </a:lnTo>
                <a:lnTo>
                  <a:pt x="21473" y="4707"/>
                </a:lnTo>
                <a:lnTo>
                  <a:pt x="23249" y="4707"/>
                </a:lnTo>
                <a:lnTo>
                  <a:pt x="23249" y="8224"/>
                </a:lnTo>
                <a:lnTo>
                  <a:pt x="25860" y="10800"/>
                </a:lnTo>
                <a:lnTo>
                  <a:pt x="24206" y="10800"/>
                </a:lnTo>
                <a:lnTo>
                  <a:pt x="24206" y="17989"/>
                </a:lnTo>
                <a:lnTo>
                  <a:pt x="13588" y="17989"/>
                </a:lnTo>
                <a:lnTo>
                  <a:pt x="13588" y="10800"/>
                </a:lnTo>
                <a:lnTo>
                  <a:pt x="11934" y="10800"/>
                </a:lnTo>
                <a:close/>
              </a:path>
              <a:path fill="darkenLess" w="37794" h="21600">
                <a:moveTo>
                  <a:pt x="21473" y="6448"/>
                </a:moveTo>
                <a:lnTo>
                  <a:pt x="21473" y="4707"/>
                </a:lnTo>
                <a:lnTo>
                  <a:pt x="23249" y="4707"/>
                </a:lnTo>
                <a:lnTo>
                  <a:pt x="23249" y="8224"/>
                </a:lnTo>
                <a:close/>
              </a:path>
              <a:path fill="darkenLess" w="37794" h="21600">
                <a:moveTo>
                  <a:pt x="17974" y="14299"/>
                </a:moveTo>
                <a:lnTo>
                  <a:pt x="19819" y="14299"/>
                </a:lnTo>
                <a:lnTo>
                  <a:pt x="19819" y="17989"/>
                </a:lnTo>
                <a:lnTo>
                  <a:pt x="24206" y="17989"/>
                </a:lnTo>
                <a:lnTo>
                  <a:pt x="24206" y="10800"/>
                </a:lnTo>
                <a:lnTo>
                  <a:pt x="13588" y="10800"/>
                </a:lnTo>
                <a:lnTo>
                  <a:pt x="13588" y="17989"/>
                </a:lnTo>
                <a:lnTo>
                  <a:pt x="17974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3"/>
          <p:cNvSpPr txBox="1"/>
          <p:nvPr/>
        </p:nvSpPr>
        <p:spPr>
          <a:xfrm>
            <a:off x="1523880" y="0"/>
            <a:ext cx="60962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展开想象的翅膀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80880" y="304812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有的横槛上画着（                     ），有的横槛上画着（                     ），有的横槛上画着（                     ），有的横槛上画着（                     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>
            <a:hlinkClick r:id="" action="ppaction://hlinkshowjump?jump=firstslide"/>
          </p:cNvPr>
          <p:cNvSpPr/>
          <p:nvPr/>
        </p:nvSpPr>
        <p:spPr>
          <a:xfrm>
            <a:off x="746748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文本框 8194"/>
          <p:cNvSpPr/>
          <p:nvPr/>
        </p:nvSpPr>
        <p:spPr>
          <a:xfrm>
            <a:off x="1908000" y="263700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比较　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抬头一看，一座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八角宝塔形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的三层建筑耸立在半山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抬头一看，一座三层建筑耸立在半山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>
            <a:hlinkClick r:id="" action="ppaction://hlinkshowjump?jump=firstslide"/>
          </p:cNvPr>
          <p:cNvSpPr/>
          <p:nvPr/>
        </p:nvSpPr>
        <p:spPr>
          <a:xfrm>
            <a:off x="6934320" y="54864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2895480" y="990720"/>
            <a:ext cx="3657600" cy="17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0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143000" y="32004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5800" y="396252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描写景物，可写景物的形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5">
            <a:hlinkClick r:id="" action="ppaction://hlinkshowjump?jump=firstslide"/>
          </p:cNvPr>
          <p:cNvSpPr/>
          <p:nvPr/>
        </p:nvSpPr>
        <p:spPr>
          <a:xfrm>
            <a:off x="6400800" y="5943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</a:rPr>
              <a:t>比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昆明湖静得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像一面镜子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，绿得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像一块碧玉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昆明湖很静，很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>
            <a:hlinkClick r:id="" action="ppaction://hlinkshowjump?jump=firstslide"/>
          </p:cNvPr>
          <p:cNvSpPr/>
          <p:nvPr/>
        </p:nvSpPr>
        <p:spPr>
          <a:xfrm>
            <a:off x="693432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590920" y="609480"/>
            <a:ext cx="3657600" cy="17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0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523880" y="28195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80880" y="281952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描写景物，可运用比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6">
            <a:hlinkClick r:id="" action="ppaction://hlinkshowjump?jump=firstslide"/>
          </p:cNvPr>
          <p:cNvSpPr/>
          <p:nvPr/>
        </p:nvSpPr>
        <p:spPr>
          <a:xfrm>
            <a:off x="6781680" y="60958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25889" y="3837"/>
                </a:moveTo>
                <a:lnTo>
                  <a:pt x="28466" y="6448"/>
                </a:lnTo>
                <a:lnTo>
                  <a:pt x="28466" y="4707"/>
                </a:lnTo>
                <a:lnTo>
                  <a:pt x="30241" y="4707"/>
                </a:lnTo>
                <a:lnTo>
                  <a:pt x="30241" y="8224"/>
                </a:lnTo>
                <a:lnTo>
                  <a:pt x="32852" y="10800"/>
                </a:lnTo>
                <a:lnTo>
                  <a:pt x="31199" y="10800"/>
                </a:lnTo>
                <a:lnTo>
                  <a:pt x="31199" y="17989"/>
                </a:lnTo>
                <a:lnTo>
                  <a:pt x="20580" y="17989"/>
                </a:lnTo>
                <a:lnTo>
                  <a:pt x="20580" y="10800"/>
                </a:lnTo>
                <a:lnTo>
                  <a:pt x="18926" y="10800"/>
                </a:lnTo>
                <a:close/>
              </a:path>
              <a:path fill="darkenLess" w="51779" h="21600">
                <a:moveTo>
                  <a:pt x="28466" y="6448"/>
                </a:moveTo>
                <a:lnTo>
                  <a:pt x="28466" y="4707"/>
                </a:lnTo>
                <a:lnTo>
                  <a:pt x="30241" y="4707"/>
                </a:lnTo>
                <a:lnTo>
                  <a:pt x="30241" y="8224"/>
                </a:lnTo>
                <a:close/>
              </a:path>
              <a:path fill="darkenLess" w="51779" h="21600">
                <a:moveTo>
                  <a:pt x="24967" y="14299"/>
                </a:moveTo>
                <a:lnTo>
                  <a:pt x="26812" y="14299"/>
                </a:lnTo>
                <a:lnTo>
                  <a:pt x="26812" y="17989"/>
                </a:lnTo>
                <a:lnTo>
                  <a:pt x="31199" y="17989"/>
                </a:lnTo>
                <a:lnTo>
                  <a:pt x="31199" y="10800"/>
                </a:lnTo>
                <a:lnTo>
                  <a:pt x="20580" y="10800"/>
                </a:lnTo>
                <a:lnTo>
                  <a:pt x="20580" y="17989"/>
                </a:lnTo>
                <a:lnTo>
                  <a:pt x="2496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5796000" y="52560"/>
            <a:ext cx="3230640" cy="16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简介颐和园</a:t>
            </a:r>
            <a:endParaRPr b="0" lang="en-US" sz="72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481640" y="3048120"/>
            <a:ext cx="18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01760" y="1609560"/>
            <a:ext cx="8624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Times New Roman"/>
              </a:rPr>
              <a:t>颐和园位于北京的西北郊，始建于公元</a:t>
            </a:r>
            <a:r>
              <a:rPr b="1" lang="en-US" sz="3600" spc="-1" strike="noStrike">
                <a:solidFill>
                  <a:srgbClr val="0d0d0d"/>
                </a:solidFill>
                <a:latin typeface="Times New Roman"/>
              </a:rPr>
              <a:t>1750</a:t>
            </a:r>
            <a:r>
              <a:rPr b="1" lang="zh-CN" sz="3600" spc="-1" strike="noStrike">
                <a:solidFill>
                  <a:srgbClr val="0d0d0d"/>
                </a:solidFill>
                <a:latin typeface="Times New Roman"/>
              </a:rPr>
              <a:t>年，原是清代的皇家园林和行宫。园内的湖光山色、亭台楼阁、长廊石桥等景物，使人看后流连忘返。其构思巧妙、建筑之精，集我国园林艺术之大成，有“皇家园林博物馆”之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5">
            <a:hlinkClick r:id="" action="ppaction://hlinkshowjump?jump=firstslide"/>
          </p:cNvPr>
          <p:cNvSpPr/>
          <p:nvPr/>
        </p:nvSpPr>
        <p:spPr>
          <a:xfrm>
            <a:off x="7848720" y="5562720"/>
            <a:ext cx="738000" cy="81432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814320"/>
              <a:gd name="textAreaBottom" fmla="*/ 766800 h 814320"/>
            </a:gdLst>
            <a:ahLst/>
            <a:rect l="textAreaLeft" t="textAreaTop" r="textAreaRight" b="textAreaBottom"/>
            <a:pathLst>
              <a:path w="21600" h="23833">
                <a:moveTo>
                  <a:pt x="0" y="0"/>
                </a:moveTo>
                <a:lnTo>
                  <a:pt x="21600" y="0"/>
                </a:lnTo>
                <a:lnTo>
                  <a:pt x="21600" y="23833"/>
                </a:lnTo>
                <a:lnTo>
                  <a:pt x="0" y="23833"/>
                </a:lnTo>
                <a:close/>
              </a:path>
              <a:path fill="lightenLess" w="21600" h="238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3">
                <a:moveTo>
                  <a:pt x="21600" y="0"/>
                </a:moveTo>
                <a:lnTo>
                  <a:pt x="21600" y="23833"/>
                </a:lnTo>
                <a:lnTo>
                  <a:pt x="20200" y="22433"/>
                </a:lnTo>
                <a:lnTo>
                  <a:pt x="20200" y="1400"/>
                </a:lnTo>
                <a:close/>
              </a:path>
              <a:path fill="darkenLess" w="21600" h="23833">
                <a:moveTo>
                  <a:pt x="21600" y="23833"/>
                </a:moveTo>
                <a:lnTo>
                  <a:pt x="0" y="23833"/>
                </a:lnTo>
                <a:lnTo>
                  <a:pt x="1400" y="22433"/>
                </a:lnTo>
                <a:lnTo>
                  <a:pt x="20200" y="22433"/>
                </a:lnTo>
                <a:close/>
              </a:path>
              <a:path fill="lighten" w="21600" h="23833">
                <a:moveTo>
                  <a:pt x="0" y="238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3"/>
                </a:lnTo>
                <a:close/>
              </a:path>
              <a:path fill="darken" w="21600" h="23833">
                <a:moveTo>
                  <a:pt x="10800" y="4953"/>
                </a:moveTo>
                <a:lnTo>
                  <a:pt x="13376" y="7564"/>
                </a:lnTo>
                <a:lnTo>
                  <a:pt x="13376" y="5824"/>
                </a:lnTo>
                <a:lnTo>
                  <a:pt x="15152" y="5824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6"/>
                </a:lnTo>
                <a:lnTo>
                  <a:pt x="5491" y="19106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3">
                <a:moveTo>
                  <a:pt x="13376" y="7564"/>
                </a:moveTo>
                <a:lnTo>
                  <a:pt x="13376" y="5824"/>
                </a:lnTo>
                <a:lnTo>
                  <a:pt x="15152" y="5824"/>
                </a:lnTo>
                <a:lnTo>
                  <a:pt x="15152" y="9340"/>
                </a:lnTo>
                <a:close/>
              </a:path>
              <a:path fill="darkenLess" w="21600" h="23833">
                <a:moveTo>
                  <a:pt x="9877" y="15415"/>
                </a:moveTo>
                <a:lnTo>
                  <a:pt x="11723" y="15415"/>
                </a:lnTo>
                <a:lnTo>
                  <a:pt x="11723" y="19106"/>
                </a:lnTo>
                <a:lnTo>
                  <a:pt x="16109" y="19106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6"/>
                </a:lnTo>
                <a:lnTo>
                  <a:pt x="9877" y="191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比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394920" y="1506600"/>
            <a:ext cx="8497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游船、画舫在湖面慢慢地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滑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过，几乎不留一点痕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游船、画舫在湖面慢慢地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划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过，几乎不留一点痕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为什么用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“滑”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，不用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“划”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>
            <a:hlinkClick r:id="" action="ppaction://hlinkshowjump?jump=firstslide"/>
          </p:cNvPr>
          <p:cNvSpPr/>
          <p:nvPr/>
        </p:nvSpPr>
        <p:spPr>
          <a:xfrm>
            <a:off x="8388360" y="61516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523880" y="0"/>
            <a:ext cx="60962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展开想象的翅膀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04920" y="2617920"/>
            <a:ext cx="85341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有的小狮子（             ），有的小狮子（             ），有的小狮子（             ），有的小狮子（             ），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…… 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>
            <a:hlinkClick r:id="" action="ppaction://hlinkshowjump?jump=firstslide"/>
          </p:cNvPr>
          <p:cNvSpPr/>
          <p:nvPr/>
        </p:nvSpPr>
        <p:spPr>
          <a:xfrm>
            <a:off x="617220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2971800" y="380880"/>
            <a:ext cx="3657600" cy="17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0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04920" y="32767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结尾可照应开头，做到首尾照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4">
            <a:hlinkClick r:id="" action="ppaction://hlinkshowjump?jump=nextslide"/>
          </p:cNvPr>
          <p:cNvSpPr/>
          <p:nvPr/>
        </p:nvSpPr>
        <p:spPr>
          <a:xfrm>
            <a:off x="6172200" y="5867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412920" y="122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bjyhy120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04920" y="0"/>
            <a:ext cx="8839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b108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33520" y="457200"/>
            <a:ext cx="8610480" cy="613584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8194"/>
          <p:cNvSpPr/>
          <p:nvPr/>
        </p:nvSpPr>
        <p:spPr>
          <a:xfrm>
            <a:off x="1835280" y="4869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by69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62120" y="533520"/>
            <a:ext cx="754380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228600" y="1890720"/>
            <a:ext cx="8686800" cy="3078000"/>
            <a:chOff x="228600" y="1890720"/>
            <a:chExt cx="8686800" cy="3078000"/>
          </a:xfrm>
        </p:grpSpPr>
        <p:sp>
          <p:nvSpPr>
            <p:cNvPr id="163" name="Rectangle 5"/>
            <p:cNvSpPr/>
            <p:nvPr/>
          </p:nvSpPr>
          <p:spPr>
            <a:xfrm>
              <a:off x="228600" y="1890720"/>
              <a:ext cx="8686800" cy="30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3"/>
            <p:cNvSpPr/>
            <p:nvPr/>
          </p:nvSpPr>
          <p:spPr>
            <a:xfrm>
              <a:off x="228600" y="1890720"/>
              <a:ext cx="8686800" cy="30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7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" name="Picture 4" descr="by68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-3618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F32C-698E-4D74-94F9-C0F06877FC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by2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65040" y="189000"/>
            <a:ext cx="8413920" cy="55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2514600" y="333360"/>
            <a:ext cx="36576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0" lang="en-US" sz="8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33520" y="24210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开头可以写自己的感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" action="ppaction://hlinkshowjump?jump=firstslide"/>
          </p:cNvPr>
          <p:cNvSpPr/>
          <p:nvPr/>
        </p:nvSpPr>
        <p:spPr>
          <a:xfrm>
            <a:off x="6858000" y="60199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27734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填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8000" y="1197000"/>
            <a:ext cx="892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进了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颐和园的大门，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绕过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大殿，就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来到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有名的（        ）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走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长廊就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来到（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登上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万寿山，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站在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佛香阁的前面向下望，颐和园的景色大半收在眼底。从万寿山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下来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，就是（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>
            <a:hlinkClick r:id="" action="ppaction://hlinkshowjump?jump=firstslide"/>
          </p:cNvPr>
          <p:cNvSpPr/>
          <p:nvPr/>
        </p:nvSpPr>
        <p:spPr>
          <a:xfrm>
            <a:off x="6400800" y="58672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3"/>
          <p:cNvSpPr txBox="1"/>
          <p:nvPr/>
        </p:nvSpPr>
        <p:spPr>
          <a:xfrm>
            <a:off x="2895480" y="990720"/>
            <a:ext cx="305748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1" lang="en-US" sz="8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33526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按游览的顺序，段与段前后相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5">
            <a:hlinkClick r:id="" action="ppaction://hlinkshowjump?jump=firstslide"/>
          </p:cNvPr>
          <p:cNvSpPr/>
          <p:nvPr/>
        </p:nvSpPr>
        <p:spPr>
          <a:xfrm>
            <a:off x="7086600" y="57150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2743200" y="380880"/>
            <a:ext cx="3657600" cy="17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1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80880" y="2743200"/>
            <a:ext cx="83822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要选取重点景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重点景物要详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做到有详有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>
            <a:hlinkClick r:id="" action="ppaction://hlinkshowjump?jump=firstslide"/>
          </p:cNvPr>
          <p:cNvSpPr/>
          <p:nvPr/>
        </p:nvSpPr>
        <p:spPr>
          <a:xfrm>
            <a:off x="77724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比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55640" y="2276640"/>
            <a:ext cx="7920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绿漆的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柱子，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红漆的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栏杆，一眼望不到头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柱子，栏杆，一眼望不到头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>
            <a:hlinkClick r:id="" action="ppaction://hlinkshowjump?jump=firstslide"/>
          </p:cNvPr>
          <p:cNvSpPr/>
          <p:nvPr/>
        </p:nvSpPr>
        <p:spPr>
          <a:xfrm>
            <a:off x="7162920" y="57150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文本框 8194"/>
          <p:cNvSpPr/>
          <p:nvPr/>
        </p:nvSpPr>
        <p:spPr>
          <a:xfrm>
            <a:off x="900000" y="501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>
            <a:hlinkClick r:id="" action="ppaction://hlinkshowjump?jump=firstslide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7276" y="3837"/>
                </a:moveTo>
                <a:lnTo>
                  <a:pt x="19852" y="6448"/>
                </a:lnTo>
                <a:lnTo>
                  <a:pt x="19852" y="4707"/>
                </a:lnTo>
                <a:lnTo>
                  <a:pt x="21628" y="4707"/>
                </a:lnTo>
                <a:lnTo>
                  <a:pt x="21628" y="8224"/>
                </a:lnTo>
                <a:lnTo>
                  <a:pt x="24239" y="10800"/>
                </a:lnTo>
                <a:lnTo>
                  <a:pt x="22585" y="10800"/>
                </a:lnTo>
                <a:lnTo>
                  <a:pt x="22585" y="17989"/>
                </a:lnTo>
                <a:lnTo>
                  <a:pt x="11967" y="17989"/>
                </a:lnTo>
                <a:lnTo>
                  <a:pt x="11967" y="10800"/>
                </a:lnTo>
                <a:lnTo>
                  <a:pt x="10313" y="10800"/>
                </a:lnTo>
                <a:close/>
              </a:path>
              <a:path fill="darkenLess" w="34552" h="21600">
                <a:moveTo>
                  <a:pt x="19852" y="6448"/>
                </a:moveTo>
                <a:lnTo>
                  <a:pt x="19852" y="4707"/>
                </a:lnTo>
                <a:lnTo>
                  <a:pt x="21628" y="4707"/>
                </a:lnTo>
                <a:lnTo>
                  <a:pt x="21628" y="8224"/>
                </a:lnTo>
                <a:close/>
              </a:path>
              <a:path fill="darkenLess" w="34552" h="21600">
                <a:moveTo>
                  <a:pt x="16353" y="14299"/>
                </a:moveTo>
                <a:lnTo>
                  <a:pt x="18199" y="14299"/>
                </a:lnTo>
                <a:lnTo>
                  <a:pt x="18199" y="17989"/>
                </a:lnTo>
                <a:lnTo>
                  <a:pt x="22585" y="17989"/>
                </a:lnTo>
                <a:lnTo>
                  <a:pt x="22585" y="10800"/>
                </a:lnTo>
                <a:lnTo>
                  <a:pt x="11967" y="10800"/>
                </a:lnTo>
                <a:lnTo>
                  <a:pt x="11967" y="17989"/>
                </a:lnTo>
                <a:lnTo>
                  <a:pt x="16353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b762"/>
          <p:cNvPicPr/>
          <p:nvPr/>
        </p:nvPicPr>
        <p:blipFill>
          <a:blip r:embed="rId1"/>
          <a:stretch/>
        </p:blipFill>
        <p:spPr>
          <a:xfrm>
            <a:off x="-57240" y="-100080"/>
            <a:ext cx="9220320" cy="767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228600" y="1692360"/>
            <a:ext cx="8686800" cy="846000"/>
            <a:chOff x="228600" y="1692360"/>
            <a:chExt cx="8686800" cy="846000"/>
          </a:xfrm>
        </p:grpSpPr>
        <p:sp>
          <p:nvSpPr>
            <p:cNvPr id="110" name="Rectangle 4"/>
            <p:cNvSpPr/>
            <p:nvPr/>
          </p:nvSpPr>
          <p:spPr>
            <a:xfrm>
              <a:off x="228600" y="1692360"/>
              <a:ext cx="868680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228600" y="1692360"/>
              <a:ext cx="8686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Picture 6" descr="b757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-22860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09:1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06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