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CA6-9EBB-4995-ABF9-F5B185B1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125-EB4E-4681-855A-B077A01E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000-E041-4126-8204-9F5D3ED0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12B-58C2-44B9-B131-D71B8BA5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8D1F-A524-4CE1-A587-30AA9CD2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0FE-7E3F-416D-AB88-2F0261D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9A4-3D91-4DF6-9CC1-7CA3F03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F8E3-A6E3-4DA1-A61C-E633E2C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333E-EFCB-43F5-BCB9-6B4BA16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F611-0C7D-4C76-BC90-AD21FBB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1F6C-0481-44EA-A7A7-FC806172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1C6-E513-4800-A5E3-FC8AA63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C7E-81AE-436E-9B9A-073E5ED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035D-2108-4065-929D-AB348FF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56C-5D63-4D85-AA15-6608080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548-CC9B-435F-B495-91F5CDE2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FB5-C361-4EF7-9F9C-0AB372E4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C8D-F58F-45C1-BFC5-B8F87A2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DF4-4DBE-4A5D-8E05-47C10E9B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C14-2264-458C-A8B8-90D2AF1D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2CF-E551-48D5-B38E-D6B5E82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465-5168-4D57-B434-248AFA1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BFD-A505-4A54-8207-D797ADE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609-C26C-4AEA-8093-9A9FA8D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4B9-3B08-46AA-B7F7-C1F7D5CF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F65-5B0F-489F-A745-DC2FBA08D6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C46-3982-47CD-9F32-C651E2D808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152280" y="3809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15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人教版语文园地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家经过反复研究，揭开了蝙蝠能在夜里飞行的秘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家经过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终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揭开了蝙蝠能在夜里飞行的秘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加上“终于”，表明科学家研究非常艰辛，时间漫长，研究成果来之不易，也体现了科学家锲而不舍、坚韧不拔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不是我们，这些海龟就不会受到伤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不是我们，这些海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根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不会受到伤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加上“根本”，说明海龟受伤害完全是由于“我们”违背自然规律造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C4A-1202-4339-B52C-7B02384A9B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人难以相信的是，它们之中有的能够朝夕与共，和睦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人难以相信的是，它们之中有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居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朝夕与共，和睦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加上“居然”，难以相信的程度更深了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语盘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9144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读写写：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龟  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企图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愿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  返回  海鸥  补救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蝙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清朗  捕捉  飞蛾  蚊子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避开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敏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铃铛   苍蝇 揭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推进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障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争先恐后 若无其事 见死不救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出 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可及  气喘吁吁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霄  横七竖八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读记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巢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乃至  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堤坝 侵蚀 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毁灭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被 经营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烂 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息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捕食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殖 制服 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惨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欲出又止 多灾多难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心所欲 不折不扣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枯枝烂叶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异想天开  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而易举                  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380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意思说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游鱼那样一个接一个地出去。       （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做法非常愚蠢。        （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呼吸非常急促的样子。 （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点也不折扣，完完全全；十足。  （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做事容易，不费力气。   （       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4"/>
          <p:cNvSpPr/>
          <p:nvPr/>
        </p:nvSpPr>
        <p:spPr>
          <a:xfrm>
            <a:off x="609480" y="472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改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争先巩后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若无奇事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鱼惯而出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横七坚八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响彻云宵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禺不可及（ 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改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争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后（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若无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事（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 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鱼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而出（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横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八（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竖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响彻云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可及（ 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谚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谚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人民群众口头流传的习用的固定语句，用简单通俗的话来反映深刻的道理。 谚语是民间集体创造、广为口传、言简意赅并较为定型的艺术语句，是民众丰富智慧和普遍经验的规律性总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明前后，种瓜点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朝霞不出门，晚霞行千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上鱼鳞斑，晒谷不用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迟宿，鸭欢叫，风雨不久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蚂蚁搬家蛇过道，明日必有大雨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雾风，夏雾睛，秋雾阴，冬雾雪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雨前有风雨不久，雨后无风雨不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炸雷雨小，闷雷雨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泥鳅跳，雨来到 。泥鳅静，天气晴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燕子低飞要落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鱼儿出水跳，风雨就来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急雨易晴，慢雨不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三月三，脱了棉袄换布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场春雨一场暖，一场秋雨一场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久旱大雾有雨见，久阴大雾转晴天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50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4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NXTAG2">
    <vt:lpwstr>000800fa01000000000001024120</vt:lpwstr>
  </property>
  <property fmtid="{D5CDD505-2E9C-101B-9397-08002B2CF9AE}" pid="4" name="Version">
    <vt:r8>1</vt:r8>
  </property>
</Properties>
</file>