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82D-D4DC-4449-8305-DF3F0345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E89-3FFF-4159-890C-4B793E4A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A5D-03C6-45C0-81CD-0F7965DA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80E-4B14-49AD-B977-98860B78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7476-295B-4591-938C-68330111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9F95-8252-454C-B505-BA910D70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0159-51BE-441E-9CD2-423408FD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C181-D2F8-4740-9FE7-BDFDFE4E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8AED-870B-4D31-B810-BBF31509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B71B-510A-495C-B674-C8A10C1E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7D56-1B1B-4B73-A4D1-0C60A09D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425-64AF-4339-9E01-DB322525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6A9F-48DA-469F-BE3D-2AB49248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4BBA-563D-4B09-B984-975285D8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F604-07F9-4E28-B7A7-561A1243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5218-4D30-49A4-9515-AAF7D018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630C-A0B4-4CA1-9EA4-175FC558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3BD-45F3-458D-B6F7-9832AF44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58C-05A7-4BD2-A623-FDA0BE4D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A73-80B0-4110-96F8-87C734EB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7BD4-C090-42FC-A1D1-DFF112D0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E8E-0A06-4B87-8E0C-F46273E4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A71B-10B6-456E-9BAF-0423B706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1A7-8F60-4DDA-81D5-CD511582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CF17-5345-4C03-8261-C3D8074A6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AF07-4710-4AD7-8934-16A3AD19E26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E963-771B-4A68-88EE-D081A6F259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308,27,&#24187;&#28783;&#29255; 27" TargetMode="External"/><Relationship Id="rId3" Type="http://schemas.openxmlformats.org/officeDocument/2006/relationships/hyperlink" Target="305,21,&#24187;&#28783;&#29255; 21" TargetMode="External"/><Relationship Id="rId4" Type="http://schemas.openxmlformats.org/officeDocument/2006/relationships/hyperlink" Target="307,23,&#24187;&#28783;&#29255; 23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304,20,&#24187;&#28783;&#29255; 20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304,20,&#24187;&#28783;&#29255; 20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208080" y="1414440"/>
            <a:ext cx="8964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手捧空花盆的孩子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505320" y="685800"/>
            <a:ext cx="222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宣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236232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能用这些种子培育出最美的花，谁就是他的继承人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1981080" y="4572000"/>
            <a:ext cx="2590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6600ff"/>
                </a:solidFill>
                <a:latin typeface="楷体_GB2312"/>
              </a:rPr>
              <a:t>继承人</a:t>
            </a:r>
            <a:endParaRPr b="1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6600ff"/>
              </a:solidFill>
              <a:latin typeface="楷体_GB2312"/>
              <a:ea typeface="楷体_GB2312"/>
            </a:endParaRPr>
          </a:p>
        </p:txBody>
      </p:sp>
    </p:spTree>
  </p:cSld>
  <p:transition>
    <p:checker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2008110215845125_1"/>
          <p:cNvPicPr/>
          <p:nvPr/>
        </p:nvPicPr>
        <p:blipFill>
          <a:blip r:embed="rId1"/>
          <a:stretch/>
        </p:blipFill>
        <p:spPr>
          <a:xfrm>
            <a:off x="0" y="0"/>
            <a:ext cx="9144000" cy="7750080"/>
          </a:xfrm>
          <a:prstGeom prst="rect">
            <a:avLst/>
          </a:prstGeom>
          <a:ln w="0">
            <a:noFill/>
          </a:ln>
        </p:spPr>
      </p:pic>
      <p:pic>
        <p:nvPicPr>
          <p:cNvPr id="148" name="200642163733655.mp3" descr=""/>
          <p:cNvPicPr/>
          <p:nvPr/>
        </p:nvPicPr>
        <p:blipFill>
          <a:blip r:embed="rId2"/>
          <a:stretch/>
        </p:blipFill>
        <p:spPr>
          <a:xfrm>
            <a:off x="8244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202485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0" y="1628640"/>
            <a:ext cx="957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能用这些种子培育出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最美的花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谁就是他的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继承人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29-01"/>
          <p:cNvPicPr/>
          <p:nvPr/>
        </p:nvPicPr>
        <p:blipFill>
          <a:blip r:embed="rId2"/>
          <a:stretch/>
        </p:blipFill>
        <p:spPr>
          <a:xfrm>
            <a:off x="0" y="-316080"/>
            <a:ext cx="2556000" cy="204480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1"/>
          <p:cNvSpPr/>
          <p:nvPr/>
        </p:nvSpPr>
        <p:spPr>
          <a:xfrm>
            <a:off x="2696400" y="623736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727440" y="6922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月过去了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1197000"/>
            <a:ext cx="734364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个月过去了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832760" y="479736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三个月过去了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0" y="992160"/>
            <a:ext cx="99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王规定的日子到了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      )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捧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             ）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花盆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）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街头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938160" y="33004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盛开着鲜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7812000" y="3213000"/>
            <a:ext cx="102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55640" y="2205000"/>
            <a:ext cx="263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许许多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-3088800" y="404640"/>
            <a:ext cx="1459152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着国王的马车渐渐地驶来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手捧鲜花的孩子，</a:t>
            </a: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有的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</a:t>
            </a: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有的想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有的想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50920" y="2997360"/>
            <a:ext cx="2665440" cy="360"/>
            <a:chOff x="250920" y="2997360"/>
            <a:chExt cx="2665440" cy="360"/>
          </a:xfrm>
        </p:grpSpPr>
        <p:sp>
          <p:nvSpPr>
            <p:cNvPr id="163" name="Line 3"/>
            <p:cNvSpPr/>
            <p:nvPr/>
          </p:nvSpPr>
          <p:spPr>
            <a:xfrm>
              <a:off x="250920" y="2997360"/>
              <a:ext cx="2665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250920" y="2997360"/>
              <a:ext cx="266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364000" y="2924280"/>
            <a:ext cx="2448000" cy="360"/>
            <a:chOff x="5364000" y="2924280"/>
            <a:chExt cx="2448000" cy="360"/>
          </a:xfrm>
        </p:grpSpPr>
        <p:sp>
          <p:nvSpPr>
            <p:cNvPr id="166" name="Line 4"/>
            <p:cNvSpPr/>
            <p:nvPr/>
          </p:nvSpPr>
          <p:spPr>
            <a:xfrm>
              <a:off x="5364000" y="292428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5364000" y="2924280"/>
              <a:ext cx="24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124000" y="3860640"/>
            <a:ext cx="2808360" cy="360"/>
            <a:chOff x="2124000" y="3860640"/>
            <a:chExt cx="2808360" cy="360"/>
          </a:xfrm>
        </p:grpSpPr>
        <p:sp>
          <p:nvSpPr>
            <p:cNvPr id="169" name="Line 5"/>
            <p:cNvSpPr/>
            <p:nvPr/>
          </p:nvSpPr>
          <p:spPr>
            <a:xfrm>
              <a:off x="2124000" y="386064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2124000" y="3860640"/>
              <a:ext cx="28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气球放飞音乐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9"/>
          <p:cNvPicPr/>
          <p:nvPr/>
        </p:nvPicPr>
        <p:blipFill>
          <a:blip r:embed="rId3"/>
          <a:stretch/>
        </p:blipFill>
        <p:spPr>
          <a:xfrm>
            <a:off x="8244000" y="0"/>
            <a:ext cx="900000" cy="168264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8"/>
          <p:cNvGrpSpPr/>
          <p:nvPr/>
        </p:nvGrpSpPr>
        <p:grpSpPr>
          <a:xfrm>
            <a:off x="0" y="4076640"/>
            <a:ext cx="9118440" cy="2404440"/>
            <a:chOff x="0" y="4076640"/>
            <a:chExt cx="9118440" cy="2404440"/>
          </a:xfrm>
        </p:grpSpPr>
        <p:sp>
          <p:nvSpPr>
            <p:cNvPr id="174" name="Text Box 9"/>
            <p:cNvSpPr/>
            <p:nvPr/>
          </p:nvSpPr>
          <p:spPr>
            <a:xfrm>
              <a:off x="0" y="4221000"/>
              <a:ext cx="9118440" cy="22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国王从孩子们的面前走过，看着一盆盆鲜花，脸上没有</a:t>
              </a:r>
              <a:r>
                <a:rPr b="1" lang="zh-CN" sz="5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一丝高兴的表情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Picture 10" descr="8"/>
            <p:cNvPicPr/>
            <p:nvPr/>
          </p:nvPicPr>
          <p:blipFill>
            <a:blip r:embed="rId4"/>
            <a:stretch/>
          </p:blipFill>
          <p:spPr>
            <a:xfrm>
              <a:off x="0" y="4076640"/>
              <a:ext cx="144000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96467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i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《29 手捧空花盆的孩子》课文插图1"/>
          <p:cNvPicPr/>
          <p:nvPr/>
        </p:nvPicPr>
        <p:blipFill>
          <a:blip r:embed="rId1"/>
          <a:stretch/>
        </p:blipFill>
        <p:spPr>
          <a:xfrm>
            <a:off x="0" y="0"/>
            <a:ext cx="9325080" cy="68659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80880" y="2743200"/>
            <a:ext cx="84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个叫雄日的孩子，他十分用心地培育花种。十天过去了，一个月过去了，花盆里的种子却不见发芽。雄日又给种子施了些肥，浇了点水。他天天看啊，看啊，种子就是不发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6386040" y="6308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538760" y="6308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8459640" y="63086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916200" y="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猜一猜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11"/>
          <p:cNvGrpSpPr/>
          <p:nvPr/>
        </p:nvGrpSpPr>
        <p:grpSpPr>
          <a:xfrm>
            <a:off x="956160" y="1413000"/>
            <a:ext cx="4695480" cy="1191240"/>
            <a:chOff x="956160" y="1413000"/>
            <a:chExt cx="4695480" cy="1191240"/>
          </a:xfrm>
        </p:grpSpPr>
        <p:sp>
          <p:nvSpPr>
            <p:cNvPr id="87" name="Rectangle 7"/>
            <p:cNvSpPr/>
            <p:nvPr/>
          </p:nvSpPr>
          <p:spPr>
            <a:xfrm>
              <a:off x="956160" y="1413000"/>
              <a:ext cx="277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、夫</a:t>
              </a: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见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356360" y="1987560"/>
              <a:ext cx="1295280" cy="360"/>
              <a:chOff x="4356360" y="1987560"/>
              <a:chExt cx="1295280" cy="360"/>
            </a:xfrm>
          </p:grpSpPr>
          <p:sp>
            <p:nvSpPr>
              <p:cNvPr id="89" name="Line 8"/>
              <p:cNvSpPr/>
              <p:nvPr/>
            </p:nvSpPr>
            <p:spPr>
              <a:xfrm>
                <a:off x="4356360" y="198756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4356360" y="1987560"/>
                <a:ext cx="12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Group 12"/>
          <p:cNvGrpSpPr/>
          <p:nvPr/>
        </p:nvGrpSpPr>
        <p:grpSpPr>
          <a:xfrm>
            <a:off x="956160" y="2349360"/>
            <a:ext cx="4766760" cy="1191240"/>
            <a:chOff x="956160" y="2349360"/>
            <a:chExt cx="4766760" cy="1191240"/>
          </a:xfrm>
        </p:grpSpPr>
        <p:sp>
          <p:nvSpPr>
            <p:cNvPr id="92" name="Rectangle 9"/>
            <p:cNvSpPr/>
            <p:nvPr/>
          </p:nvSpPr>
          <p:spPr>
            <a:xfrm>
              <a:off x="956160" y="2349360"/>
              <a:ext cx="277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、八</a:t>
              </a: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刀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427640" y="2998440"/>
              <a:ext cx="1295280" cy="360"/>
              <a:chOff x="4427640" y="2998440"/>
              <a:chExt cx="1295280" cy="360"/>
            </a:xfrm>
          </p:grpSpPr>
          <p:sp>
            <p:nvSpPr>
              <p:cNvPr id="94" name="Line 10"/>
              <p:cNvSpPr/>
              <p:nvPr/>
            </p:nvSpPr>
            <p:spPr>
              <a:xfrm>
                <a:off x="4427640" y="299844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 txBox="1"/>
              <p:nvPr/>
            </p:nvSpPr>
            <p:spPr>
              <a:xfrm>
                <a:off x="4427640" y="2998440"/>
                <a:ext cx="12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" name="Group 13"/>
          <p:cNvGrpSpPr/>
          <p:nvPr/>
        </p:nvGrpSpPr>
        <p:grpSpPr>
          <a:xfrm>
            <a:off x="1029240" y="3500280"/>
            <a:ext cx="4766760" cy="1191240"/>
            <a:chOff x="1029240" y="3500280"/>
            <a:chExt cx="4766760" cy="1191240"/>
          </a:xfrm>
        </p:grpSpPr>
        <p:sp>
          <p:nvSpPr>
            <p:cNvPr id="97" name="Rectangle 14"/>
            <p:cNvSpPr/>
            <p:nvPr/>
          </p:nvSpPr>
          <p:spPr>
            <a:xfrm>
              <a:off x="1029240" y="3500280"/>
              <a:ext cx="277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、西</a:t>
              </a: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女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500720" y="4149360"/>
              <a:ext cx="1295280" cy="360"/>
              <a:chOff x="4500720" y="4149360"/>
              <a:chExt cx="1295280" cy="360"/>
            </a:xfrm>
          </p:grpSpPr>
          <p:sp>
            <p:nvSpPr>
              <p:cNvPr id="99" name="Line 15"/>
              <p:cNvSpPr/>
              <p:nvPr/>
            </p:nvSpPr>
            <p:spPr>
              <a:xfrm>
                <a:off x="4500720" y="414936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>
                <a:off x="4500720" y="4149360"/>
                <a:ext cx="12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Group 16"/>
          <p:cNvGrpSpPr/>
          <p:nvPr/>
        </p:nvGrpSpPr>
        <p:grpSpPr>
          <a:xfrm>
            <a:off x="1100520" y="4797360"/>
            <a:ext cx="4766760" cy="1191240"/>
            <a:chOff x="1100520" y="4797360"/>
            <a:chExt cx="4766760" cy="1191240"/>
          </a:xfrm>
        </p:grpSpPr>
        <p:sp>
          <p:nvSpPr>
            <p:cNvPr id="102" name="Rectangle 17"/>
            <p:cNvSpPr/>
            <p:nvPr/>
          </p:nvSpPr>
          <p:spPr>
            <a:xfrm>
              <a:off x="1100520" y="4797360"/>
              <a:ext cx="277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、子</a:t>
              </a: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亥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572000" y="5446440"/>
              <a:ext cx="1295280" cy="360"/>
              <a:chOff x="4572000" y="5446440"/>
              <a:chExt cx="1295280" cy="360"/>
            </a:xfrm>
          </p:grpSpPr>
          <p:sp>
            <p:nvSpPr>
              <p:cNvPr id="104" name="Line 18"/>
              <p:cNvSpPr/>
              <p:nvPr/>
            </p:nvSpPr>
            <p:spPr>
              <a:xfrm>
                <a:off x="4572000" y="544644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4572000" y="5446440"/>
                <a:ext cx="12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Rectangle 19"/>
          <p:cNvSpPr/>
          <p:nvPr/>
        </p:nvSpPr>
        <p:spPr>
          <a:xfrm>
            <a:off x="6012000" y="1268280"/>
            <a:ext cx="109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6270840" y="2492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6342480" y="3645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6342480" y="47973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9144000" cy="3751560"/>
            <a:chOff x="0" y="0"/>
            <a:chExt cx="9144000" cy="3751560"/>
          </a:xfrm>
        </p:grpSpPr>
        <p:sp>
          <p:nvSpPr>
            <p:cNvPr id="183" name="Text Box 3"/>
            <p:cNvSpPr/>
            <p:nvPr/>
          </p:nvSpPr>
          <p:spPr>
            <a:xfrm>
              <a:off x="380880" y="2743200"/>
              <a:ext cx="8763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雄日十分用心地培育花种。十天过去了，一个月过去了，花盆里的种子却不见发芽。雄日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给种子施了些肥，浇了点水。他天天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看啊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看啊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种子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就是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发芽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Picture 4" descr="《29 手捧空花盆的孩子》课文插图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8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WordArt 5"/>
          <p:cNvSpPr txBox="1"/>
          <p:nvPr/>
        </p:nvSpPr>
        <p:spPr>
          <a:xfrm>
            <a:off x="2666880" y="3124080"/>
            <a:ext cx="1943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00ffff"/>
                </a:solidFill>
                <a:latin typeface="楷体_GB2312"/>
              </a:rPr>
              <a:t>十分用心</a:t>
            </a:r>
            <a:endParaRPr b="1" lang="en-US" sz="2400" spc="1" strike="noStrike">
              <a:ln w="9360">
                <a:solidFill>
                  <a:srgbClr val="ff00ff"/>
                </a:solidFill>
                <a:round/>
              </a:ln>
              <a:solidFill>
                <a:srgbClr val="00ffff"/>
              </a:solidFill>
              <a:latin typeface="楷体_GB2312"/>
              <a:ea typeface="楷体_GB2312"/>
            </a:endParaRPr>
          </a:p>
        </p:txBody>
      </p:sp>
    </p:spTree>
  </p:cSld>
  <p:transition>
    <p:checker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4"/>
          <p:cNvPicPr/>
          <p:nvPr/>
        </p:nvPicPr>
        <p:blipFill>
          <a:blip r:embed="rId1"/>
          <a:stretch/>
        </p:blipFill>
        <p:spPr>
          <a:xfrm>
            <a:off x="4800600" y="25146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4"/>
          <p:cNvSpPr/>
          <p:nvPr/>
        </p:nvSpPr>
        <p:spPr>
          <a:xfrm>
            <a:off x="0" y="836640"/>
            <a:ext cx="5029200" cy="4056120"/>
          </a:xfrm>
          <a:prstGeom prst="wedgeEllipseCallout">
            <a:avLst>
              <a:gd name="adj1" fmla="val -35986"/>
              <a:gd name="adj2" fmla="val 5231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</a:rPr>
              <a:t>国王见到他所想见的最美的花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924920" y="1066680"/>
            <a:ext cx="5325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  <a:ea typeface="华文中宋"/>
              </a:rPr>
              <a:t>        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华文中宋"/>
              </a:rPr>
              <a:t>没有什么比说谎更让人羞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华文中宋"/>
              </a:rPr>
              <a:t>也没有什么比诚实更让人愉快。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华文中宋"/>
              </a:rPr>
              <a:t>实是一种勇敢的行为，我们要勇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华文中宋"/>
              </a:rPr>
              <a:t>面对自己的错误，敢于批评自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《29 手捧空花盆的孩子》课文插图1"/>
          <p:cNvPicPr/>
          <p:nvPr/>
        </p:nvPicPr>
        <p:blipFill>
          <a:blip r:embed="rId1"/>
          <a:stretch/>
        </p:blipFill>
        <p:spPr>
          <a:xfrm>
            <a:off x="0" y="0"/>
            <a:ext cx="9325080" cy="68659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380880" y="2743200"/>
            <a:ext cx="84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个叫雄日的孩子，他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分用心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培育花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8263080" y="630252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文本框 1"/>
          <p:cNvSpPr/>
          <p:nvPr/>
        </p:nvSpPr>
        <p:spPr>
          <a:xfrm>
            <a:off x="2264400" y="587700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《29 手捧空花盆的孩子》课文插图1"/>
          <p:cNvPicPr/>
          <p:nvPr/>
        </p:nvPicPr>
        <p:blipFill>
          <a:blip r:embed="rId1"/>
          <a:stretch/>
        </p:blipFill>
        <p:spPr>
          <a:xfrm>
            <a:off x="-36360" y="44280"/>
            <a:ext cx="9324720" cy="68662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4625280" y="2511360"/>
            <a:ext cx="67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天天看啊，看啊，种子就是不发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863720" y="2492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天天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看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看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802800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802800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9435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7590" y="3794"/>
                </a:lnTo>
                <a:lnTo>
                  <a:pt x="7590" y="17806"/>
                </a:lnTo>
                <a:lnTo>
                  <a:pt x="592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《29 手捧空花盆的孩子》课文插图1"/>
          <p:cNvPicPr/>
          <p:nvPr/>
        </p:nvPicPr>
        <p:blipFill>
          <a:blip r:embed="rId1"/>
          <a:stretch/>
        </p:blipFill>
        <p:spPr>
          <a:xfrm>
            <a:off x="0" y="0"/>
            <a:ext cx="9325080" cy="68659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380880" y="2743200"/>
            <a:ext cx="84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个叫雄日的孩子，他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分用心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培育花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364960" y="630864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6950-AADF-482F-8F6E-CD462DB1E94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《29 手捧空花盆的孩子》课文插图1"/>
          <p:cNvPicPr/>
          <p:nvPr/>
        </p:nvPicPr>
        <p:blipFill>
          <a:blip r:embed="rId1"/>
          <a:stretch/>
        </p:blipFill>
        <p:spPr>
          <a:xfrm>
            <a:off x="0" y="0"/>
            <a:ext cx="9325080" cy="68659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34920" y="2743200"/>
            <a:ext cx="91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雄日又给种子施了些肥，浇了点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795320" y="270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8028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8532720" y="6597720"/>
            <a:ext cx="432000" cy="260280"/>
          </a:xfrm>
          <a:custGeom>
            <a:avLst/>
            <a:gdLst>
              <a:gd name="textAreaLeft" fmla="*/ 16560 w 432000"/>
              <a:gd name="textAreaRight" fmla="*/ 415440 w 432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5831" h="21600">
                <a:moveTo>
                  <a:pt x="0" y="0"/>
                </a:moveTo>
                <a:lnTo>
                  <a:pt x="35831" y="0"/>
                </a:lnTo>
                <a:lnTo>
                  <a:pt x="35831" y="21600"/>
                </a:lnTo>
                <a:lnTo>
                  <a:pt x="0" y="21600"/>
                </a:lnTo>
                <a:close/>
              </a:path>
              <a:path fill="lightenLess" w="35831" h="21600">
                <a:moveTo>
                  <a:pt x="0" y="0"/>
                </a:moveTo>
                <a:lnTo>
                  <a:pt x="35831" y="0"/>
                </a:lnTo>
                <a:lnTo>
                  <a:pt x="34431" y="1400"/>
                </a:lnTo>
                <a:lnTo>
                  <a:pt x="1400" y="1400"/>
                </a:lnTo>
                <a:close/>
              </a:path>
              <a:path fill="darken" w="35831" h="21600">
                <a:moveTo>
                  <a:pt x="35831" y="0"/>
                </a:moveTo>
                <a:lnTo>
                  <a:pt x="35831" y="21600"/>
                </a:lnTo>
                <a:lnTo>
                  <a:pt x="34431" y="20200"/>
                </a:lnTo>
                <a:lnTo>
                  <a:pt x="34431" y="1400"/>
                </a:lnTo>
                <a:close/>
              </a:path>
              <a:path fill="darkenLess" w="35831" h="21600">
                <a:moveTo>
                  <a:pt x="35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31" y="20200"/>
                </a:lnTo>
                <a:close/>
              </a:path>
              <a:path fill="lighten" w="35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31" h="21600">
                <a:moveTo>
                  <a:pt x="14417" y="10800"/>
                </a:moveTo>
                <a:lnTo>
                  <a:pt x="24922" y="3794"/>
                </a:lnTo>
                <a:lnTo>
                  <a:pt x="24922" y="17806"/>
                </a:lnTo>
                <a:close/>
              </a:path>
              <a:path fill="darken" w="35831" h="21600">
                <a:moveTo>
                  <a:pt x="10909" y="3794"/>
                </a:moveTo>
                <a:lnTo>
                  <a:pt x="12571" y="3794"/>
                </a:lnTo>
                <a:lnTo>
                  <a:pt x="12571" y="17806"/>
                </a:lnTo>
                <a:lnTo>
                  <a:pt x="1090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1"/>
          <p:cNvSpPr/>
          <p:nvPr/>
        </p:nvSpPr>
        <p:spPr>
          <a:xfrm>
            <a:off x="2627280" y="29718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2340000" y="1268280"/>
            <a:ext cx="4535640" cy="4405320"/>
            <a:chOff x="2340000" y="1268280"/>
            <a:chExt cx="4535640" cy="4405320"/>
          </a:xfrm>
        </p:grpSpPr>
        <p:sp>
          <p:nvSpPr>
            <p:cNvPr id="112" name="Rectangle 3"/>
            <p:cNvSpPr/>
            <p:nvPr/>
          </p:nvSpPr>
          <p:spPr>
            <a:xfrm>
              <a:off x="2340000" y="1268280"/>
              <a:ext cx="4535640" cy="440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2340000" y="1268280"/>
              <a:ext cx="4535640" cy="4405320"/>
            </a:xfrm>
            <a:prstGeom prst="rect">
              <a:avLst/>
            </a:prstGeom>
            <a:noFill/>
            <a:ln cap="rnd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Freeform 5"/>
          <p:cNvSpPr/>
          <p:nvPr/>
        </p:nvSpPr>
        <p:spPr>
          <a:xfrm>
            <a:off x="2344680" y="3433680"/>
            <a:ext cx="4438800" cy="11160"/>
          </a:xfrm>
          <a:custGeom>
            <a:avLst/>
            <a:gdLst/>
            <a:ahLst/>
            <a:rect l="l" t="t" r="r" b="b"/>
            <a:pathLst>
              <a:path w="11650" h="29">
                <a:moveTo>
                  <a:pt x="13" y="4"/>
                </a:moveTo>
                <a:lnTo>
                  <a:pt x="88" y="4"/>
                </a:lnTo>
                <a:cubicBezTo>
                  <a:pt x="95" y="4"/>
                  <a:pt x="100" y="9"/>
                  <a:pt x="100" y="16"/>
                </a:cubicBezTo>
                <a:cubicBezTo>
                  <a:pt x="100" y="23"/>
                  <a:pt x="95" y="29"/>
                  <a:pt x="88" y="29"/>
                </a:cubicBezTo>
                <a:lnTo>
                  <a:pt x="13" y="29"/>
                </a:lnTo>
                <a:cubicBezTo>
                  <a:pt x="6" y="29"/>
                  <a:pt x="0" y="23"/>
                  <a:pt x="0" y="16"/>
                </a:cubicBezTo>
                <a:cubicBezTo>
                  <a:pt x="0" y="9"/>
                  <a:pt x="6" y="4"/>
                  <a:pt x="13" y="4"/>
                </a:cubicBezTo>
                <a:close/>
                <a:moveTo>
                  <a:pt x="188" y="4"/>
                </a:moveTo>
                <a:lnTo>
                  <a:pt x="263" y="4"/>
                </a:lnTo>
                <a:cubicBezTo>
                  <a:pt x="270" y="4"/>
                  <a:pt x="275" y="9"/>
                  <a:pt x="275" y="16"/>
                </a:cubicBezTo>
                <a:cubicBezTo>
                  <a:pt x="275" y="23"/>
                  <a:pt x="270" y="29"/>
                  <a:pt x="263" y="29"/>
                </a:cubicBezTo>
                <a:lnTo>
                  <a:pt x="188" y="29"/>
                </a:lnTo>
                <a:cubicBezTo>
                  <a:pt x="181" y="29"/>
                  <a:pt x="175" y="23"/>
                  <a:pt x="175" y="16"/>
                </a:cubicBezTo>
                <a:cubicBezTo>
                  <a:pt x="175" y="9"/>
                  <a:pt x="181" y="4"/>
                  <a:pt x="188" y="4"/>
                </a:cubicBezTo>
                <a:close/>
                <a:moveTo>
                  <a:pt x="363" y="4"/>
                </a:moveTo>
                <a:lnTo>
                  <a:pt x="438" y="4"/>
                </a:lnTo>
                <a:cubicBezTo>
                  <a:pt x="445" y="4"/>
                  <a:pt x="450" y="9"/>
                  <a:pt x="450" y="16"/>
                </a:cubicBezTo>
                <a:cubicBezTo>
                  <a:pt x="450" y="23"/>
                  <a:pt x="445" y="29"/>
                  <a:pt x="438" y="29"/>
                </a:cubicBezTo>
                <a:lnTo>
                  <a:pt x="363" y="29"/>
                </a:lnTo>
                <a:cubicBezTo>
                  <a:pt x="356" y="29"/>
                  <a:pt x="350" y="23"/>
                  <a:pt x="350" y="16"/>
                </a:cubicBezTo>
                <a:cubicBezTo>
                  <a:pt x="350" y="9"/>
                  <a:pt x="356" y="4"/>
                  <a:pt x="363" y="4"/>
                </a:cubicBezTo>
                <a:close/>
                <a:moveTo>
                  <a:pt x="538" y="4"/>
                </a:moveTo>
                <a:lnTo>
                  <a:pt x="613" y="4"/>
                </a:lnTo>
                <a:cubicBezTo>
                  <a:pt x="620" y="4"/>
                  <a:pt x="625" y="9"/>
                  <a:pt x="625" y="16"/>
                </a:cubicBezTo>
                <a:cubicBezTo>
                  <a:pt x="625" y="23"/>
                  <a:pt x="620" y="29"/>
                  <a:pt x="613" y="29"/>
                </a:cubicBezTo>
                <a:lnTo>
                  <a:pt x="538" y="29"/>
                </a:lnTo>
                <a:cubicBezTo>
                  <a:pt x="531" y="29"/>
                  <a:pt x="525" y="23"/>
                  <a:pt x="525" y="16"/>
                </a:cubicBezTo>
                <a:cubicBezTo>
                  <a:pt x="525" y="9"/>
                  <a:pt x="531" y="4"/>
                  <a:pt x="538" y="4"/>
                </a:cubicBezTo>
                <a:close/>
                <a:moveTo>
                  <a:pt x="713" y="4"/>
                </a:moveTo>
                <a:lnTo>
                  <a:pt x="788" y="4"/>
                </a:lnTo>
                <a:cubicBezTo>
                  <a:pt x="795" y="4"/>
                  <a:pt x="800" y="9"/>
                  <a:pt x="800" y="16"/>
                </a:cubicBezTo>
                <a:cubicBezTo>
                  <a:pt x="800" y="23"/>
                  <a:pt x="795" y="29"/>
                  <a:pt x="788" y="29"/>
                </a:cubicBezTo>
                <a:lnTo>
                  <a:pt x="713" y="29"/>
                </a:lnTo>
                <a:cubicBezTo>
                  <a:pt x="706" y="29"/>
                  <a:pt x="700" y="23"/>
                  <a:pt x="700" y="16"/>
                </a:cubicBezTo>
                <a:cubicBezTo>
                  <a:pt x="700" y="9"/>
                  <a:pt x="706" y="4"/>
                  <a:pt x="713" y="4"/>
                </a:cubicBezTo>
                <a:close/>
                <a:moveTo>
                  <a:pt x="888" y="3"/>
                </a:moveTo>
                <a:lnTo>
                  <a:pt x="963" y="3"/>
                </a:lnTo>
                <a:cubicBezTo>
                  <a:pt x="970" y="3"/>
                  <a:pt x="975" y="9"/>
                  <a:pt x="975" y="16"/>
                </a:cubicBezTo>
                <a:cubicBezTo>
                  <a:pt x="975" y="23"/>
                  <a:pt x="970" y="28"/>
                  <a:pt x="963" y="28"/>
                </a:cubicBezTo>
                <a:lnTo>
                  <a:pt x="888" y="28"/>
                </a:lnTo>
                <a:cubicBezTo>
                  <a:pt x="881" y="28"/>
                  <a:pt x="875" y="23"/>
                  <a:pt x="875" y="16"/>
                </a:cubicBezTo>
                <a:cubicBezTo>
                  <a:pt x="875" y="9"/>
                  <a:pt x="881" y="3"/>
                  <a:pt x="888" y="3"/>
                </a:cubicBezTo>
                <a:close/>
                <a:moveTo>
                  <a:pt x="1063" y="3"/>
                </a:moveTo>
                <a:lnTo>
                  <a:pt x="1138" y="3"/>
                </a:lnTo>
                <a:cubicBezTo>
                  <a:pt x="1145" y="3"/>
                  <a:pt x="1150" y="9"/>
                  <a:pt x="1150" y="16"/>
                </a:cubicBezTo>
                <a:cubicBezTo>
                  <a:pt x="1150" y="23"/>
                  <a:pt x="1145" y="28"/>
                  <a:pt x="1138" y="28"/>
                </a:cubicBezTo>
                <a:lnTo>
                  <a:pt x="1063" y="28"/>
                </a:lnTo>
                <a:cubicBezTo>
                  <a:pt x="1056" y="28"/>
                  <a:pt x="1050" y="23"/>
                  <a:pt x="1050" y="16"/>
                </a:cubicBezTo>
                <a:cubicBezTo>
                  <a:pt x="1050" y="9"/>
                  <a:pt x="1056" y="3"/>
                  <a:pt x="1063" y="3"/>
                </a:cubicBezTo>
                <a:close/>
                <a:moveTo>
                  <a:pt x="1238" y="3"/>
                </a:moveTo>
                <a:lnTo>
                  <a:pt x="1313" y="3"/>
                </a:lnTo>
                <a:cubicBezTo>
                  <a:pt x="1320" y="3"/>
                  <a:pt x="1325" y="9"/>
                  <a:pt x="1325" y="16"/>
                </a:cubicBezTo>
                <a:cubicBezTo>
                  <a:pt x="1325" y="23"/>
                  <a:pt x="1320" y="28"/>
                  <a:pt x="1313" y="28"/>
                </a:cubicBezTo>
                <a:lnTo>
                  <a:pt x="1238" y="28"/>
                </a:lnTo>
                <a:cubicBezTo>
                  <a:pt x="1231" y="28"/>
                  <a:pt x="1225" y="23"/>
                  <a:pt x="1225" y="16"/>
                </a:cubicBezTo>
                <a:cubicBezTo>
                  <a:pt x="1225" y="9"/>
                  <a:pt x="1231" y="3"/>
                  <a:pt x="1238" y="3"/>
                </a:cubicBezTo>
                <a:close/>
                <a:moveTo>
                  <a:pt x="1413" y="3"/>
                </a:moveTo>
                <a:lnTo>
                  <a:pt x="1488" y="3"/>
                </a:lnTo>
                <a:cubicBezTo>
                  <a:pt x="1495" y="3"/>
                  <a:pt x="1500" y="9"/>
                  <a:pt x="1500" y="16"/>
                </a:cubicBezTo>
                <a:cubicBezTo>
                  <a:pt x="1500" y="23"/>
                  <a:pt x="1495" y="28"/>
                  <a:pt x="1488" y="28"/>
                </a:cubicBezTo>
                <a:lnTo>
                  <a:pt x="1413" y="28"/>
                </a:lnTo>
                <a:cubicBezTo>
                  <a:pt x="1406" y="28"/>
                  <a:pt x="1400" y="23"/>
                  <a:pt x="1400" y="16"/>
                </a:cubicBezTo>
                <a:cubicBezTo>
                  <a:pt x="1400" y="9"/>
                  <a:pt x="1406" y="3"/>
                  <a:pt x="1413" y="3"/>
                </a:cubicBezTo>
                <a:close/>
                <a:moveTo>
                  <a:pt x="1588" y="3"/>
                </a:moveTo>
                <a:lnTo>
                  <a:pt x="1663" y="3"/>
                </a:lnTo>
                <a:cubicBezTo>
                  <a:pt x="1670" y="3"/>
                  <a:pt x="1675" y="9"/>
                  <a:pt x="1675" y="16"/>
                </a:cubicBezTo>
                <a:cubicBezTo>
                  <a:pt x="1675" y="23"/>
                  <a:pt x="1670" y="28"/>
                  <a:pt x="1663" y="28"/>
                </a:cubicBezTo>
                <a:lnTo>
                  <a:pt x="1588" y="28"/>
                </a:lnTo>
                <a:cubicBezTo>
                  <a:pt x="1581" y="28"/>
                  <a:pt x="1575" y="23"/>
                  <a:pt x="1575" y="16"/>
                </a:cubicBezTo>
                <a:cubicBezTo>
                  <a:pt x="1575" y="9"/>
                  <a:pt x="1581" y="3"/>
                  <a:pt x="1588" y="3"/>
                </a:cubicBezTo>
                <a:close/>
                <a:moveTo>
                  <a:pt x="1763" y="3"/>
                </a:moveTo>
                <a:lnTo>
                  <a:pt x="1838" y="3"/>
                </a:lnTo>
                <a:cubicBezTo>
                  <a:pt x="1845" y="3"/>
                  <a:pt x="1850" y="9"/>
                  <a:pt x="1850" y="16"/>
                </a:cubicBezTo>
                <a:cubicBezTo>
                  <a:pt x="1850" y="23"/>
                  <a:pt x="1845" y="28"/>
                  <a:pt x="1838" y="28"/>
                </a:cubicBezTo>
                <a:lnTo>
                  <a:pt x="1763" y="28"/>
                </a:lnTo>
                <a:cubicBezTo>
                  <a:pt x="1756" y="28"/>
                  <a:pt x="1750" y="23"/>
                  <a:pt x="1750" y="16"/>
                </a:cubicBezTo>
                <a:cubicBezTo>
                  <a:pt x="1750" y="9"/>
                  <a:pt x="1756" y="3"/>
                  <a:pt x="1763" y="3"/>
                </a:cubicBezTo>
                <a:close/>
                <a:moveTo>
                  <a:pt x="1938" y="3"/>
                </a:moveTo>
                <a:lnTo>
                  <a:pt x="2013" y="3"/>
                </a:lnTo>
                <a:cubicBezTo>
                  <a:pt x="2020" y="3"/>
                  <a:pt x="2025" y="9"/>
                  <a:pt x="2025" y="16"/>
                </a:cubicBezTo>
                <a:cubicBezTo>
                  <a:pt x="2025" y="22"/>
                  <a:pt x="2020" y="28"/>
                  <a:pt x="2013" y="28"/>
                </a:cubicBezTo>
                <a:lnTo>
                  <a:pt x="1938" y="28"/>
                </a:lnTo>
                <a:cubicBezTo>
                  <a:pt x="1931" y="28"/>
                  <a:pt x="1925" y="23"/>
                  <a:pt x="1925" y="16"/>
                </a:cubicBezTo>
                <a:cubicBezTo>
                  <a:pt x="1925" y="9"/>
                  <a:pt x="1931" y="3"/>
                  <a:pt x="1938" y="3"/>
                </a:cubicBezTo>
                <a:close/>
                <a:moveTo>
                  <a:pt x="2113" y="3"/>
                </a:moveTo>
                <a:lnTo>
                  <a:pt x="2188" y="3"/>
                </a:lnTo>
                <a:cubicBezTo>
                  <a:pt x="2195" y="3"/>
                  <a:pt x="2200" y="9"/>
                  <a:pt x="2200" y="16"/>
                </a:cubicBezTo>
                <a:cubicBezTo>
                  <a:pt x="2200" y="22"/>
                  <a:pt x="2195" y="28"/>
                  <a:pt x="2188" y="28"/>
                </a:cubicBezTo>
                <a:lnTo>
                  <a:pt x="2113" y="28"/>
                </a:lnTo>
                <a:cubicBezTo>
                  <a:pt x="2106" y="28"/>
                  <a:pt x="2100" y="22"/>
                  <a:pt x="2100" y="16"/>
                </a:cubicBezTo>
                <a:cubicBezTo>
                  <a:pt x="2100" y="9"/>
                  <a:pt x="2106" y="3"/>
                  <a:pt x="2113" y="3"/>
                </a:cubicBezTo>
                <a:close/>
                <a:moveTo>
                  <a:pt x="2288" y="3"/>
                </a:moveTo>
                <a:lnTo>
                  <a:pt x="2363" y="3"/>
                </a:lnTo>
                <a:cubicBezTo>
                  <a:pt x="2370" y="3"/>
                  <a:pt x="2375" y="9"/>
                  <a:pt x="2375" y="15"/>
                </a:cubicBezTo>
                <a:cubicBezTo>
                  <a:pt x="2375" y="22"/>
                  <a:pt x="2370" y="28"/>
                  <a:pt x="2363" y="28"/>
                </a:cubicBezTo>
                <a:lnTo>
                  <a:pt x="2288" y="28"/>
                </a:lnTo>
                <a:cubicBezTo>
                  <a:pt x="2281" y="28"/>
                  <a:pt x="2275" y="22"/>
                  <a:pt x="2275" y="15"/>
                </a:cubicBezTo>
                <a:cubicBezTo>
                  <a:pt x="2275" y="9"/>
                  <a:pt x="2281" y="3"/>
                  <a:pt x="2288" y="3"/>
                </a:cubicBezTo>
                <a:close/>
                <a:moveTo>
                  <a:pt x="2463" y="3"/>
                </a:moveTo>
                <a:lnTo>
                  <a:pt x="2538" y="3"/>
                </a:lnTo>
                <a:cubicBezTo>
                  <a:pt x="2545" y="3"/>
                  <a:pt x="2550" y="8"/>
                  <a:pt x="2550" y="15"/>
                </a:cubicBezTo>
                <a:cubicBezTo>
                  <a:pt x="2550" y="22"/>
                  <a:pt x="2545" y="28"/>
                  <a:pt x="2538" y="28"/>
                </a:cubicBezTo>
                <a:lnTo>
                  <a:pt x="2463" y="28"/>
                </a:lnTo>
                <a:cubicBezTo>
                  <a:pt x="2456" y="28"/>
                  <a:pt x="2450" y="22"/>
                  <a:pt x="2450" y="15"/>
                </a:cubicBezTo>
                <a:cubicBezTo>
                  <a:pt x="2450" y="9"/>
                  <a:pt x="2456" y="3"/>
                  <a:pt x="2463" y="3"/>
                </a:cubicBezTo>
                <a:close/>
                <a:moveTo>
                  <a:pt x="2638" y="3"/>
                </a:moveTo>
                <a:lnTo>
                  <a:pt x="2713" y="3"/>
                </a:lnTo>
                <a:cubicBezTo>
                  <a:pt x="2720" y="3"/>
                  <a:pt x="2725" y="8"/>
                  <a:pt x="2725" y="15"/>
                </a:cubicBezTo>
                <a:cubicBezTo>
                  <a:pt x="2725" y="22"/>
                  <a:pt x="2720" y="28"/>
                  <a:pt x="2713" y="28"/>
                </a:cubicBezTo>
                <a:lnTo>
                  <a:pt x="2638" y="28"/>
                </a:lnTo>
                <a:cubicBezTo>
                  <a:pt x="2631" y="28"/>
                  <a:pt x="2625" y="22"/>
                  <a:pt x="2625" y="15"/>
                </a:cubicBezTo>
                <a:cubicBezTo>
                  <a:pt x="2625" y="8"/>
                  <a:pt x="2631" y="3"/>
                  <a:pt x="2638" y="3"/>
                </a:cubicBezTo>
                <a:close/>
                <a:moveTo>
                  <a:pt x="2813" y="3"/>
                </a:moveTo>
                <a:lnTo>
                  <a:pt x="2888" y="3"/>
                </a:lnTo>
                <a:cubicBezTo>
                  <a:pt x="2895" y="3"/>
                  <a:pt x="2900" y="8"/>
                  <a:pt x="2900" y="15"/>
                </a:cubicBezTo>
                <a:cubicBezTo>
                  <a:pt x="2900" y="22"/>
                  <a:pt x="2895" y="28"/>
                  <a:pt x="2888" y="28"/>
                </a:cubicBezTo>
                <a:lnTo>
                  <a:pt x="2813" y="28"/>
                </a:lnTo>
                <a:cubicBezTo>
                  <a:pt x="2806" y="28"/>
                  <a:pt x="2800" y="22"/>
                  <a:pt x="2800" y="15"/>
                </a:cubicBezTo>
                <a:cubicBezTo>
                  <a:pt x="2800" y="8"/>
                  <a:pt x="2806" y="3"/>
                  <a:pt x="2813" y="3"/>
                </a:cubicBezTo>
                <a:close/>
                <a:moveTo>
                  <a:pt x="2988" y="3"/>
                </a:moveTo>
                <a:lnTo>
                  <a:pt x="3063" y="3"/>
                </a:lnTo>
                <a:cubicBezTo>
                  <a:pt x="3070" y="3"/>
                  <a:pt x="3075" y="8"/>
                  <a:pt x="3075" y="15"/>
                </a:cubicBezTo>
                <a:cubicBezTo>
                  <a:pt x="3075" y="22"/>
                  <a:pt x="3070" y="28"/>
                  <a:pt x="3063" y="28"/>
                </a:cubicBezTo>
                <a:lnTo>
                  <a:pt x="2988" y="28"/>
                </a:lnTo>
                <a:cubicBezTo>
                  <a:pt x="2981" y="28"/>
                  <a:pt x="2975" y="22"/>
                  <a:pt x="2975" y="15"/>
                </a:cubicBezTo>
                <a:cubicBezTo>
                  <a:pt x="2975" y="8"/>
                  <a:pt x="2981" y="3"/>
                  <a:pt x="2988" y="3"/>
                </a:cubicBezTo>
                <a:close/>
                <a:moveTo>
                  <a:pt x="3163" y="3"/>
                </a:moveTo>
                <a:lnTo>
                  <a:pt x="3238" y="3"/>
                </a:lnTo>
                <a:cubicBezTo>
                  <a:pt x="3245" y="3"/>
                  <a:pt x="3250" y="8"/>
                  <a:pt x="3250" y="15"/>
                </a:cubicBezTo>
                <a:cubicBezTo>
                  <a:pt x="3250" y="22"/>
                  <a:pt x="3245" y="28"/>
                  <a:pt x="3238" y="28"/>
                </a:cubicBezTo>
                <a:lnTo>
                  <a:pt x="3163" y="28"/>
                </a:lnTo>
                <a:cubicBezTo>
                  <a:pt x="3156" y="28"/>
                  <a:pt x="3150" y="22"/>
                  <a:pt x="3150" y="15"/>
                </a:cubicBezTo>
                <a:cubicBezTo>
                  <a:pt x="3150" y="8"/>
                  <a:pt x="3156" y="3"/>
                  <a:pt x="3163" y="3"/>
                </a:cubicBezTo>
                <a:close/>
                <a:moveTo>
                  <a:pt x="3338" y="3"/>
                </a:moveTo>
                <a:lnTo>
                  <a:pt x="3413" y="3"/>
                </a:lnTo>
                <a:cubicBezTo>
                  <a:pt x="3420" y="3"/>
                  <a:pt x="3425" y="8"/>
                  <a:pt x="3425" y="15"/>
                </a:cubicBezTo>
                <a:cubicBezTo>
                  <a:pt x="3425" y="22"/>
                  <a:pt x="3420" y="28"/>
                  <a:pt x="3413" y="28"/>
                </a:cubicBezTo>
                <a:lnTo>
                  <a:pt x="3338" y="28"/>
                </a:lnTo>
                <a:cubicBezTo>
                  <a:pt x="3331" y="28"/>
                  <a:pt x="3325" y="22"/>
                  <a:pt x="3325" y="15"/>
                </a:cubicBezTo>
                <a:cubicBezTo>
                  <a:pt x="3325" y="8"/>
                  <a:pt x="3331" y="3"/>
                  <a:pt x="3338" y="3"/>
                </a:cubicBezTo>
                <a:close/>
                <a:moveTo>
                  <a:pt x="3513" y="3"/>
                </a:moveTo>
                <a:lnTo>
                  <a:pt x="3588" y="3"/>
                </a:lnTo>
                <a:cubicBezTo>
                  <a:pt x="3595" y="3"/>
                  <a:pt x="3600" y="8"/>
                  <a:pt x="3600" y="15"/>
                </a:cubicBezTo>
                <a:cubicBezTo>
                  <a:pt x="3600" y="22"/>
                  <a:pt x="3595" y="28"/>
                  <a:pt x="3588" y="28"/>
                </a:cubicBezTo>
                <a:lnTo>
                  <a:pt x="3513" y="28"/>
                </a:lnTo>
                <a:cubicBezTo>
                  <a:pt x="3506" y="28"/>
                  <a:pt x="3500" y="22"/>
                  <a:pt x="3500" y="15"/>
                </a:cubicBezTo>
                <a:cubicBezTo>
                  <a:pt x="3500" y="8"/>
                  <a:pt x="3506" y="3"/>
                  <a:pt x="3513" y="3"/>
                </a:cubicBezTo>
                <a:close/>
                <a:moveTo>
                  <a:pt x="3688" y="2"/>
                </a:moveTo>
                <a:lnTo>
                  <a:pt x="3763" y="2"/>
                </a:lnTo>
                <a:cubicBezTo>
                  <a:pt x="3770" y="2"/>
                  <a:pt x="3775" y="8"/>
                  <a:pt x="3775" y="15"/>
                </a:cubicBezTo>
                <a:cubicBezTo>
                  <a:pt x="3775" y="22"/>
                  <a:pt x="3770" y="27"/>
                  <a:pt x="3763" y="27"/>
                </a:cubicBezTo>
                <a:lnTo>
                  <a:pt x="3688" y="27"/>
                </a:lnTo>
                <a:cubicBezTo>
                  <a:pt x="3681" y="27"/>
                  <a:pt x="3675" y="22"/>
                  <a:pt x="3675" y="15"/>
                </a:cubicBezTo>
                <a:cubicBezTo>
                  <a:pt x="3675" y="8"/>
                  <a:pt x="3681" y="2"/>
                  <a:pt x="3688" y="2"/>
                </a:cubicBezTo>
                <a:close/>
                <a:moveTo>
                  <a:pt x="3863" y="2"/>
                </a:moveTo>
                <a:lnTo>
                  <a:pt x="3938" y="2"/>
                </a:lnTo>
                <a:cubicBezTo>
                  <a:pt x="3945" y="2"/>
                  <a:pt x="3950" y="8"/>
                  <a:pt x="3950" y="15"/>
                </a:cubicBezTo>
                <a:cubicBezTo>
                  <a:pt x="3950" y="22"/>
                  <a:pt x="3945" y="27"/>
                  <a:pt x="3938" y="27"/>
                </a:cubicBezTo>
                <a:lnTo>
                  <a:pt x="3863" y="27"/>
                </a:lnTo>
                <a:cubicBezTo>
                  <a:pt x="3856" y="27"/>
                  <a:pt x="3850" y="22"/>
                  <a:pt x="3850" y="15"/>
                </a:cubicBezTo>
                <a:cubicBezTo>
                  <a:pt x="3850" y="8"/>
                  <a:pt x="3856" y="2"/>
                  <a:pt x="3863" y="2"/>
                </a:cubicBezTo>
                <a:close/>
                <a:moveTo>
                  <a:pt x="4038" y="2"/>
                </a:moveTo>
                <a:lnTo>
                  <a:pt x="4113" y="2"/>
                </a:lnTo>
                <a:cubicBezTo>
                  <a:pt x="4120" y="2"/>
                  <a:pt x="4125" y="8"/>
                  <a:pt x="4125" y="15"/>
                </a:cubicBezTo>
                <a:cubicBezTo>
                  <a:pt x="4125" y="22"/>
                  <a:pt x="4120" y="27"/>
                  <a:pt x="4113" y="27"/>
                </a:cubicBezTo>
                <a:lnTo>
                  <a:pt x="4038" y="27"/>
                </a:lnTo>
                <a:cubicBezTo>
                  <a:pt x="4031" y="27"/>
                  <a:pt x="4025" y="22"/>
                  <a:pt x="4025" y="15"/>
                </a:cubicBezTo>
                <a:cubicBezTo>
                  <a:pt x="4025" y="8"/>
                  <a:pt x="4031" y="2"/>
                  <a:pt x="4038" y="2"/>
                </a:cubicBezTo>
                <a:close/>
                <a:moveTo>
                  <a:pt x="4213" y="2"/>
                </a:moveTo>
                <a:lnTo>
                  <a:pt x="4288" y="2"/>
                </a:lnTo>
                <a:cubicBezTo>
                  <a:pt x="4295" y="2"/>
                  <a:pt x="4300" y="8"/>
                  <a:pt x="4300" y="15"/>
                </a:cubicBezTo>
                <a:cubicBezTo>
                  <a:pt x="4300" y="22"/>
                  <a:pt x="4295" y="27"/>
                  <a:pt x="4288" y="27"/>
                </a:cubicBezTo>
                <a:lnTo>
                  <a:pt x="4213" y="27"/>
                </a:lnTo>
                <a:cubicBezTo>
                  <a:pt x="4206" y="27"/>
                  <a:pt x="4200" y="22"/>
                  <a:pt x="4200" y="15"/>
                </a:cubicBezTo>
                <a:cubicBezTo>
                  <a:pt x="4200" y="8"/>
                  <a:pt x="4206" y="2"/>
                  <a:pt x="4213" y="2"/>
                </a:cubicBezTo>
                <a:close/>
                <a:moveTo>
                  <a:pt x="4388" y="2"/>
                </a:moveTo>
                <a:lnTo>
                  <a:pt x="4463" y="2"/>
                </a:lnTo>
                <a:cubicBezTo>
                  <a:pt x="4470" y="2"/>
                  <a:pt x="4475" y="8"/>
                  <a:pt x="4475" y="15"/>
                </a:cubicBezTo>
                <a:cubicBezTo>
                  <a:pt x="4475" y="22"/>
                  <a:pt x="4470" y="27"/>
                  <a:pt x="4463" y="27"/>
                </a:cubicBezTo>
                <a:lnTo>
                  <a:pt x="4388" y="27"/>
                </a:lnTo>
                <a:cubicBezTo>
                  <a:pt x="4381" y="27"/>
                  <a:pt x="4375" y="22"/>
                  <a:pt x="4375" y="15"/>
                </a:cubicBezTo>
                <a:cubicBezTo>
                  <a:pt x="4375" y="8"/>
                  <a:pt x="4381" y="2"/>
                  <a:pt x="4388" y="2"/>
                </a:cubicBezTo>
                <a:close/>
                <a:moveTo>
                  <a:pt x="4563" y="2"/>
                </a:moveTo>
                <a:lnTo>
                  <a:pt x="4638" y="2"/>
                </a:lnTo>
                <a:cubicBezTo>
                  <a:pt x="4645" y="2"/>
                  <a:pt x="4650" y="8"/>
                  <a:pt x="4650" y="15"/>
                </a:cubicBezTo>
                <a:cubicBezTo>
                  <a:pt x="4650" y="22"/>
                  <a:pt x="4645" y="27"/>
                  <a:pt x="4638" y="27"/>
                </a:cubicBezTo>
                <a:lnTo>
                  <a:pt x="4563" y="27"/>
                </a:lnTo>
                <a:cubicBezTo>
                  <a:pt x="4556" y="27"/>
                  <a:pt x="4550" y="22"/>
                  <a:pt x="4550" y="15"/>
                </a:cubicBezTo>
                <a:cubicBezTo>
                  <a:pt x="4550" y="8"/>
                  <a:pt x="4556" y="2"/>
                  <a:pt x="4563" y="2"/>
                </a:cubicBezTo>
                <a:close/>
                <a:moveTo>
                  <a:pt x="4738" y="2"/>
                </a:moveTo>
                <a:lnTo>
                  <a:pt x="4813" y="2"/>
                </a:lnTo>
                <a:cubicBezTo>
                  <a:pt x="4820" y="2"/>
                  <a:pt x="4825" y="8"/>
                  <a:pt x="4825" y="15"/>
                </a:cubicBezTo>
                <a:cubicBezTo>
                  <a:pt x="4825" y="21"/>
                  <a:pt x="4820" y="27"/>
                  <a:pt x="4813" y="27"/>
                </a:cubicBezTo>
                <a:lnTo>
                  <a:pt x="4738" y="27"/>
                </a:lnTo>
                <a:cubicBezTo>
                  <a:pt x="4731" y="27"/>
                  <a:pt x="4725" y="21"/>
                  <a:pt x="4725" y="15"/>
                </a:cubicBezTo>
                <a:cubicBezTo>
                  <a:pt x="4725" y="8"/>
                  <a:pt x="4731" y="2"/>
                  <a:pt x="4738" y="2"/>
                </a:cubicBezTo>
                <a:close/>
                <a:moveTo>
                  <a:pt x="4913" y="2"/>
                </a:moveTo>
                <a:lnTo>
                  <a:pt x="4988" y="2"/>
                </a:lnTo>
                <a:cubicBezTo>
                  <a:pt x="4995" y="2"/>
                  <a:pt x="5000" y="8"/>
                  <a:pt x="5000" y="14"/>
                </a:cubicBezTo>
                <a:cubicBezTo>
                  <a:pt x="5000" y="21"/>
                  <a:pt x="4995" y="27"/>
                  <a:pt x="4988" y="27"/>
                </a:cubicBezTo>
                <a:lnTo>
                  <a:pt x="4913" y="27"/>
                </a:lnTo>
                <a:cubicBezTo>
                  <a:pt x="4906" y="27"/>
                  <a:pt x="4900" y="21"/>
                  <a:pt x="4900" y="15"/>
                </a:cubicBezTo>
                <a:cubicBezTo>
                  <a:pt x="4900" y="8"/>
                  <a:pt x="4906" y="2"/>
                  <a:pt x="4913" y="2"/>
                </a:cubicBezTo>
                <a:close/>
                <a:moveTo>
                  <a:pt x="5088" y="2"/>
                </a:moveTo>
                <a:lnTo>
                  <a:pt x="5163" y="2"/>
                </a:lnTo>
                <a:cubicBezTo>
                  <a:pt x="5170" y="2"/>
                  <a:pt x="5175" y="8"/>
                  <a:pt x="5175" y="14"/>
                </a:cubicBezTo>
                <a:cubicBezTo>
                  <a:pt x="5175" y="21"/>
                  <a:pt x="5170" y="27"/>
                  <a:pt x="5163" y="27"/>
                </a:cubicBezTo>
                <a:lnTo>
                  <a:pt x="5088" y="27"/>
                </a:lnTo>
                <a:cubicBezTo>
                  <a:pt x="5081" y="27"/>
                  <a:pt x="5075" y="21"/>
                  <a:pt x="5075" y="14"/>
                </a:cubicBezTo>
                <a:cubicBezTo>
                  <a:pt x="5075" y="8"/>
                  <a:pt x="5081" y="2"/>
                  <a:pt x="5088" y="2"/>
                </a:cubicBezTo>
                <a:close/>
                <a:moveTo>
                  <a:pt x="5263" y="2"/>
                </a:moveTo>
                <a:lnTo>
                  <a:pt x="5338" y="2"/>
                </a:lnTo>
                <a:cubicBezTo>
                  <a:pt x="5345" y="2"/>
                  <a:pt x="5350" y="7"/>
                  <a:pt x="5350" y="14"/>
                </a:cubicBezTo>
                <a:cubicBezTo>
                  <a:pt x="5350" y="21"/>
                  <a:pt x="5345" y="27"/>
                  <a:pt x="5338" y="27"/>
                </a:cubicBezTo>
                <a:lnTo>
                  <a:pt x="5263" y="27"/>
                </a:lnTo>
                <a:cubicBezTo>
                  <a:pt x="5256" y="27"/>
                  <a:pt x="5250" y="21"/>
                  <a:pt x="5250" y="14"/>
                </a:cubicBezTo>
                <a:cubicBezTo>
                  <a:pt x="5250" y="7"/>
                  <a:pt x="5256" y="2"/>
                  <a:pt x="5263" y="2"/>
                </a:cubicBezTo>
                <a:close/>
                <a:moveTo>
                  <a:pt x="5438" y="2"/>
                </a:moveTo>
                <a:lnTo>
                  <a:pt x="5513" y="2"/>
                </a:lnTo>
                <a:cubicBezTo>
                  <a:pt x="5520" y="2"/>
                  <a:pt x="5525" y="7"/>
                  <a:pt x="5525" y="14"/>
                </a:cubicBezTo>
                <a:cubicBezTo>
                  <a:pt x="5525" y="21"/>
                  <a:pt x="5520" y="27"/>
                  <a:pt x="5513" y="27"/>
                </a:cubicBezTo>
                <a:lnTo>
                  <a:pt x="5438" y="27"/>
                </a:lnTo>
                <a:cubicBezTo>
                  <a:pt x="5431" y="27"/>
                  <a:pt x="5425" y="21"/>
                  <a:pt x="5425" y="14"/>
                </a:cubicBezTo>
                <a:cubicBezTo>
                  <a:pt x="5425" y="7"/>
                  <a:pt x="5431" y="2"/>
                  <a:pt x="5438" y="2"/>
                </a:cubicBezTo>
                <a:close/>
                <a:moveTo>
                  <a:pt x="5613" y="2"/>
                </a:moveTo>
                <a:lnTo>
                  <a:pt x="5688" y="2"/>
                </a:lnTo>
                <a:cubicBezTo>
                  <a:pt x="5695" y="2"/>
                  <a:pt x="5700" y="7"/>
                  <a:pt x="5700" y="14"/>
                </a:cubicBezTo>
                <a:cubicBezTo>
                  <a:pt x="5700" y="21"/>
                  <a:pt x="5695" y="27"/>
                  <a:pt x="5688" y="27"/>
                </a:cubicBezTo>
                <a:lnTo>
                  <a:pt x="5613" y="27"/>
                </a:lnTo>
                <a:cubicBezTo>
                  <a:pt x="5606" y="27"/>
                  <a:pt x="5600" y="21"/>
                  <a:pt x="5600" y="14"/>
                </a:cubicBezTo>
                <a:cubicBezTo>
                  <a:pt x="5600" y="7"/>
                  <a:pt x="5606" y="2"/>
                  <a:pt x="5613" y="2"/>
                </a:cubicBezTo>
                <a:close/>
                <a:moveTo>
                  <a:pt x="5788" y="2"/>
                </a:moveTo>
                <a:lnTo>
                  <a:pt x="5863" y="2"/>
                </a:lnTo>
                <a:cubicBezTo>
                  <a:pt x="5870" y="2"/>
                  <a:pt x="5875" y="7"/>
                  <a:pt x="5875" y="14"/>
                </a:cubicBezTo>
                <a:cubicBezTo>
                  <a:pt x="5875" y="21"/>
                  <a:pt x="5870" y="27"/>
                  <a:pt x="5863" y="27"/>
                </a:cubicBezTo>
                <a:lnTo>
                  <a:pt x="5788" y="27"/>
                </a:lnTo>
                <a:cubicBezTo>
                  <a:pt x="5781" y="27"/>
                  <a:pt x="5775" y="21"/>
                  <a:pt x="5775" y="14"/>
                </a:cubicBezTo>
                <a:cubicBezTo>
                  <a:pt x="5775" y="7"/>
                  <a:pt x="5781" y="2"/>
                  <a:pt x="5788" y="2"/>
                </a:cubicBezTo>
                <a:close/>
                <a:moveTo>
                  <a:pt x="5963" y="2"/>
                </a:moveTo>
                <a:lnTo>
                  <a:pt x="6038" y="2"/>
                </a:lnTo>
                <a:cubicBezTo>
                  <a:pt x="6045" y="2"/>
                  <a:pt x="6050" y="7"/>
                  <a:pt x="6050" y="14"/>
                </a:cubicBezTo>
                <a:cubicBezTo>
                  <a:pt x="6050" y="21"/>
                  <a:pt x="6045" y="27"/>
                  <a:pt x="6038" y="27"/>
                </a:cubicBezTo>
                <a:lnTo>
                  <a:pt x="5963" y="27"/>
                </a:lnTo>
                <a:cubicBezTo>
                  <a:pt x="5956" y="27"/>
                  <a:pt x="5950" y="21"/>
                  <a:pt x="5950" y="14"/>
                </a:cubicBezTo>
                <a:cubicBezTo>
                  <a:pt x="5950" y="7"/>
                  <a:pt x="5956" y="2"/>
                  <a:pt x="5963" y="2"/>
                </a:cubicBezTo>
                <a:close/>
                <a:moveTo>
                  <a:pt x="6138" y="2"/>
                </a:moveTo>
                <a:lnTo>
                  <a:pt x="6213" y="2"/>
                </a:lnTo>
                <a:cubicBezTo>
                  <a:pt x="6220" y="2"/>
                  <a:pt x="6225" y="7"/>
                  <a:pt x="6225" y="14"/>
                </a:cubicBezTo>
                <a:cubicBezTo>
                  <a:pt x="6225" y="21"/>
                  <a:pt x="6220" y="27"/>
                  <a:pt x="6213" y="27"/>
                </a:cubicBezTo>
                <a:lnTo>
                  <a:pt x="6138" y="27"/>
                </a:lnTo>
                <a:cubicBezTo>
                  <a:pt x="6131" y="27"/>
                  <a:pt x="6125" y="21"/>
                  <a:pt x="6125" y="14"/>
                </a:cubicBezTo>
                <a:cubicBezTo>
                  <a:pt x="6125" y="7"/>
                  <a:pt x="6131" y="2"/>
                  <a:pt x="6138" y="2"/>
                </a:cubicBezTo>
                <a:close/>
                <a:moveTo>
                  <a:pt x="6313" y="2"/>
                </a:moveTo>
                <a:lnTo>
                  <a:pt x="6388" y="2"/>
                </a:lnTo>
                <a:cubicBezTo>
                  <a:pt x="6395" y="1"/>
                  <a:pt x="6400" y="7"/>
                  <a:pt x="6400" y="14"/>
                </a:cubicBezTo>
                <a:cubicBezTo>
                  <a:pt x="6400" y="21"/>
                  <a:pt x="6395" y="26"/>
                  <a:pt x="6388" y="27"/>
                </a:cubicBezTo>
                <a:lnTo>
                  <a:pt x="6313" y="27"/>
                </a:lnTo>
                <a:cubicBezTo>
                  <a:pt x="6306" y="27"/>
                  <a:pt x="6300" y="21"/>
                  <a:pt x="6300" y="14"/>
                </a:cubicBezTo>
                <a:cubicBezTo>
                  <a:pt x="6300" y="7"/>
                  <a:pt x="6306" y="2"/>
                  <a:pt x="6313" y="2"/>
                </a:cubicBezTo>
                <a:close/>
                <a:moveTo>
                  <a:pt x="6488" y="1"/>
                </a:moveTo>
                <a:lnTo>
                  <a:pt x="6563" y="1"/>
                </a:lnTo>
                <a:cubicBezTo>
                  <a:pt x="6570" y="1"/>
                  <a:pt x="6575" y="7"/>
                  <a:pt x="6575" y="14"/>
                </a:cubicBezTo>
                <a:cubicBezTo>
                  <a:pt x="6575" y="21"/>
                  <a:pt x="6570" y="26"/>
                  <a:pt x="6563" y="26"/>
                </a:cubicBezTo>
                <a:lnTo>
                  <a:pt x="6488" y="26"/>
                </a:lnTo>
                <a:cubicBezTo>
                  <a:pt x="6481" y="26"/>
                  <a:pt x="6475" y="21"/>
                  <a:pt x="6475" y="14"/>
                </a:cubicBezTo>
                <a:cubicBezTo>
                  <a:pt x="6475" y="7"/>
                  <a:pt x="6481" y="1"/>
                  <a:pt x="6488" y="1"/>
                </a:cubicBezTo>
                <a:close/>
                <a:moveTo>
                  <a:pt x="6663" y="1"/>
                </a:moveTo>
                <a:lnTo>
                  <a:pt x="6738" y="1"/>
                </a:lnTo>
                <a:cubicBezTo>
                  <a:pt x="6745" y="1"/>
                  <a:pt x="6750" y="7"/>
                  <a:pt x="6750" y="14"/>
                </a:cubicBezTo>
                <a:cubicBezTo>
                  <a:pt x="6750" y="21"/>
                  <a:pt x="6745" y="26"/>
                  <a:pt x="6738" y="26"/>
                </a:cubicBezTo>
                <a:lnTo>
                  <a:pt x="6663" y="26"/>
                </a:lnTo>
                <a:cubicBezTo>
                  <a:pt x="6656" y="26"/>
                  <a:pt x="6650" y="21"/>
                  <a:pt x="6650" y="14"/>
                </a:cubicBezTo>
                <a:cubicBezTo>
                  <a:pt x="6650" y="7"/>
                  <a:pt x="6656" y="1"/>
                  <a:pt x="6663" y="1"/>
                </a:cubicBezTo>
                <a:close/>
                <a:moveTo>
                  <a:pt x="6838" y="1"/>
                </a:moveTo>
                <a:lnTo>
                  <a:pt x="6913" y="1"/>
                </a:lnTo>
                <a:cubicBezTo>
                  <a:pt x="6920" y="1"/>
                  <a:pt x="6925" y="7"/>
                  <a:pt x="6925" y="14"/>
                </a:cubicBezTo>
                <a:cubicBezTo>
                  <a:pt x="6925" y="21"/>
                  <a:pt x="6920" y="26"/>
                  <a:pt x="6913" y="26"/>
                </a:cubicBezTo>
                <a:lnTo>
                  <a:pt x="6838" y="26"/>
                </a:lnTo>
                <a:cubicBezTo>
                  <a:pt x="6831" y="26"/>
                  <a:pt x="6825" y="21"/>
                  <a:pt x="6825" y="14"/>
                </a:cubicBezTo>
                <a:cubicBezTo>
                  <a:pt x="6825" y="7"/>
                  <a:pt x="6831" y="1"/>
                  <a:pt x="6838" y="1"/>
                </a:cubicBezTo>
                <a:close/>
                <a:moveTo>
                  <a:pt x="7013" y="1"/>
                </a:moveTo>
                <a:lnTo>
                  <a:pt x="7088" y="1"/>
                </a:lnTo>
                <a:cubicBezTo>
                  <a:pt x="7095" y="1"/>
                  <a:pt x="7100" y="7"/>
                  <a:pt x="7100" y="14"/>
                </a:cubicBezTo>
                <a:cubicBezTo>
                  <a:pt x="7100" y="21"/>
                  <a:pt x="7095" y="26"/>
                  <a:pt x="7088" y="26"/>
                </a:cubicBezTo>
                <a:lnTo>
                  <a:pt x="7013" y="26"/>
                </a:lnTo>
                <a:cubicBezTo>
                  <a:pt x="7006" y="26"/>
                  <a:pt x="7000" y="21"/>
                  <a:pt x="7000" y="14"/>
                </a:cubicBezTo>
                <a:cubicBezTo>
                  <a:pt x="7000" y="7"/>
                  <a:pt x="7006" y="1"/>
                  <a:pt x="7013" y="1"/>
                </a:cubicBezTo>
                <a:close/>
                <a:moveTo>
                  <a:pt x="7188" y="1"/>
                </a:moveTo>
                <a:lnTo>
                  <a:pt x="7263" y="1"/>
                </a:lnTo>
                <a:cubicBezTo>
                  <a:pt x="7270" y="1"/>
                  <a:pt x="7275" y="7"/>
                  <a:pt x="7275" y="14"/>
                </a:cubicBezTo>
                <a:cubicBezTo>
                  <a:pt x="7275" y="21"/>
                  <a:pt x="7270" y="26"/>
                  <a:pt x="7263" y="26"/>
                </a:cubicBezTo>
                <a:lnTo>
                  <a:pt x="7188" y="26"/>
                </a:lnTo>
                <a:cubicBezTo>
                  <a:pt x="7181" y="26"/>
                  <a:pt x="7175" y="21"/>
                  <a:pt x="7175" y="14"/>
                </a:cubicBezTo>
                <a:cubicBezTo>
                  <a:pt x="7175" y="7"/>
                  <a:pt x="7181" y="1"/>
                  <a:pt x="7188" y="1"/>
                </a:cubicBezTo>
                <a:close/>
                <a:moveTo>
                  <a:pt x="7363" y="1"/>
                </a:moveTo>
                <a:lnTo>
                  <a:pt x="7438" y="1"/>
                </a:lnTo>
                <a:cubicBezTo>
                  <a:pt x="7445" y="1"/>
                  <a:pt x="7450" y="7"/>
                  <a:pt x="7450" y="14"/>
                </a:cubicBezTo>
                <a:cubicBezTo>
                  <a:pt x="7450" y="21"/>
                  <a:pt x="7445" y="26"/>
                  <a:pt x="7438" y="26"/>
                </a:cubicBezTo>
                <a:lnTo>
                  <a:pt x="7363" y="26"/>
                </a:lnTo>
                <a:cubicBezTo>
                  <a:pt x="7356" y="26"/>
                  <a:pt x="7350" y="21"/>
                  <a:pt x="7350" y="14"/>
                </a:cubicBezTo>
                <a:cubicBezTo>
                  <a:pt x="7350" y="7"/>
                  <a:pt x="7356" y="1"/>
                  <a:pt x="7363" y="1"/>
                </a:cubicBezTo>
                <a:close/>
                <a:moveTo>
                  <a:pt x="7538" y="1"/>
                </a:moveTo>
                <a:lnTo>
                  <a:pt x="7613" y="1"/>
                </a:lnTo>
                <a:cubicBezTo>
                  <a:pt x="7620" y="1"/>
                  <a:pt x="7625" y="7"/>
                  <a:pt x="7625" y="14"/>
                </a:cubicBezTo>
                <a:cubicBezTo>
                  <a:pt x="7625" y="20"/>
                  <a:pt x="7620" y="26"/>
                  <a:pt x="7613" y="26"/>
                </a:cubicBezTo>
                <a:lnTo>
                  <a:pt x="7538" y="26"/>
                </a:lnTo>
                <a:cubicBezTo>
                  <a:pt x="7531" y="26"/>
                  <a:pt x="7525" y="21"/>
                  <a:pt x="7525" y="14"/>
                </a:cubicBezTo>
                <a:cubicBezTo>
                  <a:pt x="7525" y="7"/>
                  <a:pt x="7531" y="1"/>
                  <a:pt x="7538" y="1"/>
                </a:cubicBezTo>
                <a:close/>
                <a:moveTo>
                  <a:pt x="7713" y="1"/>
                </a:moveTo>
                <a:lnTo>
                  <a:pt x="7788" y="1"/>
                </a:lnTo>
                <a:cubicBezTo>
                  <a:pt x="7795" y="1"/>
                  <a:pt x="7800" y="7"/>
                  <a:pt x="7800" y="14"/>
                </a:cubicBezTo>
                <a:cubicBezTo>
                  <a:pt x="7800" y="20"/>
                  <a:pt x="7795" y="26"/>
                  <a:pt x="7788" y="26"/>
                </a:cubicBezTo>
                <a:lnTo>
                  <a:pt x="7713" y="26"/>
                </a:lnTo>
                <a:cubicBezTo>
                  <a:pt x="7706" y="26"/>
                  <a:pt x="7700" y="20"/>
                  <a:pt x="7700" y="14"/>
                </a:cubicBezTo>
                <a:cubicBezTo>
                  <a:pt x="7700" y="7"/>
                  <a:pt x="7706" y="1"/>
                  <a:pt x="7713" y="1"/>
                </a:cubicBezTo>
                <a:close/>
                <a:moveTo>
                  <a:pt x="7888" y="1"/>
                </a:moveTo>
                <a:lnTo>
                  <a:pt x="7963" y="1"/>
                </a:lnTo>
                <a:cubicBezTo>
                  <a:pt x="7970" y="1"/>
                  <a:pt x="7975" y="7"/>
                  <a:pt x="7975" y="13"/>
                </a:cubicBezTo>
                <a:cubicBezTo>
                  <a:pt x="7975" y="20"/>
                  <a:pt x="7970" y="26"/>
                  <a:pt x="7963" y="26"/>
                </a:cubicBezTo>
                <a:lnTo>
                  <a:pt x="7888" y="26"/>
                </a:lnTo>
                <a:cubicBezTo>
                  <a:pt x="7881" y="26"/>
                  <a:pt x="7875" y="20"/>
                  <a:pt x="7875" y="13"/>
                </a:cubicBezTo>
                <a:cubicBezTo>
                  <a:pt x="7875" y="7"/>
                  <a:pt x="7881" y="1"/>
                  <a:pt x="7888" y="1"/>
                </a:cubicBezTo>
                <a:close/>
                <a:moveTo>
                  <a:pt x="8063" y="1"/>
                </a:moveTo>
                <a:lnTo>
                  <a:pt x="8138" y="1"/>
                </a:lnTo>
                <a:cubicBezTo>
                  <a:pt x="8145" y="1"/>
                  <a:pt x="8150" y="6"/>
                  <a:pt x="8150" y="13"/>
                </a:cubicBezTo>
                <a:cubicBezTo>
                  <a:pt x="8150" y="20"/>
                  <a:pt x="8145" y="26"/>
                  <a:pt x="8138" y="26"/>
                </a:cubicBezTo>
                <a:lnTo>
                  <a:pt x="8063" y="26"/>
                </a:lnTo>
                <a:cubicBezTo>
                  <a:pt x="8056" y="26"/>
                  <a:pt x="8050" y="20"/>
                  <a:pt x="8050" y="13"/>
                </a:cubicBezTo>
                <a:cubicBezTo>
                  <a:pt x="8050" y="7"/>
                  <a:pt x="8056" y="1"/>
                  <a:pt x="8063" y="1"/>
                </a:cubicBezTo>
                <a:close/>
                <a:moveTo>
                  <a:pt x="8238" y="1"/>
                </a:moveTo>
                <a:lnTo>
                  <a:pt x="8313" y="1"/>
                </a:lnTo>
                <a:cubicBezTo>
                  <a:pt x="8320" y="1"/>
                  <a:pt x="8325" y="6"/>
                  <a:pt x="8325" y="13"/>
                </a:cubicBezTo>
                <a:cubicBezTo>
                  <a:pt x="8325" y="20"/>
                  <a:pt x="8320" y="26"/>
                  <a:pt x="8313" y="26"/>
                </a:cubicBezTo>
                <a:lnTo>
                  <a:pt x="8238" y="26"/>
                </a:lnTo>
                <a:cubicBezTo>
                  <a:pt x="8231" y="26"/>
                  <a:pt x="8225" y="20"/>
                  <a:pt x="8225" y="13"/>
                </a:cubicBezTo>
                <a:cubicBezTo>
                  <a:pt x="8225" y="6"/>
                  <a:pt x="8231" y="1"/>
                  <a:pt x="8238" y="1"/>
                </a:cubicBezTo>
                <a:close/>
                <a:moveTo>
                  <a:pt x="8413" y="1"/>
                </a:moveTo>
                <a:lnTo>
                  <a:pt x="8488" y="1"/>
                </a:lnTo>
                <a:cubicBezTo>
                  <a:pt x="8495" y="1"/>
                  <a:pt x="8500" y="6"/>
                  <a:pt x="8500" y="13"/>
                </a:cubicBezTo>
                <a:cubicBezTo>
                  <a:pt x="8500" y="20"/>
                  <a:pt x="8495" y="26"/>
                  <a:pt x="8488" y="26"/>
                </a:cubicBezTo>
                <a:lnTo>
                  <a:pt x="8413" y="26"/>
                </a:lnTo>
                <a:cubicBezTo>
                  <a:pt x="8406" y="26"/>
                  <a:pt x="8400" y="20"/>
                  <a:pt x="8400" y="13"/>
                </a:cubicBezTo>
                <a:cubicBezTo>
                  <a:pt x="8400" y="6"/>
                  <a:pt x="8406" y="1"/>
                  <a:pt x="8413" y="1"/>
                </a:cubicBezTo>
                <a:close/>
                <a:moveTo>
                  <a:pt x="8588" y="1"/>
                </a:moveTo>
                <a:lnTo>
                  <a:pt x="8663" y="1"/>
                </a:lnTo>
                <a:cubicBezTo>
                  <a:pt x="8670" y="1"/>
                  <a:pt x="8675" y="6"/>
                  <a:pt x="8675" y="13"/>
                </a:cubicBezTo>
                <a:cubicBezTo>
                  <a:pt x="8675" y="20"/>
                  <a:pt x="8670" y="26"/>
                  <a:pt x="8663" y="26"/>
                </a:cubicBezTo>
                <a:lnTo>
                  <a:pt x="8588" y="26"/>
                </a:lnTo>
                <a:cubicBezTo>
                  <a:pt x="8581" y="26"/>
                  <a:pt x="8575" y="20"/>
                  <a:pt x="8575" y="13"/>
                </a:cubicBezTo>
                <a:cubicBezTo>
                  <a:pt x="8575" y="6"/>
                  <a:pt x="8581" y="1"/>
                  <a:pt x="8588" y="1"/>
                </a:cubicBezTo>
                <a:close/>
                <a:moveTo>
                  <a:pt x="8763" y="1"/>
                </a:moveTo>
                <a:lnTo>
                  <a:pt x="8838" y="1"/>
                </a:lnTo>
                <a:cubicBezTo>
                  <a:pt x="8845" y="1"/>
                  <a:pt x="8850" y="6"/>
                  <a:pt x="8850" y="13"/>
                </a:cubicBezTo>
                <a:cubicBezTo>
                  <a:pt x="8850" y="20"/>
                  <a:pt x="8845" y="26"/>
                  <a:pt x="8838" y="26"/>
                </a:cubicBezTo>
                <a:lnTo>
                  <a:pt x="8763" y="26"/>
                </a:lnTo>
                <a:cubicBezTo>
                  <a:pt x="8756" y="26"/>
                  <a:pt x="8750" y="20"/>
                  <a:pt x="8750" y="13"/>
                </a:cubicBezTo>
                <a:cubicBezTo>
                  <a:pt x="8750" y="6"/>
                  <a:pt x="8756" y="1"/>
                  <a:pt x="8763" y="1"/>
                </a:cubicBezTo>
                <a:close/>
                <a:moveTo>
                  <a:pt x="8938" y="1"/>
                </a:moveTo>
                <a:lnTo>
                  <a:pt x="9013" y="1"/>
                </a:lnTo>
                <a:cubicBezTo>
                  <a:pt x="9020" y="1"/>
                  <a:pt x="9025" y="6"/>
                  <a:pt x="9025" y="13"/>
                </a:cubicBezTo>
                <a:cubicBezTo>
                  <a:pt x="9025" y="20"/>
                  <a:pt x="9020" y="26"/>
                  <a:pt x="9013" y="26"/>
                </a:cubicBezTo>
                <a:lnTo>
                  <a:pt x="8938" y="26"/>
                </a:lnTo>
                <a:cubicBezTo>
                  <a:pt x="8931" y="26"/>
                  <a:pt x="8925" y="20"/>
                  <a:pt x="8925" y="13"/>
                </a:cubicBezTo>
                <a:cubicBezTo>
                  <a:pt x="8925" y="6"/>
                  <a:pt x="8931" y="1"/>
                  <a:pt x="8938" y="1"/>
                </a:cubicBezTo>
                <a:close/>
                <a:moveTo>
                  <a:pt x="9113" y="1"/>
                </a:moveTo>
                <a:lnTo>
                  <a:pt x="9188" y="1"/>
                </a:lnTo>
                <a:cubicBezTo>
                  <a:pt x="9195" y="1"/>
                  <a:pt x="9200" y="6"/>
                  <a:pt x="9200" y="13"/>
                </a:cubicBezTo>
                <a:cubicBezTo>
                  <a:pt x="9200" y="20"/>
                  <a:pt x="9195" y="26"/>
                  <a:pt x="9188" y="26"/>
                </a:cubicBezTo>
                <a:lnTo>
                  <a:pt x="9113" y="26"/>
                </a:lnTo>
                <a:cubicBezTo>
                  <a:pt x="9106" y="26"/>
                  <a:pt x="9100" y="20"/>
                  <a:pt x="9100" y="13"/>
                </a:cubicBezTo>
                <a:cubicBezTo>
                  <a:pt x="9100" y="6"/>
                  <a:pt x="9106" y="1"/>
                  <a:pt x="9113" y="1"/>
                </a:cubicBezTo>
                <a:close/>
                <a:moveTo>
                  <a:pt x="9288" y="0"/>
                </a:moveTo>
                <a:lnTo>
                  <a:pt x="9363" y="0"/>
                </a:lnTo>
                <a:cubicBezTo>
                  <a:pt x="9370" y="0"/>
                  <a:pt x="9375" y="6"/>
                  <a:pt x="9375" y="13"/>
                </a:cubicBezTo>
                <a:cubicBezTo>
                  <a:pt x="9375" y="20"/>
                  <a:pt x="9370" y="25"/>
                  <a:pt x="9363" y="25"/>
                </a:cubicBezTo>
                <a:lnTo>
                  <a:pt x="9288" y="25"/>
                </a:lnTo>
                <a:cubicBezTo>
                  <a:pt x="9281" y="25"/>
                  <a:pt x="9275" y="20"/>
                  <a:pt x="9275" y="13"/>
                </a:cubicBezTo>
                <a:cubicBezTo>
                  <a:pt x="9275" y="6"/>
                  <a:pt x="9281" y="0"/>
                  <a:pt x="9288" y="0"/>
                </a:cubicBezTo>
                <a:close/>
                <a:moveTo>
                  <a:pt x="9463" y="0"/>
                </a:moveTo>
                <a:lnTo>
                  <a:pt x="9538" y="0"/>
                </a:lnTo>
                <a:cubicBezTo>
                  <a:pt x="9545" y="0"/>
                  <a:pt x="9550" y="6"/>
                  <a:pt x="9550" y="13"/>
                </a:cubicBezTo>
                <a:cubicBezTo>
                  <a:pt x="9550" y="20"/>
                  <a:pt x="9545" y="25"/>
                  <a:pt x="9538" y="25"/>
                </a:cubicBezTo>
                <a:lnTo>
                  <a:pt x="9463" y="25"/>
                </a:lnTo>
                <a:cubicBezTo>
                  <a:pt x="9456" y="25"/>
                  <a:pt x="9450" y="20"/>
                  <a:pt x="9450" y="13"/>
                </a:cubicBezTo>
                <a:cubicBezTo>
                  <a:pt x="9450" y="6"/>
                  <a:pt x="9456" y="0"/>
                  <a:pt x="9463" y="0"/>
                </a:cubicBezTo>
                <a:close/>
                <a:moveTo>
                  <a:pt x="9638" y="0"/>
                </a:moveTo>
                <a:lnTo>
                  <a:pt x="9713" y="0"/>
                </a:lnTo>
                <a:cubicBezTo>
                  <a:pt x="9720" y="0"/>
                  <a:pt x="9725" y="6"/>
                  <a:pt x="9725" y="13"/>
                </a:cubicBezTo>
                <a:cubicBezTo>
                  <a:pt x="9725" y="20"/>
                  <a:pt x="9720" y="25"/>
                  <a:pt x="9713" y="25"/>
                </a:cubicBezTo>
                <a:lnTo>
                  <a:pt x="9638" y="25"/>
                </a:lnTo>
                <a:cubicBezTo>
                  <a:pt x="9631" y="25"/>
                  <a:pt x="9625" y="20"/>
                  <a:pt x="9625" y="13"/>
                </a:cubicBezTo>
                <a:cubicBezTo>
                  <a:pt x="9625" y="6"/>
                  <a:pt x="9631" y="0"/>
                  <a:pt x="9638" y="0"/>
                </a:cubicBezTo>
                <a:close/>
                <a:moveTo>
                  <a:pt x="9813" y="0"/>
                </a:moveTo>
                <a:lnTo>
                  <a:pt x="9888" y="0"/>
                </a:lnTo>
                <a:cubicBezTo>
                  <a:pt x="9895" y="0"/>
                  <a:pt x="9900" y="6"/>
                  <a:pt x="9900" y="13"/>
                </a:cubicBezTo>
                <a:cubicBezTo>
                  <a:pt x="9900" y="20"/>
                  <a:pt x="9895" y="25"/>
                  <a:pt x="9888" y="25"/>
                </a:cubicBezTo>
                <a:lnTo>
                  <a:pt x="9813" y="25"/>
                </a:lnTo>
                <a:cubicBezTo>
                  <a:pt x="9806" y="25"/>
                  <a:pt x="9800" y="20"/>
                  <a:pt x="9800" y="13"/>
                </a:cubicBezTo>
                <a:cubicBezTo>
                  <a:pt x="9800" y="6"/>
                  <a:pt x="9806" y="0"/>
                  <a:pt x="9813" y="0"/>
                </a:cubicBezTo>
                <a:close/>
                <a:moveTo>
                  <a:pt x="9988" y="0"/>
                </a:moveTo>
                <a:lnTo>
                  <a:pt x="10063" y="0"/>
                </a:lnTo>
                <a:cubicBezTo>
                  <a:pt x="10070" y="0"/>
                  <a:pt x="10075" y="6"/>
                  <a:pt x="10075" y="13"/>
                </a:cubicBezTo>
                <a:cubicBezTo>
                  <a:pt x="10075" y="20"/>
                  <a:pt x="10070" y="25"/>
                  <a:pt x="10063" y="25"/>
                </a:cubicBezTo>
                <a:lnTo>
                  <a:pt x="9988" y="25"/>
                </a:lnTo>
                <a:cubicBezTo>
                  <a:pt x="9981" y="25"/>
                  <a:pt x="9975" y="20"/>
                  <a:pt x="9975" y="13"/>
                </a:cubicBezTo>
                <a:cubicBezTo>
                  <a:pt x="9975" y="6"/>
                  <a:pt x="9981" y="0"/>
                  <a:pt x="9988" y="0"/>
                </a:cubicBezTo>
                <a:close/>
                <a:moveTo>
                  <a:pt x="10163" y="0"/>
                </a:moveTo>
                <a:lnTo>
                  <a:pt x="10238" y="0"/>
                </a:lnTo>
                <a:cubicBezTo>
                  <a:pt x="10245" y="0"/>
                  <a:pt x="10250" y="6"/>
                  <a:pt x="10250" y="13"/>
                </a:cubicBezTo>
                <a:cubicBezTo>
                  <a:pt x="10250" y="20"/>
                  <a:pt x="10245" y="25"/>
                  <a:pt x="10238" y="25"/>
                </a:cubicBezTo>
                <a:lnTo>
                  <a:pt x="10163" y="25"/>
                </a:lnTo>
                <a:cubicBezTo>
                  <a:pt x="10156" y="25"/>
                  <a:pt x="10150" y="20"/>
                  <a:pt x="10150" y="13"/>
                </a:cubicBezTo>
                <a:cubicBezTo>
                  <a:pt x="10150" y="6"/>
                  <a:pt x="10156" y="0"/>
                  <a:pt x="10163" y="0"/>
                </a:cubicBezTo>
                <a:close/>
                <a:moveTo>
                  <a:pt x="10338" y="0"/>
                </a:moveTo>
                <a:lnTo>
                  <a:pt x="10413" y="0"/>
                </a:lnTo>
                <a:cubicBezTo>
                  <a:pt x="10420" y="0"/>
                  <a:pt x="10425" y="6"/>
                  <a:pt x="10425" y="13"/>
                </a:cubicBezTo>
                <a:cubicBezTo>
                  <a:pt x="10425" y="19"/>
                  <a:pt x="10420" y="25"/>
                  <a:pt x="10413" y="25"/>
                </a:cubicBezTo>
                <a:lnTo>
                  <a:pt x="10338" y="25"/>
                </a:lnTo>
                <a:cubicBezTo>
                  <a:pt x="10331" y="25"/>
                  <a:pt x="10325" y="20"/>
                  <a:pt x="10325" y="13"/>
                </a:cubicBezTo>
                <a:cubicBezTo>
                  <a:pt x="10325" y="6"/>
                  <a:pt x="10331" y="0"/>
                  <a:pt x="10338" y="0"/>
                </a:cubicBezTo>
                <a:close/>
                <a:moveTo>
                  <a:pt x="10513" y="0"/>
                </a:moveTo>
                <a:lnTo>
                  <a:pt x="10588" y="0"/>
                </a:lnTo>
                <a:cubicBezTo>
                  <a:pt x="10595" y="0"/>
                  <a:pt x="10600" y="6"/>
                  <a:pt x="10600" y="13"/>
                </a:cubicBezTo>
                <a:cubicBezTo>
                  <a:pt x="10600" y="19"/>
                  <a:pt x="10595" y="25"/>
                  <a:pt x="10588" y="25"/>
                </a:cubicBezTo>
                <a:lnTo>
                  <a:pt x="10513" y="25"/>
                </a:lnTo>
                <a:cubicBezTo>
                  <a:pt x="10506" y="25"/>
                  <a:pt x="10500" y="19"/>
                  <a:pt x="10500" y="13"/>
                </a:cubicBezTo>
                <a:cubicBezTo>
                  <a:pt x="10500" y="6"/>
                  <a:pt x="10506" y="0"/>
                  <a:pt x="10513" y="0"/>
                </a:cubicBezTo>
                <a:close/>
                <a:moveTo>
                  <a:pt x="10688" y="0"/>
                </a:moveTo>
                <a:lnTo>
                  <a:pt x="10763" y="0"/>
                </a:lnTo>
                <a:cubicBezTo>
                  <a:pt x="10770" y="0"/>
                  <a:pt x="10775" y="6"/>
                  <a:pt x="10775" y="12"/>
                </a:cubicBezTo>
                <a:cubicBezTo>
                  <a:pt x="10775" y="19"/>
                  <a:pt x="10770" y="25"/>
                  <a:pt x="10763" y="25"/>
                </a:cubicBezTo>
                <a:lnTo>
                  <a:pt x="10688" y="25"/>
                </a:lnTo>
                <a:cubicBezTo>
                  <a:pt x="10681" y="25"/>
                  <a:pt x="10675" y="19"/>
                  <a:pt x="10675" y="12"/>
                </a:cubicBezTo>
                <a:cubicBezTo>
                  <a:pt x="10675" y="6"/>
                  <a:pt x="10681" y="0"/>
                  <a:pt x="10688" y="0"/>
                </a:cubicBezTo>
                <a:close/>
                <a:moveTo>
                  <a:pt x="10863" y="0"/>
                </a:moveTo>
                <a:lnTo>
                  <a:pt x="10938" y="0"/>
                </a:lnTo>
                <a:cubicBezTo>
                  <a:pt x="10945" y="0"/>
                  <a:pt x="10950" y="5"/>
                  <a:pt x="10950" y="12"/>
                </a:cubicBezTo>
                <a:cubicBezTo>
                  <a:pt x="10950" y="19"/>
                  <a:pt x="10945" y="25"/>
                  <a:pt x="10938" y="25"/>
                </a:cubicBezTo>
                <a:lnTo>
                  <a:pt x="10863" y="25"/>
                </a:lnTo>
                <a:cubicBezTo>
                  <a:pt x="10856" y="25"/>
                  <a:pt x="10850" y="19"/>
                  <a:pt x="10850" y="12"/>
                </a:cubicBezTo>
                <a:cubicBezTo>
                  <a:pt x="10850" y="6"/>
                  <a:pt x="10856" y="0"/>
                  <a:pt x="10863" y="0"/>
                </a:cubicBezTo>
                <a:close/>
                <a:moveTo>
                  <a:pt x="11038" y="0"/>
                </a:moveTo>
                <a:lnTo>
                  <a:pt x="11113" y="0"/>
                </a:lnTo>
                <a:cubicBezTo>
                  <a:pt x="11120" y="0"/>
                  <a:pt x="11125" y="5"/>
                  <a:pt x="11125" y="12"/>
                </a:cubicBezTo>
                <a:cubicBezTo>
                  <a:pt x="11125" y="19"/>
                  <a:pt x="11120" y="25"/>
                  <a:pt x="11113" y="25"/>
                </a:cubicBezTo>
                <a:lnTo>
                  <a:pt x="11038" y="25"/>
                </a:lnTo>
                <a:cubicBezTo>
                  <a:pt x="11031" y="25"/>
                  <a:pt x="11025" y="19"/>
                  <a:pt x="11025" y="12"/>
                </a:cubicBezTo>
                <a:cubicBezTo>
                  <a:pt x="11025" y="5"/>
                  <a:pt x="11031" y="0"/>
                  <a:pt x="11038" y="0"/>
                </a:cubicBezTo>
                <a:close/>
                <a:moveTo>
                  <a:pt x="11213" y="0"/>
                </a:moveTo>
                <a:lnTo>
                  <a:pt x="11288" y="0"/>
                </a:lnTo>
                <a:cubicBezTo>
                  <a:pt x="11295" y="0"/>
                  <a:pt x="11300" y="5"/>
                  <a:pt x="11300" y="12"/>
                </a:cubicBezTo>
                <a:cubicBezTo>
                  <a:pt x="11300" y="19"/>
                  <a:pt x="11295" y="25"/>
                  <a:pt x="11288" y="25"/>
                </a:cubicBezTo>
                <a:lnTo>
                  <a:pt x="11213" y="25"/>
                </a:lnTo>
                <a:cubicBezTo>
                  <a:pt x="11206" y="25"/>
                  <a:pt x="11200" y="19"/>
                  <a:pt x="11200" y="12"/>
                </a:cubicBezTo>
                <a:cubicBezTo>
                  <a:pt x="11200" y="5"/>
                  <a:pt x="11206" y="0"/>
                  <a:pt x="11213" y="0"/>
                </a:cubicBezTo>
                <a:close/>
                <a:moveTo>
                  <a:pt x="11388" y="0"/>
                </a:moveTo>
                <a:lnTo>
                  <a:pt x="11463" y="0"/>
                </a:lnTo>
                <a:cubicBezTo>
                  <a:pt x="11470" y="0"/>
                  <a:pt x="11475" y="5"/>
                  <a:pt x="11475" y="12"/>
                </a:cubicBezTo>
                <a:cubicBezTo>
                  <a:pt x="11475" y="19"/>
                  <a:pt x="11470" y="25"/>
                  <a:pt x="11463" y="25"/>
                </a:cubicBezTo>
                <a:lnTo>
                  <a:pt x="11388" y="25"/>
                </a:lnTo>
                <a:cubicBezTo>
                  <a:pt x="11381" y="25"/>
                  <a:pt x="11375" y="19"/>
                  <a:pt x="11375" y="12"/>
                </a:cubicBezTo>
                <a:cubicBezTo>
                  <a:pt x="11375" y="5"/>
                  <a:pt x="11381" y="0"/>
                  <a:pt x="11388" y="0"/>
                </a:cubicBezTo>
                <a:close/>
                <a:moveTo>
                  <a:pt x="11563" y="0"/>
                </a:moveTo>
                <a:lnTo>
                  <a:pt x="11638" y="0"/>
                </a:lnTo>
                <a:cubicBezTo>
                  <a:pt x="11645" y="0"/>
                  <a:pt x="11650" y="5"/>
                  <a:pt x="11650" y="12"/>
                </a:cubicBezTo>
                <a:cubicBezTo>
                  <a:pt x="11650" y="19"/>
                  <a:pt x="11645" y="25"/>
                  <a:pt x="11638" y="25"/>
                </a:cubicBezTo>
                <a:lnTo>
                  <a:pt x="11563" y="25"/>
                </a:lnTo>
                <a:cubicBezTo>
                  <a:pt x="11556" y="25"/>
                  <a:pt x="11550" y="19"/>
                  <a:pt x="11550" y="12"/>
                </a:cubicBezTo>
                <a:cubicBezTo>
                  <a:pt x="11550" y="5"/>
                  <a:pt x="11556" y="0"/>
                  <a:pt x="11563" y="0"/>
                </a:cubicBezTo>
                <a:close/>
              </a:path>
            </a:pathLst>
          </a:custGeom>
          <a:solidFill>
            <a:srgbClr val="ff3300"/>
          </a:solidFill>
          <a:ln w="324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6"/>
          <p:cNvSpPr/>
          <p:nvPr/>
        </p:nvSpPr>
        <p:spPr>
          <a:xfrm>
            <a:off x="4648320" y="1266840"/>
            <a:ext cx="9360" cy="4371840"/>
          </a:xfrm>
          <a:custGeom>
            <a:avLst/>
            <a:gdLst/>
            <a:ahLst/>
            <a:rect l="l" t="t" r="r" b="b"/>
            <a:pathLst>
              <a:path w="50" h="22950">
                <a:moveTo>
                  <a:pt x="50" y="25"/>
                </a:moveTo>
                <a:lnTo>
                  <a:pt x="50" y="175"/>
                </a:lnTo>
                <a:cubicBezTo>
                  <a:pt x="50" y="189"/>
                  <a:pt x="39" y="200"/>
                  <a:pt x="25" y="200"/>
                </a:cubicBezTo>
                <a:cubicBezTo>
                  <a:pt x="12" y="200"/>
                  <a:pt x="0" y="189"/>
                  <a:pt x="0" y="175"/>
                </a:cubicBezTo>
                <a:lnTo>
                  <a:pt x="0" y="25"/>
                </a:lnTo>
                <a:cubicBezTo>
                  <a:pt x="0" y="11"/>
                  <a:pt x="12" y="0"/>
                  <a:pt x="25" y="0"/>
                </a:cubicBezTo>
                <a:cubicBezTo>
                  <a:pt x="39" y="0"/>
                  <a:pt x="50" y="11"/>
                  <a:pt x="50" y="25"/>
                </a:cubicBezTo>
                <a:close/>
                <a:moveTo>
                  <a:pt x="50" y="375"/>
                </a:moveTo>
                <a:lnTo>
                  <a:pt x="50" y="525"/>
                </a:lnTo>
                <a:cubicBezTo>
                  <a:pt x="50" y="539"/>
                  <a:pt x="39" y="550"/>
                  <a:pt x="25" y="550"/>
                </a:cubicBezTo>
                <a:cubicBezTo>
                  <a:pt x="12" y="550"/>
                  <a:pt x="0" y="539"/>
                  <a:pt x="0" y="525"/>
                </a:cubicBezTo>
                <a:lnTo>
                  <a:pt x="0" y="375"/>
                </a:lnTo>
                <a:cubicBezTo>
                  <a:pt x="0" y="361"/>
                  <a:pt x="12" y="350"/>
                  <a:pt x="25" y="350"/>
                </a:cubicBezTo>
                <a:cubicBezTo>
                  <a:pt x="39" y="350"/>
                  <a:pt x="50" y="361"/>
                  <a:pt x="50" y="375"/>
                </a:cubicBezTo>
                <a:close/>
                <a:moveTo>
                  <a:pt x="50" y="725"/>
                </a:moveTo>
                <a:lnTo>
                  <a:pt x="50" y="875"/>
                </a:lnTo>
                <a:cubicBezTo>
                  <a:pt x="50" y="889"/>
                  <a:pt x="39" y="900"/>
                  <a:pt x="25" y="900"/>
                </a:cubicBezTo>
                <a:cubicBezTo>
                  <a:pt x="12" y="900"/>
                  <a:pt x="0" y="889"/>
                  <a:pt x="0" y="875"/>
                </a:cubicBezTo>
                <a:lnTo>
                  <a:pt x="0" y="725"/>
                </a:lnTo>
                <a:cubicBezTo>
                  <a:pt x="0" y="711"/>
                  <a:pt x="12" y="700"/>
                  <a:pt x="25" y="700"/>
                </a:cubicBezTo>
                <a:cubicBezTo>
                  <a:pt x="39" y="700"/>
                  <a:pt x="50" y="711"/>
                  <a:pt x="50" y="725"/>
                </a:cubicBezTo>
                <a:close/>
                <a:moveTo>
                  <a:pt x="50" y="1075"/>
                </a:moveTo>
                <a:lnTo>
                  <a:pt x="50" y="1225"/>
                </a:lnTo>
                <a:cubicBezTo>
                  <a:pt x="50" y="1239"/>
                  <a:pt x="39" y="1250"/>
                  <a:pt x="25" y="1250"/>
                </a:cubicBezTo>
                <a:cubicBezTo>
                  <a:pt x="12" y="1250"/>
                  <a:pt x="0" y="1239"/>
                  <a:pt x="0" y="1225"/>
                </a:cubicBezTo>
                <a:lnTo>
                  <a:pt x="0" y="1075"/>
                </a:lnTo>
                <a:cubicBezTo>
                  <a:pt x="0" y="1061"/>
                  <a:pt x="12" y="1050"/>
                  <a:pt x="25" y="1050"/>
                </a:cubicBezTo>
                <a:cubicBezTo>
                  <a:pt x="39" y="1050"/>
                  <a:pt x="50" y="1061"/>
                  <a:pt x="50" y="1075"/>
                </a:cubicBezTo>
                <a:close/>
                <a:moveTo>
                  <a:pt x="50" y="1425"/>
                </a:moveTo>
                <a:lnTo>
                  <a:pt x="50" y="1575"/>
                </a:lnTo>
                <a:cubicBezTo>
                  <a:pt x="50" y="1589"/>
                  <a:pt x="39" y="1600"/>
                  <a:pt x="25" y="1600"/>
                </a:cubicBezTo>
                <a:cubicBezTo>
                  <a:pt x="12" y="1600"/>
                  <a:pt x="0" y="1589"/>
                  <a:pt x="0" y="1575"/>
                </a:cubicBezTo>
                <a:lnTo>
                  <a:pt x="0" y="1425"/>
                </a:lnTo>
                <a:cubicBezTo>
                  <a:pt x="0" y="1411"/>
                  <a:pt x="12" y="1400"/>
                  <a:pt x="25" y="1400"/>
                </a:cubicBezTo>
                <a:cubicBezTo>
                  <a:pt x="39" y="1400"/>
                  <a:pt x="50" y="1411"/>
                  <a:pt x="50" y="1425"/>
                </a:cubicBezTo>
                <a:close/>
                <a:moveTo>
                  <a:pt x="50" y="1775"/>
                </a:moveTo>
                <a:lnTo>
                  <a:pt x="50" y="1925"/>
                </a:lnTo>
                <a:cubicBezTo>
                  <a:pt x="50" y="1939"/>
                  <a:pt x="39" y="1950"/>
                  <a:pt x="25" y="1950"/>
                </a:cubicBezTo>
                <a:cubicBezTo>
                  <a:pt x="12" y="1950"/>
                  <a:pt x="0" y="1939"/>
                  <a:pt x="0" y="1925"/>
                </a:cubicBezTo>
                <a:lnTo>
                  <a:pt x="0" y="1775"/>
                </a:lnTo>
                <a:cubicBezTo>
                  <a:pt x="0" y="1761"/>
                  <a:pt x="12" y="1750"/>
                  <a:pt x="25" y="1750"/>
                </a:cubicBezTo>
                <a:cubicBezTo>
                  <a:pt x="39" y="1750"/>
                  <a:pt x="50" y="1761"/>
                  <a:pt x="50" y="1775"/>
                </a:cubicBezTo>
                <a:close/>
                <a:moveTo>
                  <a:pt x="50" y="2125"/>
                </a:moveTo>
                <a:lnTo>
                  <a:pt x="50" y="2275"/>
                </a:lnTo>
                <a:cubicBezTo>
                  <a:pt x="50" y="2289"/>
                  <a:pt x="39" y="2300"/>
                  <a:pt x="25" y="2300"/>
                </a:cubicBezTo>
                <a:cubicBezTo>
                  <a:pt x="12" y="2300"/>
                  <a:pt x="0" y="2289"/>
                  <a:pt x="0" y="2275"/>
                </a:cubicBezTo>
                <a:lnTo>
                  <a:pt x="0" y="2125"/>
                </a:lnTo>
                <a:cubicBezTo>
                  <a:pt x="0" y="2111"/>
                  <a:pt x="12" y="2100"/>
                  <a:pt x="25" y="2100"/>
                </a:cubicBezTo>
                <a:cubicBezTo>
                  <a:pt x="39" y="2100"/>
                  <a:pt x="50" y="2111"/>
                  <a:pt x="50" y="2125"/>
                </a:cubicBezTo>
                <a:close/>
                <a:moveTo>
                  <a:pt x="50" y="2475"/>
                </a:moveTo>
                <a:lnTo>
                  <a:pt x="50" y="2625"/>
                </a:lnTo>
                <a:cubicBezTo>
                  <a:pt x="50" y="2639"/>
                  <a:pt x="39" y="2650"/>
                  <a:pt x="25" y="2650"/>
                </a:cubicBezTo>
                <a:cubicBezTo>
                  <a:pt x="12" y="2650"/>
                  <a:pt x="0" y="2639"/>
                  <a:pt x="0" y="2625"/>
                </a:cubicBezTo>
                <a:lnTo>
                  <a:pt x="0" y="2475"/>
                </a:lnTo>
                <a:cubicBezTo>
                  <a:pt x="0" y="2461"/>
                  <a:pt x="12" y="2450"/>
                  <a:pt x="25" y="2450"/>
                </a:cubicBezTo>
                <a:cubicBezTo>
                  <a:pt x="39" y="2450"/>
                  <a:pt x="50" y="2461"/>
                  <a:pt x="50" y="2475"/>
                </a:cubicBezTo>
                <a:close/>
                <a:moveTo>
                  <a:pt x="50" y="2825"/>
                </a:moveTo>
                <a:lnTo>
                  <a:pt x="50" y="2975"/>
                </a:lnTo>
                <a:cubicBezTo>
                  <a:pt x="50" y="2989"/>
                  <a:pt x="39" y="3000"/>
                  <a:pt x="25" y="3000"/>
                </a:cubicBezTo>
                <a:cubicBezTo>
                  <a:pt x="12" y="3000"/>
                  <a:pt x="0" y="2989"/>
                  <a:pt x="0" y="2975"/>
                </a:cubicBezTo>
                <a:lnTo>
                  <a:pt x="0" y="2825"/>
                </a:lnTo>
                <a:cubicBezTo>
                  <a:pt x="0" y="2811"/>
                  <a:pt x="12" y="2800"/>
                  <a:pt x="25" y="2800"/>
                </a:cubicBezTo>
                <a:cubicBezTo>
                  <a:pt x="39" y="2800"/>
                  <a:pt x="50" y="2811"/>
                  <a:pt x="50" y="2825"/>
                </a:cubicBezTo>
                <a:close/>
                <a:moveTo>
                  <a:pt x="50" y="3175"/>
                </a:moveTo>
                <a:lnTo>
                  <a:pt x="50" y="3325"/>
                </a:lnTo>
                <a:cubicBezTo>
                  <a:pt x="50" y="3339"/>
                  <a:pt x="39" y="3350"/>
                  <a:pt x="25" y="3350"/>
                </a:cubicBezTo>
                <a:cubicBezTo>
                  <a:pt x="12" y="3350"/>
                  <a:pt x="0" y="3339"/>
                  <a:pt x="0" y="3325"/>
                </a:cubicBezTo>
                <a:lnTo>
                  <a:pt x="0" y="3175"/>
                </a:lnTo>
                <a:cubicBezTo>
                  <a:pt x="0" y="3161"/>
                  <a:pt x="12" y="3150"/>
                  <a:pt x="25" y="3150"/>
                </a:cubicBezTo>
                <a:cubicBezTo>
                  <a:pt x="39" y="3150"/>
                  <a:pt x="50" y="3161"/>
                  <a:pt x="50" y="3175"/>
                </a:cubicBezTo>
                <a:close/>
                <a:moveTo>
                  <a:pt x="50" y="3525"/>
                </a:moveTo>
                <a:lnTo>
                  <a:pt x="50" y="3675"/>
                </a:lnTo>
                <a:cubicBezTo>
                  <a:pt x="50" y="3689"/>
                  <a:pt x="39" y="3700"/>
                  <a:pt x="25" y="3700"/>
                </a:cubicBezTo>
                <a:cubicBezTo>
                  <a:pt x="12" y="3700"/>
                  <a:pt x="0" y="3689"/>
                  <a:pt x="0" y="3675"/>
                </a:cubicBezTo>
                <a:lnTo>
                  <a:pt x="0" y="3525"/>
                </a:lnTo>
                <a:cubicBezTo>
                  <a:pt x="0" y="3511"/>
                  <a:pt x="12" y="3500"/>
                  <a:pt x="25" y="3500"/>
                </a:cubicBezTo>
                <a:cubicBezTo>
                  <a:pt x="39" y="3500"/>
                  <a:pt x="50" y="3511"/>
                  <a:pt x="50" y="3525"/>
                </a:cubicBezTo>
                <a:close/>
                <a:moveTo>
                  <a:pt x="50" y="3875"/>
                </a:moveTo>
                <a:lnTo>
                  <a:pt x="50" y="4025"/>
                </a:lnTo>
                <a:cubicBezTo>
                  <a:pt x="50" y="4039"/>
                  <a:pt x="39" y="4050"/>
                  <a:pt x="25" y="4050"/>
                </a:cubicBezTo>
                <a:cubicBezTo>
                  <a:pt x="12" y="4050"/>
                  <a:pt x="0" y="4039"/>
                  <a:pt x="0" y="4025"/>
                </a:cubicBezTo>
                <a:lnTo>
                  <a:pt x="0" y="3875"/>
                </a:lnTo>
                <a:cubicBezTo>
                  <a:pt x="0" y="3861"/>
                  <a:pt x="12" y="3850"/>
                  <a:pt x="25" y="3850"/>
                </a:cubicBezTo>
                <a:cubicBezTo>
                  <a:pt x="39" y="3850"/>
                  <a:pt x="50" y="3861"/>
                  <a:pt x="50" y="3875"/>
                </a:cubicBezTo>
                <a:close/>
                <a:moveTo>
                  <a:pt x="50" y="4225"/>
                </a:moveTo>
                <a:lnTo>
                  <a:pt x="50" y="4375"/>
                </a:lnTo>
                <a:cubicBezTo>
                  <a:pt x="50" y="4389"/>
                  <a:pt x="39" y="4400"/>
                  <a:pt x="25" y="4400"/>
                </a:cubicBezTo>
                <a:cubicBezTo>
                  <a:pt x="12" y="4400"/>
                  <a:pt x="0" y="4389"/>
                  <a:pt x="0" y="4375"/>
                </a:cubicBezTo>
                <a:lnTo>
                  <a:pt x="0" y="4225"/>
                </a:lnTo>
                <a:cubicBezTo>
                  <a:pt x="0" y="4211"/>
                  <a:pt x="12" y="4200"/>
                  <a:pt x="25" y="4200"/>
                </a:cubicBezTo>
                <a:cubicBezTo>
                  <a:pt x="39" y="4200"/>
                  <a:pt x="50" y="4211"/>
                  <a:pt x="50" y="4225"/>
                </a:cubicBezTo>
                <a:close/>
                <a:moveTo>
                  <a:pt x="50" y="4575"/>
                </a:moveTo>
                <a:lnTo>
                  <a:pt x="50" y="4725"/>
                </a:lnTo>
                <a:cubicBezTo>
                  <a:pt x="50" y="4739"/>
                  <a:pt x="39" y="4750"/>
                  <a:pt x="25" y="4750"/>
                </a:cubicBezTo>
                <a:cubicBezTo>
                  <a:pt x="12" y="4750"/>
                  <a:pt x="0" y="4739"/>
                  <a:pt x="0" y="4725"/>
                </a:cubicBezTo>
                <a:lnTo>
                  <a:pt x="0" y="4575"/>
                </a:lnTo>
                <a:cubicBezTo>
                  <a:pt x="0" y="4561"/>
                  <a:pt x="12" y="4550"/>
                  <a:pt x="25" y="4550"/>
                </a:cubicBezTo>
                <a:cubicBezTo>
                  <a:pt x="39" y="4550"/>
                  <a:pt x="50" y="4561"/>
                  <a:pt x="50" y="4575"/>
                </a:cubicBezTo>
                <a:close/>
                <a:moveTo>
                  <a:pt x="50" y="4925"/>
                </a:moveTo>
                <a:lnTo>
                  <a:pt x="50" y="5075"/>
                </a:lnTo>
                <a:cubicBezTo>
                  <a:pt x="50" y="5089"/>
                  <a:pt x="39" y="5100"/>
                  <a:pt x="25" y="5100"/>
                </a:cubicBezTo>
                <a:cubicBezTo>
                  <a:pt x="12" y="5100"/>
                  <a:pt x="0" y="5089"/>
                  <a:pt x="0" y="5075"/>
                </a:cubicBezTo>
                <a:lnTo>
                  <a:pt x="0" y="4925"/>
                </a:lnTo>
                <a:cubicBezTo>
                  <a:pt x="0" y="4911"/>
                  <a:pt x="12" y="4900"/>
                  <a:pt x="25" y="4900"/>
                </a:cubicBezTo>
                <a:cubicBezTo>
                  <a:pt x="39" y="4900"/>
                  <a:pt x="50" y="4911"/>
                  <a:pt x="50" y="4925"/>
                </a:cubicBezTo>
                <a:close/>
                <a:moveTo>
                  <a:pt x="50" y="5275"/>
                </a:moveTo>
                <a:lnTo>
                  <a:pt x="50" y="5425"/>
                </a:lnTo>
                <a:cubicBezTo>
                  <a:pt x="50" y="5439"/>
                  <a:pt x="39" y="5450"/>
                  <a:pt x="25" y="5450"/>
                </a:cubicBezTo>
                <a:cubicBezTo>
                  <a:pt x="12" y="5450"/>
                  <a:pt x="0" y="5439"/>
                  <a:pt x="0" y="5425"/>
                </a:cubicBezTo>
                <a:lnTo>
                  <a:pt x="0" y="5275"/>
                </a:lnTo>
                <a:cubicBezTo>
                  <a:pt x="0" y="5261"/>
                  <a:pt x="12" y="5250"/>
                  <a:pt x="25" y="5250"/>
                </a:cubicBezTo>
                <a:cubicBezTo>
                  <a:pt x="39" y="5250"/>
                  <a:pt x="50" y="5261"/>
                  <a:pt x="50" y="5275"/>
                </a:cubicBezTo>
                <a:close/>
                <a:moveTo>
                  <a:pt x="50" y="5625"/>
                </a:moveTo>
                <a:lnTo>
                  <a:pt x="50" y="5775"/>
                </a:lnTo>
                <a:cubicBezTo>
                  <a:pt x="50" y="5789"/>
                  <a:pt x="39" y="5800"/>
                  <a:pt x="25" y="5800"/>
                </a:cubicBezTo>
                <a:cubicBezTo>
                  <a:pt x="12" y="5800"/>
                  <a:pt x="0" y="5789"/>
                  <a:pt x="0" y="5775"/>
                </a:cubicBezTo>
                <a:lnTo>
                  <a:pt x="0" y="5625"/>
                </a:lnTo>
                <a:cubicBezTo>
                  <a:pt x="0" y="5611"/>
                  <a:pt x="12" y="5600"/>
                  <a:pt x="25" y="5600"/>
                </a:cubicBezTo>
                <a:cubicBezTo>
                  <a:pt x="39" y="5600"/>
                  <a:pt x="50" y="5611"/>
                  <a:pt x="50" y="5625"/>
                </a:cubicBezTo>
                <a:close/>
                <a:moveTo>
                  <a:pt x="50" y="5975"/>
                </a:moveTo>
                <a:lnTo>
                  <a:pt x="50" y="6125"/>
                </a:lnTo>
                <a:cubicBezTo>
                  <a:pt x="50" y="6139"/>
                  <a:pt x="39" y="6150"/>
                  <a:pt x="25" y="6150"/>
                </a:cubicBezTo>
                <a:cubicBezTo>
                  <a:pt x="12" y="6150"/>
                  <a:pt x="0" y="6139"/>
                  <a:pt x="0" y="6125"/>
                </a:cubicBezTo>
                <a:lnTo>
                  <a:pt x="0" y="5975"/>
                </a:lnTo>
                <a:cubicBezTo>
                  <a:pt x="0" y="5961"/>
                  <a:pt x="12" y="5950"/>
                  <a:pt x="25" y="5950"/>
                </a:cubicBezTo>
                <a:cubicBezTo>
                  <a:pt x="39" y="5950"/>
                  <a:pt x="50" y="5961"/>
                  <a:pt x="50" y="5975"/>
                </a:cubicBezTo>
                <a:close/>
                <a:moveTo>
                  <a:pt x="50" y="6325"/>
                </a:moveTo>
                <a:lnTo>
                  <a:pt x="50" y="6475"/>
                </a:lnTo>
                <a:cubicBezTo>
                  <a:pt x="50" y="6489"/>
                  <a:pt x="39" y="6500"/>
                  <a:pt x="25" y="6500"/>
                </a:cubicBezTo>
                <a:cubicBezTo>
                  <a:pt x="12" y="6500"/>
                  <a:pt x="0" y="6489"/>
                  <a:pt x="0" y="6475"/>
                </a:cubicBezTo>
                <a:lnTo>
                  <a:pt x="0" y="6325"/>
                </a:lnTo>
                <a:cubicBezTo>
                  <a:pt x="0" y="6311"/>
                  <a:pt x="12" y="6300"/>
                  <a:pt x="25" y="6300"/>
                </a:cubicBezTo>
                <a:cubicBezTo>
                  <a:pt x="39" y="6300"/>
                  <a:pt x="50" y="6311"/>
                  <a:pt x="50" y="6325"/>
                </a:cubicBezTo>
                <a:close/>
                <a:moveTo>
                  <a:pt x="50" y="6675"/>
                </a:moveTo>
                <a:lnTo>
                  <a:pt x="50" y="6825"/>
                </a:lnTo>
                <a:cubicBezTo>
                  <a:pt x="50" y="6839"/>
                  <a:pt x="39" y="6850"/>
                  <a:pt x="25" y="6850"/>
                </a:cubicBezTo>
                <a:cubicBezTo>
                  <a:pt x="12" y="6850"/>
                  <a:pt x="0" y="6839"/>
                  <a:pt x="0" y="6825"/>
                </a:cubicBezTo>
                <a:lnTo>
                  <a:pt x="0" y="6675"/>
                </a:lnTo>
                <a:cubicBezTo>
                  <a:pt x="0" y="6661"/>
                  <a:pt x="12" y="6650"/>
                  <a:pt x="25" y="6650"/>
                </a:cubicBezTo>
                <a:cubicBezTo>
                  <a:pt x="39" y="6650"/>
                  <a:pt x="50" y="6661"/>
                  <a:pt x="50" y="6675"/>
                </a:cubicBezTo>
                <a:close/>
                <a:moveTo>
                  <a:pt x="50" y="7025"/>
                </a:moveTo>
                <a:lnTo>
                  <a:pt x="50" y="7175"/>
                </a:lnTo>
                <a:cubicBezTo>
                  <a:pt x="50" y="7189"/>
                  <a:pt x="39" y="7200"/>
                  <a:pt x="25" y="7200"/>
                </a:cubicBezTo>
                <a:cubicBezTo>
                  <a:pt x="12" y="7200"/>
                  <a:pt x="0" y="7189"/>
                  <a:pt x="0" y="7175"/>
                </a:cubicBezTo>
                <a:lnTo>
                  <a:pt x="0" y="7025"/>
                </a:lnTo>
                <a:cubicBezTo>
                  <a:pt x="0" y="7011"/>
                  <a:pt x="12" y="7000"/>
                  <a:pt x="25" y="7000"/>
                </a:cubicBezTo>
                <a:cubicBezTo>
                  <a:pt x="39" y="7000"/>
                  <a:pt x="50" y="7011"/>
                  <a:pt x="50" y="7025"/>
                </a:cubicBezTo>
                <a:close/>
                <a:moveTo>
                  <a:pt x="50" y="7375"/>
                </a:moveTo>
                <a:lnTo>
                  <a:pt x="50" y="7525"/>
                </a:lnTo>
                <a:cubicBezTo>
                  <a:pt x="50" y="7539"/>
                  <a:pt x="39" y="7550"/>
                  <a:pt x="25" y="7550"/>
                </a:cubicBezTo>
                <a:cubicBezTo>
                  <a:pt x="12" y="7550"/>
                  <a:pt x="0" y="7539"/>
                  <a:pt x="0" y="7525"/>
                </a:cubicBezTo>
                <a:lnTo>
                  <a:pt x="0" y="7375"/>
                </a:lnTo>
                <a:cubicBezTo>
                  <a:pt x="0" y="7361"/>
                  <a:pt x="12" y="7350"/>
                  <a:pt x="25" y="7350"/>
                </a:cubicBezTo>
                <a:cubicBezTo>
                  <a:pt x="39" y="7350"/>
                  <a:pt x="50" y="7361"/>
                  <a:pt x="50" y="7375"/>
                </a:cubicBezTo>
                <a:close/>
                <a:moveTo>
                  <a:pt x="50" y="7725"/>
                </a:moveTo>
                <a:lnTo>
                  <a:pt x="50" y="7875"/>
                </a:lnTo>
                <a:cubicBezTo>
                  <a:pt x="50" y="7889"/>
                  <a:pt x="39" y="7900"/>
                  <a:pt x="25" y="7900"/>
                </a:cubicBezTo>
                <a:cubicBezTo>
                  <a:pt x="12" y="7900"/>
                  <a:pt x="0" y="7889"/>
                  <a:pt x="0" y="7875"/>
                </a:cubicBezTo>
                <a:lnTo>
                  <a:pt x="0" y="7725"/>
                </a:lnTo>
                <a:cubicBezTo>
                  <a:pt x="0" y="7711"/>
                  <a:pt x="12" y="7700"/>
                  <a:pt x="25" y="7700"/>
                </a:cubicBezTo>
                <a:cubicBezTo>
                  <a:pt x="39" y="7700"/>
                  <a:pt x="50" y="7711"/>
                  <a:pt x="50" y="7725"/>
                </a:cubicBezTo>
                <a:close/>
                <a:moveTo>
                  <a:pt x="50" y="8075"/>
                </a:moveTo>
                <a:lnTo>
                  <a:pt x="50" y="8225"/>
                </a:lnTo>
                <a:cubicBezTo>
                  <a:pt x="50" y="8239"/>
                  <a:pt x="39" y="8250"/>
                  <a:pt x="25" y="8250"/>
                </a:cubicBezTo>
                <a:cubicBezTo>
                  <a:pt x="12" y="8250"/>
                  <a:pt x="0" y="8239"/>
                  <a:pt x="0" y="8225"/>
                </a:cubicBezTo>
                <a:lnTo>
                  <a:pt x="0" y="8075"/>
                </a:lnTo>
                <a:cubicBezTo>
                  <a:pt x="0" y="8061"/>
                  <a:pt x="12" y="8050"/>
                  <a:pt x="25" y="8050"/>
                </a:cubicBezTo>
                <a:cubicBezTo>
                  <a:pt x="39" y="8050"/>
                  <a:pt x="50" y="8061"/>
                  <a:pt x="50" y="8075"/>
                </a:cubicBezTo>
                <a:close/>
                <a:moveTo>
                  <a:pt x="50" y="8425"/>
                </a:moveTo>
                <a:lnTo>
                  <a:pt x="50" y="8575"/>
                </a:lnTo>
                <a:cubicBezTo>
                  <a:pt x="50" y="8589"/>
                  <a:pt x="39" y="8600"/>
                  <a:pt x="25" y="8600"/>
                </a:cubicBezTo>
                <a:cubicBezTo>
                  <a:pt x="12" y="8600"/>
                  <a:pt x="0" y="8589"/>
                  <a:pt x="0" y="8575"/>
                </a:cubicBezTo>
                <a:lnTo>
                  <a:pt x="0" y="8425"/>
                </a:lnTo>
                <a:cubicBezTo>
                  <a:pt x="0" y="8411"/>
                  <a:pt x="12" y="8400"/>
                  <a:pt x="25" y="8400"/>
                </a:cubicBezTo>
                <a:cubicBezTo>
                  <a:pt x="39" y="8400"/>
                  <a:pt x="50" y="8411"/>
                  <a:pt x="50" y="8425"/>
                </a:cubicBezTo>
                <a:close/>
                <a:moveTo>
                  <a:pt x="50" y="8775"/>
                </a:moveTo>
                <a:lnTo>
                  <a:pt x="50" y="8925"/>
                </a:lnTo>
                <a:cubicBezTo>
                  <a:pt x="50" y="8939"/>
                  <a:pt x="39" y="8950"/>
                  <a:pt x="25" y="8950"/>
                </a:cubicBezTo>
                <a:cubicBezTo>
                  <a:pt x="12" y="8950"/>
                  <a:pt x="0" y="8939"/>
                  <a:pt x="0" y="8925"/>
                </a:cubicBezTo>
                <a:lnTo>
                  <a:pt x="0" y="8775"/>
                </a:lnTo>
                <a:cubicBezTo>
                  <a:pt x="0" y="8761"/>
                  <a:pt x="12" y="8750"/>
                  <a:pt x="25" y="8750"/>
                </a:cubicBezTo>
                <a:cubicBezTo>
                  <a:pt x="39" y="8750"/>
                  <a:pt x="50" y="8761"/>
                  <a:pt x="50" y="8775"/>
                </a:cubicBezTo>
                <a:close/>
                <a:moveTo>
                  <a:pt x="50" y="9125"/>
                </a:moveTo>
                <a:lnTo>
                  <a:pt x="50" y="9275"/>
                </a:lnTo>
                <a:cubicBezTo>
                  <a:pt x="50" y="9289"/>
                  <a:pt x="39" y="9300"/>
                  <a:pt x="25" y="9300"/>
                </a:cubicBezTo>
                <a:cubicBezTo>
                  <a:pt x="12" y="9300"/>
                  <a:pt x="0" y="9289"/>
                  <a:pt x="0" y="9275"/>
                </a:cubicBezTo>
                <a:lnTo>
                  <a:pt x="0" y="9125"/>
                </a:lnTo>
                <a:cubicBezTo>
                  <a:pt x="0" y="9111"/>
                  <a:pt x="12" y="9100"/>
                  <a:pt x="25" y="9100"/>
                </a:cubicBezTo>
                <a:cubicBezTo>
                  <a:pt x="39" y="9100"/>
                  <a:pt x="50" y="9111"/>
                  <a:pt x="50" y="9125"/>
                </a:cubicBezTo>
                <a:close/>
                <a:moveTo>
                  <a:pt x="50" y="9475"/>
                </a:moveTo>
                <a:lnTo>
                  <a:pt x="50" y="9625"/>
                </a:lnTo>
                <a:cubicBezTo>
                  <a:pt x="50" y="9639"/>
                  <a:pt x="39" y="9650"/>
                  <a:pt x="25" y="9650"/>
                </a:cubicBezTo>
                <a:cubicBezTo>
                  <a:pt x="12" y="9650"/>
                  <a:pt x="0" y="9639"/>
                  <a:pt x="0" y="9625"/>
                </a:cubicBezTo>
                <a:lnTo>
                  <a:pt x="0" y="9475"/>
                </a:lnTo>
                <a:cubicBezTo>
                  <a:pt x="0" y="9461"/>
                  <a:pt x="12" y="9450"/>
                  <a:pt x="25" y="9450"/>
                </a:cubicBezTo>
                <a:cubicBezTo>
                  <a:pt x="39" y="9450"/>
                  <a:pt x="50" y="9461"/>
                  <a:pt x="50" y="9475"/>
                </a:cubicBezTo>
                <a:close/>
                <a:moveTo>
                  <a:pt x="50" y="9825"/>
                </a:moveTo>
                <a:lnTo>
                  <a:pt x="50" y="9975"/>
                </a:lnTo>
                <a:cubicBezTo>
                  <a:pt x="50" y="9989"/>
                  <a:pt x="39" y="10000"/>
                  <a:pt x="25" y="10000"/>
                </a:cubicBezTo>
                <a:cubicBezTo>
                  <a:pt x="12" y="10000"/>
                  <a:pt x="0" y="9989"/>
                  <a:pt x="0" y="9975"/>
                </a:cubicBezTo>
                <a:lnTo>
                  <a:pt x="0" y="9825"/>
                </a:lnTo>
                <a:cubicBezTo>
                  <a:pt x="0" y="9811"/>
                  <a:pt x="12" y="9800"/>
                  <a:pt x="25" y="9800"/>
                </a:cubicBezTo>
                <a:cubicBezTo>
                  <a:pt x="39" y="9800"/>
                  <a:pt x="50" y="9811"/>
                  <a:pt x="50" y="9825"/>
                </a:cubicBezTo>
                <a:close/>
                <a:moveTo>
                  <a:pt x="50" y="10175"/>
                </a:moveTo>
                <a:lnTo>
                  <a:pt x="50" y="10325"/>
                </a:lnTo>
                <a:cubicBezTo>
                  <a:pt x="50" y="10339"/>
                  <a:pt x="39" y="10350"/>
                  <a:pt x="25" y="10350"/>
                </a:cubicBezTo>
                <a:cubicBezTo>
                  <a:pt x="12" y="10350"/>
                  <a:pt x="0" y="10339"/>
                  <a:pt x="0" y="10325"/>
                </a:cubicBezTo>
                <a:lnTo>
                  <a:pt x="0" y="10175"/>
                </a:lnTo>
                <a:cubicBezTo>
                  <a:pt x="0" y="10161"/>
                  <a:pt x="12" y="10150"/>
                  <a:pt x="25" y="10150"/>
                </a:cubicBezTo>
                <a:cubicBezTo>
                  <a:pt x="39" y="10150"/>
                  <a:pt x="50" y="10161"/>
                  <a:pt x="50" y="10175"/>
                </a:cubicBezTo>
                <a:close/>
                <a:moveTo>
                  <a:pt x="50" y="10525"/>
                </a:moveTo>
                <a:lnTo>
                  <a:pt x="50" y="10675"/>
                </a:lnTo>
                <a:cubicBezTo>
                  <a:pt x="50" y="10689"/>
                  <a:pt x="39" y="10700"/>
                  <a:pt x="25" y="10700"/>
                </a:cubicBezTo>
                <a:cubicBezTo>
                  <a:pt x="12" y="10700"/>
                  <a:pt x="0" y="10689"/>
                  <a:pt x="0" y="10675"/>
                </a:cubicBezTo>
                <a:lnTo>
                  <a:pt x="0" y="10525"/>
                </a:lnTo>
                <a:cubicBezTo>
                  <a:pt x="0" y="10511"/>
                  <a:pt x="12" y="10500"/>
                  <a:pt x="25" y="10500"/>
                </a:cubicBezTo>
                <a:cubicBezTo>
                  <a:pt x="39" y="10500"/>
                  <a:pt x="50" y="10511"/>
                  <a:pt x="50" y="10525"/>
                </a:cubicBezTo>
                <a:close/>
                <a:moveTo>
                  <a:pt x="50" y="10875"/>
                </a:moveTo>
                <a:lnTo>
                  <a:pt x="50" y="11025"/>
                </a:lnTo>
                <a:cubicBezTo>
                  <a:pt x="50" y="11039"/>
                  <a:pt x="39" y="11050"/>
                  <a:pt x="25" y="11050"/>
                </a:cubicBezTo>
                <a:cubicBezTo>
                  <a:pt x="12" y="11050"/>
                  <a:pt x="0" y="11039"/>
                  <a:pt x="0" y="11025"/>
                </a:cubicBezTo>
                <a:lnTo>
                  <a:pt x="0" y="10875"/>
                </a:lnTo>
                <a:cubicBezTo>
                  <a:pt x="0" y="10861"/>
                  <a:pt x="12" y="10850"/>
                  <a:pt x="25" y="10850"/>
                </a:cubicBezTo>
                <a:cubicBezTo>
                  <a:pt x="39" y="10850"/>
                  <a:pt x="50" y="10861"/>
                  <a:pt x="50" y="10875"/>
                </a:cubicBezTo>
                <a:close/>
                <a:moveTo>
                  <a:pt x="50" y="11225"/>
                </a:moveTo>
                <a:lnTo>
                  <a:pt x="50" y="11375"/>
                </a:lnTo>
                <a:cubicBezTo>
                  <a:pt x="50" y="11389"/>
                  <a:pt x="39" y="11400"/>
                  <a:pt x="25" y="11400"/>
                </a:cubicBezTo>
                <a:cubicBezTo>
                  <a:pt x="12" y="11400"/>
                  <a:pt x="0" y="11389"/>
                  <a:pt x="0" y="11375"/>
                </a:cubicBezTo>
                <a:lnTo>
                  <a:pt x="0" y="11225"/>
                </a:lnTo>
                <a:cubicBezTo>
                  <a:pt x="0" y="11211"/>
                  <a:pt x="12" y="11200"/>
                  <a:pt x="25" y="11200"/>
                </a:cubicBezTo>
                <a:cubicBezTo>
                  <a:pt x="39" y="11200"/>
                  <a:pt x="50" y="11211"/>
                  <a:pt x="50" y="11225"/>
                </a:cubicBezTo>
                <a:close/>
                <a:moveTo>
                  <a:pt x="50" y="11575"/>
                </a:moveTo>
                <a:lnTo>
                  <a:pt x="50" y="11725"/>
                </a:lnTo>
                <a:cubicBezTo>
                  <a:pt x="50" y="11739"/>
                  <a:pt x="39" y="11750"/>
                  <a:pt x="25" y="11750"/>
                </a:cubicBezTo>
                <a:cubicBezTo>
                  <a:pt x="12" y="11750"/>
                  <a:pt x="0" y="11739"/>
                  <a:pt x="0" y="11725"/>
                </a:cubicBezTo>
                <a:lnTo>
                  <a:pt x="0" y="11575"/>
                </a:lnTo>
                <a:cubicBezTo>
                  <a:pt x="0" y="11561"/>
                  <a:pt x="12" y="11550"/>
                  <a:pt x="25" y="11550"/>
                </a:cubicBezTo>
                <a:cubicBezTo>
                  <a:pt x="39" y="11550"/>
                  <a:pt x="50" y="11561"/>
                  <a:pt x="50" y="11575"/>
                </a:cubicBezTo>
                <a:close/>
                <a:moveTo>
                  <a:pt x="50" y="11925"/>
                </a:moveTo>
                <a:lnTo>
                  <a:pt x="50" y="12075"/>
                </a:lnTo>
                <a:cubicBezTo>
                  <a:pt x="50" y="12089"/>
                  <a:pt x="39" y="12100"/>
                  <a:pt x="25" y="12100"/>
                </a:cubicBezTo>
                <a:cubicBezTo>
                  <a:pt x="12" y="12100"/>
                  <a:pt x="0" y="12089"/>
                  <a:pt x="0" y="12075"/>
                </a:cubicBezTo>
                <a:lnTo>
                  <a:pt x="0" y="11925"/>
                </a:lnTo>
                <a:cubicBezTo>
                  <a:pt x="0" y="11911"/>
                  <a:pt x="12" y="11900"/>
                  <a:pt x="25" y="11900"/>
                </a:cubicBezTo>
                <a:cubicBezTo>
                  <a:pt x="39" y="11900"/>
                  <a:pt x="50" y="11911"/>
                  <a:pt x="50" y="11925"/>
                </a:cubicBezTo>
                <a:close/>
                <a:moveTo>
                  <a:pt x="50" y="12275"/>
                </a:moveTo>
                <a:lnTo>
                  <a:pt x="50" y="12425"/>
                </a:lnTo>
                <a:cubicBezTo>
                  <a:pt x="50" y="12439"/>
                  <a:pt x="39" y="12450"/>
                  <a:pt x="25" y="12450"/>
                </a:cubicBezTo>
                <a:cubicBezTo>
                  <a:pt x="12" y="12450"/>
                  <a:pt x="0" y="12439"/>
                  <a:pt x="0" y="12425"/>
                </a:cubicBezTo>
                <a:lnTo>
                  <a:pt x="0" y="12275"/>
                </a:lnTo>
                <a:cubicBezTo>
                  <a:pt x="0" y="12261"/>
                  <a:pt x="12" y="12250"/>
                  <a:pt x="25" y="12250"/>
                </a:cubicBezTo>
                <a:cubicBezTo>
                  <a:pt x="39" y="12250"/>
                  <a:pt x="50" y="12261"/>
                  <a:pt x="50" y="12275"/>
                </a:cubicBezTo>
                <a:close/>
                <a:moveTo>
                  <a:pt x="50" y="12625"/>
                </a:moveTo>
                <a:lnTo>
                  <a:pt x="50" y="12775"/>
                </a:lnTo>
                <a:cubicBezTo>
                  <a:pt x="50" y="12789"/>
                  <a:pt x="39" y="12800"/>
                  <a:pt x="25" y="12800"/>
                </a:cubicBezTo>
                <a:cubicBezTo>
                  <a:pt x="12" y="12800"/>
                  <a:pt x="0" y="12789"/>
                  <a:pt x="0" y="12775"/>
                </a:cubicBezTo>
                <a:lnTo>
                  <a:pt x="0" y="12625"/>
                </a:lnTo>
                <a:cubicBezTo>
                  <a:pt x="0" y="12611"/>
                  <a:pt x="12" y="12600"/>
                  <a:pt x="25" y="12600"/>
                </a:cubicBezTo>
                <a:cubicBezTo>
                  <a:pt x="39" y="12600"/>
                  <a:pt x="50" y="12611"/>
                  <a:pt x="50" y="12625"/>
                </a:cubicBezTo>
                <a:close/>
                <a:moveTo>
                  <a:pt x="50" y="12975"/>
                </a:moveTo>
                <a:lnTo>
                  <a:pt x="50" y="13125"/>
                </a:lnTo>
                <a:cubicBezTo>
                  <a:pt x="50" y="13139"/>
                  <a:pt x="39" y="13150"/>
                  <a:pt x="25" y="13150"/>
                </a:cubicBezTo>
                <a:cubicBezTo>
                  <a:pt x="12" y="13150"/>
                  <a:pt x="0" y="13139"/>
                  <a:pt x="0" y="13125"/>
                </a:cubicBezTo>
                <a:lnTo>
                  <a:pt x="0" y="12975"/>
                </a:lnTo>
                <a:cubicBezTo>
                  <a:pt x="0" y="12961"/>
                  <a:pt x="12" y="12950"/>
                  <a:pt x="25" y="12950"/>
                </a:cubicBezTo>
                <a:cubicBezTo>
                  <a:pt x="39" y="12950"/>
                  <a:pt x="50" y="12961"/>
                  <a:pt x="50" y="12975"/>
                </a:cubicBezTo>
                <a:close/>
                <a:moveTo>
                  <a:pt x="50" y="13325"/>
                </a:moveTo>
                <a:lnTo>
                  <a:pt x="50" y="13475"/>
                </a:lnTo>
                <a:cubicBezTo>
                  <a:pt x="50" y="13489"/>
                  <a:pt x="39" y="13500"/>
                  <a:pt x="25" y="13500"/>
                </a:cubicBezTo>
                <a:cubicBezTo>
                  <a:pt x="12" y="13500"/>
                  <a:pt x="0" y="13489"/>
                  <a:pt x="0" y="13475"/>
                </a:cubicBezTo>
                <a:lnTo>
                  <a:pt x="0" y="13325"/>
                </a:lnTo>
                <a:cubicBezTo>
                  <a:pt x="0" y="13311"/>
                  <a:pt x="12" y="13300"/>
                  <a:pt x="25" y="13300"/>
                </a:cubicBezTo>
                <a:cubicBezTo>
                  <a:pt x="39" y="13300"/>
                  <a:pt x="50" y="13311"/>
                  <a:pt x="50" y="13325"/>
                </a:cubicBezTo>
                <a:close/>
                <a:moveTo>
                  <a:pt x="50" y="13675"/>
                </a:moveTo>
                <a:lnTo>
                  <a:pt x="50" y="13825"/>
                </a:lnTo>
                <a:cubicBezTo>
                  <a:pt x="50" y="13839"/>
                  <a:pt x="39" y="13850"/>
                  <a:pt x="25" y="13850"/>
                </a:cubicBezTo>
                <a:cubicBezTo>
                  <a:pt x="12" y="13850"/>
                  <a:pt x="0" y="13839"/>
                  <a:pt x="0" y="13825"/>
                </a:cubicBezTo>
                <a:lnTo>
                  <a:pt x="0" y="13675"/>
                </a:lnTo>
                <a:cubicBezTo>
                  <a:pt x="0" y="13661"/>
                  <a:pt x="12" y="13650"/>
                  <a:pt x="25" y="13650"/>
                </a:cubicBezTo>
                <a:cubicBezTo>
                  <a:pt x="39" y="13650"/>
                  <a:pt x="50" y="13661"/>
                  <a:pt x="50" y="13675"/>
                </a:cubicBezTo>
                <a:close/>
                <a:moveTo>
                  <a:pt x="50" y="14025"/>
                </a:moveTo>
                <a:lnTo>
                  <a:pt x="50" y="14175"/>
                </a:lnTo>
                <a:cubicBezTo>
                  <a:pt x="50" y="14189"/>
                  <a:pt x="39" y="14200"/>
                  <a:pt x="25" y="14200"/>
                </a:cubicBezTo>
                <a:cubicBezTo>
                  <a:pt x="12" y="14200"/>
                  <a:pt x="0" y="14189"/>
                  <a:pt x="0" y="14175"/>
                </a:cubicBezTo>
                <a:lnTo>
                  <a:pt x="0" y="14025"/>
                </a:lnTo>
                <a:cubicBezTo>
                  <a:pt x="0" y="14011"/>
                  <a:pt x="12" y="14000"/>
                  <a:pt x="25" y="14000"/>
                </a:cubicBezTo>
                <a:cubicBezTo>
                  <a:pt x="39" y="14000"/>
                  <a:pt x="50" y="14011"/>
                  <a:pt x="50" y="14025"/>
                </a:cubicBezTo>
                <a:close/>
                <a:moveTo>
                  <a:pt x="50" y="14375"/>
                </a:moveTo>
                <a:lnTo>
                  <a:pt x="50" y="14525"/>
                </a:lnTo>
                <a:cubicBezTo>
                  <a:pt x="50" y="14539"/>
                  <a:pt x="39" y="14550"/>
                  <a:pt x="25" y="14550"/>
                </a:cubicBezTo>
                <a:cubicBezTo>
                  <a:pt x="12" y="14550"/>
                  <a:pt x="0" y="14539"/>
                  <a:pt x="0" y="14525"/>
                </a:cubicBezTo>
                <a:lnTo>
                  <a:pt x="0" y="14375"/>
                </a:lnTo>
                <a:cubicBezTo>
                  <a:pt x="0" y="14361"/>
                  <a:pt x="12" y="14350"/>
                  <a:pt x="25" y="14350"/>
                </a:cubicBezTo>
                <a:cubicBezTo>
                  <a:pt x="39" y="14350"/>
                  <a:pt x="50" y="14361"/>
                  <a:pt x="50" y="14375"/>
                </a:cubicBezTo>
                <a:close/>
                <a:moveTo>
                  <a:pt x="50" y="14725"/>
                </a:moveTo>
                <a:lnTo>
                  <a:pt x="50" y="14875"/>
                </a:lnTo>
                <a:cubicBezTo>
                  <a:pt x="50" y="14889"/>
                  <a:pt x="39" y="14900"/>
                  <a:pt x="25" y="14900"/>
                </a:cubicBezTo>
                <a:cubicBezTo>
                  <a:pt x="12" y="14900"/>
                  <a:pt x="0" y="14889"/>
                  <a:pt x="0" y="14875"/>
                </a:cubicBezTo>
                <a:lnTo>
                  <a:pt x="0" y="14725"/>
                </a:lnTo>
                <a:cubicBezTo>
                  <a:pt x="0" y="14711"/>
                  <a:pt x="12" y="14700"/>
                  <a:pt x="25" y="14700"/>
                </a:cubicBezTo>
                <a:cubicBezTo>
                  <a:pt x="39" y="14700"/>
                  <a:pt x="50" y="14711"/>
                  <a:pt x="50" y="14725"/>
                </a:cubicBezTo>
                <a:close/>
                <a:moveTo>
                  <a:pt x="50" y="15075"/>
                </a:moveTo>
                <a:lnTo>
                  <a:pt x="50" y="15225"/>
                </a:lnTo>
                <a:cubicBezTo>
                  <a:pt x="50" y="15239"/>
                  <a:pt x="39" y="15250"/>
                  <a:pt x="25" y="15250"/>
                </a:cubicBezTo>
                <a:cubicBezTo>
                  <a:pt x="12" y="15250"/>
                  <a:pt x="0" y="15239"/>
                  <a:pt x="0" y="15225"/>
                </a:cubicBezTo>
                <a:lnTo>
                  <a:pt x="0" y="15075"/>
                </a:lnTo>
                <a:cubicBezTo>
                  <a:pt x="0" y="15061"/>
                  <a:pt x="12" y="15050"/>
                  <a:pt x="25" y="15050"/>
                </a:cubicBezTo>
                <a:cubicBezTo>
                  <a:pt x="39" y="15050"/>
                  <a:pt x="50" y="15061"/>
                  <a:pt x="50" y="15075"/>
                </a:cubicBezTo>
                <a:close/>
                <a:moveTo>
                  <a:pt x="50" y="15425"/>
                </a:moveTo>
                <a:lnTo>
                  <a:pt x="50" y="15575"/>
                </a:lnTo>
                <a:cubicBezTo>
                  <a:pt x="50" y="15589"/>
                  <a:pt x="39" y="15600"/>
                  <a:pt x="25" y="15600"/>
                </a:cubicBezTo>
                <a:cubicBezTo>
                  <a:pt x="12" y="15600"/>
                  <a:pt x="0" y="15589"/>
                  <a:pt x="0" y="15575"/>
                </a:cubicBezTo>
                <a:lnTo>
                  <a:pt x="0" y="15425"/>
                </a:lnTo>
                <a:cubicBezTo>
                  <a:pt x="0" y="15411"/>
                  <a:pt x="12" y="15400"/>
                  <a:pt x="25" y="15400"/>
                </a:cubicBezTo>
                <a:cubicBezTo>
                  <a:pt x="39" y="15400"/>
                  <a:pt x="50" y="15411"/>
                  <a:pt x="50" y="15425"/>
                </a:cubicBezTo>
                <a:close/>
                <a:moveTo>
                  <a:pt x="50" y="15775"/>
                </a:moveTo>
                <a:lnTo>
                  <a:pt x="50" y="15925"/>
                </a:lnTo>
                <a:cubicBezTo>
                  <a:pt x="50" y="15939"/>
                  <a:pt x="39" y="15950"/>
                  <a:pt x="25" y="15950"/>
                </a:cubicBezTo>
                <a:cubicBezTo>
                  <a:pt x="12" y="15950"/>
                  <a:pt x="0" y="15939"/>
                  <a:pt x="0" y="15925"/>
                </a:cubicBezTo>
                <a:lnTo>
                  <a:pt x="0" y="15775"/>
                </a:lnTo>
                <a:cubicBezTo>
                  <a:pt x="0" y="15761"/>
                  <a:pt x="12" y="15750"/>
                  <a:pt x="25" y="15750"/>
                </a:cubicBezTo>
                <a:cubicBezTo>
                  <a:pt x="39" y="15750"/>
                  <a:pt x="50" y="15761"/>
                  <a:pt x="50" y="15775"/>
                </a:cubicBezTo>
                <a:close/>
                <a:moveTo>
                  <a:pt x="50" y="16125"/>
                </a:moveTo>
                <a:lnTo>
                  <a:pt x="50" y="16275"/>
                </a:lnTo>
                <a:cubicBezTo>
                  <a:pt x="50" y="16289"/>
                  <a:pt x="39" y="16300"/>
                  <a:pt x="25" y="16300"/>
                </a:cubicBezTo>
                <a:cubicBezTo>
                  <a:pt x="12" y="16300"/>
                  <a:pt x="0" y="16289"/>
                  <a:pt x="0" y="16275"/>
                </a:cubicBezTo>
                <a:lnTo>
                  <a:pt x="0" y="16125"/>
                </a:lnTo>
                <a:cubicBezTo>
                  <a:pt x="0" y="16111"/>
                  <a:pt x="12" y="16100"/>
                  <a:pt x="25" y="16100"/>
                </a:cubicBezTo>
                <a:cubicBezTo>
                  <a:pt x="39" y="16100"/>
                  <a:pt x="50" y="16111"/>
                  <a:pt x="50" y="16125"/>
                </a:cubicBezTo>
                <a:close/>
                <a:moveTo>
                  <a:pt x="50" y="16475"/>
                </a:moveTo>
                <a:lnTo>
                  <a:pt x="50" y="16625"/>
                </a:lnTo>
                <a:cubicBezTo>
                  <a:pt x="50" y="16639"/>
                  <a:pt x="39" y="16650"/>
                  <a:pt x="25" y="16650"/>
                </a:cubicBezTo>
                <a:cubicBezTo>
                  <a:pt x="12" y="16650"/>
                  <a:pt x="0" y="16639"/>
                  <a:pt x="0" y="16625"/>
                </a:cubicBezTo>
                <a:lnTo>
                  <a:pt x="0" y="16475"/>
                </a:lnTo>
                <a:cubicBezTo>
                  <a:pt x="0" y="16461"/>
                  <a:pt x="12" y="16450"/>
                  <a:pt x="25" y="16450"/>
                </a:cubicBezTo>
                <a:cubicBezTo>
                  <a:pt x="39" y="16450"/>
                  <a:pt x="50" y="16461"/>
                  <a:pt x="50" y="16475"/>
                </a:cubicBezTo>
                <a:close/>
                <a:moveTo>
                  <a:pt x="50" y="16825"/>
                </a:moveTo>
                <a:lnTo>
                  <a:pt x="50" y="16975"/>
                </a:lnTo>
                <a:cubicBezTo>
                  <a:pt x="50" y="16989"/>
                  <a:pt x="39" y="17000"/>
                  <a:pt x="25" y="17000"/>
                </a:cubicBezTo>
                <a:cubicBezTo>
                  <a:pt x="12" y="17000"/>
                  <a:pt x="0" y="16989"/>
                  <a:pt x="0" y="16975"/>
                </a:cubicBezTo>
                <a:lnTo>
                  <a:pt x="0" y="16825"/>
                </a:lnTo>
                <a:cubicBezTo>
                  <a:pt x="0" y="16811"/>
                  <a:pt x="12" y="16800"/>
                  <a:pt x="25" y="16800"/>
                </a:cubicBezTo>
                <a:cubicBezTo>
                  <a:pt x="39" y="16800"/>
                  <a:pt x="50" y="16811"/>
                  <a:pt x="50" y="16825"/>
                </a:cubicBezTo>
                <a:close/>
                <a:moveTo>
                  <a:pt x="50" y="17175"/>
                </a:moveTo>
                <a:lnTo>
                  <a:pt x="50" y="17325"/>
                </a:lnTo>
                <a:cubicBezTo>
                  <a:pt x="50" y="17339"/>
                  <a:pt x="39" y="17350"/>
                  <a:pt x="25" y="17350"/>
                </a:cubicBezTo>
                <a:cubicBezTo>
                  <a:pt x="12" y="17350"/>
                  <a:pt x="0" y="17339"/>
                  <a:pt x="0" y="17325"/>
                </a:cubicBezTo>
                <a:lnTo>
                  <a:pt x="0" y="17175"/>
                </a:lnTo>
                <a:cubicBezTo>
                  <a:pt x="0" y="17161"/>
                  <a:pt x="12" y="17150"/>
                  <a:pt x="25" y="17150"/>
                </a:cubicBezTo>
                <a:cubicBezTo>
                  <a:pt x="39" y="17150"/>
                  <a:pt x="50" y="17161"/>
                  <a:pt x="50" y="17175"/>
                </a:cubicBezTo>
                <a:close/>
                <a:moveTo>
                  <a:pt x="50" y="17525"/>
                </a:moveTo>
                <a:lnTo>
                  <a:pt x="50" y="17675"/>
                </a:lnTo>
                <a:cubicBezTo>
                  <a:pt x="50" y="17689"/>
                  <a:pt x="39" y="17700"/>
                  <a:pt x="25" y="17700"/>
                </a:cubicBezTo>
                <a:cubicBezTo>
                  <a:pt x="12" y="17700"/>
                  <a:pt x="0" y="17689"/>
                  <a:pt x="0" y="17675"/>
                </a:cubicBezTo>
                <a:lnTo>
                  <a:pt x="0" y="17525"/>
                </a:lnTo>
                <a:cubicBezTo>
                  <a:pt x="0" y="17511"/>
                  <a:pt x="12" y="17500"/>
                  <a:pt x="25" y="17500"/>
                </a:cubicBezTo>
                <a:cubicBezTo>
                  <a:pt x="39" y="17500"/>
                  <a:pt x="50" y="17511"/>
                  <a:pt x="50" y="17525"/>
                </a:cubicBezTo>
                <a:close/>
                <a:moveTo>
                  <a:pt x="50" y="17875"/>
                </a:moveTo>
                <a:lnTo>
                  <a:pt x="50" y="18025"/>
                </a:lnTo>
                <a:cubicBezTo>
                  <a:pt x="50" y="18039"/>
                  <a:pt x="39" y="18050"/>
                  <a:pt x="25" y="18050"/>
                </a:cubicBezTo>
                <a:cubicBezTo>
                  <a:pt x="12" y="18050"/>
                  <a:pt x="0" y="18039"/>
                  <a:pt x="0" y="18025"/>
                </a:cubicBezTo>
                <a:lnTo>
                  <a:pt x="0" y="17875"/>
                </a:lnTo>
                <a:cubicBezTo>
                  <a:pt x="0" y="17861"/>
                  <a:pt x="12" y="17850"/>
                  <a:pt x="25" y="17850"/>
                </a:cubicBezTo>
                <a:cubicBezTo>
                  <a:pt x="39" y="17850"/>
                  <a:pt x="50" y="17861"/>
                  <a:pt x="50" y="17875"/>
                </a:cubicBezTo>
                <a:close/>
                <a:moveTo>
                  <a:pt x="50" y="18225"/>
                </a:moveTo>
                <a:lnTo>
                  <a:pt x="50" y="18375"/>
                </a:lnTo>
                <a:cubicBezTo>
                  <a:pt x="50" y="18389"/>
                  <a:pt x="39" y="18400"/>
                  <a:pt x="25" y="18400"/>
                </a:cubicBezTo>
                <a:cubicBezTo>
                  <a:pt x="12" y="18400"/>
                  <a:pt x="0" y="18389"/>
                  <a:pt x="0" y="18375"/>
                </a:cubicBezTo>
                <a:lnTo>
                  <a:pt x="0" y="18225"/>
                </a:lnTo>
                <a:cubicBezTo>
                  <a:pt x="0" y="18211"/>
                  <a:pt x="12" y="18200"/>
                  <a:pt x="25" y="18200"/>
                </a:cubicBezTo>
                <a:cubicBezTo>
                  <a:pt x="39" y="18200"/>
                  <a:pt x="50" y="18211"/>
                  <a:pt x="50" y="18225"/>
                </a:cubicBezTo>
                <a:close/>
                <a:moveTo>
                  <a:pt x="50" y="18575"/>
                </a:moveTo>
                <a:lnTo>
                  <a:pt x="50" y="18725"/>
                </a:lnTo>
                <a:cubicBezTo>
                  <a:pt x="50" y="18739"/>
                  <a:pt x="39" y="18750"/>
                  <a:pt x="25" y="18750"/>
                </a:cubicBezTo>
                <a:cubicBezTo>
                  <a:pt x="12" y="18750"/>
                  <a:pt x="0" y="18739"/>
                  <a:pt x="0" y="18725"/>
                </a:cubicBezTo>
                <a:lnTo>
                  <a:pt x="0" y="18575"/>
                </a:lnTo>
                <a:cubicBezTo>
                  <a:pt x="0" y="18561"/>
                  <a:pt x="12" y="18550"/>
                  <a:pt x="25" y="18550"/>
                </a:cubicBezTo>
                <a:cubicBezTo>
                  <a:pt x="39" y="18550"/>
                  <a:pt x="50" y="18561"/>
                  <a:pt x="50" y="18575"/>
                </a:cubicBezTo>
                <a:close/>
                <a:moveTo>
                  <a:pt x="50" y="18925"/>
                </a:moveTo>
                <a:lnTo>
                  <a:pt x="50" y="19075"/>
                </a:lnTo>
                <a:cubicBezTo>
                  <a:pt x="50" y="19089"/>
                  <a:pt x="39" y="19100"/>
                  <a:pt x="25" y="19100"/>
                </a:cubicBezTo>
                <a:cubicBezTo>
                  <a:pt x="12" y="19100"/>
                  <a:pt x="0" y="19089"/>
                  <a:pt x="0" y="19075"/>
                </a:cubicBezTo>
                <a:lnTo>
                  <a:pt x="0" y="18925"/>
                </a:lnTo>
                <a:cubicBezTo>
                  <a:pt x="0" y="18911"/>
                  <a:pt x="12" y="18900"/>
                  <a:pt x="25" y="18900"/>
                </a:cubicBezTo>
                <a:cubicBezTo>
                  <a:pt x="39" y="18900"/>
                  <a:pt x="50" y="18911"/>
                  <a:pt x="50" y="18925"/>
                </a:cubicBezTo>
                <a:close/>
                <a:moveTo>
                  <a:pt x="50" y="19275"/>
                </a:moveTo>
                <a:lnTo>
                  <a:pt x="50" y="19425"/>
                </a:lnTo>
                <a:cubicBezTo>
                  <a:pt x="50" y="19439"/>
                  <a:pt x="39" y="19450"/>
                  <a:pt x="25" y="19450"/>
                </a:cubicBezTo>
                <a:cubicBezTo>
                  <a:pt x="12" y="19450"/>
                  <a:pt x="0" y="19439"/>
                  <a:pt x="0" y="19425"/>
                </a:cubicBezTo>
                <a:lnTo>
                  <a:pt x="0" y="19275"/>
                </a:lnTo>
                <a:cubicBezTo>
                  <a:pt x="0" y="19261"/>
                  <a:pt x="12" y="19250"/>
                  <a:pt x="25" y="19250"/>
                </a:cubicBezTo>
                <a:cubicBezTo>
                  <a:pt x="39" y="19250"/>
                  <a:pt x="50" y="19261"/>
                  <a:pt x="50" y="19275"/>
                </a:cubicBezTo>
                <a:close/>
                <a:moveTo>
                  <a:pt x="50" y="19625"/>
                </a:moveTo>
                <a:lnTo>
                  <a:pt x="50" y="19775"/>
                </a:lnTo>
                <a:cubicBezTo>
                  <a:pt x="50" y="19789"/>
                  <a:pt x="39" y="19800"/>
                  <a:pt x="25" y="19800"/>
                </a:cubicBezTo>
                <a:cubicBezTo>
                  <a:pt x="12" y="19800"/>
                  <a:pt x="0" y="19789"/>
                  <a:pt x="0" y="19775"/>
                </a:cubicBezTo>
                <a:lnTo>
                  <a:pt x="0" y="19625"/>
                </a:lnTo>
                <a:cubicBezTo>
                  <a:pt x="0" y="19611"/>
                  <a:pt x="12" y="19600"/>
                  <a:pt x="25" y="19600"/>
                </a:cubicBezTo>
                <a:cubicBezTo>
                  <a:pt x="39" y="19600"/>
                  <a:pt x="50" y="19611"/>
                  <a:pt x="50" y="19625"/>
                </a:cubicBezTo>
                <a:close/>
                <a:moveTo>
                  <a:pt x="50" y="19975"/>
                </a:moveTo>
                <a:lnTo>
                  <a:pt x="50" y="20125"/>
                </a:lnTo>
                <a:cubicBezTo>
                  <a:pt x="50" y="20139"/>
                  <a:pt x="39" y="20150"/>
                  <a:pt x="25" y="20150"/>
                </a:cubicBezTo>
                <a:cubicBezTo>
                  <a:pt x="12" y="20150"/>
                  <a:pt x="0" y="20139"/>
                  <a:pt x="0" y="20125"/>
                </a:cubicBezTo>
                <a:lnTo>
                  <a:pt x="0" y="19975"/>
                </a:lnTo>
                <a:cubicBezTo>
                  <a:pt x="0" y="19961"/>
                  <a:pt x="12" y="19950"/>
                  <a:pt x="25" y="19950"/>
                </a:cubicBezTo>
                <a:cubicBezTo>
                  <a:pt x="39" y="19950"/>
                  <a:pt x="50" y="19961"/>
                  <a:pt x="50" y="19975"/>
                </a:cubicBezTo>
                <a:close/>
                <a:moveTo>
                  <a:pt x="50" y="20325"/>
                </a:moveTo>
                <a:lnTo>
                  <a:pt x="50" y="20475"/>
                </a:lnTo>
                <a:cubicBezTo>
                  <a:pt x="50" y="20489"/>
                  <a:pt x="39" y="20500"/>
                  <a:pt x="25" y="20500"/>
                </a:cubicBezTo>
                <a:cubicBezTo>
                  <a:pt x="12" y="20500"/>
                  <a:pt x="0" y="20489"/>
                  <a:pt x="0" y="20475"/>
                </a:cubicBezTo>
                <a:lnTo>
                  <a:pt x="0" y="20325"/>
                </a:lnTo>
                <a:cubicBezTo>
                  <a:pt x="0" y="20311"/>
                  <a:pt x="12" y="20300"/>
                  <a:pt x="25" y="20300"/>
                </a:cubicBezTo>
                <a:cubicBezTo>
                  <a:pt x="39" y="20300"/>
                  <a:pt x="50" y="20311"/>
                  <a:pt x="50" y="20325"/>
                </a:cubicBezTo>
                <a:close/>
                <a:moveTo>
                  <a:pt x="50" y="20675"/>
                </a:moveTo>
                <a:lnTo>
                  <a:pt x="50" y="20825"/>
                </a:lnTo>
                <a:cubicBezTo>
                  <a:pt x="50" y="20839"/>
                  <a:pt x="39" y="20850"/>
                  <a:pt x="25" y="20850"/>
                </a:cubicBezTo>
                <a:cubicBezTo>
                  <a:pt x="12" y="20850"/>
                  <a:pt x="0" y="20839"/>
                  <a:pt x="0" y="20825"/>
                </a:cubicBezTo>
                <a:lnTo>
                  <a:pt x="0" y="20675"/>
                </a:lnTo>
                <a:cubicBezTo>
                  <a:pt x="0" y="20661"/>
                  <a:pt x="12" y="20650"/>
                  <a:pt x="25" y="20650"/>
                </a:cubicBezTo>
                <a:cubicBezTo>
                  <a:pt x="39" y="20650"/>
                  <a:pt x="50" y="20661"/>
                  <a:pt x="50" y="20675"/>
                </a:cubicBezTo>
                <a:close/>
                <a:moveTo>
                  <a:pt x="50" y="21025"/>
                </a:moveTo>
                <a:lnTo>
                  <a:pt x="50" y="21175"/>
                </a:lnTo>
                <a:cubicBezTo>
                  <a:pt x="50" y="21189"/>
                  <a:pt x="39" y="21200"/>
                  <a:pt x="25" y="21200"/>
                </a:cubicBezTo>
                <a:cubicBezTo>
                  <a:pt x="12" y="21200"/>
                  <a:pt x="0" y="21189"/>
                  <a:pt x="0" y="21175"/>
                </a:cubicBezTo>
                <a:lnTo>
                  <a:pt x="0" y="21025"/>
                </a:lnTo>
                <a:cubicBezTo>
                  <a:pt x="0" y="21011"/>
                  <a:pt x="12" y="21000"/>
                  <a:pt x="25" y="21000"/>
                </a:cubicBezTo>
                <a:cubicBezTo>
                  <a:pt x="39" y="21000"/>
                  <a:pt x="50" y="21011"/>
                  <a:pt x="50" y="21025"/>
                </a:cubicBezTo>
                <a:close/>
                <a:moveTo>
                  <a:pt x="50" y="21375"/>
                </a:moveTo>
                <a:lnTo>
                  <a:pt x="50" y="21525"/>
                </a:lnTo>
                <a:cubicBezTo>
                  <a:pt x="50" y="21539"/>
                  <a:pt x="39" y="21550"/>
                  <a:pt x="25" y="21550"/>
                </a:cubicBezTo>
                <a:cubicBezTo>
                  <a:pt x="12" y="21550"/>
                  <a:pt x="0" y="21539"/>
                  <a:pt x="0" y="21525"/>
                </a:cubicBezTo>
                <a:lnTo>
                  <a:pt x="0" y="21375"/>
                </a:lnTo>
                <a:cubicBezTo>
                  <a:pt x="0" y="21361"/>
                  <a:pt x="12" y="21350"/>
                  <a:pt x="25" y="21350"/>
                </a:cubicBezTo>
                <a:cubicBezTo>
                  <a:pt x="39" y="21350"/>
                  <a:pt x="50" y="21361"/>
                  <a:pt x="50" y="21375"/>
                </a:cubicBezTo>
                <a:close/>
                <a:moveTo>
                  <a:pt x="50" y="21725"/>
                </a:moveTo>
                <a:lnTo>
                  <a:pt x="50" y="21875"/>
                </a:lnTo>
                <a:cubicBezTo>
                  <a:pt x="50" y="21889"/>
                  <a:pt x="39" y="21900"/>
                  <a:pt x="25" y="21900"/>
                </a:cubicBezTo>
                <a:cubicBezTo>
                  <a:pt x="12" y="21900"/>
                  <a:pt x="0" y="21889"/>
                  <a:pt x="0" y="21875"/>
                </a:cubicBezTo>
                <a:lnTo>
                  <a:pt x="0" y="21725"/>
                </a:lnTo>
                <a:cubicBezTo>
                  <a:pt x="0" y="21711"/>
                  <a:pt x="12" y="21700"/>
                  <a:pt x="25" y="21700"/>
                </a:cubicBezTo>
                <a:cubicBezTo>
                  <a:pt x="39" y="21700"/>
                  <a:pt x="50" y="21711"/>
                  <a:pt x="50" y="21725"/>
                </a:cubicBezTo>
                <a:close/>
                <a:moveTo>
                  <a:pt x="50" y="22075"/>
                </a:moveTo>
                <a:lnTo>
                  <a:pt x="50" y="22225"/>
                </a:lnTo>
                <a:cubicBezTo>
                  <a:pt x="50" y="22239"/>
                  <a:pt x="39" y="22250"/>
                  <a:pt x="25" y="22250"/>
                </a:cubicBezTo>
                <a:cubicBezTo>
                  <a:pt x="12" y="22250"/>
                  <a:pt x="0" y="22239"/>
                  <a:pt x="0" y="22225"/>
                </a:cubicBezTo>
                <a:lnTo>
                  <a:pt x="0" y="22075"/>
                </a:lnTo>
                <a:cubicBezTo>
                  <a:pt x="0" y="22061"/>
                  <a:pt x="12" y="22050"/>
                  <a:pt x="25" y="22050"/>
                </a:cubicBezTo>
                <a:cubicBezTo>
                  <a:pt x="39" y="22050"/>
                  <a:pt x="50" y="22061"/>
                  <a:pt x="50" y="22075"/>
                </a:cubicBezTo>
                <a:close/>
                <a:moveTo>
                  <a:pt x="50" y="22425"/>
                </a:moveTo>
                <a:lnTo>
                  <a:pt x="50" y="22575"/>
                </a:lnTo>
                <a:cubicBezTo>
                  <a:pt x="50" y="22589"/>
                  <a:pt x="39" y="22600"/>
                  <a:pt x="25" y="22600"/>
                </a:cubicBezTo>
                <a:cubicBezTo>
                  <a:pt x="12" y="22600"/>
                  <a:pt x="0" y="22589"/>
                  <a:pt x="0" y="22575"/>
                </a:cubicBezTo>
                <a:lnTo>
                  <a:pt x="0" y="22425"/>
                </a:lnTo>
                <a:cubicBezTo>
                  <a:pt x="0" y="22411"/>
                  <a:pt x="12" y="22400"/>
                  <a:pt x="25" y="22400"/>
                </a:cubicBezTo>
                <a:cubicBezTo>
                  <a:pt x="39" y="22400"/>
                  <a:pt x="50" y="22411"/>
                  <a:pt x="50" y="22425"/>
                </a:cubicBezTo>
                <a:close/>
                <a:moveTo>
                  <a:pt x="50" y="22775"/>
                </a:moveTo>
                <a:lnTo>
                  <a:pt x="50" y="22925"/>
                </a:lnTo>
                <a:cubicBezTo>
                  <a:pt x="50" y="22939"/>
                  <a:pt x="39" y="22950"/>
                  <a:pt x="25" y="22950"/>
                </a:cubicBezTo>
                <a:cubicBezTo>
                  <a:pt x="12" y="22950"/>
                  <a:pt x="0" y="22939"/>
                  <a:pt x="0" y="22925"/>
                </a:cubicBezTo>
                <a:lnTo>
                  <a:pt x="0" y="22775"/>
                </a:lnTo>
                <a:cubicBezTo>
                  <a:pt x="0" y="22761"/>
                  <a:pt x="12" y="22750"/>
                  <a:pt x="25" y="22750"/>
                </a:cubicBezTo>
                <a:cubicBezTo>
                  <a:pt x="39" y="22750"/>
                  <a:pt x="50" y="22761"/>
                  <a:pt x="50" y="22775"/>
                </a:cubicBezTo>
                <a:close/>
              </a:path>
            </a:pathLst>
          </a:custGeom>
          <a:solidFill>
            <a:srgbClr val="ff3300"/>
          </a:solidFill>
          <a:ln w="324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604680" y="801720"/>
            <a:ext cx="2286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940360" y="1268280"/>
            <a:ext cx="360" cy="4392720"/>
            <a:chOff x="5940360" y="1268280"/>
            <a:chExt cx="360" cy="4392720"/>
          </a:xfrm>
        </p:grpSpPr>
        <p:sp>
          <p:nvSpPr>
            <p:cNvPr id="118" name="Line 8"/>
            <p:cNvSpPr/>
            <p:nvPr/>
          </p:nvSpPr>
          <p:spPr>
            <a:xfrm>
              <a:off x="5940360" y="1268280"/>
              <a:ext cx="0" cy="4392720"/>
            </a:xfrm>
            <a:prstGeom prst="line">
              <a:avLst/>
            </a:prstGeom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5940360" y="1268280"/>
              <a:ext cx="360" cy="439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000" y="7621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MingLiU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219320" y="3581280"/>
            <a:ext cx="5257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26920" y="76500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932360" y="76500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规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-324000" y="2781360"/>
            <a:ext cx="342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盛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859280" y="2708280"/>
            <a:ext cx="23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煮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2278800" y="27082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花种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284720" y="270828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种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5562720" y="1828800"/>
            <a:ext cx="30477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971640" y="62064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挑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5364000" y="54936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继承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1908000" y="494172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一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780000" y="4941720"/>
            <a:ext cx="637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高兴的表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0" y="4952880"/>
            <a:ext cx="26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没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1066680" y="19890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看着一盆盆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鲜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207360" y="1916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8885880" y="522936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花"/>
          <p:cNvPicPr/>
          <p:nvPr/>
        </p:nvPicPr>
        <p:blipFill>
          <a:blip r:embed="rId2"/>
          <a:stretch/>
        </p:blipFill>
        <p:spPr>
          <a:xfrm>
            <a:off x="5472000" y="0"/>
            <a:ext cx="3672000" cy="2138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788000" y="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培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500720" y="1341360"/>
            <a:ext cx="368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培育花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556000" y="256536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心地培育花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609480" y="4005360"/>
            <a:ext cx="900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十分用心地培育花种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547640" y="4221000"/>
            <a:ext cx="1447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十分</a:t>
            </a:r>
            <a:endParaRPr b="1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95280" y="5229360"/>
            <a:ext cx="907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)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心地培育花种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42:4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35Z</dcterms:modified>
  <cp:revision>4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