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0117-CEF2-4CF1-8DBE-D09E1E52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F08-42B2-45B9-A82C-3076C1F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E275-FBBB-491E-B741-962202AE5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03D-C5ED-44C1-9310-33BF49CAF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04E8-9532-4A48-BAA6-CE79549E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4FA4-878B-40C0-81EC-E29E45F0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2AA0-E8BB-4F9A-9D05-2BE540F2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71A2-1B62-487F-804D-F5E86E35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3D7A-AE32-4833-A593-6145FED3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35A2-AD78-43FD-BEF4-7679513B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138F-90BD-4078-9BEC-09FC3DFB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5637-8FF8-47ED-A2B8-83DBFAFA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B5F6-7BF2-4BA3-BC58-633C1A89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BE6B8-597B-46DB-84EF-EEED04D3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7A77E-C2B6-44DB-A0C3-2B31A28F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B233-2808-4FB7-AE9D-228FBB4E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0DB4-8921-41EA-A878-41413DD59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DBF5-EF4D-423B-887F-31B54A79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202E-D511-452B-8E2F-761872E6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1B1F7-6105-4796-B514-05FF44EB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75BE-ADC4-4EDA-BE6C-DFCBAA20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46355-2354-44E6-9B53-C5871BE7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22F-7430-40CA-8E8F-41946C9A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A5B4C-D471-499D-BF8B-F6FF7419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BEB8-C376-4163-B6C4-906248A4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04B72-147C-4279-8B99-7F839FC3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115C8-309E-46B1-A886-7E60D396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DF341-B487-4FE0-96DD-EFEEE75B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AC1A3-E219-4BF0-A03E-B1898762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1640-F3E2-4C73-8B42-2AC4D9031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08F-2D8C-4CA9-8818-3E0BC6E3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9076-E34D-4A44-AD27-68AD63D2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657-3488-48A5-9060-7B7BE8EA1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A2D-5A0E-422B-B01E-DCAB9385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E05-B5F7-4508-B3A6-AB16A99C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FFED-BBAF-465D-84DC-4FA7F543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D188-7602-46DB-BFEA-D2449BE7B9F3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3822-F80D-42C3-8154-B0A557C7807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F763-FB22-4099-9FF5-1755FCEDE14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7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8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0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01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AB74-D09F-472D-A9E4-11B9A6C6BCE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矩形 10"/>
          <p:cNvSpPr/>
          <p:nvPr/>
        </p:nvSpPr>
        <p:spPr>
          <a:xfrm>
            <a:off x="2870280" y="52149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结束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-155880" y="4797360"/>
            <a:ext cx="152100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1ff"/>
                </a:solidFill>
                <a:latin typeface="Times New Roman"/>
                <a:ea typeface="华文行楷"/>
              </a:rPr>
              <a:t>布丰</a:t>
            </a:r>
            <a:r>
              <a:rPr b="0" lang="zh-CN" sz="2400" spc="-1" strike="noStrike">
                <a:solidFill>
                  <a:srgbClr val="ffc1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图片 1" descr=""/>
          <p:cNvPicPr/>
          <p:nvPr/>
        </p:nvPicPr>
        <p:blipFill>
          <a:blip r:embed="rId2"/>
          <a:srcRect l="0" t="0" r="0" b="4460"/>
          <a:stretch/>
        </p:blipFill>
        <p:spPr>
          <a:xfrm>
            <a:off x="2870280" y="1844640"/>
            <a:ext cx="6273720" cy="3746520"/>
          </a:xfrm>
          <a:prstGeom prst="rect">
            <a:avLst/>
          </a:prstGeom>
          <a:ln w="0">
            <a:noFill/>
          </a:ln>
        </p:spPr>
      </p:pic>
      <p:sp>
        <p:nvSpPr>
          <p:cNvPr id="151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1343160" y="1190520"/>
            <a:ext cx="68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松鼠人教版课件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2"/>
          <p:cNvSpPr txBox="1"/>
          <p:nvPr/>
        </p:nvSpPr>
        <p:spPr>
          <a:xfrm>
            <a:off x="1295280" y="8380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以致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33520" y="259092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请你分别以“漂亮”、“驯良”、“乖巧”为中心描述一下右边小动物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Picture 9" descr="campus_lns_200210291202"/>
          <p:cNvPicPr/>
          <p:nvPr/>
        </p:nvPicPr>
        <p:blipFill>
          <a:blip r:embed="rId1"/>
          <a:stretch/>
        </p:blipFill>
        <p:spPr>
          <a:xfrm>
            <a:off x="4724280" y="3533760"/>
            <a:ext cx="4419720" cy="33242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Dog-1"/>
          <p:cNvPicPr/>
          <p:nvPr/>
        </p:nvPicPr>
        <p:blipFill>
          <a:blip r:embed="rId2"/>
          <a:stretch/>
        </p:blipFill>
        <p:spPr>
          <a:xfrm>
            <a:off x="4724280" y="5335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231" name="写作.mp3" descr=""/>
          <p:cNvPicPr/>
          <p:nvPr/>
        </p:nvPicPr>
        <p:blipFill>
          <a:blip r:embed="rId3"/>
          <a:stretch/>
        </p:blipFill>
        <p:spPr>
          <a:xfrm>
            <a:off x="21337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8"/>
          <p:cNvSpPr/>
          <p:nvPr/>
        </p:nvSpPr>
        <p:spPr>
          <a:xfrm>
            <a:off x="91440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你能读准并理解以下生字吗？</a:t>
            </a:r>
            <a:r>
              <a:rPr b="0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19"/>
          <p:cNvSpPr/>
          <p:nvPr/>
        </p:nvSpPr>
        <p:spPr>
          <a:xfrm>
            <a:off x="1444320" y="295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驯良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0"/>
          <p:cNvSpPr/>
          <p:nvPr/>
        </p:nvSpPr>
        <p:spPr>
          <a:xfrm>
            <a:off x="3196800" y="295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矫健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5092200" y="29559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蛰伏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1219320" y="204156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xù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2988360" y="2041560"/>
            <a:ext cx="102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jiǎ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24"/>
          <p:cNvSpPr/>
          <p:nvPr/>
        </p:nvSpPr>
        <p:spPr>
          <a:xfrm>
            <a:off x="4877280" y="2041560"/>
            <a:ext cx="957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zhé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25"/>
          <p:cNvSpPr/>
          <p:nvPr/>
        </p:nvSpPr>
        <p:spPr>
          <a:xfrm>
            <a:off x="6909120" y="295596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苔 藓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26"/>
          <p:cNvSpPr/>
          <p:nvPr/>
        </p:nvSpPr>
        <p:spPr>
          <a:xfrm>
            <a:off x="6573600" y="2041560"/>
            <a:ext cx="81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á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27"/>
          <p:cNvSpPr/>
          <p:nvPr/>
        </p:nvSpPr>
        <p:spPr>
          <a:xfrm>
            <a:off x="7388640" y="204156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xi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ǎ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28"/>
          <p:cNvSpPr/>
          <p:nvPr/>
        </p:nvSpPr>
        <p:spPr>
          <a:xfrm>
            <a:off x="1233720" y="28036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29"/>
          <p:cNvSpPr/>
          <p:nvPr/>
        </p:nvSpPr>
        <p:spPr>
          <a:xfrm>
            <a:off x="2986560" y="28036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4997520" y="2863800"/>
            <a:ext cx="56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6733440" y="2787480"/>
            <a:ext cx="157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 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34"/>
          <p:cNvSpPr/>
          <p:nvPr/>
        </p:nvSpPr>
        <p:spPr>
          <a:xfrm>
            <a:off x="7083000" y="5089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帽缨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35"/>
          <p:cNvSpPr/>
          <p:nvPr/>
        </p:nvSpPr>
        <p:spPr>
          <a:xfrm>
            <a:off x="1327320" y="4971960"/>
            <a:ext cx="13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榛子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36"/>
          <p:cNvSpPr/>
          <p:nvPr/>
        </p:nvSpPr>
        <p:spPr>
          <a:xfrm>
            <a:off x="3298320" y="501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榉实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37"/>
          <p:cNvSpPr/>
          <p:nvPr/>
        </p:nvSpPr>
        <p:spPr>
          <a:xfrm>
            <a:off x="5203440" y="501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褐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38"/>
          <p:cNvSpPr/>
          <p:nvPr/>
        </p:nvSpPr>
        <p:spPr>
          <a:xfrm>
            <a:off x="7405920" y="492120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39"/>
          <p:cNvSpPr/>
          <p:nvPr/>
        </p:nvSpPr>
        <p:spPr>
          <a:xfrm>
            <a:off x="1341720" y="484488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0"/>
          <p:cNvSpPr/>
          <p:nvPr/>
        </p:nvSpPr>
        <p:spPr>
          <a:xfrm>
            <a:off x="3107160" y="493704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41"/>
          <p:cNvSpPr/>
          <p:nvPr/>
        </p:nvSpPr>
        <p:spPr>
          <a:xfrm>
            <a:off x="4999320" y="4937040"/>
            <a:ext cx="68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·</a:t>
            </a:r>
            <a:endParaRPr b="0" lang="en-US" sz="1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42"/>
          <p:cNvSpPr/>
          <p:nvPr/>
        </p:nvSpPr>
        <p:spPr>
          <a:xfrm>
            <a:off x="7345440" y="4251240"/>
            <a:ext cx="117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yī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43"/>
          <p:cNvSpPr/>
          <p:nvPr/>
        </p:nvSpPr>
        <p:spPr>
          <a:xfrm>
            <a:off x="1234800" y="4251240"/>
            <a:ext cx="123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zhē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44"/>
          <p:cNvSpPr/>
          <p:nvPr/>
        </p:nvSpPr>
        <p:spPr>
          <a:xfrm>
            <a:off x="3160080" y="4251240"/>
            <a:ext cx="7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jǔ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45"/>
          <p:cNvSpPr/>
          <p:nvPr/>
        </p:nvSpPr>
        <p:spPr>
          <a:xfrm>
            <a:off x="5078880" y="4251240"/>
            <a:ext cx="84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è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华文新魏"/>
                <a:ea typeface="华文新魏"/>
              </a:rPr>
              <a:t>本文中的小松鼠有什么特点？</a:t>
            </a:r>
            <a:r>
              <a:rPr b="0" lang="zh-CN" sz="4400" spc="-1" strike="noStrike">
                <a:solidFill>
                  <a:srgbClr val="800000"/>
                </a:solidFill>
                <a:latin typeface="华文行楷"/>
                <a:ea typeface="华文行楷"/>
              </a:rPr>
              <a:t>                   </a:t>
            </a:r>
            <a:r>
              <a:rPr b="0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请用一句简洁的话来概括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0000"/>
                </a:solidFill>
                <a:latin typeface="华文新魏"/>
                <a:ea typeface="华文新魏"/>
              </a:rPr>
              <a:t>课文是在哪些段落分别阐述这些特点的？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WordArt 6"/>
          <p:cNvSpPr txBox="1"/>
          <p:nvPr/>
        </p:nvSpPr>
        <p:spPr>
          <a:xfrm>
            <a:off x="1295280" y="838080"/>
            <a:ext cx="3962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自由朗读课文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81" name="Picture 7" descr="吃果子的松鼠"/>
          <p:cNvPicPr/>
          <p:nvPr/>
        </p:nvPicPr>
        <p:blipFill>
          <a:blip r:embed="rId1"/>
          <a:stretch/>
        </p:blipFill>
        <p:spPr>
          <a:xfrm>
            <a:off x="5105520" y="4362480"/>
            <a:ext cx="358128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4"/>
          <p:cNvSpPr/>
          <p:nvPr/>
        </p:nvSpPr>
        <p:spPr>
          <a:xfrm>
            <a:off x="3061080" y="2209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漂亮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895480" y="4191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乖巧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5"/>
          <p:cNvSpPr/>
          <p:nvPr/>
        </p:nvSpPr>
        <p:spPr>
          <a:xfrm>
            <a:off x="2133720" y="2027160"/>
            <a:ext cx="533160" cy="40388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792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21"/>
          <p:cNvSpPr/>
          <p:nvPr/>
        </p:nvSpPr>
        <p:spPr>
          <a:xfrm>
            <a:off x="2949840" y="5103720"/>
            <a:ext cx="103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生理特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经济价值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825480" y="3058920"/>
            <a:ext cx="1003320" cy="19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松鼠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2895480" y="31701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驯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3"/>
          <p:cNvSpPr/>
          <p:nvPr/>
        </p:nvSpPr>
        <p:spPr>
          <a:xfrm>
            <a:off x="2590920" y="1189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讨人喜欢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4"/>
          <p:cNvSpPr/>
          <p:nvPr/>
        </p:nvSpPr>
        <p:spPr>
          <a:xfrm>
            <a:off x="4800600" y="2179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5"/>
          <p:cNvSpPr/>
          <p:nvPr/>
        </p:nvSpPr>
        <p:spPr>
          <a:xfrm>
            <a:off x="4800600" y="32162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Text Box 36"/>
          <p:cNvSpPr/>
          <p:nvPr/>
        </p:nvSpPr>
        <p:spPr>
          <a:xfrm>
            <a:off x="4724280" y="4160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4-5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4876920" y="52275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4876920" y="1189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方正舒体"/>
                <a:ea typeface="方正舒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Picture 39" descr="松鼠8"/>
          <p:cNvPicPr/>
          <p:nvPr/>
        </p:nvPicPr>
        <p:blipFill>
          <a:blip r:embed="rId1"/>
          <a:stretch/>
        </p:blipFill>
        <p:spPr>
          <a:xfrm>
            <a:off x="6400800" y="4871880"/>
            <a:ext cx="2286000" cy="1605240"/>
          </a:xfrm>
          <a:prstGeom prst="rect">
            <a:avLst/>
          </a:prstGeom>
          <a:ln w="0">
            <a:noFill/>
          </a:ln>
        </p:spPr>
      </p:pic>
      <p:sp>
        <p:nvSpPr>
          <p:cNvPr id="195" name="WordArt 40"/>
          <p:cNvSpPr txBox="1"/>
          <p:nvPr/>
        </p:nvSpPr>
        <p:spPr>
          <a:xfrm>
            <a:off x="533520" y="304920"/>
            <a:ext cx="19047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理清思路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1588320" y="2108160"/>
            <a:ext cx="12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脸：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清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679400" y="278748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眼：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闪闪有光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990720" y="3397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体</a:t>
            </a: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:    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矫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1528920" y="4006800"/>
            <a:ext cx="139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肢： 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轻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2401920" y="4692600"/>
            <a:ext cx="1285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尾巴：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帽缨形、美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1908360" y="5302080"/>
            <a:ext cx="27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吃相：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坐着   用前爪送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2" name="Picture 16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203" name="WordArt 20"/>
          <p:cNvSpPr txBox="1"/>
          <p:nvPr/>
        </p:nvSpPr>
        <p:spPr>
          <a:xfrm>
            <a:off x="1523880" y="685800"/>
            <a:ext cx="1905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漂亮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204" name="文本框 8194"/>
          <p:cNvSpPr/>
          <p:nvPr/>
        </p:nvSpPr>
        <p:spPr>
          <a:xfrm>
            <a:off x="1044720" y="177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0000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1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206" name="WordArt 3"/>
          <p:cNvSpPr txBox="1"/>
          <p:nvPr/>
        </p:nvSpPr>
        <p:spPr>
          <a:xfrm>
            <a:off x="1295280" y="914400"/>
            <a:ext cx="5029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有感情的朗诵第二节 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5936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1219320" y="2514600"/>
            <a:ext cx="647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读出松鼠的活泼可爱，讨人喜欢的语气。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0" descr="PTW_046"/>
          <p:cNvPicPr/>
          <p:nvPr/>
        </p:nvPicPr>
        <p:blipFill>
          <a:blip r:embed="rId1"/>
          <a:stretch/>
        </p:blipFill>
        <p:spPr>
          <a:xfrm>
            <a:off x="6934320" y="4737240"/>
            <a:ext cx="1981080" cy="182088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"/>
          <p:cNvSpPr/>
          <p:nvPr/>
        </p:nvSpPr>
        <p:spPr>
          <a:xfrm>
            <a:off x="1287000" y="214956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活动范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-1828800" y="3139920"/>
            <a:ext cx="76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活动时间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-1752480" y="4130640"/>
            <a:ext cx="73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华文行楷"/>
              </a:rPr>
              <a:t>主食种类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WordArt 12"/>
          <p:cNvSpPr txBox="1"/>
          <p:nvPr/>
        </p:nvSpPr>
        <p:spPr>
          <a:xfrm>
            <a:off x="1447920" y="685800"/>
            <a:ext cx="19047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驯良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4114800" y="22096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树林（不侵扰人类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4191120" y="316872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夜晚（不骚扰人类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4191120" y="4267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果实（不伤害人畜）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9"/>
          <p:cNvSpPr txBox="1"/>
          <p:nvPr/>
        </p:nvSpPr>
        <p:spPr>
          <a:xfrm>
            <a:off x="1295280" y="762120"/>
            <a:ext cx="1905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隶书"/>
              </a:rPr>
              <a:t>乖巧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1523880" y="24382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762120" y="21337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80"/>
                </a:solidFill>
                <a:latin typeface="Times New Roman"/>
                <a:ea typeface="华文行楷"/>
              </a:rPr>
              <a:t>通过什么来表现松鼠的乖巧？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1676520" y="3352680"/>
            <a:ext cx="213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  <a:ea typeface="华文新魏"/>
              </a:rPr>
              <a:t>动作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1676520" y="4876920"/>
            <a:ext cx="213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  <a:ea typeface="华文新魏"/>
              </a:rPr>
              <a:t>筑窝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Picture 18" descr="冬天的松鼠"/>
          <p:cNvPicPr/>
          <p:nvPr/>
        </p:nvPicPr>
        <p:blipFill>
          <a:blip r:embed="rId1"/>
          <a:stretch/>
        </p:blipFill>
        <p:spPr>
          <a:xfrm>
            <a:off x="4343400" y="3276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104F-8D4E-4449-8131-BE003259DF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9T01:4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5Z</dcterms:modified>
  <cp:revision>5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