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DE1-BE17-46D2-9081-0EAD22CB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EE4-83A6-4FA1-98CF-545EDDAB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433-A2D1-4281-B10E-305FAB7D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E82-1FB3-4870-992B-33097B2E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C2BF-B640-4D06-971A-B305BD0B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BF41-EA45-4007-A188-29BCD719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C03A-AE34-4E70-8506-7570018A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E824-6C70-49CE-854A-256AA6FE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D0C7-F07F-4084-AA1F-ABB72FBA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D409-04D2-4F12-8066-8AEDFA34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BD54-00FC-4B06-8A31-DE39EE45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E12-3F38-433E-A1F9-6A26D302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C422-40DF-4092-AA6C-24D5C3C6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7727-8EBE-482F-B582-C48DC95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784D-1EEA-4215-8CBB-E4410CE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1CCE-0405-495B-9536-360BA69E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641C-209B-4BA7-A74E-DA030458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905-F268-4363-B1D8-C50011CF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590-E11F-4BC4-B4AA-0E35AF54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2C0-D898-4FF6-BBAA-093D100D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1BD-71B4-47CA-A31A-EEB4CF17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C91-95E7-408A-A06F-95222228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63E-7367-47F8-9179-E9790DCD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998-A4C3-4DC7-A769-EF8E4ED5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5658-1672-4BC5-918E-598C2B5D80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C8C3-3FF4-4F62-9A88-33B57A21A2B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DED8-459B-4393-B4C3-4EAF8B0447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55640" y="126828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1" descr="ato1k6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WordArt 12" descr=""/>
          <p:cNvPicPr/>
          <p:nvPr/>
        </p:nvPicPr>
        <p:blipFill>
          <a:blip r:embed="rId2"/>
          <a:stretch/>
        </p:blipFill>
        <p:spPr>
          <a:xfrm>
            <a:off x="1268280" y="1268280"/>
            <a:ext cx="6390000" cy="2143080"/>
          </a:xfrm>
          <a:prstGeom prst="rect">
            <a:avLst/>
          </a:prstGeom>
          <a:ln w="0">
            <a:noFill/>
          </a:ln>
        </p:spPr>
      </p:pic>
      <p:sp>
        <p:nvSpPr>
          <p:cNvPr id="88" name="WordArt 14"/>
          <p:cNvSpPr txBox="1"/>
          <p:nvPr/>
        </p:nvSpPr>
        <p:spPr>
          <a:xfrm>
            <a:off x="1441440" y="4149720"/>
            <a:ext cx="62596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幼圆"/>
              </a:rPr>
              <a:t>——</a:t>
            </a: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幼圆"/>
              </a:rPr>
              <a:t>《唐诗宋词元曲》（中国戏剧出版社）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5940360" y="126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9" descr="213422Y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30"/>
          <p:cNvSpPr/>
          <p:nvPr/>
        </p:nvSpPr>
        <p:spPr>
          <a:xfrm>
            <a:off x="950760" y="554040"/>
            <a:ext cx="700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31"/>
          <p:cNvSpPr/>
          <p:nvPr/>
        </p:nvSpPr>
        <p:spPr>
          <a:xfrm>
            <a:off x="324000" y="40464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宿新市徐公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宋）杨万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篱落疏疏一径深，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树头花落未成阴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儿童急走追黄蝶，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飞入菜花无处寻。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213422Y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2411280" y="134136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稀稀落落的篱笆旁，有一条小路伸向远方，路旁树上的花已经凋落了，而新叶却刚刚长出，还没有形成树阴。儿童们奔跑着，追扑翩翩飞舞的黄色的蝴蝶，可是黄色的蝴蝶飞到黄色的菜花丛中，孩子们再也分不清、找不到它们了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684360" y="476280"/>
            <a:ext cx="165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译文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03" name="文本框 8200"/>
          <p:cNvSpPr/>
          <p:nvPr/>
        </p:nvSpPr>
        <p:spPr>
          <a:xfrm>
            <a:off x="3132000" y="692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13422Y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195640" y="981000"/>
            <a:ext cx="56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作者运用白描的手法，把景物与人物融为一体，描绘了一幅动静结合的画面，极富生活情趣，作者的喜悦之情也尽在对景物、人物的描写之中。 此诗一方面描绘了乡村幽静旖旎的风光，另一方面写出了农村儿童活泼可爱、顽皮天真的情趣。在这首诗的字里行间，洋溢着诗人对农家安逸生活的陶醉，也透出了诗人内心被天真烂漫的儿童所撩起的片片童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50920" y="189000"/>
            <a:ext cx="154620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简析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13422Y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187280" y="62064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47640" y="836640"/>
            <a:ext cx="612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Arial"/>
              </a:rPr>
              <a:t>名句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儿童急走追黄蝶，飞入菜花无处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此句描绘儿童捕蝶的欢乐场面。“急走”、“追”是快速奔跑追逐的意思。这两个动词十分形象贴切，将儿童的天真活泼、好奇好胜的神态和心理刻画得维妙维肖，跃然纸上。而“飞入菜花无处寻”则将活动的镜头突然转为静止。“无处寻”三字给读者留下想象回味的余地，仿佛我们面前又浮现出一个面对一片金黄菜花挠头犹豫、不知所措的儿童。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13422Y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95280" y="47628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20085417325845"/>
          <p:cNvPicPr/>
          <p:nvPr/>
        </p:nvPicPr>
        <p:blipFill>
          <a:blip r:embed="rId2"/>
          <a:stretch/>
        </p:blipFill>
        <p:spPr>
          <a:xfrm>
            <a:off x="5219640" y="189000"/>
            <a:ext cx="3557520" cy="546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200622116143541"/>
          <p:cNvPicPr/>
          <p:nvPr/>
        </p:nvPicPr>
        <p:blipFill>
          <a:blip r:embed="rId3"/>
          <a:stretch/>
        </p:blipFill>
        <p:spPr>
          <a:xfrm>
            <a:off x="250920" y="69228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95A5-DBC4-4B50-B4DA-4572D38AF1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3bb22487751d9804c65cc3d9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9"/>
          <p:cNvSpPr txBox="1"/>
          <p:nvPr/>
        </p:nvSpPr>
        <p:spPr>
          <a:xfrm>
            <a:off x="3059280" y="1557360"/>
            <a:ext cx="2665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幼圆"/>
              </a:rPr>
              <a:t>完</a:t>
            </a:r>
            <a:endParaRPr b="1" lang="en-US" sz="96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7093080" y="646128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  徐慧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7:15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52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