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036-BE1A-4660-95F1-65627DE1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C1D-6F71-49A8-9198-95A9343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829-8AED-4D9F-990F-BC1E94B6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5B3-615E-4584-BBEB-16FCEB30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5BFA-96F0-41E9-9E12-902AAFBA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B6BB-9F9A-412B-B85B-A8CBD0D4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D2E-6896-491F-B85C-8FC6C07D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EAF8-BC05-4136-A812-C9391A20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D7AA-432B-46EE-A036-904A0ECF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466-C91D-45EE-903B-5996A0D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3AD-5296-43AA-94A0-DA08AF0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F04-4AED-4E40-9F96-B840D521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C215-B959-422A-87BC-3BAC76E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E054-58CB-421D-86BA-B31243A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CB4C-1276-49F8-86DF-B27D9128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2566-F16B-4538-8B3E-142BDCD6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D00-BD3A-4204-9CF6-D8EBAE49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A56-5A19-4A8B-BE42-93193E2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345-5193-4E11-B837-54D6036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0CC-8848-4596-B3C8-C4CB534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01B-E1DE-42E8-8D71-3E187AEE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AC3-E09F-416D-829C-461CACF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428-27E3-42D6-B500-CE93D87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CD2-7962-429F-9987-F36B76B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39A-D250-4961-BD66-C4500390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220-AFBA-4710-AE48-7241171EB2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CF9-B30D-4F06-ABB8-06139BCC60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26" descr="10103359_985979"/>
          <p:cNvPicPr/>
          <p:nvPr/>
        </p:nvPicPr>
        <p:blipFill>
          <a:blip r:embed="rId1"/>
          <a:stretch/>
        </p:blipFill>
        <p:spPr>
          <a:xfrm>
            <a:off x="0" y="0"/>
            <a:ext cx="709308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28"/>
          <p:cNvSpPr/>
          <p:nvPr/>
        </p:nvSpPr>
        <p:spPr>
          <a:xfrm>
            <a:off x="2744640" y="0"/>
            <a:ext cx="459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826920" y="34178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32"/>
          <p:cNvSpPr/>
          <p:nvPr/>
        </p:nvSpPr>
        <p:spPr>
          <a:xfrm>
            <a:off x="1332000" y="692280"/>
            <a:ext cx="172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33"/>
          <p:cNvSpPr/>
          <p:nvPr/>
        </p:nvSpPr>
        <p:spPr>
          <a:xfrm>
            <a:off x="1332000" y="765000"/>
            <a:ext cx="16556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4"/>
          <p:cNvSpPr/>
          <p:nvPr/>
        </p:nvSpPr>
        <p:spPr>
          <a:xfrm>
            <a:off x="1042920" y="476280"/>
            <a:ext cx="2233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文本框 2" descr=""/>
          <p:cNvPicPr/>
          <p:nvPr/>
        </p:nvPicPr>
        <p:blipFill>
          <a:blip r:embed="rId2"/>
          <a:stretch/>
        </p:blipFill>
        <p:spPr>
          <a:xfrm>
            <a:off x="1116000" y="825480"/>
            <a:ext cx="7272360" cy="70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134136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啊，多么明亮、多么美丽的世界呀！桃花笑红了脸，柳树摇着绿色的长辫子，小燕子叽叽喳喳地叫着 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桃花"/>
          <p:cNvPicPr/>
          <p:nvPr/>
        </p:nvPicPr>
        <p:blipFill>
          <a:blip r:embed="rId1"/>
          <a:stretch/>
        </p:blipFill>
        <p:spPr>
          <a:xfrm>
            <a:off x="1187280" y="333360"/>
            <a:ext cx="6913800" cy="4967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268360" y="551664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华文仿宋"/>
              </a:rPr>
              <a:t>桃花笑红了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692360" y="522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63640" y="558972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仿宋"/>
              </a:rPr>
              <a:t>柳树摇着绿色的长辫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柳树"/>
          <p:cNvPicPr/>
          <p:nvPr/>
        </p:nvPicPr>
        <p:blipFill>
          <a:blip r:embed="rId1"/>
          <a:stretch/>
        </p:blipFill>
        <p:spPr>
          <a:xfrm>
            <a:off x="1187280" y="333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79640" y="5805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小燕子叽叽喳喳地叫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燕子"/>
          <p:cNvPicPr/>
          <p:nvPr/>
        </p:nvPicPr>
        <p:blipFill>
          <a:blip r:embed="rId1"/>
          <a:stretch/>
        </p:blipFill>
        <p:spPr>
          <a:xfrm>
            <a:off x="1187280" y="3333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34136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啊，多么明亮、多么美丽的世界呀！桃花笑红了脸，柳树摇着绿色的长辫子，小燕子叽叽喳喳地叫着 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76360" y="134136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11280" y="1341360"/>
            <a:ext cx="8064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笋芽儿</a:t>
            </a:r>
            <a:r>
              <a:rPr b="0" lang="zh-CN" sz="4800" spc="-1" strike="noStrike">
                <a:solidFill>
                  <a:srgbClr val="ff3300"/>
                </a:solidFill>
                <a:latin typeface="楷体"/>
                <a:ea typeface="楷体"/>
              </a:rPr>
              <a:t>看看这儿，看看那儿，怎么也看不够。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她高兴地说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0" lang="zh-CN" sz="4800" spc="-1" strike="noStrike">
                <a:solidFill>
                  <a:srgbClr val="ff0066"/>
                </a:solidFill>
                <a:latin typeface="楷体"/>
                <a:ea typeface="楷体"/>
              </a:rPr>
              <a:t>多美好的春光啊！我要快快长大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11280" y="90792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笋芽儿终于钻出了地面。她睁开眼睛一看，啊，多么明亮、多么美丽的世界呀！桃花笑红了脸，柳树摇着绿色的长辫子，小燕子叽叽喳喳地叫着 </a:t>
            </a:r>
            <a:r>
              <a:rPr b="0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笋芽儿看看这儿，看看那儿，怎么也看不够。她高兴地说</a:t>
            </a:r>
            <a:r>
              <a:rPr b="0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:“</a:t>
            </a:r>
            <a:r>
              <a:rPr b="0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多美好的春光啊！我要快快长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7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56666666666666666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247840" y="2282760"/>
            <a:ext cx="41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84360" y="112536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春雨姑娘爱抚着她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滋润着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太阳公公照射着她</a:t>
            </a:r>
            <a:r>
              <a:rPr b="0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温暖着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826920" y="14842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脱下一件件衣服，长成了一株健壮的竹子。她站在山冈上，自豪地喊着：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我长大啦！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492360" y="14428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脱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8200" y="2162160"/>
            <a:ext cx="111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292720" y="28116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9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55640" y="1125360"/>
            <a:ext cx="774072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我想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（    ）对笋芽儿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 笋芽儿对（   ）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楷体"/>
                <a:ea typeface="楷体"/>
              </a:rPr>
              <a:t>）我想对笋芽儿说─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Object 7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1028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26"/>
          <p:cNvSpPr/>
          <p:nvPr/>
        </p:nvSpPr>
        <p:spPr>
          <a:xfrm>
            <a:off x="755640" y="981000"/>
            <a:ext cx="7993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笋芽儿   呼唤   揉眼睛   漆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轰隆隆   扭动   向上钻   唠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辫子   爱抚   滋润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冈       自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27" descr="PE01605_"/>
          <p:cNvPicPr/>
          <p:nvPr/>
        </p:nvPicPr>
        <p:blipFill>
          <a:blip r:embed="rId2"/>
          <a:stretch/>
        </p:blipFill>
        <p:spPr>
          <a:xfrm>
            <a:off x="6657840" y="3429000"/>
            <a:ext cx="2486160" cy="3279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5AE-D4E2-4E2B-BB76-525C30AFB6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295280" y="1600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95480" y="112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32000" y="141300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105264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沙沙沙，沙沙沙，春雨姑娘在绿色的叶丛中弹奏着乐曲，低声呼唤着沉睡的笋芽儿：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，醒醒啊，春天来啦！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bject 10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6" descr="笋4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27"/>
          <p:cNvSpPr/>
          <p:nvPr/>
        </p:nvSpPr>
        <p:spPr>
          <a:xfrm>
            <a:off x="4572000" y="3124080"/>
            <a:ext cx="266688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是谁在叫我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15238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19051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9640" y="1700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笋芽儿被叫醒了。她揉了揉眼睛，伸了伸懒腰，看看四周仍然一片漆黑，撒娇地说：“是谁在叫我呀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65964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揉了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195640" y="23796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伸了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154560" y="3027240"/>
            <a:ext cx="7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"/>
              </a:rPr>
              <a:t>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Object 11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47920" y="12193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2384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4360" y="1413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轰隆隆！轰隆隆！雷公公把藏了好久的打鼓重重地敲了起来。他用粗重的嗓音呼唤着笋芽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500720" y="4437000"/>
            <a:ext cx="15112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4427640" y="4437000"/>
            <a:ext cx="1152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Object 14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826920" y="1628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笋芽儿扭动着身子，一个劲儿地向上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067280" y="15778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"/>
              </a:rPr>
              <a:t>扭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3080" y="244332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"/>
              </a:rPr>
              <a:t>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990720" y="1600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19280" y="40766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1557360"/>
            <a:ext cx="81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楷体"/>
              </a:rPr>
              <a:t>妈妈见了，忙给笋芽儿穿上一件又一件衣服，还不停地唠叨：</a:t>
            </a:r>
            <a:r>
              <a:rPr b="0" lang="zh-CN" sz="4800" spc="-1" strike="noStrike">
                <a:solidFill>
                  <a:srgbClr val="000066"/>
                </a:solidFill>
                <a:latin typeface="楷体"/>
                <a:ea typeface="楷体"/>
              </a:rPr>
              <a:t>“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楷体"/>
              </a:rPr>
              <a:t>千万别着凉！</a:t>
            </a:r>
            <a:r>
              <a:rPr b="0" lang="zh-CN" sz="4800" spc="-1" strike="noStrike">
                <a:solidFill>
                  <a:srgbClr val="000066"/>
                </a:solidFill>
                <a:latin typeface="楷体"/>
                <a:ea typeface="楷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Object 8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981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笋芽儿终于钻出了地面。她睁开眼睛一看，啊，多么明亮、多么美丽的世界呀！桃花笑红了脸，柳树摇着绿色的长辫子，小燕子叽叽喳喳地叫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笋芽儿看看这儿，看看那儿，怎么也看不够。她高兴地说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多美好的春光啊！我要快快长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492360" y="98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73272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476360" y="1557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284720" y="3147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979640" y="314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852720" y="3724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2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200"/>
          <p:cNvSpPr/>
          <p:nvPr/>
        </p:nvSpPr>
        <p:spPr>
          <a:xfrm>
            <a:off x="1116000" y="494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9:12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02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