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BEA5-749D-4BED-A5D7-24D9BE27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6223-67DB-4954-A746-FC53698C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CDF8-560A-4856-A123-86E00016D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5E5B-D383-4721-BBF2-B0AC7B72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8847-58A3-42CB-85FB-7F363AB6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A9DE-32BD-4F40-BBE8-57A1574D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D81F-F9F4-4B36-BD31-2EA9EC64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7A00-CC28-468C-A34E-90382791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A99D-1020-4CA4-849C-EA5BF4B3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499E-7D0F-4624-8DCB-6EACF252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79AB-81DD-4D67-9B2C-3A31B833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DE9A-30A2-44B1-8B63-E5F1AEB4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BB41-27FA-47DE-A0CF-3AF4F7B7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95AD-7ACA-469E-820D-CDA191D6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036E-5BB4-45A9-9B1C-A8C4E5F0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35A6-C1AB-4576-8F34-278BFA87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03A8-65E8-4736-A647-787C06D2D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EDE0-0FCB-46A8-82F8-013EAA58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F48D-A528-4114-BA45-984DA0E8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60A6-2191-40C1-81D7-4EC21F40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E42B-81F8-449B-8D2E-2DE47334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68DE-3578-4EE0-9F87-5B4F02F2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666F-6C30-46AC-A254-97AF1BEB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6200-200B-4DA9-B408-9CD730DD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9CBE-47E3-49D5-A07F-273D860B9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CAB6-86BE-404A-896D-8CD1AF09BBB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CD73-1ACA-402A-8335-14B613C1BE3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TW_072"/>
          <p:cNvPicPr/>
          <p:nvPr/>
        </p:nvPicPr>
        <p:blipFill>
          <a:blip r:embed="rId1"/>
          <a:stretch/>
        </p:blipFill>
        <p:spPr>
          <a:xfrm>
            <a:off x="2057400" y="-247680"/>
            <a:ext cx="7086600" cy="71056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33520" y="1143000"/>
            <a:ext cx="766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狮子和鹿语文课件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PT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PTW_082"/>
          <p:cNvPicPr/>
          <p:nvPr/>
        </p:nvPicPr>
        <p:blipFill>
          <a:blip r:embed="rId2"/>
          <a:stretch/>
        </p:blipFill>
        <p:spPr>
          <a:xfrm>
            <a:off x="-181080" y="3213000"/>
            <a:ext cx="6458040" cy="402588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611280" y="0"/>
            <a:ext cx="7273800" cy="3213000"/>
          </a:xfrm>
          <a:prstGeom prst="wedgeEllipseCallout">
            <a:avLst>
              <a:gd name="adj1" fmla="val -6611"/>
              <a:gd name="adj2" fmla="val 6660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2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179280" y="404640"/>
            <a:ext cx="8964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啊！我的身段多么匀称，我的角多么精美别致，好像两束美丽的珊瑚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611280" y="0"/>
            <a:ext cx="7273800" cy="3213000"/>
          </a:xfrm>
          <a:prstGeom prst="wedgeEllipseCallout">
            <a:avLst>
              <a:gd name="adj1" fmla="val -6611"/>
              <a:gd name="adj2" fmla="val 6660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2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179280" y="404640"/>
            <a:ext cx="8964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啊！我的身段多么匀称，我的角多么精美别致，好像两束美丽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珊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9144000" cy="5977080"/>
            <a:chOff x="0" y="0"/>
            <a:chExt cx="9144000" cy="5977080"/>
          </a:xfrm>
        </p:grpSpPr>
        <p:pic>
          <p:nvPicPr>
            <p:cNvPr id="141" name="Picture 3" descr="36a605a3067f2993cbefd0b8"/>
            <p:cNvPicPr/>
            <p:nvPr/>
          </p:nvPicPr>
          <p:blipFill>
            <a:blip r:embed="rId1"/>
            <a:stretch/>
          </p:blipFill>
          <p:spPr>
            <a:xfrm>
              <a:off x="4284720" y="0"/>
              <a:ext cx="4859280" cy="5977080"/>
            </a:xfrm>
            <a:prstGeom prst="rect">
              <a:avLst/>
            </a:prstGeom>
            <a:ln w="19080">
              <a:solidFill>
                <a:srgbClr val="ff0000"/>
              </a:solidFill>
              <a:miter/>
            </a:ln>
          </p:spPr>
        </p:pic>
        <p:pic>
          <p:nvPicPr>
            <p:cNvPr id="142" name="Picture 4" descr="2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4427640" cy="5950080"/>
            </a:xfrm>
            <a:prstGeom prst="rect">
              <a:avLst/>
            </a:prstGeom>
            <a:ln w="22320">
              <a:solidFill>
                <a:srgbClr val="ff0000"/>
              </a:solidFill>
              <a:miter/>
            </a:ln>
          </p:spPr>
        </p:pic>
      </p:grpSp>
      <p:sp>
        <p:nvSpPr>
          <p:cNvPr id="143" name="Text Box 5"/>
          <p:cNvSpPr/>
          <p:nvPr/>
        </p:nvSpPr>
        <p:spPr>
          <a:xfrm>
            <a:off x="755640" y="608472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鹿角                    珊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/>
          <p:cNvSpPr/>
          <p:nvPr/>
        </p:nvSpPr>
        <p:spPr>
          <a:xfrm>
            <a:off x="611280" y="0"/>
            <a:ext cx="7273800" cy="3213000"/>
          </a:xfrm>
          <a:prstGeom prst="wedgeEllipseCallout">
            <a:avLst>
              <a:gd name="adj1" fmla="val -6611"/>
              <a:gd name="adj2" fmla="val 6660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2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179280" y="404640"/>
            <a:ext cx="8964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啊！我的身段多么匀称，我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么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精美别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好像两束美丽的珊瑚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3"/>
          <p:cNvPicPr/>
          <p:nvPr/>
        </p:nvPicPr>
        <p:blipFill>
          <a:blip r:embed="rId1"/>
          <a:stretch/>
        </p:blipFill>
        <p:spPr>
          <a:xfrm>
            <a:off x="0" y="2637000"/>
            <a:ext cx="9144000" cy="451008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sp>
        <p:nvSpPr>
          <p:cNvPr id="148" name="AutoShape 3"/>
          <p:cNvSpPr/>
          <p:nvPr/>
        </p:nvSpPr>
        <p:spPr>
          <a:xfrm>
            <a:off x="468360" y="404640"/>
            <a:ext cx="2087640" cy="7192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1547640" y="3573360"/>
            <a:ext cx="2376720" cy="18003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971640" y="4581360"/>
            <a:ext cx="1584360" cy="10083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52280" y="1143000"/>
            <a:ext cx="914400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唉，这四条腿太细了，怎么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è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得上这两只美丽的角呢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3"/>
          <p:cNvPicPr/>
          <p:nvPr/>
        </p:nvPicPr>
        <p:blipFill>
          <a:blip r:embed="rId1"/>
          <a:stretch/>
        </p:blipFill>
        <p:spPr>
          <a:xfrm>
            <a:off x="0" y="2637000"/>
            <a:ext cx="9144000" cy="451008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sp>
        <p:nvSpPr>
          <p:cNvPr id="153" name="AutoShape 3"/>
          <p:cNvSpPr/>
          <p:nvPr/>
        </p:nvSpPr>
        <p:spPr>
          <a:xfrm>
            <a:off x="468360" y="404640"/>
            <a:ext cx="2087640" cy="7192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1547640" y="3573360"/>
            <a:ext cx="2376720" cy="18003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971640" y="4581360"/>
            <a:ext cx="1584360" cy="10083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52280" y="1143000"/>
            <a:ext cx="914400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唉，这四条腿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太细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怎么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è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得上这两只美丽的角呢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3"/>
          <p:cNvPicPr/>
          <p:nvPr/>
        </p:nvPicPr>
        <p:blipFill>
          <a:blip r:embed="rId1"/>
          <a:stretch/>
        </p:blipFill>
        <p:spPr>
          <a:xfrm>
            <a:off x="0" y="2637000"/>
            <a:ext cx="9144000" cy="451008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sp>
        <p:nvSpPr>
          <p:cNvPr id="158" name="AutoShape 3"/>
          <p:cNvSpPr/>
          <p:nvPr/>
        </p:nvSpPr>
        <p:spPr>
          <a:xfrm>
            <a:off x="468360" y="404640"/>
            <a:ext cx="2087640" cy="7192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1547640" y="3573360"/>
            <a:ext cx="2376720" cy="18003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971640" y="4581360"/>
            <a:ext cx="1584360" cy="10083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52280" y="1143000"/>
            <a:ext cx="914400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唉，这四条腿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太细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怎么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è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得上这两只美丽的角呢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0" y="152280"/>
            <a:ext cx="95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鹿忽然看到了自己的腿，不禁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u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了嘴，皱起了眉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3"/>
          <p:cNvPicPr/>
          <p:nvPr/>
        </p:nvPicPr>
        <p:blipFill>
          <a:blip r:embed="rId1"/>
          <a:stretch/>
        </p:blipFill>
        <p:spPr>
          <a:xfrm>
            <a:off x="0" y="2637000"/>
            <a:ext cx="9144000" cy="451008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sp>
        <p:nvSpPr>
          <p:cNvPr id="164" name="AutoShape 3"/>
          <p:cNvSpPr/>
          <p:nvPr/>
        </p:nvSpPr>
        <p:spPr>
          <a:xfrm>
            <a:off x="468360" y="404640"/>
            <a:ext cx="2087640" cy="7192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1547640" y="3573360"/>
            <a:ext cx="2376720" cy="18003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971640" y="4581360"/>
            <a:ext cx="1584360" cy="10083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52280" y="1143000"/>
            <a:ext cx="914400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唉，这四条腿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太细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怎么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è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得上这两只美丽的角呢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0" y="152280"/>
            <a:ext cx="95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鹿忽然看到了自己的腿，不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撅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juē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起了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皱起了眉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WordArt 8"/>
          <p:cNvSpPr txBox="1"/>
          <p:nvPr/>
        </p:nvSpPr>
        <p:spPr>
          <a:xfrm>
            <a:off x="4343400" y="1828800"/>
            <a:ext cx="1828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抱怨</a:t>
            </a:r>
            <a:endParaRPr b="1" lang="en-US" sz="2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0" name="文本框 8200"/>
          <p:cNvSpPr/>
          <p:nvPr/>
        </p:nvSpPr>
        <p:spPr>
          <a:xfrm>
            <a:off x="2438280" y="838080"/>
            <a:ext cx="4454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FR2070"/>
          <p:cNvPicPr/>
          <p:nvPr/>
        </p:nvPicPr>
        <p:blipFill>
          <a:blip r:embed="rId1"/>
          <a:stretch/>
        </p:blipFill>
        <p:spPr>
          <a:xfrm>
            <a:off x="6858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228600" y="76212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啊！我的身段是多么匀称，我的角多么精美别致，好像两束美丽的珊瑚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357200" y="3505320"/>
            <a:ext cx="53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唉，这四条腿太细了，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么配得上这两只美丽的角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FR2070"/>
          <p:cNvPicPr/>
          <p:nvPr/>
        </p:nvPicPr>
        <p:blipFill>
          <a:blip r:embed="rId1"/>
          <a:stretch/>
        </p:blipFill>
        <p:spPr>
          <a:xfrm>
            <a:off x="6858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228600" y="76212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啊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我的身段是多么匀称，我的角多么精美别致，好像两束美丽的珊瑚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357200" y="3505320"/>
            <a:ext cx="5343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唉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四条腿太细了，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么配得上这两只美丽的角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8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395280" y="2421000"/>
            <a:ext cx="914400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2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2900" spc="-1" strike="noStrike">
                <a:solidFill>
                  <a:srgbClr val="009999"/>
                </a:solidFill>
                <a:latin typeface="Arial"/>
                <a:ea typeface="楷体_GB2312"/>
              </a:rPr>
              <a:t>同学们好！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0" name="Group 4"/>
          <p:cNvGrpSpPr/>
          <p:nvPr/>
        </p:nvGrpSpPr>
        <p:grpSpPr>
          <a:xfrm>
            <a:off x="3809880" y="2060640"/>
            <a:ext cx="5549760" cy="1292040"/>
            <a:chOff x="3809880" y="2060640"/>
            <a:chExt cx="5549760" cy="1292040"/>
          </a:xfrm>
        </p:grpSpPr>
        <p:sp>
          <p:nvSpPr>
            <p:cNvPr id="181" name="AutoShape 5"/>
            <p:cNvSpPr/>
            <p:nvPr/>
          </p:nvSpPr>
          <p:spPr>
            <a:xfrm>
              <a:off x="3809880" y="2060640"/>
              <a:ext cx="5549760" cy="1292040"/>
            </a:xfrm>
            <a:prstGeom prst="cloudCallout">
              <a:avLst>
                <a:gd name="adj1" fmla="val -71837"/>
                <a:gd name="adj2" fmla="val -136490"/>
              </a:avLst>
            </a:prstGeom>
            <a:solidFill>
              <a:srgbClr val="858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咦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这是我吗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6"/>
            <p:cNvSpPr/>
            <p:nvPr/>
          </p:nvSpPr>
          <p:spPr>
            <a:xfrm>
              <a:off x="4225680" y="2104920"/>
              <a:ext cx="138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y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FR2070"/>
          <p:cNvPicPr/>
          <p:nvPr/>
        </p:nvPicPr>
        <p:blipFill>
          <a:blip r:embed="rId1"/>
          <a:stretch/>
        </p:blipFill>
        <p:spPr>
          <a:xfrm>
            <a:off x="6858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228600" y="53352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啊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我的身段是多么匀称，我的角多么精美别致，好像两束美丽的珊瑚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337400" y="2743200"/>
            <a:ext cx="487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唉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四条腿太细了，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么配得上这两只美丽的角呢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1007640" y="4495680"/>
            <a:ext cx="365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咦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是我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539640" y="620640"/>
            <a:ext cx="820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1332000" y="981000"/>
            <a:ext cx="1295280" cy="1440000"/>
          </a:xfrm>
          <a:custGeom>
            <a:avLst/>
            <a:gdLst>
              <a:gd name="textAreaLeft" fmla="*/ 297360 w 1295280"/>
              <a:gd name="textAreaRight" fmla="*/ 997920 w 1295280"/>
              <a:gd name="textAreaTop" fmla="*/ 330480 h 1440000"/>
              <a:gd name="textAreaBottom" fmla="*/ 11095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4920" y="360360"/>
            <a:ext cx="92170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只美丽的角差点儿送了我的命，可四条难看的腿却让我狮口逃生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2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228600" y="-152280"/>
            <a:ext cx="864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鹿开始抱怨起自己的腿来。就在他没精打采地准备离开的时候，忽然听到远处传来一阵脚步声。他机灵地支起耳朵，不错，正是脚步声！鹿猛一回头，哎呀，一头狮子正悄悄地向自己逼近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380880" y="2549520"/>
            <a:ext cx="8498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鹿不敢犹豫，撒开长腿就跑。有力的长腿在灌木从中蹦来跳去，不一会儿，就把凶猛的狮子远远地甩在了后面。就在狮子灰心丧气不想再追的时候，鹿的角却被树枝挂住了。狮子赶紧抓住这个机会，猛扑过来。眼看就要追上了，鹿用尽全身力气，使劲一扯，才把两只角从树枝中挣脱出来，然后又拼命向前奔去。这次，狮子再也没有追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狮子2"/>
          <p:cNvPicPr/>
          <p:nvPr/>
        </p:nvPicPr>
        <p:blipFill>
          <a:blip r:embed="rId1"/>
          <a:stretch/>
        </p:blipFill>
        <p:spPr>
          <a:xfrm>
            <a:off x="7696080" y="5943600"/>
            <a:ext cx="14479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28600" y="-152280"/>
            <a:ext cx="864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鹿开始抱怨起自己的腿来。就在他没精打采地准备离开的时候，忽然听到远处传来一阵脚步声。他机灵地支起耳朵，不错，正是脚步声！鹿猛一回头，哎呀，一头狮子正悄悄地向自己逼近。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好险啊！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380880" y="2549520"/>
            <a:ext cx="8498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鹿不敢犹豫，撒开长腿就跑。有力的长腿在灌木从中蹦来跳去，不一会儿，就把凶猛的狮子远远地甩在了后面。就在狮子灰心丧气不想再追的时候，鹿的角却被树枝挂住了。狮子赶紧抓住这个机会，猛扑过来。眼看就要追上了，鹿用尽全身力气，使劲一扯，才把两只角从树枝中挣脱出来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好险啊！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后又拼命向前奔去。这次，狮子再也没有追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狮子2"/>
          <p:cNvPicPr/>
          <p:nvPr/>
        </p:nvPicPr>
        <p:blipFill>
          <a:blip r:embed="rId1"/>
          <a:stretch/>
        </p:blipFill>
        <p:spPr>
          <a:xfrm>
            <a:off x="7696080" y="5943600"/>
            <a:ext cx="14479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539640" y="620640"/>
            <a:ext cx="820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1332000" y="981000"/>
            <a:ext cx="1295280" cy="1440000"/>
          </a:xfrm>
          <a:custGeom>
            <a:avLst/>
            <a:gdLst>
              <a:gd name="textAreaLeft" fmla="*/ 297360 w 1295280"/>
              <a:gd name="textAreaRight" fmla="*/ 997920 w 1295280"/>
              <a:gd name="textAreaTop" fmla="*/ 330480 h 1440000"/>
              <a:gd name="textAreaBottom" fmla="*/ 11095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39840" y="152280"/>
            <a:ext cx="88041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叹了口气，说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只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美丽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角差点儿</a:t>
            </a:r>
            <a:r>
              <a:rPr b="1" lang="zh-CN" sz="4000" spc="-1" strike="noStrike">
                <a:solidFill>
                  <a:srgbClr val="0066ff"/>
                </a:solidFill>
                <a:latin typeface="黑体"/>
                <a:ea typeface="黑体"/>
              </a:rPr>
              <a:t>送了我的命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可四条</a:t>
            </a:r>
            <a:r>
              <a:rPr b="1" lang="zh-CN" sz="4000" spc="-1" strike="noStrike">
                <a:solidFill>
                  <a:srgbClr val="0066ff"/>
                </a:solidFill>
                <a:latin typeface="黑体"/>
                <a:ea typeface="黑体"/>
              </a:rPr>
              <a:t>难看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腿却让我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狮口逃生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2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539640" y="620640"/>
            <a:ext cx="820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395280" y="981000"/>
            <a:ext cx="2016000" cy="1295640"/>
          </a:xfrm>
          <a:custGeom>
            <a:avLst/>
            <a:gdLst>
              <a:gd name="textAreaLeft" fmla="*/ 295200 w 2016000"/>
              <a:gd name="textAreaRight" fmla="*/ 1720800 w 2016000"/>
              <a:gd name="textAreaTop" fmla="*/ 189720 h 1295640"/>
              <a:gd name="textAreaBottom" fmla="*/ 11059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86" y="14846"/>
                </a:lnTo>
                <a:lnTo>
                  <a:pt x="3163" y="18437"/>
                </a:lnTo>
                <a:lnTo>
                  <a:pt x="6580" y="20741"/>
                </a:lnTo>
                <a:lnTo>
                  <a:pt x="10800" y="21600"/>
                </a:lnTo>
                <a:lnTo>
                  <a:pt x="14846" y="20814"/>
                </a:lnTo>
                <a:lnTo>
                  <a:pt x="18437" y="18437"/>
                </a:lnTo>
                <a:lnTo>
                  <a:pt x="20741" y="15020"/>
                </a:lnTo>
                <a:lnTo>
                  <a:pt x="21600" y="10800"/>
                </a:lnTo>
                <a:lnTo>
                  <a:pt x="20814" y="6754"/>
                </a:lnTo>
                <a:lnTo>
                  <a:pt x="18437" y="3163"/>
                </a:lnTo>
                <a:lnTo>
                  <a:pt x="15020" y="859"/>
                </a:lnTo>
                <a:lnTo>
                  <a:pt x="10800" y="0"/>
                </a:lnTo>
                <a:lnTo>
                  <a:pt x="6754" y="786"/>
                </a:lnTo>
                <a:lnTo>
                  <a:pt x="3163" y="3163"/>
                </a:lnTo>
                <a:lnTo>
                  <a:pt x="859" y="658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续写句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79280" y="1773360"/>
            <a:ext cx="8659800" cy="43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小鹿叹了口气，说：“两只美丽的角差点儿送了我的命，可四条难看的腿却让我狮口逃生！原来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——————————————————————————————————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———————————————————————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———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5"/>
          <p:cNvSpPr/>
          <p:nvPr/>
        </p:nvSpPr>
        <p:spPr>
          <a:xfrm>
            <a:off x="4067280" y="692280"/>
            <a:ext cx="3097080" cy="1296720"/>
          </a:xfrm>
          <a:prstGeom prst="cloudCallout">
            <a:avLst>
              <a:gd name="adj1" fmla="val -43078"/>
              <a:gd name="adj2" fmla="val 70564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3924360" y="98100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会拿起笔写一写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5405_1251738685n2pn"/>
          <p:cNvPicPr/>
          <p:nvPr/>
        </p:nvPicPr>
        <p:blipFill>
          <a:blip r:embed="rId1"/>
          <a:stretch/>
        </p:blipFill>
        <p:spPr>
          <a:xfrm>
            <a:off x="4495680" y="609480"/>
            <a:ext cx="4384800" cy="53197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0" y="685800"/>
            <a:ext cx="42670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龟兔赛跑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乌鸦喝水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狼来了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农夫和蛇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酸的和甜的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E5D6-430E-4824-B3F7-BBAF7B3603E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2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3"/>
          <p:cNvSpPr/>
          <p:nvPr/>
        </p:nvSpPr>
        <p:spPr>
          <a:xfrm>
            <a:off x="1332000" y="549360"/>
            <a:ext cx="1295280" cy="1439640"/>
          </a:xfrm>
          <a:custGeom>
            <a:avLst/>
            <a:gdLst>
              <a:gd name="textAreaLeft" fmla="*/ 297360 w 1295280"/>
              <a:gd name="textAreaRight" fmla="*/ 997920 w 1295280"/>
              <a:gd name="textAreaTop" fmla="*/ 330480 h 1439640"/>
              <a:gd name="textAreaBottom" fmla="*/ 11091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042920" y="620640"/>
            <a:ext cx="70930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再见，小朋友们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寓言两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228600" y="5562720"/>
            <a:ext cx="3962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揠苗助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20100901-a4068e60"/>
          <p:cNvPicPr/>
          <p:nvPr/>
        </p:nvPicPr>
        <p:blipFill>
          <a:blip r:embed="rId1"/>
          <a:stretch/>
        </p:blipFill>
        <p:spPr>
          <a:xfrm>
            <a:off x="228600" y="1143000"/>
            <a:ext cx="3886200" cy="4495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2008081522310432"/>
          <p:cNvPicPr/>
          <p:nvPr/>
        </p:nvPicPr>
        <p:blipFill>
          <a:blip r:embed="rId2"/>
          <a:stretch/>
        </p:blipFill>
        <p:spPr>
          <a:xfrm>
            <a:off x="4419720" y="762120"/>
            <a:ext cx="4419360" cy="48765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4495680" y="5562720"/>
            <a:ext cx="3962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守株待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5405_1251738685n2pn"/>
          <p:cNvPicPr/>
          <p:nvPr/>
        </p:nvPicPr>
        <p:blipFill>
          <a:blip r:embed="rId1"/>
          <a:stretch/>
        </p:blipFill>
        <p:spPr>
          <a:xfrm>
            <a:off x="4495680" y="609480"/>
            <a:ext cx="4384800" cy="5319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457200" y="990720"/>
            <a:ext cx="396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伊索寓言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是一部世界上最早的寓言故事集。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362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520" y="1218960"/>
            <a:ext cx="708660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阅读提示：</a:t>
            </a:r>
            <a:br>
              <a:rPr sz="4000"/>
            </a:b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、努力把课文读通、读顺，注意要把   </a:t>
            </a:r>
            <a:br>
              <a:rPr sz="3200"/>
            </a:b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带有拼音的词语读准确。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、读完后想想课文讲了一件什么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读一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198108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 algn="ctr">
              <a:lnSpc>
                <a:spcPct val="9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咦  珊瑚  抱怨  配得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lnSpc>
                <a:spcPct val="9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逼近  犹豫  撅起嘴  凶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lnSpc>
                <a:spcPct val="9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泛起波纹  挣脱  甩掉  使劲一扯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lnSpc>
                <a:spcPct val="9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lnSpc>
                <a:spcPct val="9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676520" y="1371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y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219320" y="1066680"/>
            <a:ext cx="6781680" cy="74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590920" y="13716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shān h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4876920" y="13716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yu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1219320" y="26668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b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3352680" y="26668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y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6095880" y="13716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pè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6553080" y="2666880"/>
            <a:ext cx="114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xiō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76320" y="4038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f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2743200" y="4038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zhè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4495680" y="4038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shuǎ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6" descr="anniu"/>
          <p:cNvPicPr/>
          <p:nvPr/>
        </p:nvPicPr>
        <p:blipFill>
          <a:blip r:embed="rId1"/>
          <a:stretch/>
        </p:blipFill>
        <p:spPr>
          <a:xfrm>
            <a:off x="8458200" y="61722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8"/>
          <p:cNvSpPr/>
          <p:nvPr/>
        </p:nvSpPr>
        <p:spPr>
          <a:xfrm>
            <a:off x="7924680" y="40384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ch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9"/>
          <p:cNvSpPr/>
          <p:nvPr/>
        </p:nvSpPr>
        <p:spPr>
          <a:xfrm>
            <a:off x="4419720" y="26668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ju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FR20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304920" y="22860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音字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066680" y="990720"/>
            <a:ext cx="2133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h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è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h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ē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1752480" y="12952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352680" y="9907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匀称    称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3352680" y="18288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称    称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887040" y="13176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304920" y="3048120"/>
            <a:ext cx="7162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963360" y="3375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1752480" y="327672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819520" y="30481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撒开长腿  撒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819520" y="37576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撒种  播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8200"/>
          <p:cNvSpPr/>
          <p:nvPr/>
        </p:nvSpPr>
        <p:spPr>
          <a:xfrm>
            <a:off x="1828800" y="2590920"/>
            <a:ext cx="4454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4681440" cy="608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只鹿口渴了，来到池塘边喝水。它非常（    ）自己那对美丽的角，却十分（     ）四条长得难看的腿。可就是那四条难看的长腿帮她（       ），而两只美丽的角差点儿让他（       ）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抱怨  欣赏 </a:t>
            </a:r>
            <a:br>
              <a:rPr sz="3600"/>
            </a:b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送命  狮口逃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2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4681800" cy="608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只鹿口渴了，来到池塘边喝水。它非常（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欣赏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自己那对美丽的角，却十分（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抱怨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四条长得难看的腿。可就是那四条难看的长腿帮她（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狮口逃生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而两只美丽的角差点儿让他（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送命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抱怨  欣赏 </a:t>
            </a:r>
            <a:br>
              <a:rPr sz="3600"/>
            </a:b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送命  狮口逃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2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7T09:37:0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37Z</dcterms:modified>
  <cp:revision>15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  <property fmtid="{D5CDD505-2E9C-101B-9397-08002B2CF9AE}" pid="3" name="Version">
    <vt:r8>1</vt:r8>
  </property>
</Properties>
</file>