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935-7DDC-48CA-8315-18ABEA16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526-636E-4AF3-90BA-2EE4C607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494-0BEA-40D7-AB9A-FDE40971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C32-D80C-4866-B5D9-EE4D1DAD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8936-3AFF-4C78-AC5B-9E12AFA0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0F0E-AFA5-4B5B-A315-A53C6EE6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1F5D-BF3E-4824-8EE9-0A775942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0912-47E4-441D-8593-3B73CD54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50BF-7DD7-4B35-B352-F7652F58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D34B-9CEB-4DE6-8FE0-D93F42DF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4332-DD9B-4E47-8B2B-B7603BD8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F08-5171-43E4-9E7E-8073D186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B023-6D1F-4843-B204-2522F21B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2CA0-9BFB-42B2-8B86-83647D67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BB3D-F594-4D7A-99A5-8FEE7288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4E88-DD6F-40E6-AFD6-11C8E260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7C96-6B3D-4D4B-8803-7008581B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06C7-BE7A-4AE7-9CAD-73F2E3D5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55FA-0556-4512-98DD-41B66881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3C00-C22A-49BC-B4F6-E9ADE744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8B58-75D2-4FE5-95CD-7E13BD1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1519-957A-4F35-BF06-F1CC4CBC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1D4-FAA1-4C8A-8B4A-54024538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68AB-E63E-46AA-9D83-9FA58702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CE79-2552-42C7-AF15-663451A8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4D5D-9D1E-4B43-A0E9-3DB93E75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AE09-7A4B-4307-A5DF-930966CD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F8DC-F035-4BBA-809E-F2532416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6A8F-CFE4-4560-80E7-0D74E035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0354-666A-4943-B8C6-496EFC88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5C190-5804-46A7-8AE0-B7A81C59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14A4-96D8-47C4-BDE3-B11DDC77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E13B-6033-458B-995D-2EF79CFC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442-D512-4C95-A664-09C26A1E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64A7-F3B4-4C91-A111-BA408C4A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3B662-6CF1-4D6B-B09B-41FB65A4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9F3A-A51A-46B7-B696-F2B3D0E3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9E3E-B4A3-42B3-801E-FDD3E6E1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170B9-17C1-4094-9647-C4E358F0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73FF-5121-44B0-8420-C756634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0FB7A-8948-45E3-A637-00963D0D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53E9-45A4-43B2-9657-163D060B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2CC62-34FE-4EE8-8142-2C847D25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A0B91-486A-452C-ADF4-A0AD061A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A7E-BD4A-47D5-9913-1067E7F2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D6620-42C6-48A1-A35B-76FCEC67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E2A07-1A71-41C8-B356-D2AA9989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842DC-DFDF-473E-9307-CAFD6C9F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D4033-CDD2-4717-BE1F-551CDFDF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249C9-4FF3-41AB-9FD7-D7B23CC0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C4095-A665-49A3-89AE-6603262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767CF-F537-4AED-A84C-DC797E6E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E1EAD-B7B4-462E-ABE1-BE78727A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203F7-7CAD-4AA7-A14C-5B077C78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6F191-72B8-4F72-B68A-B049C308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873-D922-471B-A748-C98A7FF2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BAA2E-35DE-4801-9070-16FD7B1B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C0972-030E-48AC-899D-EB466393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BA20-58DE-4C83-A8BE-8812A82B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54600-1AD5-4964-92E4-4A05ED35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7934-9F46-498E-9A96-11205E71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DA28B-2637-4A53-94CD-EA4979B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72E29-B9F1-43BB-BE8D-725F8E25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38500-70F6-49D9-9A71-D456A2D6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29594-2653-46A3-8204-F9C159CB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C6AA9-D985-421F-9162-CDB9C24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881-FA59-4ED4-B915-937E6D85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0D8E1-CA57-46A5-91EA-826F4795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78A75-69F8-4A14-8BB8-92A79B25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FD074-155D-4250-96E7-DD6F31E6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F0F1B-F707-415E-8CB2-35A4B3C2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AC5B-AC6E-4BCE-9B2A-BDEA0FB6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25281-20CD-4909-94C0-7EEFFC9F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78901-9E39-410E-874A-303F5AFC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60CCD-A403-42F1-9AB8-DFA404BA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810B-EBF9-4550-B013-6B1BAA34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3A001-E478-4C51-85B7-A6208958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F37-067B-48C3-9985-DCE2321B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4E213-4A86-4747-A80C-67452D2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9EC2D-3471-4331-8B51-80F994B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455F-9545-43D2-B8EC-41628902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E7DA-6E23-4E18-8DC2-EA3C4EC3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7F94-3A77-43B7-B1BF-21A84CCA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86E-7DC2-4FCA-8874-E0DF135B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A23F-B136-4E73-90CE-9F92F7571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BF08-25FB-47B3-A2DE-3C14FA0D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062C-95CD-42FE-B679-FDED39A60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74A0-9E99-4B79-8280-84894B81570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AEB-B8C3-4CBE-9875-DFFBE4CA37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2F3B-B4A4-4736-8C4B-E4BC87883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BF01-C433-4B2E-821A-9EB6DF299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C83-040F-4C9A-AD4B-D53B8057A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8"/>
          <p:cNvSpPr/>
          <p:nvPr/>
        </p:nvSpPr>
        <p:spPr>
          <a:xfrm>
            <a:off x="468360" y="285264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图片 1" descr=""/>
          <p:cNvPicPr/>
          <p:nvPr/>
        </p:nvPicPr>
        <p:blipFill>
          <a:blip r:embed="rId16"/>
          <a:srcRect l="0" t="0" r="0" b="4179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0" y="620640"/>
            <a:ext cx="91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稚艺简体"/>
                <a:ea typeface="方正稚艺简体"/>
              </a:rPr>
              <a:t>通往广场的路不止一条语文课件</a:t>
            </a:r>
            <a:r>
              <a:rPr b="1" lang="en-US" sz="4000" spc="-1" strike="noStrike">
                <a:solidFill>
                  <a:srgbClr val="ff0000"/>
                </a:solidFill>
                <a:latin typeface="方正稚艺简体"/>
                <a:ea typeface="方正稚艺简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方正稚艺简体"/>
                <a:ea typeface="方正稚艺简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思考：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　　课文讲了哪几件事？是哪几个自然段？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一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1-3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登塔顶，受教诲</a:t>
            </a: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二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4-11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另辟鼷径，走出新路</a:t>
            </a: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三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12-13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面对困难，再找出  路</a:t>
            </a: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四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14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感谢父亲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一生受用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文本框 8194"/>
          <p:cNvSpPr/>
          <p:nvPr/>
        </p:nvSpPr>
        <p:spPr>
          <a:xfrm>
            <a:off x="971640" y="3860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410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脚底下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星罗棋布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的村庄</a:t>
            </a:r>
            <a:r>
              <a:rPr b="0" lang="zh-CN" sz="6000" spc="-1" strike="noStrike">
                <a:solidFill>
                  <a:srgbClr val="ff00ff"/>
                </a:solidFill>
                <a:latin typeface="Arial"/>
              </a:rPr>
              <a:t>环抱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着罗马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如蛛网般交叉的街道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一条条通往城市广场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B979-D97D-458C-91F5-0FC1C2812851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1332000" y="549360"/>
            <a:ext cx="66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通往广场的路不止一条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生活也是这样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假如你发现走这条路不能到达目的地的话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就可以走另一条路试试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1:3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7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