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D16B-2784-4B1A-BC7C-98CED93E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0F09-7998-4A17-9DBF-7A3D3805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A30C-119B-43BF-9369-910CB4C87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8B15-3CDA-4C97-8B61-5EFAF09CB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153A-CC47-4710-B28A-1A33734E6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0C7A-C73E-4286-8F0C-8EED683E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2FFC-4571-4744-B483-8F12891F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EE2F-2580-4A86-808B-488B6267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5A85-2269-4557-A9BC-2FB9FD3E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87EB-9A3B-4CD0-B7B4-AA96D919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99B2-8192-4F04-B162-B1B79997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C9DE-5307-4913-8433-161B31F6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5E3B-7A6E-4488-AA56-54856E9A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DAA3-8A08-4B86-9276-C237D310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ACD1-E5E6-4F17-8418-461C93D6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7E37-78F7-48C8-A6F4-3BD04B18F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A2A7-0E7F-4E92-A9F4-A908680E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D1EA-54A0-42BC-A4F9-36D1DC7F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A874-5690-49A0-9CEB-4ABF97F3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2EAF-8B48-4CD4-954C-E982E660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FA59-985B-4FAF-9314-FB579428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0869-858D-44EE-B043-53837360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B236-07CD-4BE1-9E96-4D527429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790C-B36E-4BA1-BFD1-658586E3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A8C7-15AD-4B3E-B087-4F5C6D98F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A89C-B8C0-466B-A825-C226C8E0424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71C7-90DC-4AB9-86C5-CE7A990ECBF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stg?BookPath=+Rzpc0KHRp9PvzsRcc3Vubnlib29rc1xkYXQvQm9vazZiLmRhdA==&amp;StrmName=+t-LD5s28xqxcMDYtMjVGLmpwZw==&amp;isDemo=False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文本框 2" descr=""/>
          <p:cNvPicPr/>
          <p:nvPr/>
        </p:nvPicPr>
        <p:blipFill>
          <a:blip r:embed="rId2"/>
          <a:stretch/>
        </p:blipFill>
        <p:spPr>
          <a:xfrm>
            <a:off x="250920" y="1339920"/>
            <a:ext cx="807876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3341-16ED-400D-834F-9F151EA033B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2627280" y="1844640"/>
            <a:ext cx="6265800" cy="4032360"/>
          </a:xfrm>
          <a:prstGeom prst="cloudCallout">
            <a:avLst>
              <a:gd name="adj1" fmla="val -59273"/>
              <a:gd name="adj2" fmla="val 58425"/>
            </a:avLst>
          </a:prstGeom>
          <a:solidFill>
            <a:srgbClr val="f20c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我想对别的国家里的小朋友说几句话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005_JPG"/>
          <p:cNvPicPr/>
          <p:nvPr/>
        </p:nvPicPr>
        <p:blipFill>
          <a:blip r:embed="rId1"/>
          <a:stretch/>
        </p:blipFill>
        <p:spPr>
          <a:xfrm>
            <a:off x="0" y="0"/>
            <a:ext cx="2575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324000" y="333360"/>
            <a:ext cx="165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要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539640" y="2133720"/>
            <a:ext cx="77774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自由读课文，注意读准生字的读音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边读边想，课文主要讲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002_JPG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6"/>
          <p:cNvSpPr/>
          <p:nvPr/>
        </p:nvSpPr>
        <p:spPr>
          <a:xfrm>
            <a:off x="1325520" y="528480"/>
            <a:ext cx="660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"/>
          <p:cNvSpPr/>
          <p:nvPr/>
        </p:nvSpPr>
        <p:spPr>
          <a:xfrm>
            <a:off x="395280" y="404640"/>
            <a:ext cx="2521080" cy="1295640"/>
          </a:xfrm>
          <a:prstGeom prst="ellipse">
            <a:avLst/>
          </a:prstGeom>
          <a:solidFill>
            <a:srgbClr val="f20c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我会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84360" y="2781360"/>
            <a:ext cx="7920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彤                 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红彤彤          陪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"/>
          <p:cNvSpPr/>
          <p:nvPr/>
        </p:nvSpPr>
        <p:spPr>
          <a:xfrm>
            <a:off x="395280" y="476280"/>
            <a:ext cx="2376360" cy="1152360"/>
          </a:xfrm>
          <a:prstGeom prst="ellipse">
            <a:avLst/>
          </a:prstGeom>
          <a:solidFill>
            <a:srgbClr val="f20c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想一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468360" y="25653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每节诗分别讲了什么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stg?BookPath=+Rzpc0KHRp9PvzsRcc3Vubnlib29rc1xkYXQvQm9vazZiLmRhdA==&amp;StrmName=+zbzGrNDAyc1cMDYtMjVULTMuanBn&amp;isDemo=Fal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stg?BookPath=+Rzpc0KHRp9PvzsRcc3Vubnlib29rc1xkYXQvQm9vazZiLmRhdA==&amp;StrmName=+zbzGrNDAyc1cMDYtMjVULTQuSlBH&amp;isDemo=Fal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8200"/>
          <p:cNvSpPr/>
          <p:nvPr/>
        </p:nvSpPr>
        <p:spPr>
          <a:xfrm>
            <a:off x="611280" y="2997360"/>
            <a:ext cx="4419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stg?BookPath=+Rzpc0KHRp9PvzsRcc3Vubnlib29rc1xkYXQvQm9vazZiLmRhdA==&amp;StrmName=+zbzGrNDAyc1cMDYtMjVULTYuanBn&amp;isDemo=Fal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stg?BookPath=+Rzpc0KHRp9PvzsRcc3Vubnlib29rc1xkYXQvQm9vazZiLmRhdA==&amp;StrmName=+zbzGrNDAyc1cMDYtMjVULTIuSlBH&amp;isDemo=Fal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468360" y="333360"/>
            <a:ext cx="2519280" cy="1008000"/>
          </a:xfrm>
          <a:prstGeom prst="rect">
            <a:avLst/>
          </a:prstGeom>
          <a:solidFill>
            <a:srgbClr val="f20c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拓展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395280" y="2924280"/>
            <a:ext cx="8282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学习了这首诗后，你有什么感想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8T08:09:1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9:46Z</dcterms:modified>
  <cp:revision>1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