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1FF-1019-4BEE-96CB-261B00B8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5CE-850E-4C32-A965-A34D1FBC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F4F-C513-48F9-9151-D844FA05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891-BBCB-44AE-92C5-C8BC1B28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C8C5-05DE-4F35-92A6-302CE9A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5B5-1460-4331-9576-73DBC96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007-402F-4F6B-960D-0180C95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DFA2-D59B-40ED-89AE-9AF5F930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161-3C60-41BF-BDFB-BB46A010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4184-5E89-4A20-BA94-C12F8515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0EF3-A0A9-482C-AD45-B2101BC6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DDC-603E-4D47-97FE-B0B04C5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140F-BB7F-4EAF-94CF-16A6A10B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583E-35B9-43F9-9E53-DBDA401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CE42-8326-480D-BF5A-947A573B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D5F-3C61-4673-8E8E-02DAAF96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F092-0686-40DD-8C1E-1C442095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F7C24-0038-4DA2-B48F-FA9710B6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FAB3-2DFC-499A-AF6C-9022E287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C92C-9C51-4B57-A118-291FADC9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2B25-A251-44BC-97D2-58470AA3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3DE9-1BC4-45BC-BA80-734F5611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871-E0F0-4904-878E-63B9E3D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CFBA-FF84-4EA6-B368-D163A9C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310F-DC5A-40C0-A891-6D1D942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F5BC-7DEB-48F6-9DBB-A444B4C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C323-0A51-4D16-8D0D-BF00078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A39D-CCD4-462D-9512-1DB523F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7259-E993-48B0-AED3-72B5389D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3287-C0B0-4749-9255-E160BB80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465-1917-440B-9BA9-15857AB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2D6-3EBC-482B-B8C8-E51BEFAC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2AA-82E9-4156-A4A5-872A8C52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449-0BB3-45A1-80D5-8F35FB3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871-3B8E-446A-8023-D7BD3F9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98C-F5BC-4602-8688-EA346A56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7622-DEFD-4454-970A-7980F80B07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3B8-04DC-4BD3-A515-4DDD3CC4F4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F71-FEDD-420C-9FD1-750C5AC666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2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4935-1A1D-44C1-AC84-E466410849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ku.cc/tp/xzy/zyfg/332784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pic_14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1447920" y="1295280"/>
            <a:ext cx="6248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望洞庭语文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PPT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课件模板下载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5292720" y="3962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刘禹锡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w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979640" y="1699920"/>
            <a:ext cx="691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远远地看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青螺：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这里形容洞庭湖中的君山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768200" y="1049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遥望洞庭山水色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124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远远地看去，洞庭湖山水苍色，像银盘子里放着一只青青的田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"/>
                            </p:stCondLst>
                            <p:childTnLst>
                              <p:par>
                                <p:cTn id="12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"/>
                            </p:stCondLst>
                            <p:childTnLst>
                              <p:par>
                                <p:cTn id="12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a11e96d941cabb7032fa1c2b"/>
          <p:cNvPicPr/>
          <p:nvPr/>
        </p:nvPicPr>
        <p:blipFill>
          <a:blip r:embed="rId1"/>
          <a:stretch/>
        </p:blipFill>
        <p:spPr>
          <a:xfrm>
            <a:off x="152280" y="17524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Fei_Cui_Luo__0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W0200802165714465682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Comic Sans MS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每一首诗都藏着作者不同的情感，你能用你的朗读把这不同的情感表现出来吗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18284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诗歌表达了诗人怎样的情感？读一读，想一想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文本框 8200"/>
          <p:cNvSpPr/>
          <p:nvPr/>
        </p:nvSpPr>
        <p:spPr>
          <a:xfrm>
            <a:off x="2286000" y="4800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镜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银盘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里一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青螺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2133720" y="23623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请同学们依据下列图画描     述一下你眼中的洞庭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D7D1-D5D9-4826-BC98-39EAFCF18B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261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Comic Sans MS"/>
              </a:rPr>
              <a:t>小小赛诗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望洞庭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独坐敬亭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刘禹锡                唐　李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湖光秋月两相和，      众鸟高飞尽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潭面无风镜未磨。      孤云独去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遥望洞庭山水色，      相看两不厌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白银盘里一青螺。      只有敬亭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7"/>
          <p:cNvSpPr/>
          <p:nvPr/>
        </p:nvSpPr>
        <p:spPr>
          <a:xfrm>
            <a:off x="3733920" y="1600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hina"/>
          <p:cNvPicPr/>
          <p:nvPr/>
        </p:nvPicPr>
        <p:blipFill>
          <a:blip r:embed="rId1"/>
          <a:srcRect l="0" t="0" r="695" b="29284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200" name="Oval 3"/>
          <p:cNvSpPr/>
          <p:nvPr/>
        </p:nvSpPr>
        <p:spPr>
          <a:xfrm>
            <a:off x="5651640" y="4581360"/>
            <a:ext cx="1008000" cy="863640"/>
          </a:xfrm>
          <a:prstGeom prst="ellips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83664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找找看</a:t>
            </a:r>
            <a:endParaRPr b="0" lang="en-US" sz="1800" spc="-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unan"/>
          <p:cNvPicPr/>
          <p:nvPr/>
        </p:nvPicPr>
        <p:blipFill>
          <a:blip r:embed="rId1"/>
          <a:srcRect l="0" t="0" r="841" b="6026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Oval 3"/>
          <p:cNvSpPr/>
          <p:nvPr/>
        </p:nvSpPr>
        <p:spPr>
          <a:xfrm>
            <a:off x="5508720" y="1557360"/>
            <a:ext cx="1942920" cy="1295280"/>
          </a:xfrm>
          <a:prstGeom prst="ellips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75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828360" y="1555920"/>
            <a:ext cx="727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洞庭湖位于湖南省的北部，岳阳市附近，是我国第二大淡水湖。八百里洞庭，烟波浩淼。水天相接，朝晖夕阴，气象万千。湖中有君山，山上有诸多名胜。著名诗人范仲淹来到洞庭，留下了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先天下之忧而忧，后天下之乐而乐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经典之作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611280" y="10270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你知道吗</a:t>
            </a:r>
            <a:endParaRPr b="0" lang="en-US" sz="1800" spc="-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5" descr="20069201439125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8200"/>
          <p:cNvSpPr/>
          <p:nvPr/>
        </p:nvSpPr>
        <p:spPr>
          <a:xfrm>
            <a:off x="3581280" y="2819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510716142570496"/>
          <p:cNvPicPr/>
          <p:nvPr/>
        </p:nvPicPr>
        <p:blipFill>
          <a:blip r:embed="rId1"/>
          <a:srcRect l="0" t="0" r="39143" b="262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87280" y="1842840"/>
            <a:ext cx="8461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Comic Sans MS"/>
                <a:ea typeface="楷体_GB2312"/>
              </a:rPr>
              <a:t>波光粼粼、银光闪闪、水平如镜、水天一色、迷迷蒙蒙、朦朦胧胧、宁静和谐、月明星稀、风清月朗、风月无边、皓月当空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611280" y="1027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e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说一说、读一读</a:t>
            </a:r>
            <a:endParaRPr b="0" lang="en-US" sz="1800" spc="-1" strike="noStrike">
              <a:ln w="0">
                <a:noFill/>
              </a:ln>
              <a:solidFill>
                <a:srgbClr val="ffe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1066680" y="152280"/>
            <a:ext cx="648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240" y="190512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刘禹锡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7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4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7" descr="刘锡禹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523880" y="685800"/>
            <a:ext cx="62802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望洞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                      刘禹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潭面无风镜未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白银盘里一青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必背古诗-望洞庭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83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图片1;''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50920" y="1917360"/>
            <a:ext cx="8137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和谐，这里指水色和月色融为一体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秋月：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点明时间</a:t>
            </a:r>
            <a:r>
              <a:rPr b="1" lang="en-US" sz="3200" spc="-1" strike="noStrike">
                <a:solidFill>
                  <a:srgbClr val="703d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洞庭湖水色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秋天的月色融为一体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125600" y="1265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539640" y="884160"/>
            <a:ext cx="23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2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诗句品读</a:t>
            </a:r>
            <a:endParaRPr b="0" lang="en-US" sz="1800" spc="-1" strike="noStrike">
              <a:ln w="0">
                <a:noFill/>
              </a:ln>
              <a:solidFill>
                <a:srgbClr val="00b2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55640" y="422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洞庭湖水色和秋天的月色融为一体，湖面上没有一点风吹过，就像一面还没有磨过的镜子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"/>
                            </p:stCondLst>
                            <p:childTnLst>
                              <p:par>
                                <p:cTn id="9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"/>
                            </p:stCondLst>
                            <p:childTnLst>
                              <p:par>
                                <p:cTn id="9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48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4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