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0F0-4048-4AF1-AD43-0BE39401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0B8-1D3F-46CE-A137-CEEC37AB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B75-F303-4C39-89D4-F045C548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AF3-4DC5-495F-9D97-9FC76F4E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FD4-F554-43AD-88E6-F3478702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D292-6709-4EA8-AB47-8460436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F81-C52E-4B9B-B482-B6FDB493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C4BD-4562-4D8C-BC99-7EFB9108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5AE3-CE48-4AD6-9782-996F6567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EA08-F60D-4E22-BBCE-2F0CC459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231-1F32-4E1F-8733-9ECB304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B48-D77F-423D-9C32-29E68C8C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04E0-63C7-432D-B1B8-C20C4C23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4995-9AF1-4B47-9827-7E98D0C8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34D0-94A2-40C3-87E2-31BCB44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9D04-528B-401A-AA8F-24AE0034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0380-8752-404F-B4E6-D7C20781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365-0969-4F72-840C-A99E9D7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85B-67FD-4675-85B8-50A55310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79A-A12D-491D-B63B-A8428162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704-046B-4C98-B392-5D9B0E91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E69-7829-4E54-AFF1-FDF2426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3F0-A5E7-4C72-BE8E-130550F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934-26A5-407E-94A1-8D36D9C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3FF-C26B-4384-9468-F2725C0D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54B-C896-4625-91E9-ECAB7B2F87F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631D-4F12-4AC1-B008-97FEF6A030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xilang.cclsu.com/mass_index.asp?id=775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mofile.com/picture/R0VXJJO5GP_105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0724151832816"/>
          <p:cNvPicPr/>
          <p:nvPr/>
        </p:nvPicPr>
        <p:blipFill>
          <a:blip r:embed="rId1"/>
          <a:stretch/>
        </p:blipFill>
        <p:spPr>
          <a:xfrm>
            <a:off x="0" y="1325520"/>
            <a:ext cx="9144000" cy="5532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玩具柜台前的孩子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200782385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写给玩具柜台前的孩子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1844640"/>
            <a:ext cx="8229600" cy="45259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的目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晶莹的露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的心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芬芳的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男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让我们一起开始梦的旅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不要拒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梦中那一辆辆飞跑的汽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那是我们爱的祝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2"/>
          <p:cNvSpPr/>
          <p:nvPr/>
        </p:nvSpPr>
        <p:spPr>
          <a:xfrm>
            <a:off x="1503360" y="2521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072415183281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79280" y="1325520"/>
            <a:ext cx="8964720" cy="5532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1871640" cy="1366920"/>
          </a:xfrm>
          <a:prstGeom prst="rect">
            <a:avLst/>
          </a:prstGeom>
          <a:solidFill>
            <a:srgbClr val="ffcc99">
              <a:alpha val="6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j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玩 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42920" y="475920"/>
            <a:ext cx="143964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柜 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148360" y="620640"/>
            <a:ext cx="2879640" cy="1127160"/>
          </a:xfrm>
          <a:prstGeom prst="rect">
            <a:avLst/>
          </a:prstGeom>
          <a:solidFill>
            <a:srgbClr val="cc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hòu 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售   货   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39640" y="2421000"/>
            <a:ext cx="1871640" cy="1366920"/>
          </a:xfrm>
          <a:prstGeom prst="rect">
            <a:avLst/>
          </a:prstGeom>
          <a:solidFill>
            <a:srgbClr val="ffcc99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药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843280" y="2637000"/>
            <a:ext cx="1439640" cy="1126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咱  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148360" y="2492280"/>
            <a:ext cx="208764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抢    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763640" y="4508640"/>
            <a:ext cx="144000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富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1699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我只是看看，不要妈妈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抢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826920" y="328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男孩喜欢小汽车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90756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柜台前有个小男孩，只要看到谁买小汽车，他就马上跟过去，目不转睛地盯着柜台上跑动的汽车，眼里闪着兴奋的光芒。他是多么喜欢小汽车啊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229360"/>
            <a:ext cx="1943280" cy="13446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556000" y="2349360"/>
            <a:ext cx="647640" cy="360"/>
            <a:chOff x="2556000" y="2349360"/>
            <a:chExt cx="647640" cy="360"/>
          </a:xfrm>
        </p:grpSpPr>
        <p:sp>
          <p:nvSpPr>
            <p:cNvPr id="103" name="Line 8"/>
            <p:cNvSpPr/>
            <p:nvPr/>
          </p:nvSpPr>
          <p:spPr>
            <a:xfrm>
              <a:off x="2556000" y="2349360"/>
              <a:ext cx="64764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2556000" y="2349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03640" y="2349360"/>
            <a:ext cx="1513080" cy="360"/>
            <a:chOff x="5003640" y="2349360"/>
            <a:chExt cx="1513080" cy="360"/>
          </a:xfrm>
        </p:grpSpPr>
        <p:sp>
          <p:nvSpPr>
            <p:cNvPr id="106" name="Line 9"/>
            <p:cNvSpPr/>
            <p:nvPr/>
          </p:nvSpPr>
          <p:spPr>
            <a:xfrm>
              <a:off x="5003640" y="2349360"/>
              <a:ext cx="151308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5003640" y="2349360"/>
              <a:ext cx="15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003640" y="3141720"/>
            <a:ext cx="649440" cy="360"/>
            <a:chOff x="5003640" y="3141720"/>
            <a:chExt cx="649440" cy="360"/>
          </a:xfrm>
        </p:grpSpPr>
        <p:sp>
          <p:nvSpPr>
            <p:cNvPr id="109" name="Line 10"/>
            <p:cNvSpPr/>
            <p:nvPr/>
          </p:nvSpPr>
          <p:spPr>
            <a:xfrm>
              <a:off x="5003640" y="3141720"/>
              <a:ext cx="64944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003640" y="314172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63640" y="3789360"/>
            <a:ext cx="649440" cy="360"/>
            <a:chOff x="1763640" y="3789360"/>
            <a:chExt cx="649440" cy="360"/>
          </a:xfrm>
        </p:grpSpPr>
        <p:sp>
          <p:nvSpPr>
            <p:cNvPr id="112" name="Line 11"/>
            <p:cNvSpPr/>
            <p:nvPr/>
          </p:nvSpPr>
          <p:spPr>
            <a:xfrm>
              <a:off x="1763640" y="3789360"/>
              <a:ext cx="64944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763640" y="378936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2420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我只是看看，不要妈妈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826920" y="981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孩子的妈妈叹了口气，说：“他爸爸长年病着，家里生活不富裕。孩子心疼我，什么也不让我给他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9236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读懂了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692360" y="3500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兵心里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39640" y="3429000"/>
            <a:ext cx="77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爸爸常年病着，家里生活不富裕。我要体谅妈妈，不能让她给我买东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691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听了，连忙从玩具里找出一辆漂亮的小汽车，请妈妈带给那个男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39640" y="2781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售货员阿姨天天盼着再见到那个男孩，好把小汽车送给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691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把最想说的话写下来送给小兵，可以是祝福的，可以是鼓励的，也可以是称赞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R0VXJJO5GP_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68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4055-A14C-4E69-A36E-B77206C497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5:05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2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