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9.jpeg" ContentType="image/jpeg"/>
  <Override PartName="/ppt/media/image1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12.gif" ContentType="image/gif"/>
  <Override PartName="/ppt/media/image15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DC0-77BE-498B-9831-ED57FABC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B4C-0C27-4C8B-869E-6157F261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4436-0F10-4DF6-A9AB-18BF2427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BE2-BDC7-40A7-B16F-A8BE5CF4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1041-2237-4FD5-80C3-C8F8283A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7900-A8FA-4E2C-9E42-878C8FD3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D5E1-5B13-4666-8580-7E781DFF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3819-FACC-4425-8D3A-2DB01B0D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BAA8-AD2C-438C-94F3-525EAC1F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435F-7DD5-4106-BD6D-BC8655B8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F65D-68AE-47D0-80C5-77EE9D4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9A9-ADD5-4417-9A3B-10E0CEC9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02A9-DE81-4DA0-9009-18A9B713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9332-86B1-491C-BD2C-D5E4B708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0345-D0A5-428B-82FA-10C5AEC4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7AE7-7F20-4C51-B844-D76683BE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0B65-89BB-483D-A1B8-857C1977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02F-9F19-4F85-B576-5B4E1D6B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751-76EC-42BC-A822-18BC4594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140-BF83-4C6F-B6F6-240CE016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586-DBAC-4802-B56E-BFCA6F55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9CA-ED16-4E3A-B8FC-869BD336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3B4-21E5-4EBB-8B8A-12B7F93B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DC4-41CC-429A-AEAB-11E53C3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5070-6155-4AA2-868E-98E7137C4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F371-921F-4B16-8E42-7305D79B13A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8DA9-8A84-484F-9BA7-B506796F24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>
            <a:off x="22320" y="839880"/>
            <a:ext cx="9050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9966"/>
                  </a:solidFill>
                  <a:round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latin typeface="Arial"/>
              </a:rPr>
              <a:t>我家跨上了“信息高速路”课件 </a:t>
            </a:r>
            <a:r>
              <a:rPr b="1" lang="en-US" sz="4000" spc="1" strike="noStrike">
                <a:ln w="9360">
                  <a:solidFill>
                    <a:srgbClr val="ff9966"/>
                  </a:solidFill>
                  <a:round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latin typeface="Arial"/>
              </a:rPr>
              <a:t>PPT</a:t>
            </a:r>
            <a:r>
              <a:rPr b="1" lang="zh-CN" sz="4000" spc="1" strike="noStrike">
                <a:ln w="9360">
                  <a:solidFill>
                    <a:srgbClr val="ff9966"/>
                  </a:solidFill>
                  <a:round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latin typeface="Arial"/>
              </a:rPr>
              <a:t>模板下载</a:t>
            </a:r>
            <a:endParaRPr b="1" lang="en-US" sz="4000" spc="1" strike="noStrike">
              <a:ln w="9360">
                <a:solidFill>
                  <a:srgbClr val="ff9966"/>
                </a:solidFill>
                <a:round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611280" y="2565360"/>
            <a:ext cx="822960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五湖四海的人随时可以交流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684360" y="981000"/>
            <a:ext cx="467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有了网络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39640" y="4221000"/>
            <a:ext cx="822960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咱们的地球就变成了一个小村庄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33" name="Picture 5" descr="20041213_003558_57953"/>
          <p:cNvPicPr/>
          <p:nvPr/>
        </p:nvPicPr>
        <p:blipFill>
          <a:blip r:embed="rId1"/>
          <a:stretch/>
        </p:blipFill>
        <p:spPr>
          <a:xfrm>
            <a:off x="6443640" y="620640"/>
            <a:ext cx="1496880" cy="179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20041213_003558_57953"/>
          <p:cNvPicPr/>
          <p:nvPr/>
        </p:nvPicPr>
        <p:blipFill>
          <a:blip r:embed="rId2"/>
          <a:stretch/>
        </p:blipFill>
        <p:spPr>
          <a:xfrm>
            <a:off x="6877080" y="-531720"/>
            <a:ext cx="2822400" cy="33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20041213_003558_57953"/>
          <p:cNvPicPr/>
          <p:nvPr/>
        </p:nvPicPr>
        <p:blipFill>
          <a:blip r:embed="rId3"/>
          <a:stretch/>
        </p:blipFill>
        <p:spPr>
          <a:xfrm>
            <a:off x="0" y="4365720"/>
            <a:ext cx="2822400" cy="337824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200"/>
          <p:cNvSpPr/>
          <p:nvPr/>
        </p:nvSpPr>
        <p:spPr>
          <a:xfrm>
            <a:off x="826920" y="213372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2004323173117963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2"/>
          <p:cNvSpPr txBox="1"/>
          <p:nvPr/>
        </p:nvSpPr>
        <p:spPr>
          <a:xfrm>
            <a:off x="1619280" y="1989000"/>
            <a:ext cx="5486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我感到地球一下子变小了，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0" name="WordArt 3"/>
          <p:cNvSpPr txBox="1"/>
          <p:nvPr/>
        </p:nvSpPr>
        <p:spPr>
          <a:xfrm>
            <a:off x="1619280" y="3716280"/>
            <a:ext cx="5486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知识的大门向我敞开了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64EC-DE73-4968-B8B9-F41167CB95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1100589637837"/>
          <p:cNvPicPr/>
          <p:nvPr/>
        </p:nvPicPr>
        <p:blipFill>
          <a:blip r:embed="rId1"/>
          <a:stretch/>
        </p:blipFill>
        <p:spPr>
          <a:xfrm>
            <a:off x="826920" y="260280"/>
            <a:ext cx="770436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23"/>
          <p:cNvPicPr/>
          <p:nvPr/>
        </p:nvPicPr>
        <p:blipFill>
          <a:blip r:embed="rId1"/>
          <a:stretch/>
        </p:blipFill>
        <p:spPr>
          <a:xfrm>
            <a:off x="2600280" y="404640"/>
            <a:ext cx="4094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5"/>
          <p:cNvSpPr/>
          <p:nvPr/>
        </p:nvSpPr>
        <p:spPr>
          <a:xfrm>
            <a:off x="169236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2001717155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26" descr="pic"/>
          <p:cNvPicPr/>
          <p:nvPr/>
        </p:nvPicPr>
        <p:blipFill>
          <a:blip r:embed="rId1"/>
          <a:stretch/>
        </p:blipFill>
        <p:spPr>
          <a:xfrm>
            <a:off x="2124000" y="2205000"/>
            <a:ext cx="3333960" cy="4000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27" descr="pic_003"/>
          <p:cNvPicPr/>
          <p:nvPr/>
        </p:nvPicPr>
        <p:blipFill>
          <a:blip r:embed="rId2"/>
          <a:stretch/>
        </p:blipFill>
        <p:spPr>
          <a:xfrm>
            <a:off x="4932360" y="1052640"/>
            <a:ext cx="2316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6" descr="tn_008"/>
          <p:cNvPicPr/>
          <p:nvPr/>
        </p:nvPicPr>
        <p:blipFill>
          <a:blip r:embed="rId1"/>
          <a:stretch/>
        </p:blipFill>
        <p:spPr>
          <a:xfrm>
            <a:off x="2484360" y="1628640"/>
            <a:ext cx="431964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611280" y="54936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信息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2771640" y="54936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网络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5364000" y="242100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遍布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7236000" y="54936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信箱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4859280" y="54936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迫不及待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611280" y="242100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五湖四海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3564000" y="5445000"/>
            <a:ext cx="2378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恋恋不舍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6372360" y="393372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目不转睛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3" name="WordArt 10"/>
          <p:cNvSpPr txBox="1"/>
          <p:nvPr/>
        </p:nvSpPr>
        <p:spPr>
          <a:xfrm>
            <a:off x="3419640" y="4005360"/>
            <a:ext cx="194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米老鼠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4" name="WordArt 11"/>
          <p:cNvSpPr txBox="1"/>
          <p:nvPr/>
        </p:nvSpPr>
        <p:spPr>
          <a:xfrm>
            <a:off x="6732720" y="544500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赞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5" name="WordArt 12"/>
          <p:cNvSpPr txBox="1"/>
          <p:nvPr/>
        </p:nvSpPr>
        <p:spPr>
          <a:xfrm>
            <a:off x="900000" y="5445000"/>
            <a:ext cx="172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敞开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6" name="WordArt 13"/>
          <p:cNvSpPr txBox="1"/>
          <p:nvPr/>
        </p:nvSpPr>
        <p:spPr>
          <a:xfrm>
            <a:off x="826920" y="4005360"/>
            <a:ext cx="158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新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3203640" y="2421000"/>
            <a:ext cx="143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家庭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8" name="WordArt 15"/>
          <p:cNvSpPr txBox="1"/>
          <p:nvPr/>
        </p:nvSpPr>
        <p:spPr>
          <a:xfrm>
            <a:off x="7308720" y="2421000"/>
            <a:ext cx="136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仿宋"/>
              </a:rPr>
              <a:t>功能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仿宋"/>
              <a:ea typeface="华文仿宋"/>
            </a:endParaRPr>
          </a:p>
        </p:txBody>
      </p:sp>
      <p:sp>
        <p:nvSpPr>
          <p:cNvPr id="109" name="WordArt 16"/>
          <p:cNvSpPr txBox="1"/>
          <p:nvPr/>
        </p:nvSpPr>
        <p:spPr>
          <a:xfrm>
            <a:off x="3471840" y="507960"/>
            <a:ext cx="7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latin typeface="华文仿宋"/>
              </a:rPr>
              <a:t>络</a:t>
            </a:r>
            <a:endParaRPr b="1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latin typeface="华文仿宋"/>
              <a:ea typeface="华文仿宋"/>
            </a:endParaRPr>
          </a:p>
        </p:txBody>
      </p:sp>
      <p:sp>
        <p:nvSpPr>
          <p:cNvPr id="110" name="WordArt 17"/>
          <p:cNvSpPr txBox="1"/>
          <p:nvPr/>
        </p:nvSpPr>
        <p:spPr>
          <a:xfrm>
            <a:off x="3944880" y="2421000"/>
            <a:ext cx="7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latin typeface="华文仿宋"/>
              </a:rPr>
              <a:t>庭</a:t>
            </a:r>
            <a:endParaRPr b="1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latin typeface="华文仿宋"/>
              <a:ea typeface="华文仿宋"/>
            </a:endParaRPr>
          </a:p>
        </p:txBody>
      </p:sp>
      <p:sp>
        <p:nvSpPr>
          <p:cNvPr id="111" name="WordArt 18"/>
          <p:cNvSpPr txBox="1"/>
          <p:nvPr/>
        </p:nvSpPr>
        <p:spPr>
          <a:xfrm>
            <a:off x="920880" y="5445000"/>
            <a:ext cx="71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latin typeface="华文仿宋"/>
              </a:rPr>
              <a:t>敞</a:t>
            </a:r>
            <a:endParaRPr b="1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latin typeface="华文仿宋"/>
              <a:ea typeface="华文仿宋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564000" y="5495760"/>
            <a:ext cx="107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66"/>
                </a:solidFill>
                <a:latin typeface="华文仿宋"/>
              </a:rPr>
              <a:t>恋恋</a:t>
            </a:r>
            <a:endParaRPr b="1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ff0066"/>
              </a:solidFill>
              <a:latin typeface="华文仿宋"/>
              <a:ea typeface="华文仿宋"/>
            </a:endParaRPr>
          </a:p>
        </p:txBody>
      </p:sp>
      <p:sp>
        <p:nvSpPr>
          <p:cNvPr id="113" name="文本框 8200"/>
          <p:cNvSpPr/>
          <p:nvPr/>
        </p:nvSpPr>
        <p:spPr>
          <a:xfrm>
            <a:off x="770040" y="170496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2"/>
          <p:cNvSpPr txBox="1"/>
          <p:nvPr/>
        </p:nvSpPr>
        <p:spPr>
          <a:xfrm>
            <a:off x="395280" y="907920"/>
            <a:ext cx="345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爸爸告诉我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539640" y="2133720"/>
            <a:ext cx="7920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电脑网络如同一个遍布全球的蜘蛛网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468360" y="3789360"/>
            <a:ext cx="835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把每个国家、每座城市甚至每个家庭都连在了一起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18" name="Picture 8" descr="gifbj009"/>
          <p:cNvPicPr/>
          <p:nvPr/>
        </p:nvPicPr>
        <p:blipFill>
          <a:blip r:embed="rId1"/>
          <a:stretch/>
        </p:blipFill>
        <p:spPr>
          <a:xfrm>
            <a:off x="5508720" y="0"/>
            <a:ext cx="2336760" cy="2803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gifbj009"/>
          <p:cNvPicPr/>
          <p:nvPr/>
        </p:nvPicPr>
        <p:blipFill>
          <a:blip r:embed="rId2"/>
          <a:stretch/>
        </p:blipFill>
        <p:spPr>
          <a:xfrm>
            <a:off x="395280" y="4869000"/>
            <a:ext cx="165744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21973__e0602t01.jpg"/>
          <p:cNvPicPr/>
          <p:nvPr/>
        </p:nvPicPr>
        <p:blipFill>
          <a:blip r:embed="rId1"/>
          <a:stretch/>
        </p:blipFill>
        <p:spPr>
          <a:xfrm>
            <a:off x="395280" y="111240"/>
            <a:ext cx="8748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2"/>
          <p:cNvSpPr txBox="1"/>
          <p:nvPr/>
        </p:nvSpPr>
        <p:spPr>
          <a:xfrm>
            <a:off x="900000" y="1052640"/>
            <a:ext cx="7344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可以迅速找到所需要的各种信息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900000" y="2708280"/>
            <a:ext cx="7848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可以用电子信箱和全世界的小朋友建立联系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900000" y="4508640"/>
            <a:ext cx="741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还可以进行网上购物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27" name="Picture 5" descr="20041213_003558_11708"/>
          <p:cNvPicPr/>
          <p:nvPr/>
        </p:nvPicPr>
        <p:blipFill>
          <a:blip r:embed="rId1"/>
          <a:stretch/>
        </p:blipFill>
        <p:spPr>
          <a:xfrm>
            <a:off x="7407360" y="-603360"/>
            <a:ext cx="1736640" cy="208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20041213_003558_62945"/>
          <p:cNvPicPr/>
          <p:nvPr/>
        </p:nvPicPr>
        <p:blipFill>
          <a:blip r:embed="rId2"/>
          <a:stretch/>
        </p:blipFill>
        <p:spPr>
          <a:xfrm>
            <a:off x="0" y="4702320"/>
            <a:ext cx="17971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4:23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32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