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gif" ContentType="image/gif"/>
  <Override PartName="/ppt/media/image23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9.gif" ContentType="image/gif"/>
  <Override PartName="/ppt/media/image16.jpeg" ContentType="image/jpeg"/>
  <Override PartName="/ppt/media/image13.jpeg" ContentType="image/jpeg"/>
  <Override PartName="/ppt/media/image14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DDC-D0EC-4563-A0BE-C86AE527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24F-FFEB-4456-BB9E-235DF26C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403-BE7B-4658-9A0D-0CFFB6D9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E65-0F90-4AA6-A8FD-3C174909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2828-76CD-493E-9561-E1B4C469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FCAA-3F27-4992-B383-B3C36FEC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92AF-696F-4478-9F1D-365C5BC9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457F-137C-42D7-9F23-C2F4C53D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5EEF-ADC1-408C-A7AB-40300E3B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403A-1A76-4BDB-968F-0E57FAD0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992C-A932-45CD-BC0E-6AB14A95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FA4-1AE6-46DF-93DF-0B7074DF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2982-B616-47C4-9596-B43A7285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20D7-EC70-46FC-B7E6-273844AA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1366-1E20-4777-8D9D-EE4EEF3E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953C-B3CC-4008-9331-C8BD420B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22AB-DFF5-42DB-8C99-8C4719CA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9C0-A759-43E5-A289-F7349008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DB7-8434-46C7-AB30-CBB6B276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FBB-CEC3-4D4F-813F-057779EF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083-ECB5-4969-9EA4-73230F6B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3C3-0B03-46CA-8683-6CB6B9E1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AD7-0E80-4BE7-B44A-D0538D5A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19D-636A-4E46-9A76-A616176F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B742-8F3B-4CBE-ACB8-E5D8F69B92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5DDB-BE1C-4D0F-89DB-14035C64A39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E6D1-2B84-45BA-A87C-9A0495A5C9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3203640" y="64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Text Box 3" descr=""/>
          <p:cNvPicPr/>
          <p:nvPr/>
        </p:nvPicPr>
        <p:blipFill>
          <a:blip r:embed="rId2"/>
          <a:stretch/>
        </p:blipFill>
        <p:spPr>
          <a:xfrm>
            <a:off x="952560" y="1619280"/>
            <a:ext cx="7812000" cy="700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304920" y="53341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95280" y="907920"/>
            <a:ext cx="85694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危楼高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百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手可摘星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敢高声语，恐惊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天上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桃花潭水深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千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白发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三千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缘愁似个长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山鸟飞绝，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径人踪灭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1-1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181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324480" y="1600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257800" y="2492280"/>
            <a:ext cx="3886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照香炉生紫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562720" y="5715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壮丽景色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庐山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1-06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2" name="Picture 5" descr="大天池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6"/>
            <p:cNvSpPr/>
            <p:nvPr/>
          </p:nvSpPr>
          <p:spPr>
            <a:xfrm>
              <a:off x="877320" y="55627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大天池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Picture 8" descr="东林寺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9"/>
            <p:cNvSpPr/>
            <p:nvPr/>
          </p:nvSpPr>
          <p:spPr>
            <a:xfrm>
              <a:off x="1105920" y="563868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东林寺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0"/>
          <p:cNvGrpSpPr/>
          <p:nvPr/>
        </p:nvGrpSpPr>
        <p:grpSpPr>
          <a:xfrm>
            <a:off x="0" y="-152280"/>
            <a:ext cx="9144000" cy="7010280"/>
            <a:chOff x="0" y="-152280"/>
            <a:chExt cx="9144000" cy="7010280"/>
          </a:xfrm>
        </p:grpSpPr>
        <p:pic>
          <p:nvPicPr>
            <p:cNvPr id="128" name="Picture 11" descr="花径"/>
            <p:cNvPicPr/>
            <p:nvPr/>
          </p:nvPicPr>
          <p:blipFill>
            <a:blip r:embed="rId5"/>
            <a:stretch/>
          </p:blipFill>
          <p:spPr>
            <a:xfrm>
              <a:off x="0" y="-15228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2"/>
            <p:cNvSpPr/>
            <p:nvPr/>
          </p:nvSpPr>
          <p:spPr>
            <a:xfrm>
              <a:off x="6289200" y="537696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花  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3"/>
          <p:cNvGrpSpPr/>
          <p:nvPr/>
        </p:nvGrpSpPr>
        <p:grpSpPr>
          <a:xfrm>
            <a:off x="0" y="0"/>
            <a:ext cx="9144000" cy="7086240"/>
            <a:chOff x="0" y="0"/>
            <a:chExt cx="9144000" cy="7086240"/>
          </a:xfrm>
        </p:grpSpPr>
        <p:pic>
          <p:nvPicPr>
            <p:cNvPr id="131" name="Picture 14" descr="龙首崖"/>
            <p:cNvPicPr/>
            <p:nvPr/>
          </p:nvPicPr>
          <p:blipFill>
            <a:blip r:embed="rId6"/>
            <a:srcRect l="0" t="15276" r="0" b="34724"/>
            <a:stretch/>
          </p:blipFill>
          <p:spPr>
            <a:xfrm>
              <a:off x="0" y="0"/>
              <a:ext cx="9144000" cy="70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5"/>
            <p:cNvSpPr/>
            <p:nvPr/>
          </p:nvSpPr>
          <p:spPr>
            <a:xfrm>
              <a:off x="6744960" y="57211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龙首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6"/>
          <p:cNvGrpSpPr/>
          <p:nvPr/>
        </p:nvGrpSpPr>
        <p:grpSpPr>
          <a:xfrm>
            <a:off x="0" y="0"/>
            <a:ext cx="9144000" cy="7086600"/>
            <a:chOff x="0" y="0"/>
            <a:chExt cx="9144000" cy="7086600"/>
          </a:xfrm>
        </p:grpSpPr>
        <p:pic>
          <p:nvPicPr>
            <p:cNvPr id="134" name="Picture 17" descr="桃花园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70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8"/>
            <p:cNvSpPr/>
            <p:nvPr/>
          </p:nvSpPr>
          <p:spPr>
            <a:xfrm>
              <a:off x="6652800" y="511488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桃花园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9"/>
          <p:cNvGrpSpPr/>
          <p:nvPr/>
        </p:nvGrpSpPr>
        <p:grpSpPr>
          <a:xfrm>
            <a:off x="0" y="0"/>
            <a:ext cx="9144000" cy="7162920"/>
            <a:chOff x="0" y="0"/>
            <a:chExt cx="9144000" cy="7162920"/>
          </a:xfrm>
        </p:grpSpPr>
        <p:pic>
          <p:nvPicPr>
            <p:cNvPr id="137" name="Picture 20" descr="五老峰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9144000" cy="71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1"/>
            <p:cNvSpPr/>
            <p:nvPr/>
          </p:nvSpPr>
          <p:spPr>
            <a:xfrm>
              <a:off x="6820920" y="548640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五老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2"/>
          <p:cNvGrpSpPr/>
          <p:nvPr/>
        </p:nvGrpSpPr>
        <p:grpSpPr>
          <a:xfrm>
            <a:off x="0" y="0"/>
            <a:ext cx="9144000" cy="7238880"/>
            <a:chOff x="0" y="0"/>
            <a:chExt cx="9144000" cy="7238880"/>
          </a:xfrm>
        </p:grpSpPr>
        <p:pic>
          <p:nvPicPr>
            <p:cNvPr id="140" name="Picture 23" descr="三叠泉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72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4"/>
            <p:cNvSpPr/>
            <p:nvPr/>
          </p:nvSpPr>
          <p:spPr>
            <a:xfrm>
              <a:off x="6744960" y="53341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三叠泉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7162920"/>
            <a:chOff x="0" y="0"/>
            <a:chExt cx="9144000" cy="7162920"/>
          </a:xfrm>
        </p:grpSpPr>
        <p:pic>
          <p:nvPicPr>
            <p:cNvPr id="143" name="Picture 3" descr="三叠泉水"/>
            <p:cNvPicPr/>
            <p:nvPr/>
          </p:nvPicPr>
          <p:blipFill>
            <a:blip r:embed="rId1"/>
            <a:srcRect l="0" t="4441" r="0" b="10002"/>
            <a:stretch/>
          </p:blipFill>
          <p:spPr>
            <a:xfrm>
              <a:off x="0" y="0"/>
              <a:ext cx="9144000" cy="71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4"/>
            <p:cNvSpPr/>
            <p:nvPr/>
          </p:nvSpPr>
          <p:spPr>
            <a:xfrm>
              <a:off x="6744960" y="53341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三叠泉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596"/>
          <p:cNvPicPr/>
          <p:nvPr/>
        </p:nvPicPr>
        <p:blipFill>
          <a:blip r:embed="rId1"/>
          <a:srcRect l="0" t="1663" r="4000" b="49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1588"/>
          <p:cNvPicPr/>
          <p:nvPr/>
        </p:nvPicPr>
        <p:blipFill>
          <a:blip r:embed="rId2"/>
          <a:srcRect l="3336" t="4193" r="3336" b="90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676"/>
          <p:cNvPicPr/>
          <p:nvPr/>
        </p:nvPicPr>
        <p:blipFill>
          <a:blip r:embed="rId3"/>
          <a:srcRect l="0" t="6558" r="0" b="82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585"/>
          <p:cNvPicPr/>
          <p:nvPr/>
        </p:nvPicPr>
        <p:blipFill>
          <a:blip r:embed="rId1"/>
          <a:srcRect l="0" t="4999" r="1412" b="8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ANI_048"/>
          <p:cNvPicPr/>
          <p:nvPr/>
        </p:nvPicPr>
        <p:blipFill>
          <a:blip r:embed="rId2"/>
          <a:stretch/>
        </p:blipFill>
        <p:spPr>
          <a:xfrm>
            <a:off x="8305920" y="60199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595(1)"/>
          <p:cNvPicPr/>
          <p:nvPr/>
        </p:nvPicPr>
        <p:blipFill>
          <a:blip r:embed="rId1"/>
          <a:srcRect l="0" t="1663" r="4000" b="4999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ALL01567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EUR0688"/>
          <p:cNvPicPr/>
          <p:nvPr/>
        </p:nvPicPr>
        <p:blipFill>
          <a:blip r:embed="rId3"/>
          <a:srcRect l="0" t="0" r="0" b="889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1584(1)"/>
          <p:cNvPicPr/>
          <p:nvPr/>
        </p:nvPicPr>
        <p:blipFill>
          <a:blip r:embed="rId4"/>
          <a:srcRect l="3294" t="1663" r="3294" b="667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677"/>
          <p:cNvPicPr/>
          <p:nvPr/>
        </p:nvPicPr>
        <p:blipFill>
          <a:blip r:embed="rId5"/>
          <a:srcRect l="5875" t="0" r="23531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7"/>
          <p:cNvGrpSpPr/>
          <p:nvPr/>
        </p:nvGrpSpPr>
        <p:grpSpPr>
          <a:xfrm>
            <a:off x="4572000" y="0"/>
            <a:ext cx="4572000" cy="6858000"/>
            <a:chOff x="4572000" y="0"/>
            <a:chExt cx="4572000" cy="6858000"/>
          </a:xfrm>
        </p:grpSpPr>
        <p:pic>
          <p:nvPicPr>
            <p:cNvPr id="158" name="Picture 8" descr="3285(1)"/>
            <p:cNvPicPr/>
            <p:nvPr/>
          </p:nvPicPr>
          <p:blipFill>
            <a:blip r:embed="rId6"/>
            <a:srcRect l="2588" t="1663" r="1412" b="4999"/>
            <a:stretch/>
          </p:blipFill>
          <p:spPr>
            <a:xfrm>
              <a:off x="457200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9" descr="ANI_048"/>
            <p:cNvPicPr/>
            <p:nvPr/>
          </p:nvPicPr>
          <p:blipFill>
            <a:blip r:embed="rId7"/>
            <a:stretch/>
          </p:blipFill>
          <p:spPr>
            <a:xfrm>
              <a:off x="8305920" y="60199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436D-9D00-46C6-814B-2A02641EA7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b3"/>
          <p:cNvPicPr/>
          <p:nvPr/>
        </p:nvPicPr>
        <p:blipFill>
          <a:blip r:embed="rId1"/>
          <a:stretch/>
        </p:blipFill>
        <p:spPr>
          <a:xfrm>
            <a:off x="0" y="-233280"/>
            <a:ext cx="9144000" cy="7091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0" y="0"/>
            <a:ext cx="5580000" cy="338580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还没看见瀑布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先听见瀑布的声音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好像叠叠的浪涌上岸滩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又像阵阵的风吹过松林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山路忽然一转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啊！望见了瀑布的全身！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916360" y="3429000"/>
            <a:ext cx="6227640" cy="338580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这般景象没法比喻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千丈青山衬着一道白银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站在瀑布脚下仰望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好伟大呀，一座珍珠的屏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时时来一阵风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把它吹得如烟，如雾，如尘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5508720" y="404640"/>
            <a:ext cx="34336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08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瀑布</a:t>
            </a:r>
            <a:endParaRPr b="0" i="1" lang="en-US" sz="8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468360" y="5734080"/>
            <a:ext cx="64764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1-1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5029200" y="5335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34120" y="18288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257800" y="2349360"/>
            <a:ext cx="3886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日照香炉生紫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6240"/>
            <a:ext cx="9144000" cy="679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李白简介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李白（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70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幼圆"/>
              </a:rPr>
              <a:t>—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762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）   字太白，号青莲居士。祖籍陇西成纪（今甘肃天水县附近），少年时博览群书，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20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岁起在四川漫游，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25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岁出川东游。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42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岁做了翰林院学士，但不受重视，抱负不能实现，离开长安，安史之乱后，因受牵连被流放夜郎，《望庐山瀑布》就是在这次流放途中经过庐山时写的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    李白是我国历史上最伟大的诗人之一。他的诗表现了对封建秩序和权贵的不满，反映了人民的疾苦和愿望，描绘了祖国壮丽的山河。他的诗风格雄奇豪放，想像丰富，是屈原之后我国又一位伟大的浪漫主义诗人，被称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诗仙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。现存李白的诗有九百多首，有《李太白集》存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0880" y="685800"/>
            <a:ext cx="845820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读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读准字音，读通全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2860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幼圆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想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这首诗大致讲的是什么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3429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找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找出相关词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46483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幼圆"/>
                <a:ea typeface="幼圆"/>
              </a:rPr>
              <a:t>品：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品味词句的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3"/>
          <p:cNvSpPr txBox="1"/>
          <p:nvPr/>
        </p:nvSpPr>
        <p:spPr>
          <a:xfrm>
            <a:off x="1066680" y="1676520"/>
            <a:ext cx="6629400" cy="36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望庐山瀑布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101" name="Picture 4" descr="pb1"/>
          <p:cNvPicPr/>
          <p:nvPr/>
        </p:nvPicPr>
        <p:blipFill>
          <a:blip r:embed="rId2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pb2"/>
          <p:cNvPicPr/>
          <p:nvPr/>
        </p:nvPicPr>
        <p:blipFill>
          <a:blip r:embed="rId3"/>
          <a:stretch/>
        </p:blipFill>
        <p:spPr>
          <a:xfrm>
            <a:off x="0" y="0"/>
            <a:ext cx="8763120" cy="695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pb3"/>
          <p:cNvPicPr/>
          <p:nvPr/>
        </p:nvPicPr>
        <p:blipFill>
          <a:blip r:embed="rId4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望庐山瀑布朗读.wav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dur="indefinite" nodeType="afterEffect" fill="hold" presetClass="entr" presetID="1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" dur="indefinite" nodeType="afterEffect" fill="hold" presetClass="entr" presetID="1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" dur="indefinite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762120" y="2286000"/>
            <a:ext cx="79246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庐瀑炉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43000" y="609480"/>
            <a:ext cx="8001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106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zh-CN" sz="10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ú    pù   </a:t>
            </a:r>
            <a:r>
              <a:rPr b="0" lang="zh-CN" sz="106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zh-CN" sz="10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ú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523880" y="22860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日照香炉生紫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ls16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-300960" y="549360"/>
            <a:ext cx="20091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遥看瀑布挂前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4241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ls7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5514120" y="260280"/>
            <a:ext cx="339984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1:47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03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