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6B0-5C4E-4D1D-AE24-1759CD79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D5E-86AB-4DB3-BE32-50B534DB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A516-383B-44F9-94DA-CD4BFF52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318-7C07-4DC2-8E0D-07F9EEBB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1ACE-9821-4BD1-B07B-1024C2F0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ED10-5C21-443D-BDDC-3F0C3315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A8E9-5CF4-4744-B682-E57FED47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D5E9-9820-4889-8BD4-2547C541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D2F3-6B39-48F9-A1C5-1BF3EA42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C1C2-683C-43E6-BB38-3E281099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3F46-1324-4443-810D-678DF20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5CE-A093-4A14-9782-0EE16EC9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FD4F-3C5A-4B60-8096-6FFEB570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6072-9199-4203-AAA3-26639610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6780-97E7-44DE-8641-061039E9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AFBB-0700-4F06-BF67-6CB7E3F0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7659-87C4-422E-BEB9-D0993F6A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725-8625-4D5D-9DDD-ADC12C92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501C-1643-4E0C-AFA8-44B59E33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FE6-D4DA-40A4-9BA6-B5E6AF50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420-E6C7-4534-9637-36FDBD54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C12-802A-4036-A368-0AD6464D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DE5-6DBE-4EF1-8EC0-06663EE7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4533-0BFC-4DAE-A387-02690CF4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AA1F-605A-416A-97C1-400EC0FC57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FFEF-9674-43DF-8FA8-94CCD4CD71F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2850-62E7-4660-B48A-33BAD63AB64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291,2,&#35835;&#19968;&#35835;" TargetMode="External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2"/>
          <p:cNvSpPr/>
          <p:nvPr/>
        </p:nvSpPr>
        <p:spPr>
          <a:xfrm>
            <a:off x="1403280" y="22766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560" y="151920"/>
            <a:ext cx="889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为中华之崛起而读书课件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模板下载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AutoShape 1037"/>
          <p:cNvSpPr/>
          <p:nvPr/>
        </p:nvSpPr>
        <p:spPr>
          <a:xfrm>
            <a:off x="6227640" y="1628640"/>
            <a:ext cx="2210040" cy="838440"/>
          </a:xfrm>
          <a:prstGeom prst="cloudCallout">
            <a:avLst>
              <a:gd name="adj1" fmla="val 19828"/>
              <a:gd name="adj2" fmla="val -43939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  <a:hlinkClick r:id="rId16"/>
              </a:rPr>
              <a:t>读一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1038"/>
          <p:cNvSpPr/>
          <p:nvPr/>
        </p:nvSpPr>
        <p:spPr>
          <a:xfrm>
            <a:off x="4572000" y="2514600"/>
            <a:ext cx="2209680" cy="838080"/>
          </a:xfrm>
          <a:prstGeom prst="cloudCallout">
            <a:avLst>
              <a:gd name="adj1" fmla="val 19611"/>
              <a:gd name="adj2" fmla="val -41666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学一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1039"/>
          <p:cNvSpPr/>
          <p:nvPr/>
        </p:nvSpPr>
        <p:spPr>
          <a:xfrm>
            <a:off x="6629400" y="3213000"/>
            <a:ext cx="2514600" cy="838440"/>
          </a:xfrm>
          <a:prstGeom prst="cloudCallout">
            <a:avLst>
              <a:gd name="adj1" fmla="val 21023"/>
              <a:gd name="adj2" fmla="val -50759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资料展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1040"/>
          <p:cNvSpPr/>
          <p:nvPr/>
        </p:nvSpPr>
        <p:spPr>
          <a:xfrm>
            <a:off x="4495680" y="5562720"/>
            <a:ext cx="2668680" cy="838080"/>
          </a:xfrm>
          <a:prstGeom prst="cloudCallout">
            <a:avLst>
              <a:gd name="adj1" fmla="val 18555"/>
              <a:gd name="adj2" fmla="val -46212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讨论交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1057"/>
          <p:cNvSpPr/>
          <p:nvPr/>
        </p:nvSpPr>
        <p:spPr>
          <a:xfrm>
            <a:off x="6400800" y="4724280"/>
            <a:ext cx="2563920" cy="838440"/>
          </a:xfrm>
          <a:prstGeom prst="cloudCallout">
            <a:avLst>
              <a:gd name="adj1" fmla="val 25129"/>
              <a:gd name="adj2" fmla="val -46782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读思感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AutoShape 1058"/>
          <p:cNvSpPr/>
          <p:nvPr/>
        </p:nvSpPr>
        <p:spPr>
          <a:xfrm>
            <a:off x="4495680" y="4038480"/>
            <a:ext cx="2668680" cy="838440"/>
          </a:xfrm>
          <a:prstGeom prst="cloudCallout">
            <a:avLst>
              <a:gd name="adj1" fmla="val 18555"/>
              <a:gd name="adj2" fmla="val -46212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法国求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1061" descr="周"/>
          <p:cNvPicPr/>
          <p:nvPr/>
        </p:nvPicPr>
        <p:blipFill>
          <a:blip r:embed="rId17"/>
          <a:stretch/>
        </p:blipFill>
        <p:spPr>
          <a:xfrm>
            <a:off x="0" y="1295280"/>
            <a:ext cx="4286160" cy="544032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平民烟馆比比皆是，简陋的烟榻上总是横满了吸食鸦片的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眼泪.wma" descr=""/>
          <p:cNvPicPr/>
          <p:nvPr/>
        </p:nvPicPr>
        <p:blipFill>
          <a:blip r:embed="rId2"/>
          <a:stretch/>
        </p:blipFill>
        <p:spPr>
          <a:xfrm>
            <a:off x="324000" y="5950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30033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人民流离失所"/>
          <p:cNvPicPr/>
          <p:nvPr/>
        </p:nvPicPr>
        <p:blipFill>
          <a:blip r:embed="rId1"/>
          <a:stretch/>
        </p:blipFill>
        <p:spPr>
          <a:xfrm>
            <a:off x="179280" y="46080"/>
            <a:ext cx="8964720" cy="6811920"/>
          </a:xfrm>
          <a:prstGeom prst="rect">
            <a:avLst/>
          </a:prstGeom>
          <a:ln w="0">
            <a:noFill/>
          </a:ln>
        </p:spPr>
      </p:pic>
      <p:pic>
        <p:nvPicPr>
          <p:cNvPr id="128" name="眼泪.wma" descr=""/>
          <p:cNvPicPr/>
          <p:nvPr/>
        </p:nvPicPr>
        <p:blipFill>
          <a:blip r:embed="rId2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30033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4F32-07C0-482D-8AD5-09078056A038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c00000"/>
                </a:solidFill>
                <a:latin typeface="Times New Roman"/>
              </a:rPr>
              <a:t>学了这一课你有什么感想？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55280" y="1196640"/>
            <a:ext cx="75582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165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Times New Roman"/>
                <a:ea typeface="隶书"/>
              </a:rPr>
              <a:t>读思感悟</a:t>
            </a:r>
            <a:r>
              <a:rPr b="0" lang="en-US" sz="66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-226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213372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崛 起  帝 国  模 范  巡 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吵 嚷  惩 处  铿 锵  有 力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1028" descr="按钮"/>
          <p:cNvPicPr/>
          <p:nvPr/>
        </p:nvPicPr>
        <p:blipFill>
          <a:blip r:embed="rId1"/>
          <a:stretch/>
        </p:blipFill>
        <p:spPr>
          <a:xfrm>
            <a:off x="8388360" y="610236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2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xit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edge" transition="out">
                                      <p:cBhvr additive="repl">
                                        <p:cTn id="17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1800" y="285732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学一学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676520" y="2286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09680" y="472428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491160" y="228600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嚷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352680" y="548640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范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752480" y="35053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5958000" y="10666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妇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2362320" y="11430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643800" y="358128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巡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6095880" y="48006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凡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3429000" y="3808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帝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76920" y="54864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闯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9" descr="按钮"/>
          <p:cNvPicPr/>
          <p:nvPr/>
        </p:nvPicPr>
        <p:blipFill>
          <a:blip r:embed="rId1"/>
          <a:stretch/>
        </p:blipFill>
        <p:spPr>
          <a:xfrm>
            <a:off x="8286840" y="600084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0"/>
          <p:cNvSpPr/>
          <p:nvPr/>
        </p:nvSpPr>
        <p:spPr>
          <a:xfrm>
            <a:off x="4738680" y="3049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在法国求学的周恩来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295280" y="1525680"/>
            <a:ext cx="662940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17" descr="按钮"/>
          <p:cNvPicPr/>
          <p:nvPr/>
        </p:nvPicPr>
        <p:blipFill>
          <a:blip r:embed="rId1"/>
          <a:stretch/>
        </p:blipFill>
        <p:spPr>
          <a:xfrm>
            <a:off x="8229600" y="586728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112" name="周恩来在法国.asf" descr=""/>
          <p:cNvPicPr/>
          <p:nvPr/>
        </p:nvPicPr>
        <p:blipFill>
          <a:blip r:embed="rId2"/>
          <a:stretch/>
        </p:blipFill>
        <p:spPr>
          <a:xfrm>
            <a:off x="1403280" y="1616040"/>
            <a:ext cx="6408720" cy="5241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28600" y="6858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读思感悟：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19040" y="271296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*</a:t>
            </a:r>
            <a:r>
              <a:rPr b="0" lang="zh-CN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使周恩来立下</a:t>
            </a:r>
            <a:r>
              <a:rPr b="0" lang="zh-CN" sz="4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为中华之崛起而读书</a:t>
            </a:r>
            <a:r>
              <a:rPr b="0" lang="zh-CN" sz="44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”</a:t>
            </a:r>
            <a:r>
              <a:rPr b="0" lang="zh-CN" sz="4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这个志向的原因是什么？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9" descr="按钮"/>
          <p:cNvPicPr/>
          <p:nvPr/>
        </p:nvPicPr>
        <p:blipFill>
          <a:blip r:embed="rId1"/>
          <a:stretch/>
        </p:blipFill>
        <p:spPr>
          <a:xfrm>
            <a:off x="8210520" y="5886360"/>
            <a:ext cx="857160" cy="857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北京街头刑场"/>
          <p:cNvPicPr/>
          <p:nvPr/>
        </p:nvPicPr>
        <p:blipFill>
          <a:blip r:embed="rId1"/>
          <a:stretch/>
        </p:blipFill>
        <p:spPr>
          <a:xfrm>
            <a:off x="144360" y="144360"/>
            <a:ext cx="8999640" cy="8153640"/>
          </a:xfrm>
          <a:prstGeom prst="rect">
            <a:avLst/>
          </a:prstGeom>
          <a:ln w="0">
            <a:noFill/>
          </a:ln>
        </p:spPr>
      </p:pic>
      <p:pic>
        <p:nvPicPr>
          <p:cNvPr id="117" name="眼泪.wma" descr=""/>
          <p:cNvPicPr/>
          <p:nvPr/>
        </p:nvPicPr>
        <p:blipFill>
          <a:blip r:embed="rId2"/>
          <a:stretch/>
        </p:blipFill>
        <p:spPr>
          <a:xfrm>
            <a:off x="1476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30033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日本海军陆战队抢先开进中国，他们后来成了联军主力"/>
          <p:cNvPicPr/>
          <p:nvPr/>
        </p:nvPicPr>
        <p:blipFill>
          <a:blip r:embed="rId1"/>
          <a:stretch/>
        </p:blipFill>
        <p:spPr>
          <a:xfrm>
            <a:off x="0" y="-1684440"/>
            <a:ext cx="9144000" cy="8542440"/>
          </a:xfrm>
          <a:prstGeom prst="rect">
            <a:avLst/>
          </a:prstGeom>
          <a:ln w="0">
            <a:noFill/>
          </a:ln>
        </p:spPr>
      </p:pic>
      <p:pic>
        <p:nvPicPr>
          <p:cNvPr id="119" name="眼泪.wma" descr=""/>
          <p:cNvPicPr/>
          <p:nvPr/>
        </p:nvPicPr>
        <p:blipFill>
          <a:blip r:embed="rId2"/>
          <a:stretch/>
        </p:blipFill>
        <p:spPr>
          <a:xfrm>
            <a:off x="46836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30033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图片４"/>
          <p:cNvPicPr/>
          <p:nvPr/>
        </p:nvPicPr>
        <p:blipFill>
          <a:blip r:embed="rId1"/>
          <a:stretch/>
        </p:blipFill>
        <p:spPr>
          <a:xfrm>
            <a:off x="0" y="0"/>
            <a:ext cx="9144000" cy="8037360"/>
          </a:xfrm>
          <a:prstGeom prst="rect">
            <a:avLst/>
          </a:prstGeom>
          <a:ln w="0">
            <a:noFill/>
          </a:ln>
        </p:spPr>
      </p:pic>
      <p:pic>
        <p:nvPicPr>
          <p:cNvPr id="121" name="眼泪.wma" descr=""/>
          <p:cNvPicPr/>
          <p:nvPr/>
        </p:nvPicPr>
        <p:blipFill>
          <a:blip r:embed="rId2"/>
          <a:stretch/>
        </p:blipFill>
        <p:spPr>
          <a:xfrm>
            <a:off x="755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23003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052" descr="一位高官即将就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眼泪.wma" descr=""/>
          <p:cNvPicPr/>
          <p:nvPr/>
        </p:nvPicPr>
        <p:blipFill>
          <a:blip r:embed="rId2"/>
          <a:stretch/>
        </p:blipFill>
        <p:spPr>
          <a:xfrm>
            <a:off x="32400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230033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01:4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48Z</dcterms:modified>
  <cp:revision>10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