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6AB-8213-4658-8033-3D5DFD75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3AC-DB4E-4EBE-AD7B-AA4B872C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C54-293D-426C-B6D5-3C2DD202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0BA-103F-4D1C-A0BF-371F9D5A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26E8-9FA7-418B-BA70-9AFCB0F7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69AA-B8A4-4FAC-B340-BCF6F16B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8272-23A4-4435-A41A-5C4575CB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9FCA-5D28-4DE8-A189-D7C5EF61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2F0D-96E7-4E4F-9354-ABC78501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FDBC-10F5-454B-8A0D-15257462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D1C9-9E9E-473B-B95C-2F77EECD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9F7-47CD-498C-A0DF-D7DC06BF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7953-5B97-4049-BE2F-935FEF0E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79AC-D67F-4F62-BF8D-26E4FD11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3C48-433C-4169-9434-3AA62CA3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C052-1CAD-41E4-9DCB-7E0F3B17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A137-65DE-4787-80DA-7120DF50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5FB-6C30-4F1F-909F-B00D5563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6E3-1439-4B88-ABA1-4C6184B0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E21-46F9-46CE-BE08-1D932DC6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595-3045-411A-85ED-5B202BEF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C38-5A78-43D5-ABE5-AEED0AFA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7C2-2CB6-4D51-AA45-3A31AF76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C27-DD71-42B3-8BC4-7318D1D7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AA43-1231-4E2A-B3BC-DB380A5BE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12C0-3E5D-4AED-B6CE-E38618AA846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C941-7531-4A2E-9132-7831F4F7EE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2358720" y="476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乡村四月语文课件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隶书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图片4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6642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1042920" y="1052640"/>
            <a:ext cx="2737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作者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323960" y="2119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范成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419640" y="4133160"/>
            <a:ext cx="48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9966ff"/>
                </a:solidFill>
                <a:latin typeface="隶书"/>
                <a:ea typeface="隶书"/>
              </a:rPr>
              <a:t>范成大（</a:t>
            </a:r>
            <a:r>
              <a:rPr b="0" lang="en-US" sz="2800" spc="-1" strike="noStrike">
                <a:solidFill>
                  <a:srgbClr val="9966ff"/>
                </a:solidFill>
                <a:latin typeface="隶书"/>
                <a:ea typeface="隶书"/>
              </a:rPr>
              <a:t>1126-1193</a:t>
            </a:r>
            <a:r>
              <a:rPr b="0" lang="zh-CN" sz="2800" spc="-1" strike="noStrike">
                <a:solidFill>
                  <a:srgbClr val="9966ff"/>
                </a:solidFill>
                <a:latin typeface="隶书"/>
                <a:ea typeface="隶书"/>
              </a:rPr>
              <a:t>），南宋诗人。字致能，号石湖居士，吴郡（今江苏苏州市）人。虽写过不少爱国诗篇，但最著名的还是田园诗，比较全面地反映了当时的农村生活和风土人情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822560" y="2420640"/>
            <a:ext cx="4321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华文中宋"/>
                <a:ea typeface="华文中宋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8"/>
          <p:cNvSpPr/>
          <p:nvPr/>
        </p:nvSpPr>
        <p:spPr>
          <a:xfrm>
            <a:off x="900000" y="476280"/>
            <a:ext cx="2737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pic_254664"/>
          <p:cNvPicPr/>
          <p:nvPr/>
        </p:nvPicPr>
        <p:blipFill>
          <a:blip r:embed="rId3"/>
          <a:stretch/>
        </p:blipFill>
        <p:spPr>
          <a:xfrm>
            <a:off x="3924360" y="1844640"/>
            <a:ext cx="4392720" cy="4176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484600" y="8031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隶书"/>
              </a:rPr>
              <a:t>诗歌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95280" y="90792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pic_254664"/>
          <p:cNvPicPr/>
          <p:nvPr/>
        </p:nvPicPr>
        <p:blipFill>
          <a:blip r:embed="rId2"/>
          <a:stretch/>
        </p:blipFill>
        <p:spPr>
          <a:xfrm>
            <a:off x="179280" y="1628640"/>
            <a:ext cx="3313080" cy="4897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0"/>
          <p:cNvSpPr/>
          <p:nvPr/>
        </p:nvSpPr>
        <p:spPr>
          <a:xfrm>
            <a:off x="459360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80160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724360" y="37105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白天出去锄草夜里缉麻，农家儿女都能各自持家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651640" y="2565360"/>
          <a:ext cx="3024000" cy="3240000"/>
        </p:xfrm>
        <a:graphic>
          <a:graphicData uri="http://schemas.openxmlformats.org/drawingml/2006/table">
            <a:tbl>
              <a:tblPr/>
              <a:tblGrid>
                <a:gridCol w="3024000"/>
              </a:tblGrid>
              <a:tr h="3240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95280" y="90792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02560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416016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940360" y="399960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小孙子还不会耕田纺织，也靠近桑树阴处学习种瓜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867280" y="2708280"/>
          <a:ext cx="2808360" cy="345600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3456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20" descr="57"/>
          <p:cNvPicPr/>
          <p:nvPr/>
        </p:nvPicPr>
        <p:blipFill>
          <a:blip r:embed="rId2"/>
          <a:stretch/>
        </p:blipFill>
        <p:spPr>
          <a:xfrm>
            <a:off x="179280" y="1628640"/>
            <a:ext cx="3600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pic_254664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1042920" y="1268280"/>
            <a:ext cx="5113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朗读诗歌，背诵诗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8200"/>
          <p:cNvSpPr/>
          <p:nvPr/>
        </p:nvSpPr>
        <p:spPr>
          <a:xfrm>
            <a:off x="1692360" y="765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30200" y="43905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四时田园杂兴</a:t>
            </a: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共</a:t>
            </a: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60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首，宛如农村生活的长幅画卷。本篇是其中的一首，写的是夏日村庄的生活场景：男耕女织，日夜操劳，虽然辛苦，却也其乐陶陶。最精彩的是后两句。模仿是儿童的天性，农村孩子的游戏，也多是模仿大人的劳动。一个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学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字，透出儿童的天真活泼，极富生活情趣。诗中没有出现老人的形象，但称农夫农妇为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儿女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，称小孩为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童孙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，分明是老农的口吻，是一位老祖父眼中的农家乐事图。这里有写实的成分，更蕴含着诗人对田园生活的理想。语言通俗浅显，文笔清新轻巧，使人由景见情，给人以极美的艺术享受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68360" y="765000"/>
            <a:ext cx="3672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课文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69520" y="125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杂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2322000" y="1268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各种兴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169880" y="119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耘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6531840" y="1197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除去田里的杂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569520" y="17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绩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2525040" y="1773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把麻搓成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169880" y="17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未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5589000" y="1773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不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848520" y="2276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1915560" y="2276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从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4448880" y="2276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5589000" y="2276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靠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5764680" y="2205000"/>
            <a:ext cx="72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Arial"/>
                <a:ea typeface="隶书"/>
              </a:rPr>
              <a:t>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Arial"/>
                <a:ea typeface="隶书"/>
              </a:rPr>
              <a:t>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Arial"/>
                <a:ea typeface="隶书"/>
              </a:rPr>
              <a:t>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223160" y="3141720"/>
            <a:ext cx="42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539640" y="549360"/>
            <a:ext cx="2737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844800" y="1206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张志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3519360" y="34340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（约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730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约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810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唐代诗人。字子同，初名龟龄，今浙江金华人。 博学多才，歌、词、诗、画俱佳。 曾在朝廷做过官，后隐居。他的作品大多描写自己的闲居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2" descr="200667161342995"/>
          <p:cNvPicPr/>
          <p:nvPr/>
        </p:nvPicPr>
        <p:blipFill>
          <a:blip r:embed="rId3"/>
          <a:stretch/>
        </p:blipFill>
        <p:spPr>
          <a:xfrm>
            <a:off x="179280" y="1268280"/>
            <a:ext cx="316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611280" y="105264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u=3705577601,3236879972&amp;gp=2"/>
          <p:cNvPicPr/>
          <p:nvPr/>
        </p:nvPicPr>
        <p:blipFill>
          <a:blip r:embed="rId2"/>
          <a:stretch/>
        </p:blipFill>
        <p:spPr>
          <a:xfrm>
            <a:off x="324000" y="1773360"/>
            <a:ext cx="3456000" cy="47671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1"/>
          <p:cNvSpPr/>
          <p:nvPr/>
        </p:nvSpPr>
        <p:spPr>
          <a:xfrm>
            <a:off x="473652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3851280" y="1989000"/>
            <a:ext cx="53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5651640" y="249228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　　头顶青箬笠，身披绿蓑衣，斜风细雨迎面吹来，钓鱼的人不想回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580000" y="2565360"/>
          <a:ext cx="3240000" cy="363060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3630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30"/>
          <p:cNvPicPr/>
          <p:nvPr/>
        </p:nvPicPr>
        <p:blipFill>
          <a:blip r:embed="rId2"/>
          <a:stretch/>
        </p:blipFill>
        <p:spPr>
          <a:xfrm>
            <a:off x="179280" y="1268280"/>
            <a:ext cx="3168720" cy="54007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1258920" y="54936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3708360" y="1413000"/>
            <a:ext cx="46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　　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思考：诗歌中“斜风细雨不须归”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924360" y="2997360"/>
            <a:ext cx="46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诗人完全融于大自然，沉醉于无限的诗情画意中，悠然自得，自由自在，因此“斜风细雨不须归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641520" y="4096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200603092008502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430200" y="141300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同学们，在四月的春天，你们到过乡村吗？在你们心目中的乡村，是怎样的一种情景？下面我们来看看宋朝诗人翁卷是怎样来写乡村的四月的？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611280" y="105264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30"/>
          <p:cNvPicPr/>
          <p:nvPr/>
        </p:nvPicPr>
        <p:blipFill>
          <a:blip r:embed="rId2"/>
          <a:stretch/>
        </p:blipFill>
        <p:spPr>
          <a:xfrm>
            <a:off x="250920" y="1773360"/>
            <a:ext cx="3600360" cy="4730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8"/>
          <p:cNvSpPr/>
          <p:nvPr/>
        </p:nvSpPr>
        <p:spPr>
          <a:xfrm>
            <a:off x="488088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01724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5867280" y="270828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西塞山前白鹭展翅飞翔，桃花红，流水碧绿，鳜鱼正肥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651640" y="2781360"/>
          <a:ext cx="3166920" cy="3384360"/>
        </p:xfrm>
        <a:graphic>
          <a:graphicData uri="http://schemas.openxmlformats.org/drawingml/2006/table">
            <a:tbl>
              <a:tblPr/>
              <a:tblGrid>
                <a:gridCol w="3166920"/>
              </a:tblGrid>
              <a:tr h="3384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30"/>
          <p:cNvPicPr/>
          <p:nvPr/>
        </p:nvPicPr>
        <p:blipFill>
          <a:blip r:embed="rId1"/>
          <a:stretch/>
        </p:blipFill>
        <p:spPr>
          <a:xfrm>
            <a:off x="179280" y="765000"/>
            <a:ext cx="8713800" cy="5759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395280" y="907920"/>
            <a:ext cx="4105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朗读古词，并背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渔歌子 唱.mp3" descr=""/>
          <p:cNvPicPr/>
          <p:nvPr/>
        </p:nvPicPr>
        <p:blipFill>
          <a:blip r:embed="rId3"/>
          <a:stretch/>
        </p:blipFill>
        <p:spPr>
          <a:xfrm>
            <a:off x="6516720" y="14130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4" dur="123947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116000" y="105264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课文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866520" y="1811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西塞山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4262040" y="184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在今浙江省湖州市西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145520" y="2349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鳜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958920" y="24210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一种淡水鱼，味道鲜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1145520" y="2924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箬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4299120" y="2997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用竹篾、箬叶编制的斗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900000" y="3500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蓑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4392000" y="3573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用草或棕制成的防雨用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539640" y="4508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词中描写的是作者过着隐居闲散的生活，所看到的无比美妙的春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2B55-0C1F-41EA-8D12-8146FCA7D7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20060309200850232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3286800" y="2133720"/>
            <a:ext cx="227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66"/>
                </a:solidFill>
                <a:latin typeface="Arial"/>
              </a:rPr>
              <a:t>谢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755640" y="54936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作者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773160" y="134136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翁 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211640" y="4191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916360" y="353232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公元一二</a:t>
            </a:r>
            <a:r>
              <a:rPr b="0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O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三年前后在世，字续古，一字灵舒，永嘉人，为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永嘉四灵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之三。生卒年均不详，约宋宁宗嘉泰中前后在世。尝登淳祐十年（公元一一八三年）乡荐。终于布衣。工诗，与徐照等称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永嘉四灵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。卷著有苇碧轩集，已佚；又有西岩集一卷，</a:t>
            </a:r>
            <a:r>
              <a:rPr b="0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四库总目</a:t>
            </a:r>
            <a:r>
              <a:rPr b="0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今尚传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468360" y="40464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083920" y="112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课文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20060309200850232"/>
          <p:cNvPicPr/>
          <p:nvPr/>
        </p:nvPicPr>
        <p:blipFill>
          <a:blip r:embed="rId3"/>
          <a:stretch/>
        </p:blipFill>
        <p:spPr>
          <a:xfrm>
            <a:off x="3635280" y="2133720"/>
            <a:ext cx="4753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71640" y="69228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20060309200850232"/>
          <p:cNvPicPr/>
          <p:nvPr/>
        </p:nvPicPr>
        <p:blipFill>
          <a:blip r:embed="rId2"/>
          <a:stretch/>
        </p:blipFill>
        <p:spPr>
          <a:xfrm>
            <a:off x="179280" y="1413000"/>
            <a:ext cx="2737080" cy="5111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4859280" y="37141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四月的春天，万物复苏，山陵和原野上一片绿色，稻田里的水开始上涨，并映着天空的光辉；杜鹃鸟声声地叫着，天空中飘落着如烟的细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4211640" y="1916280"/>
            <a:ext cx="64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369600" y="191628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932360" y="1916280"/>
          <a:ext cx="3745080" cy="432108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4321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0060309200850232"/>
          <p:cNvPicPr/>
          <p:nvPr/>
        </p:nvPicPr>
        <p:blipFill>
          <a:blip r:embed="rId1"/>
          <a:stretch/>
        </p:blipFill>
        <p:spPr>
          <a:xfrm>
            <a:off x="179280" y="1628640"/>
            <a:ext cx="2664000" cy="4896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4088880" y="177336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080880" y="177336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042920" y="907920"/>
            <a:ext cx="2737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4859280" y="3231720"/>
            <a:ext cx="38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在乡村的四月，闲人很少，他们都很忙，他们才刚刚把蚕送上山，又忙着插秧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788000" y="2133720"/>
          <a:ext cx="3889440" cy="3168360"/>
        </p:xfrm>
        <a:graphic>
          <a:graphicData uri="http://schemas.openxmlformats.org/drawingml/2006/table">
            <a:tbl>
              <a:tblPr/>
              <a:tblGrid>
                <a:gridCol w="3889440"/>
              </a:tblGrid>
              <a:tr h="316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0060309200850232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682560" y="17017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11280" y="2205000"/>
            <a:ext cx="56163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感情朗读诗歌，背诵诗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8200"/>
          <p:cNvSpPr/>
          <p:nvPr/>
        </p:nvSpPr>
        <p:spPr>
          <a:xfrm>
            <a:off x="971640" y="3068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11280" y="32464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83664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课文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50920" y="35002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这首诗以白描手法写江南农村初夏时节的景象，前两句着重写景绿原、白川、子规、烟雨、寥寥几笔就把水乡初夏时特有的景色勾勒了出来。后两句写人，画面上主要突出在水田插秧的农民形象，从而衬托出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"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乡村四月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"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劳动的紧张、繁忙。前呼后应，交织成一幅色彩鲜明的图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56800" y="1374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山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692360" y="141300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山陵和原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682880" y="14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白满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940360" y="14130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指稻田里的水色映着天空的光辉。川，平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1280" y="21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子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2478960" y="220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杜鹃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971640" y="2781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692360" y="278136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结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6135480" y="1125360"/>
            <a:ext cx="546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367520" y="3068640"/>
            <a:ext cx="42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56Z</dcterms:modified>
  <cp:revision>6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