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3B6-4942-404A-A2D4-FD317F21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ACE-2DB5-4AE0-AE34-DB3E6340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FFF6C-9FC8-4781-8C29-69C26868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13775-E0BE-4286-9D33-60AF1F61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3AE13-4D58-499A-B7A2-FAE18B4F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ACF39-6ACB-42B4-82A9-9B2DFBFA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AA33B-A5AB-42FA-9182-80EE5FF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A825D-D593-4E15-B716-6A0F3C20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BC5C6-6723-4068-8010-C3A1097B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DEF18-8448-4537-A65A-F8E5555F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063D8-4A6F-4B7F-8772-9D5828E3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3EC4C-7461-4EE2-AB32-F3A7E1EE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7E5-F1D9-478B-88F2-4ED8A6B3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B296E-CE31-4E82-8A39-B4810CA4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4C40D-8F80-49C1-8525-A312C3E2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7A2F2-E2D7-4262-BE00-F9C1AAB2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7E724-3B84-4B5B-8199-46741DC0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045B0-2D2B-4296-8450-C231012E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CD172-B0C1-4B28-82D1-450D167C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8FF00-ACBC-4D75-B306-403F649A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936F7-A7F1-4F81-B3FC-4DD8633E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0AC44-4DC1-4F5A-9209-23B396A3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94941-410C-4744-BE54-89EA1F84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0DD-1E39-4AB6-8ABF-C4B1B8E3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3EC1C-02F6-4CCD-9364-844A78E7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68651-A449-4212-946B-80DBD211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04809-52F7-4F83-A1C3-9C0B9B62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0E766-B221-4D77-8ED6-19635A95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104FB-6668-4E59-82BB-B5545F65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5B559-F3B5-4242-A187-DFA2BAFA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353BA-86B1-4759-945E-38F28D10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2ABF0-1120-4066-AB13-90971BC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1ADA0-2FEE-49D4-9D36-B0DB3F2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EABE4-23F6-4E1C-92C3-8B2251E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9B85-A609-44D2-85A0-86BE9B96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43D55-ECE2-44D4-A580-49378E65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FB687-67BD-43CE-B7EE-9AD7C9E7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D0B40-F9DE-40C8-828B-918F2A59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067D7-E922-4580-8E06-DD7416E5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E626D-4C5C-4CD1-A7F6-EE607593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5D391-E92D-4CE8-B84B-4A152A0D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EC976-3DFA-40D7-B7BC-EC443DFB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277D3-D350-4264-8C9B-97C9F930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EE4A3-2484-4DC1-9F78-A94D30AC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1548F-D016-4032-A96E-46B929F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DBC7-9C5F-4702-B097-3181BC0F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26232-293D-4D55-8196-CC004FD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15DE6-3492-4E9A-A686-60733F3C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3E5CF-EA32-4864-B1DB-524BD3C9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A97FA-D519-45F7-9BBE-8FE8D7FA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27C4D-DD6D-4AF1-8A6D-74BBC8DA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4BD23-C907-4F1E-B34E-E922CADA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C4F59-3DCE-40D3-B1AD-F6E7F7A5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429E3-38DF-42BB-AF30-4E62C053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6913E-4F53-4D31-B6E0-DE194C38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E5422-CA6E-4006-9C47-9C12F51B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84A1-77A9-4D99-9890-FC2EE30F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A95D3-1059-404A-BC16-1891C75F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F445F-3941-453B-AF31-5FB225C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FD3B0-6AA5-42BC-9E17-D8EECCED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2E173-A94B-4C17-9A7C-1B52E5CD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21BA9-49C5-4DC8-90F7-B9DBF067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28919-B43F-40F2-9CCE-BEFD157D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00036-5249-4ACC-8A28-4B479868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23992-B2C6-49AE-B1ED-09ED3751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5E538-4461-4431-919B-E1E085A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02D9F-2B45-41E9-9F05-53B772DD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5323-0E70-4E81-886C-7A5CD06F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3D748-5D22-4309-B1E6-D36E65D1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76B41-DA56-4046-8762-2C310B64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A3070-954B-466D-B559-634A9DA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0DF01-810F-4AED-8E92-040C33E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AE992-75AC-4597-9C99-14489B3D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A3DB1-850D-4B5B-9ED1-FD12BCB3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9688E-4CA6-4119-9617-7708E082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90B72-F0DF-404F-95FF-3DACB12D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690D1-0B47-4783-86FB-B8BD8C7D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05331-4072-44B8-B94B-F72B49B8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F56F-4ACC-41E2-8F6F-C4FACE9D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B74D04-0CE6-425F-BAEC-7E3DC3B9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6E1A3-0D9D-4191-8F69-93136A64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18AE0-83F4-44E9-8CE6-39E79FF6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039F1C-D112-4F8E-A3BC-CDFD60A4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7C138-5C74-48CA-B79D-8C0782FF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93DBF-1664-421D-96C8-20369245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630B5-9A7B-41C8-842E-DF83C23B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6ABB0-5589-4CC2-93E9-EA5F1E02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0D2E6-D2E8-4404-9175-7DAED661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93CF1-5BA9-4AC9-926A-2BAB5E34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BD01-7BDB-48F9-B84C-785DD80F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78459-1CB2-425F-A348-E558C9FD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14B0A-B5D1-4DAA-B03C-6F3A8F49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5CAB6-C46B-495A-8FDC-046B2283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D5C7C-B038-4013-BD5C-F063674B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5BA59-4367-41AF-96FC-52E8B7E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71F38-F882-4A1B-8528-08CC1C83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7043F-B3E9-4550-8631-F50F9EBD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AF094-0EDF-459F-9561-7EC4E97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94296-F411-494E-9970-5D7D2F8B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10865-BB35-4958-9F7F-AFC64AB8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90C9-63EF-4F94-8E4D-0EA2A20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5A6E9-3F14-467C-83DE-AD7A791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B15F9-5CB5-4C9C-AB00-9ECA23C4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AF5D8-39FD-4361-BCFA-6CA46F2B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9F946-5720-4C58-BFF2-29716AAD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04B06-8B18-4CA7-8285-DED559EE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37700-E256-484B-A077-2FEB5FC3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7B026-3AD5-4CD4-894A-C7408EDC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70C1E-2FB9-4B62-85DC-338C0FC9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DA768-76F1-424F-98B6-CBE5AD3B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A3AD06-DA97-4257-BBFD-D52B2E5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6D8-5405-49E5-BF03-95E36AE9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CF7D-086E-4FB0-87BD-974BEAB7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5A3D0-A2DB-4479-98A1-4D82DC1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671C0-3D30-43B2-88CA-FDA9073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59A6D-A231-4781-9297-7480BA95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60A6DB-AC69-4BE6-8F68-3F95E562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F00F1-0FEC-4F95-A187-71C47B8F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BCE9-F21F-46C2-9EEB-3486949E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4F59-4F24-44CB-B2DF-62D880B5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5F0A-2AB6-44D4-8634-E168FE4F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EDC1-3DB9-477E-AC32-3F985890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3CCF-2C91-4516-AA7F-5B4F0DE9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8FA94-7E4D-4B0E-9939-26F62D8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F576-F875-4492-933B-600E50DA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3AF9-215D-42A3-8109-6EA1786B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79DE-4DEF-4088-819C-A78F8D68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377-46F3-4E39-A459-9D3C2CD8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764B-7DF4-4E78-B740-5239385C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45C5-EFC2-4105-8F1D-A53FA57E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19F7-BC40-43EC-AB25-306AF41C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3A25-B8BA-4124-9CB9-07AF533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4803-5736-47D0-A24B-451EFBED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6B09-C9A6-4F33-AED6-7CDA5606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2C18-1CC3-424C-A5E4-CC03AD8B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1D26-BFB0-4114-ABEE-A035A3ED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C866-EC21-4220-BB95-39CDE605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03B27-4441-49B7-BC62-9ABC24F2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70E-EF03-4133-AA63-52A72FFA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F55B-FCC5-4AF9-95A8-9BD3E1C4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1916-6A9B-4433-85E9-8C6B7969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46F55-D24D-4BF7-B9DE-86669742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1B48B-F656-44D4-A9E7-4485F78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D964-4C8E-43B6-B2C8-F5A72CA5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3845F-5DFB-4052-AB1B-005094F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73D6-F9F7-4312-B359-F3670A8E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03FF-C460-4F24-8D3F-04064E62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DDBCD-A4FE-41D4-A532-BB940791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B14C4-1482-4137-8CDC-99ABC473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90F-9AD7-4E3C-AE0C-E9318BEE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DD0B1-8683-4BE5-9B30-C053232F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6E125-545A-49F7-B29A-142A147F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E827-9EFD-410A-8DF3-1CF6D3F6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24C0-8194-4E4C-8E40-9E166FC4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65E1B-C4E8-4287-8C73-AAD65EE4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A851-778B-445E-8A48-EBDDFEDF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44F2D-6A2C-46C8-A52A-2F483DAE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27EC5-6416-4FA7-85E4-1870F5E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5305B-20D0-49EB-932A-FB4B3842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C51C-DDD0-4F71-9211-33096554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B8F-DFD3-4B2C-8F1B-DD322233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F897-7E68-4E39-A537-83A8FB3E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325F3-174B-4EA6-AD8F-83D6998A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D76A9-8D73-4E3D-8089-B80C845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F2AEE-238B-4B00-A17A-CE642800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6431D-C253-4CA8-8B05-CB511D3A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46AD3-1939-4C76-9251-7117FD34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9E230-3B2F-4628-ACF3-4606A795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1CDA3-B5EE-470B-BA7F-5F5017F0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AEA9E-4D83-4BB6-8E4C-42ECE27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8D20D-ABD8-49CB-8DAF-1D245CD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0D3-4D83-432B-BA5F-62EE3E18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F3E40-0F61-405A-8471-1E4943FB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F6C54-2C55-4C11-B720-A8057C64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EE152-D71D-4CE5-980E-D9AFEEAD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F8EFB-3680-487E-BE36-27547DB9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34E44-211B-418E-A77F-64B8C7DC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2C04A-A3C7-410E-96D6-38CEEA8F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76A94-1E96-441A-BA4D-C14F7301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CA68B-33A5-457B-95EE-623B4C2A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CC3F4-C4FD-45FD-AB5F-BB453138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8A1BF-9685-4EA6-B881-683E45F8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9DE-5ED6-4927-82D4-435BAB3A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CFD09-496C-40B6-A606-F359374B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C965F-00BE-4328-A258-D1065A2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712E9-12A0-4A33-BAF0-25A89A12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5C98-39E9-47A8-8FD9-25EF2EB0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E6EE4-2E35-47D0-B361-79D0F4EB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74CA8-FD26-4382-9CCC-9D027215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E9ADE-FB59-4600-B981-4E8A6B18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879EB-59AA-45E1-8522-07F1DBF0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97B9A-91B6-4E06-9E91-68B41548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D77AE-8068-40AE-89F0-E4C2371C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970-A678-429B-95EC-063FC26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961A5-D74E-4FFC-8D2D-88162CE4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16233-9B79-4D6D-B66F-D61C572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BF9F3-2836-40AB-8C9B-AE5BA41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6E9FC-E667-481A-B1A0-CAE41D86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A254A-006E-4BDA-968A-E6D06560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DE5B3-ADC3-499E-A979-0B8D1FD0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4CBCC-979D-4938-9D70-428C5278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C75CC-8806-491B-BA93-134AEA6C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8BEC1-1E0B-42E1-A6CD-C71B3BEA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2754B-939E-4D03-BCBE-219D702E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67C7-0B5A-441A-8EFD-5284E433F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2120" y="1709640"/>
              <a:ext cx="7696080" cy="360"/>
              <a:chOff x="762120" y="1709640"/>
              <a:chExt cx="7696080" cy="360"/>
            </a:xfrm>
          </p:grpSpPr>
          <p:sp>
            <p:nvSpPr>
              <p:cNvPr id="8" name="Line 9"/>
              <p:cNvSpPr/>
              <p:nvPr/>
            </p:nvSpPr>
            <p:spPr>
              <a:xfrm>
                <a:off x="762120" y="1709640"/>
                <a:ext cx="7696080" cy="0"/>
              </a:xfrm>
              <a:prstGeom prst="line">
                <a:avLst/>
              </a:prstGeom>
              <a:ln w="38160">
                <a:solidFill>
                  <a:srgbClr val="33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 txBox="1"/>
              <p:nvPr/>
            </p:nvSpPr>
            <p:spPr>
              <a:xfrm>
                <a:off x="762120" y="1709640"/>
                <a:ext cx="7696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402E-475F-4B93-A47D-5219685C7A5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4DEB-2F14-45B5-851D-9F89DF9535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2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3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D7B3-2965-4BED-B0C9-E65B9C481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683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68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718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B0D0-5A1D-4E91-AEC7-EA046DF29F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1E25-227B-4EC3-868B-FA4318D82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D184-C66B-4EC3-9F12-47B1C68E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846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47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099A-B742-4BBF-930C-F48BE902D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9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90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02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06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8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9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0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346B-846B-4556-A0D0-2B703DD0CE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95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5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7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58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959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96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6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63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964" name="Group 12"/>
                  <p:cNvGrpSpPr/>
                  <p:nvPr/>
                </p:nvGrpSpPr>
                <p:grpSpPr>
                  <a:xfrm>
                    <a:off x="5761800" y="2322360"/>
                    <a:ext cx="2559240" cy="2743200"/>
                    <a:chOff x="5761800" y="2322360"/>
                    <a:chExt cx="2559240" cy="2743200"/>
                  </a:xfrm>
                </p:grpSpPr>
                <p:sp>
                  <p:nvSpPr>
                    <p:cNvPr id="965" name="Freeform 13"/>
                    <p:cNvSpPr/>
                    <p:nvPr/>
                  </p:nvSpPr>
                  <p:spPr>
                    <a:xfrm rot="2711400">
                      <a:off x="5584320" y="3020040"/>
                      <a:ext cx="212760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66" name="Freeform 14"/>
                    <p:cNvSpPr/>
                    <p:nvPr/>
                  </p:nvSpPr>
                  <p:spPr>
                    <a:xfrm rot="2711400">
                      <a:off x="7133040" y="4144680"/>
                      <a:ext cx="11415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6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6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6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7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7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7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7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7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7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7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7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7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7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8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8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5" name="Group 33"/>
                  <p:cNvGrpSpPr/>
                  <p:nvPr/>
                </p:nvGrpSpPr>
                <p:grpSpPr>
                  <a:xfrm>
                    <a:off x="2646000" y="2474640"/>
                    <a:ext cx="2558520" cy="2741040"/>
                    <a:chOff x="2646000" y="2474640"/>
                    <a:chExt cx="2558520" cy="2741040"/>
                  </a:xfrm>
                </p:grpSpPr>
                <p:sp>
                  <p:nvSpPr>
                    <p:cNvPr id="986" name="Freeform 34"/>
                    <p:cNvSpPr/>
                    <p:nvPr/>
                  </p:nvSpPr>
                  <p:spPr>
                    <a:xfrm flipH="1" rot="18888600">
                      <a:off x="3254760" y="3172320"/>
                      <a:ext cx="21276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7" name="Freeform 35"/>
                    <p:cNvSpPr/>
                    <p:nvPr/>
                  </p:nvSpPr>
                  <p:spPr>
                    <a:xfrm flipH="1" rot="18888600">
                      <a:off x="2690640" y="4296600"/>
                      <a:ext cx="114156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8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9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9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9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00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00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00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1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1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5" name="Group 63"/>
                  <p:cNvGrpSpPr/>
                  <p:nvPr/>
                </p:nvGrpSpPr>
                <p:grpSpPr>
                  <a:xfrm>
                    <a:off x="4026960" y="335520"/>
                    <a:ext cx="1460880" cy="1885680"/>
                    <a:chOff x="4026960" y="335520"/>
                    <a:chExt cx="1460880" cy="1885680"/>
                  </a:xfrm>
                </p:grpSpPr>
                <p:sp>
                  <p:nvSpPr>
                    <p:cNvPr id="1016" name="Freeform 64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7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8" name="Group 66"/>
                  <p:cNvGrpSpPr/>
                  <p:nvPr/>
                </p:nvGrpSpPr>
                <p:grpSpPr>
                  <a:xfrm>
                    <a:off x="4448520" y="245160"/>
                    <a:ext cx="1122120" cy="1946520"/>
                    <a:chOff x="4448520" y="245160"/>
                    <a:chExt cx="1122120" cy="1946520"/>
                  </a:xfrm>
                </p:grpSpPr>
                <p:sp>
                  <p:nvSpPr>
                    <p:cNvPr id="1019" name="Freeform 67"/>
                    <p:cNvSpPr/>
                    <p:nvPr/>
                  </p:nvSpPr>
                  <p:spPr>
                    <a:xfrm flipH="1" rot="4126800">
                      <a:off x="4554360" y="1400400"/>
                      <a:ext cx="13096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0" name="Freeform 68"/>
                    <p:cNvSpPr/>
                    <p:nvPr/>
                  </p:nvSpPr>
                  <p:spPr>
                    <a:xfrm flipH="1" rot="4126800">
                      <a:off x="4418280" y="439920"/>
                      <a:ext cx="7038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2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2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27" name="Freeform 75"/>
                  <p:cNvSpPr/>
                  <p:nvPr/>
                </p:nvSpPr>
                <p:spPr>
                  <a:xfrm flipH="1" rot="4578600">
                    <a:off x="4763880" y="146376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8" name="Freeform 76"/>
                  <p:cNvSpPr/>
                  <p:nvPr/>
                </p:nvSpPr>
                <p:spPr>
                  <a:xfrm flipH="1" rot="4578600">
                    <a:off x="4792320" y="53640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029" name="Group 77"/>
                  <p:cNvGrpSpPr/>
                  <p:nvPr/>
                </p:nvGrpSpPr>
                <p:grpSpPr>
                  <a:xfrm>
                    <a:off x="5356440" y="270000"/>
                    <a:ext cx="1195200" cy="1901160"/>
                    <a:chOff x="5356440" y="270000"/>
                    <a:chExt cx="1195200" cy="1901160"/>
                  </a:xfrm>
                </p:grpSpPr>
                <p:sp>
                  <p:nvSpPr>
                    <p:cNvPr id="1030" name="Freeform 78"/>
                    <p:cNvSpPr/>
                    <p:nvPr/>
                  </p:nvSpPr>
                  <p:spPr>
                    <a:xfrm rot="17742000">
                      <a:off x="5088240" y="1418760"/>
                      <a:ext cx="130788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1" name="Freeform 79"/>
                    <p:cNvSpPr/>
                    <p:nvPr/>
                  </p:nvSpPr>
                  <p:spPr>
                    <a:xfrm rot="17742000">
                      <a:off x="5887440" y="484920"/>
                      <a:ext cx="70200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2" name="Group 80"/>
                  <p:cNvGrpSpPr/>
                  <p:nvPr/>
                </p:nvGrpSpPr>
                <p:grpSpPr>
                  <a:xfrm>
                    <a:off x="5347800" y="388800"/>
                    <a:ext cx="1891080" cy="1796400"/>
                    <a:chOff x="5347800" y="388800"/>
                    <a:chExt cx="1891080" cy="1796400"/>
                  </a:xfrm>
                </p:grpSpPr>
                <p:sp>
                  <p:nvSpPr>
                    <p:cNvPr id="1033" name="Freeform 81"/>
                    <p:cNvSpPr/>
                    <p:nvPr/>
                  </p:nvSpPr>
                  <p:spPr>
                    <a:xfrm rot="18822600">
                      <a:off x="5247720" y="1389240"/>
                      <a:ext cx="142380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5458320" y="292680"/>
                    <a:ext cx="427320" cy="1796040"/>
                    <a:chOff x="5458320" y="292680"/>
                    <a:chExt cx="427320" cy="1796040"/>
                  </a:xfrm>
                </p:grpSpPr>
                <p:sp>
                  <p:nvSpPr>
                    <p:cNvPr id="1036" name="Freeform 84"/>
                    <p:cNvSpPr/>
                    <p:nvPr/>
                  </p:nvSpPr>
                  <p:spPr>
                    <a:xfrm rot="16696200">
                      <a:off x="5008320" y="1446480"/>
                      <a:ext cx="11743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7" name="Freeform 85"/>
                    <p:cNvSpPr/>
                    <p:nvPr/>
                  </p:nvSpPr>
                  <p:spPr>
                    <a:xfrm rot="16696200">
                      <a:off x="5442120" y="532800"/>
                      <a:ext cx="63036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8" name="Group 86"/>
                  <p:cNvGrpSpPr/>
                  <p:nvPr/>
                </p:nvGrpSpPr>
                <p:grpSpPr>
                  <a:xfrm>
                    <a:off x="3062520" y="2530800"/>
                    <a:ext cx="2196360" cy="3002040"/>
                    <a:chOff x="3062520" y="2530800"/>
                    <a:chExt cx="2196360" cy="3002040"/>
                  </a:xfrm>
                </p:grpSpPr>
                <p:sp>
                  <p:nvSpPr>
                    <p:cNvPr id="1039" name="Freeform 87"/>
                    <p:cNvSpPr/>
                    <p:nvPr/>
                  </p:nvSpPr>
                  <p:spPr>
                    <a:xfrm flipH="1" rot="18336000">
                      <a:off x="3419280" y="3315240"/>
                      <a:ext cx="21272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0" name="Freeform 88"/>
                    <p:cNvSpPr/>
                    <p:nvPr/>
                  </p:nvSpPr>
                  <p:spPr>
                    <a:xfrm flipH="1" rot="18336000">
                      <a:off x="3068640" y="4592160"/>
                      <a:ext cx="114120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41" name="Group 89"/>
                  <p:cNvGrpSpPr/>
                  <p:nvPr/>
                </p:nvGrpSpPr>
                <p:grpSpPr>
                  <a:xfrm>
                    <a:off x="3791160" y="2650320"/>
                    <a:ext cx="1481400" cy="3000240"/>
                    <a:chOff x="3791160" y="2650320"/>
                    <a:chExt cx="1481400" cy="3000240"/>
                  </a:xfrm>
                </p:grpSpPr>
                <p:sp>
                  <p:nvSpPr>
                    <p:cNvPr id="1042" name="Freeform 90"/>
                    <p:cNvSpPr/>
                    <p:nvPr/>
                  </p:nvSpPr>
                  <p:spPr>
                    <a:xfrm flipH="1" rot="17543400">
                      <a:off x="3737520" y="3439440"/>
                      <a:ext cx="196488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3" name="Freeform 91"/>
                    <p:cNvSpPr/>
                    <p:nvPr/>
                  </p:nvSpPr>
                  <p:spPr>
                    <a:xfrm flipH="1" rot="17543400">
                      <a:off x="3744360" y="4744800"/>
                      <a:ext cx="105408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44" name="Group 92"/>
                  <p:cNvGrpSpPr/>
                  <p:nvPr/>
                </p:nvGrpSpPr>
                <p:grpSpPr>
                  <a:xfrm>
                    <a:off x="4509000" y="2703240"/>
                    <a:ext cx="874440" cy="2927160"/>
                    <a:chOff x="4509000" y="2703240"/>
                    <a:chExt cx="874440" cy="2927160"/>
                  </a:xfrm>
                </p:grpSpPr>
                <p:sp>
                  <p:nvSpPr>
                    <p:cNvPr id="1045" name="Freeform 93"/>
                    <p:cNvSpPr/>
                    <p:nvPr/>
                  </p:nvSpPr>
                  <p:spPr>
                    <a:xfrm flipH="1" rot="16870800">
                      <a:off x="4086720" y="348912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6" name="Freeform 94"/>
                    <p:cNvSpPr/>
                    <p:nvPr/>
                  </p:nvSpPr>
                  <p:spPr>
                    <a:xfrm flipH="1" rot="16870800">
                      <a:off x="4367520" y="480852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47" name="Group 95"/>
                  <p:cNvGrpSpPr/>
                  <p:nvPr/>
                </p:nvGrpSpPr>
                <p:grpSpPr>
                  <a:xfrm>
                    <a:off x="5677920" y="2482920"/>
                    <a:ext cx="2280240" cy="2953800"/>
                    <a:chOff x="5677920" y="2482920"/>
                    <a:chExt cx="2280240" cy="2953800"/>
                  </a:xfrm>
                </p:grpSpPr>
                <p:sp>
                  <p:nvSpPr>
                    <p:cNvPr id="1048" name="Freeform 96"/>
                    <p:cNvSpPr/>
                    <p:nvPr/>
                  </p:nvSpPr>
                  <p:spPr>
                    <a:xfrm rot="3144000">
                      <a:off x="5415840" y="3250440"/>
                      <a:ext cx="21272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9" name="Freeform 97"/>
                    <p:cNvSpPr/>
                    <p:nvPr/>
                  </p:nvSpPr>
                  <p:spPr>
                    <a:xfrm rot="3144000">
                      <a:off x="6799680" y="4497480"/>
                      <a:ext cx="11412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0" name="Group 98"/>
                  <p:cNvGrpSpPr/>
                  <p:nvPr/>
                </p:nvGrpSpPr>
                <p:grpSpPr>
                  <a:xfrm>
                    <a:off x="5648040" y="2593440"/>
                    <a:ext cx="1758240" cy="3032280"/>
                    <a:chOff x="5648040" y="2593440"/>
                    <a:chExt cx="1758240" cy="3032280"/>
                  </a:xfrm>
                </p:grpSpPr>
                <p:sp>
                  <p:nvSpPr>
                    <p:cNvPr id="1051" name="Freeform 99"/>
                    <p:cNvSpPr/>
                    <p:nvPr/>
                  </p:nvSpPr>
                  <p:spPr>
                    <a:xfrm rot="3745200">
                      <a:off x="5265000" y="3395880"/>
                      <a:ext cx="203436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2" name="Freeform 100"/>
                    <p:cNvSpPr/>
                    <p:nvPr/>
                  </p:nvSpPr>
                  <p:spPr>
                    <a:xfrm rot="3745200">
                      <a:off x="635184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3" name="Group 101"/>
                  <p:cNvGrpSpPr/>
                  <p:nvPr/>
                </p:nvGrpSpPr>
                <p:grpSpPr>
                  <a:xfrm>
                    <a:off x="5576400" y="2710800"/>
                    <a:ext cx="1224720" cy="2986560"/>
                    <a:chOff x="5576400" y="2710800"/>
                    <a:chExt cx="1224720" cy="2986560"/>
                  </a:xfrm>
                </p:grpSpPr>
                <p:sp>
                  <p:nvSpPr>
                    <p:cNvPr id="105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5" name="Freeform 103"/>
                    <p:cNvSpPr/>
                    <p:nvPr/>
                  </p:nvSpPr>
                  <p:spPr>
                    <a:xfrm rot="4286400">
                      <a:off x="5877360" y="488124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6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1057" name="Freeform 105"/>
                    <p:cNvSpPr/>
                    <p:nvPr/>
                  </p:nvSpPr>
                  <p:spPr>
                    <a:xfrm rot="4898400">
                      <a:off x="4896360" y="3608280"/>
                      <a:ext cx="181224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8" name="Freeform 106"/>
                    <p:cNvSpPr/>
                    <p:nvPr/>
                  </p:nvSpPr>
                  <p:spPr>
                    <a:xfrm rot="4898400">
                      <a:off x="5427000" y="4865760"/>
                      <a:ext cx="973080" cy="4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6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6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grpSp>
            <p:nvGrpSpPr>
              <p:cNvPr id="106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6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6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7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7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07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5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6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0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1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2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4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546E-6DD0-486D-9E86-A97451EE60A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47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9949-4956-49D1-BC49-DBD419DD71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5627-B9D5-4C05-907B-AE0C8A50B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2C4F-03A2-4BD4-B7A2-97037CD4D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206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07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1A85-7014-4024-8889-01A7E2CE3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D2FA-D410-4801-8604-2E82B7C4A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4C18-B650-4303-99E3-F656C3E27B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2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9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330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33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32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333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4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5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7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8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9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0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342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38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8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8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8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39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9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9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395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396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7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9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9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0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0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0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1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1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6" name="Group 38"/>
                <p:cNvGrpSpPr/>
                <p:nvPr/>
              </p:nvGrpSpPr>
              <p:grpSpPr>
                <a:xfrm>
                  <a:off x="6537960" y="906120"/>
                  <a:ext cx="1064880" cy="1140840"/>
                  <a:chOff x="6537960" y="906120"/>
                  <a:chExt cx="1064880" cy="1140840"/>
                </a:xfrm>
              </p:grpSpPr>
              <p:sp>
                <p:nvSpPr>
                  <p:cNvPr id="417" name="Freeform 39"/>
                  <p:cNvSpPr/>
                  <p:nvPr/>
                </p:nvSpPr>
                <p:spPr>
                  <a:xfrm flipH="1" rot="18888600">
                    <a:off x="6790680" y="1196280"/>
                    <a:ext cx="8856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8" name="Freeform 40"/>
                  <p:cNvSpPr/>
                  <p:nvPr/>
                </p:nvSpPr>
                <p:spPr>
                  <a:xfrm flipH="1" rot="18888600">
                    <a:off x="6556680" y="166428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2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2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2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3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3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3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4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4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47" name="Freeform 69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9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450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1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5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5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8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60" name="Group 82"/>
                <p:cNvGrpSpPr/>
                <p:nvPr/>
              </p:nvGrpSpPr>
              <p:grpSpPr>
                <a:xfrm>
                  <a:off x="7665480" y="-11520"/>
                  <a:ext cx="497880" cy="791280"/>
                  <a:chOff x="7665480" y="-11520"/>
                  <a:chExt cx="497880" cy="791280"/>
                </a:xfrm>
              </p:grpSpPr>
              <p:sp>
                <p:nvSpPr>
                  <p:cNvPr id="461" name="Freeform 83"/>
                  <p:cNvSpPr/>
                  <p:nvPr/>
                </p:nvSpPr>
                <p:spPr>
                  <a:xfrm rot="17742000">
                    <a:off x="7553880" y="466560"/>
                    <a:ext cx="54432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2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6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6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467" name="Freeform 89"/>
                  <p:cNvSpPr/>
                  <p:nvPr/>
                </p:nvSpPr>
                <p:spPr>
                  <a:xfrm rot="16696200">
                    <a:off x="7521480" y="478080"/>
                    <a:ext cx="4881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8" name="Freeform 90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9" name="Group 91"/>
                <p:cNvGrpSpPr/>
                <p:nvPr/>
              </p:nvGrpSpPr>
              <p:grpSpPr>
                <a:xfrm>
                  <a:off x="6710760" y="930240"/>
                  <a:ext cx="912600" cy="1248480"/>
                  <a:chOff x="6710760" y="930240"/>
                  <a:chExt cx="912600" cy="1248480"/>
                </a:xfrm>
              </p:grpSpPr>
              <p:sp>
                <p:nvSpPr>
                  <p:cNvPr id="470" name="Freeform 92"/>
                  <p:cNvSpPr/>
                  <p:nvPr/>
                </p:nvSpPr>
                <p:spPr>
                  <a:xfrm flipH="1" rot="18336000">
                    <a:off x="6858360" y="1256400"/>
                    <a:ext cx="88488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1" name="Freeform 93"/>
                  <p:cNvSpPr/>
                  <p:nvPr/>
                </p:nvSpPr>
                <p:spPr>
                  <a:xfrm flipH="1" rot="18336000">
                    <a:off x="6712920" y="178740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2" name="Group 94"/>
                <p:cNvGrpSpPr/>
                <p:nvPr/>
              </p:nvGrpSpPr>
              <p:grpSpPr>
                <a:xfrm>
                  <a:off x="7014960" y="979200"/>
                  <a:ext cx="615960" cy="1248120"/>
                  <a:chOff x="7014960" y="979200"/>
                  <a:chExt cx="615960" cy="1248120"/>
                </a:xfrm>
              </p:grpSpPr>
              <p:sp>
                <p:nvSpPr>
                  <p:cNvPr id="473" name="Freeform 95"/>
                  <p:cNvSpPr/>
                  <p:nvPr/>
                </p:nvSpPr>
                <p:spPr>
                  <a:xfrm flipH="1" rot="17543400">
                    <a:off x="6992280" y="1307520"/>
                    <a:ext cx="8175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4" name="Freeform 96"/>
                  <p:cNvSpPr/>
                  <p:nvPr/>
                </p:nvSpPr>
                <p:spPr>
                  <a:xfrm flipH="1" rot="17543400">
                    <a:off x="6995160" y="1850760"/>
                    <a:ext cx="438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7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8" name="Group 100"/>
                <p:cNvGrpSpPr/>
                <p:nvPr/>
              </p:nvGrpSpPr>
              <p:grpSpPr>
                <a:xfrm>
                  <a:off x="7799400" y="909000"/>
                  <a:ext cx="949680" cy="1229400"/>
                  <a:chOff x="7799400" y="909000"/>
                  <a:chExt cx="949680" cy="1229400"/>
                </a:xfrm>
              </p:grpSpPr>
              <p:sp>
                <p:nvSpPr>
                  <p:cNvPr id="479" name="Freeform 101"/>
                  <p:cNvSpPr/>
                  <p:nvPr/>
                </p:nvSpPr>
                <p:spPr>
                  <a:xfrm rot="3144000">
                    <a:off x="768996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0" name="Freeform 102"/>
                  <p:cNvSpPr/>
                  <p:nvPr/>
                </p:nvSpPr>
                <p:spPr>
                  <a:xfrm rot="3144000">
                    <a:off x="826668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8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48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6" name="Freeform 108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7" name="Group 109"/>
                <p:cNvGrpSpPr/>
                <p:nvPr/>
              </p:nvGrpSpPr>
              <p:grpSpPr>
                <a:xfrm>
                  <a:off x="7733520" y="1058760"/>
                  <a:ext cx="289800" cy="1155960"/>
                  <a:chOff x="7733520" y="1058760"/>
                  <a:chExt cx="289800" cy="1155960"/>
                </a:xfrm>
              </p:grpSpPr>
              <p:sp>
                <p:nvSpPr>
                  <p:cNvPr id="488" name="Freeform 110"/>
                  <p:cNvSpPr/>
                  <p:nvPr/>
                </p:nvSpPr>
                <p:spPr>
                  <a:xfrm rot="4898400">
                    <a:off x="7473240" y="1378080"/>
                    <a:ext cx="75420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9" name="Freeform 111"/>
                  <p:cNvSpPr/>
                  <p:nvPr/>
                </p:nvSpPr>
                <p:spPr>
                  <a:xfrm rot="4898400">
                    <a:off x="7693560" y="1901160"/>
                    <a:ext cx="4050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9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9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5872-748D-4018-867D-8E36C996F26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DCA4-40DD-4AFD-BDB3-4B66B6861C1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WordArt 7"/>
          <p:cNvSpPr txBox="1"/>
          <p:nvPr/>
        </p:nvSpPr>
        <p:spPr>
          <a:xfrm rot="267000">
            <a:off x="1463400" y="1360440"/>
            <a:ext cx="61434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幸福是什么语文课件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6"/>
          <p:cNvSpPr/>
          <p:nvPr/>
        </p:nvSpPr>
        <p:spPr>
          <a:xfrm>
            <a:off x="3276720" y="1557360"/>
            <a:ext cx="554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Text Box 8"/>
          <p:cNvSpPr/>
          <p:nvPr/>
        </p:nvSpPr>
        <p:spPr>
          <a:xfrm>
            <a:off x="395280" y="17733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三个青年最后明白的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“</a:t>
            </a:r>
            <a:r>
              <a:rPr b="1" lang="zh-CN" sz="1800" spc="-1" strike="noStrike">
                <a:solidFill>
                  <a:srgbClr val="ff00ff"/>
                </a:solidFill>
                <a:latin typeface="Verdana"/>
                <a:ea typeface="宋体"/>
              </a:rPr>
              <a:t>幸福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是什么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Text Box 9"/>
          <p:cNvSpPr/>
          <p:nvPr/>
        </p:nvSpPr>
        <p:spPr>
          <a:xfrm>
            <a:off x="468360" y="3068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请在课文中找出来，并划下来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Text Box 10"/>
          <p:cNvSpPr/>
          <p:nvPr/>
        </p:nvSpPr>
        <p:spPr>
          <a:xfrm>
            <a:off x="395280" y="43657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他们是如何弄明白的，都做过些什么呢，结果怎样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4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611280" y="2781360"/>
            <a:ext cx="7777080" cy="3672000"/>
          </a:xfrm>
          <a:prstGeom prst="rect">
            <a:avLst/>
          </a:prstGeom>
          <a:ln w="0">
            <a:noFill/>
          </a:ln>
        </p:spPr>
      </p:pic>
      <p:sp>
        <p:nvSpPr>
          <p:cNvPr id="1188" name="Text Box 6"/>
          <p:cNvSpPr/>
          <p:nvPr/>
        </p:nvSpPr>
        <p:spPr>
          <a:xfrm>
            <a:off x="1042920" y="26028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幸福要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靠劳动</a:t>
            </a: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要靠很好地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尽自己的义务</a:t>
            </a: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做出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  <a:ea typeface="宋体"/>
              </a:rPr>
              <a:t>对人们有益</a:t>
            </a:r>
            <a:r>
              <a:rPr b="1" lang="zh-CN" sz="1800" spc="-1" strike="noStrike">
                <a:solidFill>
                  <a:srgbClr val="3333ff"/>
                </a:solidFill>
                <a:latin typeface="Verdana"/>
                <a:ea typeface="宋体"/>
              </a:rPr>
              <a:t>的事情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4"/>
          <p:cNvSpPr/>
          <p:nvPr/>
        </p:nvSpPr>
        <p:spPr>
          <a:xfrm>
            <a:off x="755640" y="90792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Verdana"/>
                <a:ea typeface="宋体"/>
              </a:rPr>
              <a:t>结合生活实际谈谈：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755640" y="2349360"/>
            <a:ext cx="7058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Verdana"/>
                <a:ea typeface="宋体"/>
              </a:rPr>
              <a:t>你遇到过哪些让你感到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宋体"/>
              </a:rPr>
              <a:t>幸福</a:t>
            </a:r>
            <a:r>
              <a:rPr b="0" lang="zh-CN" sz="6000" spc="-1" strike="noStrike">
                <a:solidFill>
                  <a:srgbClr val="ff00ff"/>
                </a:solidFill>
                <a:latin typeface="Verdana"/>
                <a:ea typeface="宋体"/>
              </a:rPr>
              <a:t>的事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Text Box 8"/>
          <p:cNvSpPr/>
          <p:nvPr/>
        </p:nvSpPr>
        <p:spPr>
          <a:xfrm>
            <a:off x="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Verdana"/>
                <a:ea typeface="宋体"/>
              </a:rPr>
              <a:t>下去找有关</a:t>
            </a:r>
            <a:r>
              <a:rPr b="1" lang="zh-CN" sz="7200" spc="-1" strike="noStrike">
                <a:solidFill>
                  <a:srgbClr val="0000cc"/>
                </a:solidFill>
                <a:latin typeface="Arial"/>
                <a:ea typeface="宋体"/>
              </a:rPr>
              <a:t>“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宋体"/>
              </a:rPr>
              <a:t>幸福</a:t>
            </a:r>
            <a:r>
              <a:rPr b="1" lang="zh-CN" sz="7200" spc="-1" strike="noStrike">
                <a:solidFill>
                  <a:srgbClr val="0000cc"/>
                </a:solidFill>
                <a:latin typeface="Arial"/>
                <a:ea typeface="宋体"/>
              </a:rPr>
              <a:t>”</a:t>
            </a:r>
            <a:r>
              <a:rPr b="1" lang="zh-CN" sz="7200" spc="-1" strike="noStrike">
                <a:solidFill>
                  <a:srgbClr val="0000cc"/>
                </a:solidFill>
                <a:latin typeface="Verdana"/>
                <a:ea typeface="宋体"/>
              </a:rPr>
              <a:t>的名人名言或语句，把它们收集起来，与同学交流。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611280" y="3068640"/>
            <a:ext cx="3384360" cy="360"/>
            <a:chOff x="611280" y="3068640"/>
            <a:chExt cx="3384360" cy="360"/>
          </a:xfrm>
        </p:grpSpPr>
        <p:sp>
          <p:nvSpPr>
            <p:cNvPr id="1193" name="Line 9"/>
            <p:cNvSpPr/>
            <p:nvPr/>
          </p:nvSpPr>
          <p:spPr>
            <a:xfrm>
              <a:off x="611280" y="3068640"/>
              <a:ext cx="3384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4" name=""/>
            <p:cNvSpPr txBox="1"/>
            <p:nvPr/>
          </p:nvSpPr>
          <p:spPr>
            <a:xfrm>
              <a:off x="611280" y="306864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219640" y="3141720"/>
            <a:ext cx="1800360" cy="360"/>
            <a:chOff x="5219640" y="3141720"/>
            <a:chExt cx="1800360" cy="360"/>
          </a:xfrm>
        </p:grpSpPr>
        <p:sp>
          <p:nvSpPr>
            <p:cNvPr id="1196" name="Line 10"/>
            <p:cNvSpPr/>
            <p:nvPr/>
          </p:nvSpPr>
          <p:spPr>
            <a:xfrm>
              <a:off x="5219640" y="3141720"/>
              <a:ext cx="1800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"/>
            <p:cNvSpPr txBox="1"/>
            <p:nvPr/>
          </p:nvSpPr>
          <p:spPr>
            <a:xfrm>
              <a:off x="5219640" y="314172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AF80-266E-4FFC-8932-796ED5D16B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4"/>
          <p:cNvSpPr/>
          <p:nvPr/>
        </p:nvSpPr>
        <p:spPr>
          <a:xfrm>
            <a:off x="324000" y="981000"/>
            <a:ext cx="85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  <a:ea typeface="宋体"/>
              </a:rPr>
              <a:t>祝大家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Verdana"/>
                <a:ea typeface="宋体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  <a:ea typeface="宋体"/>
              </a:rPr>
              <a:t>一生幸福！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8"/>
          <p:cNvSpPr/>
          <p:nvPr/>
        </p:nvSpPr>
        <p:spPr>
          <a:xfrm>
            <a:off x="684360" y="692280"/>
            <a:ext cx="381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Verdana"/>
                <a:ea typeface="宋体"/>
              </a:rPr>
              <a:t>想想说说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Text Box 10"/>
          <p:cNvSpPr/>
          <p:nvPr/>
        </p:nvSpPr>
        <p:spPr>
          <a:xfrm>
            <a:off x="684360" y="278136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你认为什么是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细黑"/>
              </a:rPr>
              <a:t>幸福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468360" y="1413000"/>
            <a:ext cx="712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Verdana"/>
                <a:ea typeface="宋体"/>
              </a:rPr>
              <a:t>快速阅读课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宋体"/>
              </a:rPr>
              <a:t>思考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zh-CN" sz="4800" spc="-1" strike="noStrike">
                <a:solidFill>
                  <a:srgbClr val="0000ff"/>
                </a:solidFill>
                <a:latin typeface="Verdana"/>
                <a:ea typeface="宋体"/>
              </a:rPr>
              <a:t>本文讲了一个什么故事？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468360" y="4653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Verdana"/>
                <a:ea typeface="宋体"/>
              </a:rPr>
              <a:t>小组合作交流，并派代表反馈，其他同学可以补充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AutoShape 8"/>
          <p:cNvSpPr/>
          <p:nvPr/>
        </p:nvSpPr>
        <p:spPr>
          <a:xfrm rot="16200000">
            <a:off x="3740760" y="-207000"/>
            <a:ext cx="1008000" cy="813780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211680 h 8137800"/>
              <a:gd name="textAreaBottom" fmla="*/ 7926120 h 813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7"/>
                </a:lnTo>
                <a:cubicBezTo>
                  <a:pt x="10800" y="9906"/>
                  <a:pt x="5400" y="10805"/>
                  <a:pt x="0" y="10805"/>
                </a:cubicBezTo>
                <a:cubicBezTo>
                  <a:pt x="5400" y="10805"/>
                  <a:pt x="10800" y="11704"/>
                  <a:pt x="10800" y="12603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5" name="Group 14"/>
          <p:cNvGrpSpPr/>
          <p:nvPr/>
        </p:nvGrpSpPr>
        <p:grpSpPr>
          <a:xfrm>
            <a:off x="250920" y="1341360"/>
            <a:ext cx="8066160" cy="2226960"/>
            <a:chOff x="250920" y="1341360"/>
            <a:chExt cx="8066160" cy="2226960"/>
          </a:xfrm>
        </p:grpSpPr>
        <p:pic>
          <p:nvPicPr>
            <p:cNvPr id="1136" name="Picture 4" descr="图片 006"/>
            <p:cNvPicPr/>
            <p:nvPr/>
          </p:nvPicPr>
          <p:blipFill>
            <a:blip r:embed="rId1">
              <a:lum contrast="60000"/>
            </a:blip>
            <a:stretch/>
          </p:blipFill>
          <p:spPr>
            <a:xfrm>
              <a:off x="250920" y="1341360"/>
              <a:ext cx="180000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Picture 5" descr="图片 008"/>
            <p:cNvPicPr/>
            <p:nvPr/>
          </p:nvPicPr>
          <p:blipFill>
            <a:blip r:embed="rId2">
              <a:lum contrast="66000"/>
            </a:blip>
            <a:stretch/>
          </p:blipFill>
          <p:spPr>
            <a:xfrm>
              <a:off x="3059280" y="1341360"/>
              <a:ext cx="194436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Picture 6" descr="图片 009"/>
            <p:cNvPicPr/>
            <p:nvPr/>
          </p:nvPicPr>
          <p:blipFill>
            <a:blip r:embed="rId3">
              <a:lum contrast="54000"/>
            </a:blip>
            <a:stretch/>
          </p:blipFill>
          <p:spPr>
            <a:xfrm>
              <a:off x="6300720" y="1414440"/>
              <a:ext cx="2016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Text Box 11"/>
            <p:cNvSpPr/>
            <p:nvPr/>
          </p:nvSpPr>
          <p:spPr>
            <a:xfrm>
              <a:off x="1258920" y="2925720"/>
              <a:ext cx="56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三        个        牧           童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0" name="Text Box 12"/>
          <p:cNvSpPr/>
          <p:nvPr/>
        </p:nvSpPr>
        <p:spPr>
          <a:xfrm>
            <a:off x="4643280" y="44370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砌水 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Text Box 13"/>
          <p:cNvSpPr/>
          <p:nvPr/>
        </p:nvSpPr>
        <p:spPr>
          <a:xfrm>
            <a:off x="2268360" y="4437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清理老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11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755640" y="2349360"/>
            <a:ext cx="6840720" cy="3672000"/>
          </a:xfrm>
          <a:prstGeom prst="rect">
            <a:avLst/>
          </a:prstGeom>
          <a:ln w="0">
            <a:noFill/>
          </a:ln>
        </p:spPr>
      </p:pic>
      <p:sp>
        <p:nvSpPr>
          <p:cNvPr id="1143" name="AutoShape 12"/>
          <p:cNvSpPr/>
          <p:nvPr/>
        </p:nvSpPr>
        <p:spPr>
          <a:xfrm>
            <a:off x="5292720" y="981000"/>
            <a:ext cx="3672000" cy="609840"/>
          </a:xfrm>
          <a:prstGeom prst="wedgeEllipseCallout">
            <a:avLst>
              <a:gd name="adj1" fmla="val -61930"/>
              <a:gd name="adj2" fmla="val 17057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我祝你们幸福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AutoShape 13"/>
          <p:cNvSpPr/>
          <p:nvPr/>
        </p:nvSpPr>
        <p:spPr>
          <a:xfrm>
            <a:off x="684360" y="1484280"/>
            <a:ext cx="3240000" cy="576360"/>
          </a:xfrm>
          <a:prstGeom prst="wedgeEllipseCallout">
            <a:avLst>
              <a:gd name="adj1" fmla="val -14625"/>
              <a:gd name="adj2" fmla="val 33126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幸福”是什么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AutoShape 18"/>
          <p:cNvSpPr/>
          <p:nvPr/>
        </p:nvSpPr>
        <p:spPr>
          <a:xfrm>
            <a:off x="5003640" y="2133720"/>
            <a:ext cx="3924360" cy="647640"/>
          </a:xfrm>
          <a:prstGeom prst="wedgeEllipseCallout">
            <a:avLst>
              <a:gd name="adj1" fmla="val -47814"/>
              <a:gd name="adj2" fmla="val 803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自己去弄明白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5" descr="图片 006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435640" y="2852640"/>
            <a:ext cx="1295280" cy="150336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6" descr="图片 008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2771640" y="2852640"/>
            <a:ext cx="1295640" cy="15130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7" descr="图片 009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4140360" y="2852640"/>
            <a:ext cx="129672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149" name=""/>
          <p:cNvGrpSpPr/>
          <p:nvPr/>
        </p:nvGrpSpPr>
        <p:grpSpPr>
          <a:xfrm>
            <a:off x="1835280" y="4365720"/>
            <a:ext cx="3240000" cy="360"/>
            <a:chOff x="1835280" y="4365720"/>
            <a:chExt cx="3240000" cy="360"/>
          </a:xfrm>
        </p:grpSpPr>
        <p:sp>
          <p:nvSpPr>
            <p:cNvPr id="1150" name="Line 11"/>
            <p:cNvSpPr/>
            <p:nvPr/>
          </p:nvSpPr>
          <p:spPr>
            <a:xfrm flipH="1">
              <a:off x="1835280" y="4365720"/>
              <a:ext cx="3240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>
              <a:off x="1835280" y="4365720"/>
              <a:ext cx="32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4859280" y="4365720"/>
            <a:ext cx="2879640" cy="360"/>
            <a:chOff x="4859280" y="4365720"/>
            <a:chExt cx="2879640" cy="360"/>
          </a:xfrm>
        </p:grpSpPr>
        <p:sp>
          <p:nvSpPr>
            <p:cNvPr id="1153" name="Line 12"/>
            <p:cNvSpPr/>
            <p:nvPr/>
          </p:nvSpPr>
          <p:spPr>
            <a:xfrm>
              <a:off x="4859280" y="4365720"/>
              <a:ext cx="28796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4" name=""/>
            <p:cNvSpPr txBox="1"/>
            <p:nvPr/>
          </p:nvSpPr>
          <p:spPr>
            <a:xfrm>
              <a:off x="4859280" y="436572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5" name="Text Box 13"/>
          <p:cNvSpPr/>
          <p:nvPr/>
        </p:nvSpPr>
        <p:spPr>
          <a:xfrm>
            <a:off x="104292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Text Box 14"/>
          <p:cNvSpPr/>
          <p:nvPr/>
        </p:nvSpPr>
        <p:spPr>
          <a:xfrm>
            <a:off x="7956720" y="3938760"/>
            <a:ext cx="6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AutoShape 15"/>
          <p:cNvSpPr/>
          <p:nvPr/>
        </p:nvSpPr>
        <p:spPr>
          <a:xfrm rot="16200000">
            <a:off x="4572000" y="4005000"/>
            <a:ext cx="431640" cy="115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Text Box 16"/>
          <p:cNvSpPr/>
          <p:nvPr/>
        </p:nvSpPr>
        <p:spPr>
          <a:xfrm>
            <a:off x="3635280" y="4941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留在村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5000" fill="hold"/>
                                        <p:tgtEl>
                                          <p:spTgt spid="1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3" dur="5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WordArt 6"/>
          <p:cNvSpPr txBox="1"/>
          <p:nvPr/>
        </p:nvSpPr>
        <p:spPr>
          <a:xfrm>
            <a:off x="611280" y="907920"/>
            <a:ext cx="7056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十年后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14" descr="0"/>
          <p:cNvPicPr/>
          <p:nvPr/>
        </p:nvPicPr>
        <p:blipFill>
          <a:blip r:embed="rId1"/>
          <a:stretch/>
        </p:blipFill>
        <p:spPr>
          <a:xfrm>
            <a:off x="324000" y="549360"/>
            <a:ext cx="7924680" cy="5616360"/>
          </a:xfrm>
          <a:prstGeom prst="rect">
            <a:avLst/>
          </a:prstGeom>
          <a:ln w="0">
            <a:noFill/>
          </a:ln>
        </p:spPr>
      </p:pic>
      <p:sp>
        <p:nvSpPr>
          <p:cNvPr id="1161" name="Text Box 15"/>
          <p:cNvSpPr/>
          <p:nvPr/>
        </p:nvSpPr>
        <p:spPr>
          <a:xfrm>
            <a:off x="324000" y="40464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宋体"/>
              </a:rPr>
              <a:t>再次相遇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20"/>
          <p:cNvGrpSpPr/>
          <p:nvPr/>
        </p:nvGrpSpPr>
        <p:grpSpPr>
          <a:xfrm>
            <a:off x="250920" y="333360"/>
            <a:ext cx="2663640" cy="2879640"/>
            <a:chOff x="250920" y="333360"/>
            <a:chExt cx="2663640" cy="2879640"/>
          </a:xfrm>
        </p:grpSpPr>
        <p:pic>
          <p:nvPicPr>
            <p:cNvPr id="1163" name="Picture 5" descr="图片 008"/>
            <p:cNvPicPr/>
            <p:nvPr/>
          </p:nvPicPr>
          <p:blipFill>
            <a:blip r:embed="rId1">
              <a:lum contrast="66000"/>
            </a:blip>
            <a:stretch/>
          </p:blipFill>
          <p:spPr>
            <a:xfrm>
              <a:off x="250920" y="333360"/>
              <a:ext cx="2663640" cy="208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4" name=""/>
            <p:cNvGrpSpPr/>
            <p:nvPr/>
          </p:nvGrpSpPr>
          <p:grpSpPr>
            <a:xfrm>
              <a:off x="1329840" y="2349360"/>
              <a:ext cx="2160" cy="863640"/>
              <a:chOff x="1329840" y="2349360"/>
              <a:chExt cx="2160" cy="863640"/>
            </a:xfrm>
          </p:grpSpPr>
          <p:sp>
            <p:nvSpPr>
              <p:cNvPr id="1165" name="Line 7"/>
              <p:cNvSpPr/>
              <p:nvPr/>
            </p:nvSpPr>
            <p:spPr>
              <a:xfrm flipH="1">
                <a:off x="1329840" y="2349360"/>
                <a:ext cx="1800" cy="8636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6" name=""/>
              <p:cNvSpPr txBox="1"/>
              <p:nvPr/>
            </p:nvSpPr>
            <p:spPr>
              <a:xfrm>
                <a:off x="1330200" y="2349360"/>
                <a:ext cx="180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67" name="Group 21"/>
          <p:cNvGrpSpPr/>
          <p:nvPr/>
        </p:nvGrpSpPr>
        <p:grpSpPr>
          <a:xfrm>
            <a:off x="3348000" y="333360"/>
            <a:ext cx="2592360" cy="2751120"/>
            <a:chOff x="3348000" y="333360"/>
            <a:chExt cx="2592360" cy="2751120"/>
          </a:xfrm>
        </p:grpSpPr>
        <p:pic>
          <p:nvPicPr>
            <p:cNvPr id="1168" name="Picture 6" descr="图片 009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3348000" y="333360"/>
              <a:ext cx="2592360" cy="211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9" name=""/>
            <p:cNvGrpSpPr/>
            <p:nvPr/>
          </p:nvGrpSpPr>
          <p:grpSpPr>
            <a:xfrm>
              <a:off x="4716360" y="2421000"/>
              <a:ext cx="360" cy="663480"/>
              <a:chOff x="4716360" y="2421000"/>
              <a:chExt cx="360" cy="663480"/>
            </a:xfrm>
          </p:grpSpPr>
          <p:sp>
            <p:nvSpPr>
              <p:cNvPr id="1170" name="Line 8"/>
              <p:cNvSpPr/>
              <p:nvPr/>
            </p:nvSpPr>
            <p:spPr>
              <a:xfrm>
                <a:off x="4716360" y="2421000"/>
                <a:ext cx="0" cy="6634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1" name=""/>
              <p:cNvSpPr txBox="1"/>
              <p:nvPr/>
            </p:nvSpPr>
            <p:spPr>
              <a:xfrm>
                <a:off x="4716360" y="2421000"/>
                <a:ext cx="360" cy="6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72" name="Group 22"/>
          <p:cNvGrpSpPr/>
          <p:nvPr/>
        </p:nvGrpSpPr>
        <p:grpSpPr>
          <a:xfrm>
            <a:off x="6227640" y="333360"/>
            <a:ext cx="2665440" cy="2933640"/>
            <a:chOff x="6227640" y="333360"/>
            <a:chExt cx="2665440" cy="2933640"/>
          </a:xfrm>
        </p:grpSpPr>
        <p:pic>
          <p:nvPicPr>
            <p:cNvPr id="1173" name="Picture 4" descr="图片 006"/>
            <p:cNvPicPr/>
            <p:nvPr/>
          </p:nvPicPr>
          <p:blipFill>
            <a:blip r:embed="rId3">
              <a:lum contrast="60000"/>
            </a:blip>
            <a:stretch/>
          </p:blipFill>
          <p:spPr>
            <a:xfrm>
              <a:off x="6227640" y="333360"/>
              <a:ext cx="2665440" cy="201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4" name=""/>
            <p:cNvGrpSpPr/>
            <p:nvPr/>
          </p:nvGrpSpPr>
          <p:grpSpPr>
            <a:xfrm>
              <a:off x="7885080" y="2421000"/>
              <a:ext cx="1800" cy="846000"/>
              <a:chOff x="7885080" y="2421000"/>
              <a:chExt cx="1800" cy="846000"/>
            </a:xfrm>
          </p:grpSpPr>
          <p:sp>
            <p:nvSpPr>
              <p:cNvPr id="1175" name="Line 9"/>
              <p:cNvSpPr/>
              <p:nvPr/>
            </p:nvSpPr>
            <p:spPr>
              <a:xfrm>
                <a:off x="7885080" y="2421000"/>
                <a:ext cx="1800" cy="84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6" name=""/>
              <p:cNvSpPr txBox="1"/>
              <p:nvPr/>
            </p:nvSpPr>
            <p:spPr>
              <a:xfrm>
                <a:off x="7885080" y="2421000"/>
                <a:ext cx="1800" cy="84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77" name="Text Box 11"/>
          <p:cNvSpPr/>
          <p:nvPr/>
        </p:nvSpPr>
        <p:spPr>
          <a:xfrm>
            <a:off x="179280" y="3141720"/>
            <a:ext cx="18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做医生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宋体"/>
              </a:rPr>
              <a:t>帮助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别人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Text Box 12"/>
          <p:cNvSpPr/>
          <p:nvPr/>
        </p:nvSpPr>
        <p:spPr>
          <a:xfrm>
            <a:off x="3564000" y="3213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做过许多事（对别人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宋体"/>
              </a:rPr>
              <a:t>有用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Text Box 13"/>
          <p:cNvSpPr/>
          <p:nvPr/>
        </p:nvSpPr>
        <p:spPr>
          <a:xfrm>
            <a:off x="6551640" y="32846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耕地种麦子（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宋体"/>
              </a:rPr>
              <a:t>养活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许多人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AutoShape 14"/>
          <p:cNvSpPr/>
          <p:nvPr/>
        </p:nvSpPr>
        <p:spPr>
          <a:xfrm rot="16200000">
            <a:off x="4361040" y="795240"/>
            <a:ext cx="419040" cy="9144000"/>
          </a:xfrm>
          <a:custGeom>
            <a:avLst/>
            <a:gdLst>
              <a:gd name="textAreaLeft" fmla="*/ 267840 w 419040"/>
              <a:gd name="textAreaRight" fmla="*/ 419400 w 419040"/>
              <a:gd name="textAreaTop" fmla="*/ 237960 h 9144000"/>
              <a:gd name="textAreaBottom" fmla="*/ 890604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Text Box 15"/>
          <p:cNvSpPr/>
          <p:nvPr/>
        </p:nvSpPr>
        <p:spPr>
          <a:xfrm>
            <a:off x="3419640" y="5877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感到幸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文本框 8200"/>
          <p:cNvSpPr/>
          <p:nvPr/>
        </p:nvSpPr>
        <p:spPr>
          <a:xfrm>
            <a:off x="1332000" y="263700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omic Sans MS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1:16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22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