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ECF-3B87-4A60-983D-A7BE4465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945-FE39-4F39-B342-4ED15DD2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CA0-DDFD-4DC0-920F-A11F1871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7CA-0B56-4202-BD2D-C07E978A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7C33-CC4B-4914-99F9-06D164E4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128D-A763-4F15-8237-1D99799F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90EA-2FF7-4106-BAEB-ABCE72CB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7E6E-62AF-4173-9E51-F1D48A20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C7C8-4757-44AB-A65A-739351EE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D251-3758-4211-A433-A06EC316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9AA8-FD4C-4A96-9E11-470A2661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AFC-2AD2-4498-8FEA-C4E0DC42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955E-8C2B-44E0-B7C6-A20A8CF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7220-ECF9-4A1D-B47F-3DBAAEFB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701E-E1D0-42E3-92A0-FAABAF21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F6CE-2DD9-4305-8AFF-08572C40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3BD5-DCBB-401D-B265-5339B374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6B8C-327B-49BE-BBBF-94C837AC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1CD2-9E2F-4FE8-894B-A6546697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B2F9-121C-414D-9E34-A8EB914D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B3C8-9BB2-4725-9B2D-36E61A61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26AF7-0D9B-4330-AC6F-71D80D6B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048-D5B5-4D1A-ACD6-5265F612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E04F-83B2-444F-8AEC-B40008C7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B59FC-ABC5-42E7-B1BF-CE51C9FD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B8BE-A7F8-4CE9-BB6F-49E0D67F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9D3AD-856A-4440-A1D5-26E8CD8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1E84-620C-4AD0-8631-AB3E230B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20E3A-FFB7-4E15-B141-C0C0C340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F1EF-6789-4CE3-AABB-EA2E898E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2AEF-0CAA-432C-AA1C-CD9E7567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33CC-5BEA-4F52-A0DE-87506218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4B83-9F93-4BDC-9EDF-CBC1C8CB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093-9D6A-4114-ACC2-C40D3EB0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20424-504D-4169-A459-3ECC5CC4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4A773-2E58-4B85-BC77-BE0700A0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C013-816D-4C92-8C62-DD304EDA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C158-2FCA-4A9F-843C-75576870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95E9-9EBB-421F-B991-1980352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FAE74-FA89-4BCF-9318-4F42EC93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AACE9-F855-4891-9B11-36431A2F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26529-1FA1-40CD-88D9-62334F9F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DE09-F0DF-4AC1-8C57-ABD53A1F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138-A581-4089-AA6D-CD9D95CE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74B-825F-4EE4-AFA1-589B9E88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E6E-6AFF-43C4-9A46-3D49DAD2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696-6405-430F-8FD1-30D2CE12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F68-52B1-41FF-B1F7-760FBA03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F720-90AA-4D3E-8A67-DC89EA0D9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A7E7-1BBE-44BE-B133-DF974C48D7D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51FC-602B-4750-9E08-D6E3CFF96F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B2A3-9F07-4D40-B90A-B7F171336B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ANABNR2"/>
          <p:cNvPicPr/>
          <p:nvPr/>
        </p:nvPicPr>
        <p:blipFill>
          <a:blip r:embed="rId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89A6-9188-4BEB-8223-C8D543F85C0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228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P32043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971640" y="404640"/>
            <a:ext cx="602928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西门豹语文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24000" y="1208160"/>
            <a:ext cx="86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邺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田地荒芜      人烟稀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河伯      巫婆       官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提心吊胆      面如土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扑腾   磕头求饶    淌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娶媳妇   闹旱灾  开凿渠道   灌溉庄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我会猜"/>
          <p:cNvPicPr/>
          <p:nvPr/>
        </p:nvPicPr>
        <p:blipFill>
          <a:blip r:embed="rId2"/>
          <a:stretch/>
        </p:blipFill>
        <p:spPr>
          <a:xfrm>
            <a:off x="0" y="0"/>
            <a:ext cx="16923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684360" y="2147760"/>
            <a:ext cx="82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　　战国时候，魏王派西门豹去管理邺这个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楷体"/>
              </a:rPr>
              <a:t>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管理前？管理后？怎么管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4"/>
          <p:cNvPicPr/>
          <p:nvPr/>
        </p:nvPicPr>
        <p:blipFill>
          <a:blip r:embed="rId3"/>
          <a:stretch/>
        </p:blipFill>
        <p:spPr>
          <a:xfrm>
            <a:off x="0" y="176040"/>
            <a:ext cx="24112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042920" y="2565360"/>
            <a:ext cx="5977080" cy="360"/>
            <a:chOff x="1042920" y="2565360"/>
            <a:chExt cx="5977080" cy="360"/>
          </a:xfrm>
        </p:grpSpPr>
        <p:sp>
          <p:nvSpPr>
            <p:cNvPr id="186" name="Line 3"/>
            <p:cNvSpPr/>
            <p:nvPr/>
          </p:nvSpPr>
          <p:spPr>
            <a:xfrm>
              <a:off x="1042920" y="2565360"/>
              <a:ext cx="59770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042920" y="256536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4"/>
          <p:cNvSpPr/>
          <p:nvPr/>
        </p:nvSpPr>
        <p:spPr>
          <a:xfrm>
            <a:off x="971640" y="1125360"/>
            <a:ext cx="6840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　　西门豹到了那里，看到田地荒芜，人烟稀少，就找了位老大爷，问他是怎么回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西门豹"/>
          <p:cNvPicPr/>
          <p:nvPr/>
        </p:nvPicPr>
        <p:blipFill>
          <a:blip r:embed="rId3"/>
          <a:stretch/>
        </p:blipFill>
        <p:spPr>
          <a:xfrm>
            <a:off x="395280" y="189000"/>
            <a:ext cx="4100400" cy="630864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8200"/>
          <p:cNvSpPr/>
          <p:nvPr/>
        </p:nvSpPr>
        <p:spPr>
          <a:xfrm>
            <a:off x="4500720" y="15573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西门豹先叫卫士把巫婆投进河里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等了一会儿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他又叫卫士把官绅头子投进河里；接着，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面对漳河站了很久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又要叫卫士把官绅们扔进河里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过了一会儿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他才让官绅们回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1044720" y="620640"/>
            <a:ext cx="8064360" cy="5416920"/>
            <a:chOff x="1044720" y="620640"/>
            <a:chExt cx="8064360" cy="5416920"/>
          </a:xfrm>
        </p:grpSpPr>
        <p:sp>
          <p:nvSpPr>
            <p:cNvPr id="198" name="Text Box 4"/>
            <p:cNvSpPr/>
            <p:nvPr/>
          </p:nvSpPr>
          <p:spPr>
            <a:xfrm>
              <a:off x="1684440" y="620640"/>
              <a:ext cx="231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默读课文，填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"/>
            <p:cNvSpPr/>
            <p:nvPr/>
          </p:nvSpPr>
          <p:spPr>
            <a:xfrm>
              <a:off x="1044720" y="1789200"/>
              <a:ext cx="806436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2176560" y="21542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044720" y="1573200"/>
              <a:ext cx="7559640" cy="360"/>
              <a:chOff x="1044720" y="1573200"/>
              <a:chExt cx="7559640" cy="360"/>
            </a:xfrm>
          </p:grpSpPr>
          <p:sp>
            <p:nvSpPr>
              <p:cNvPr id="202" name="Line 7"/>
              <p:cNvSpPr/>
              <p:nvPr/>
            </p:nvSpPr>
            <p:spPr>
              <a:xfrm>
                <a:off x="1044720" y="157320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1044720" y="157320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044720" y="1573200"/>
              <a:ext cx="360" cy="4464000"/>
              <a:chOff x="1044720" y="1573200"/>
              <a:chExt cx="360" cy="4464000"/>
            </a:xfrm>
          </p:grpSpPr>
          <p:sp>
            <p:nvSpPr>
              <p:cNvPr id="205" name="Line 8"/>
              <p:cNvSpPr/>
              <p:nvPr/>
            </p:nvSpPr>
            <p:spPr>
              <a:xfrm>
                <a:off x="1044720" y="1573200"/>
                <a:ext cx="0" cy="44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1044720" y="1573200"/>
                <a:ext cx="360" cy="446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044720" y="6037200"/>
              <a:ext cx="7559640" cy="360"/>
              <a:chOff x="1044720" y="6037200"/>
              <a:chExt cx="7559640" cy="360"/>
            </a:xfrm>
          </p:grpSpPr>
          <p:sp>
            <p:nvSpPr>
              <p:cNvPr id="208" name="Line 9"/>
              <p:cNvSpPr/>
              <p:nvPr/>
            </p:nvSpPr>
            <p:spPr>
              <a:xfrm>
                <a:off x="1044720" y="603720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1044720" y="603720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8604360" y="1573200"/>
              <a:ext cx="360" cy="4464000"/>
              <a:chOff x="8604360" y="1573200"/>
              <a:chExt cx="360" cy="4464000"/>
            </a:xfrm>
          </p:grpSpPr>
          <p:sp>
            <p:nvSpPr>
              <p:cNvPr id="211" name="Line 10"/>
              <p:cNvSpPr/>
              <p:nvPr/>
            </p:nvSpPr>
            <p:spPr>
              <a:xfrm>
                <a:off x="8604360" y="1573200"/>
                <a:ext cx="0" cy="44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8604360" y="1573200"/>
                <a:ext cx="360" cy="446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044720" y="2436840"/>
              <a:ext cx="7559640" cy="360"/>
              <a:chOff x="1044720" y="2436840"/>
              <a:chExt cx="7559640" cy="360"/>
            </a:xfrm>
          </p:grpSpPr>
          <p:sp>
            <p:nvSpPr>
              <p:cNvPr id="214" name="Line 11"/>
              <p:cNvSpPr/>
              <p:nvPr/>
            </p:nvSpPr>
            <p:spPr>
              <a:xfrm>
                <a:off x="1044720" y="243684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1044720" y="243684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044720" y="3301920"/>
              <a:ext cx="7559640" cy="360"/>
              <a:chOff x="1044720" y="3301920"/>
              <a:chExt cx="7559640" cy="360"/>
            </a:xfrm>
          </p:grpSpPr>
          <p:sp>
            <p:nvSpPr>
              <p:cNvPr id="217" name="Line 12"/>
              <p:cNvSpPr/>
              <p:nvPr/>
            </p:nvSpPr>
            <p:spPr>
              <a:xfrm>
                <a:off x="1044720" y="330192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1044720" y="330192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044720" y="4165560"/>
              <a:ext cx="7559640" cy="360"/>
              <a:chOff x="1044720" y="4165560"/>
              <a:chExt cx="7559640" cy="360"/>
            </a:xfrm>
          </p:grpSpPr>
          <p:sp>
            <p:nvSpPr>
              <p:cNvPr id="220" name="Line 13"/>
              <p:cNvSpPr/>
              <p:nvPr/>
            </p:nvSpPr>
            <p:spPr>
              <a:xfrm>
                <a:off x="1044720" y="416556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1044720" y="416556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044720" y="5102280"/>
              <a:ext cx="7559640" cy="360"/>
              <a:chOff x="1044720" y="5102280"/>
              <a:chExt cx="7559640" cy="360"/>
            </a:xfrm>
          </p:grpSpPr>
          <p:sp>
            <p:nvSpPr>
              <p:cNvPr id="223" name="Line 14"/>
              <p:cNvSpPr/>
              <p:nvPr/>
            </p:nvSpPr>
            <p:spPr>
              <a:xfrm>
                <a:off x="1044720" y="510228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1044720" y="510228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365640" y="1573200"/>
              <a:ext cx="360" cy="4464000"/>
              <a:chOff x="3365640" y="1573200"/>
              <a:chExt cx="360" cy="4464000"/>
            </a:xfrm>
          </p:grpSpPr>
          <p:sp>
            <p:nvSpPr>
              <p:cNvPr id="226" name="Line 15"/>
              <p:cNvSpPr/>
              <p:nvPr/>
            </p:nvSpPr>
            <p:spPr>
              <a:xfrm>
                <a:off x="3365640" y="1573200"/>
                <a:ext cx="0" cy="44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3365640" y="1573200"/>
                <a:ext cx="360" cy="446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232240" y="1573200"/>
              <a:ext cx="360" cy="4464000"/>
              <a:chOff x="5232240" y="1573200"/>
              <a:chExt cx="360" cy="4464000"/>
            </a:xfrm>
          </p:grpSpPr>
          <p:sp>
            <p:nvSpPr>
              <p:cNvPr id="229" name="Line 16"/>
              <p:cNvSpPr/>
              <p:nvPr/>
            </p:nvSpPr>
            <p:spPr>
              <a:xfrm>
                <a:off x="5232240" y="1573200"/>
                <a:ext cx="0" cy="44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5232240" y="1573200"/>
                <a:ext cx="360" cy="446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17"/>
            <p:cNvSpPr/>
            <p:nvPr/>
          </p:nvSpPr>
          <p:spPr>
            <a:xfrm>
              <a:off x="1842480" y="171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问什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1483560" y="2581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这是怎么回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9"/>
            <p:cNvSpPr/>
            <p:nvPr/>
          </p:nvSpPr>
          <p:spPr>
            <a:xfrm>
              <a:off x="1483560" y="337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这话是谁说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0"/>
            <p:cNvSpPr/>
            <p:nvPr/>
          </p:nvSpPr>
          <p:spPr>
            <a:xfrm>
              <a:off x="1483560" y="44528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新娘哪儿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1"/>
            <p:cNvSpPr/>
            <p:nvPr/>
          </p:nvSpPr>
          <p:spPr>
            <a:xfrm>
              <a:off x="1545120" y="531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漳河发过大水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3785760" y="1717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为什么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6025320" y="1717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了解到的情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3785760" y="2581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真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6086880" y="2581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河伯娶媳妇闹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3785760" y="3444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主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6350760" y="35179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巫婆、官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8"/>
            <p:cNvSpPr/>
            <p:nvPr/>
          </p:nvSpPr>
          <p:spPr>
            <a:xfrm>
              <a:off x="3847320" y="44528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受害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9"/>
            <p:cNvSpPr/>
            <p:nvPr/>
          </p:nvSpPr>
          <p:spPr>
            <a:xfrm>
              <a:off x="5962680" y="44528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没钱的人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0"/>
            <p:cNvSpPr/>
            <p:nvPr/>
          </p:nvSpPr>
          <p:spPr>
            <a:xfrm>
              <a:off x="3785760" y="5389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效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1"/>
            <p:cNvSpPr/>
            <p:nvPr/>
          </p:nvSpPr>
          <p:spPr>
            <a:xfrm>
              <a:off x="6148800" y="53895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没发大水倒闹旱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B0C5-88F2-4FC0-B159-7946D926AD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2"/>
          <p:cNvSpPr txBox="1"/>
          <p:nvPr/>
        </p:nvSpPr>
        <p:spPr>
          <a:xfrm>
            <a:off x="468360" y="404640"/>
            <a:ext cx="309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拓展延伸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52" name="Picture 3" descr="图片1"/>
          <p:cNvPicPr/>
          <p:nvPr/>
        </p:nvPicPr>
        <p:blipFill>
          <a:blip r:embed="rId2"/>
          <a:stretch/>
        </p:blipFill>
        <p:spPr>
          <a:xfrm>
            <a:off x="3708360" y="333360"/>
            <a:ext cx="1584360" cy="98568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1332000" y="2708280"/>
            <a:ext cx="67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学了这篇课文，你有什么想法？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4:34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33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