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7E7-A466-4D92-B088-2CEB483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760-729E-4BEE-9397-948505D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52D-09BF-442A-8766-550F639D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9CF-3AAA-4332-8B41-04C08950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D30-24F7-4709-8E4C-1F300EB7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E65-4A6C-4035-8412-4CC9B11F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D40A-A32C-420F-AD2A-974EF61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701-9E44-414A-821B-DAD7BC5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924-1EB2-4E53-8945-5CCA4FE7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2F1-BA00-4662-8880-217120A9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123-BD91-495F-B996-7128EAF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E57-AA05-42C6-8249-06B26478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501B-F5E9-400A-886B-8813572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A599-5749-4439-A42D-0C4C862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FA8-6939-4A4D-A038-CFCA88A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338-988E-48BD-B9E1-9F55EED6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825A-DB05-4524-867C-A844AE50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CCD-A66F-42DB-973F-96E1050B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BC3-46D1-455C-8942-EFC07518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247-D412-4372-82FB-286273E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ACF-4A47-4A44-85E2-AB6D7A62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B14-AAEE-47C4-B2D7-BAAA64A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D18-B247-4FC9-A63B-7816DC8B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C0E-FCF2-4EEF-83E9-C99C710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5AF-0DF2-49F3-980A-3B29A104EB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6C0-B038-4429-A64E-5D4DBC448CB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C1B-698D-45AC-A588-F530633DDD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760320" y="768240"/>
            <a:ext cx="7559640" cy="546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9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小学加法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u=2623876663,2082799957&amp;fm=52&amp;gp=0[1]"/>
          <p:cNvPicPr/>
          <p:nvPr/>
        </p:nvPicPr>
        <p:blipFill>
          <a:blip r:embed="rId1"/>
          <a:stretch/>
        </p:blipFill>
        <p:spPr>
          <a:xfrm>
            <a:off x="-34920" y="0"/>
            <a:ext cx="9204480" cy="68706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2556000" y="1341360"/>
            <a:ext cx="410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连 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3" descr=""/>
          <p:cNvPicPr/>
          <p:nvPr/>
        </p:nvPicPr>
        <p:blipFill>
          <a:blip r:embed="rId1"/>
          <a:stretch/>
        </p:blipFill>
        <p:spPr>
          <a:xfrm>
            <a:off x="38160" y="120600"/>
            <a:ext cx="9063000" cy="49658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2625840" y="22795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292720" y="271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164360" y="28558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4000" y="52293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共有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ject 3" descr=""/>
          <p:cNvPicPr/>
          <p:nvPr/>
        </p:nvPicPr>
        <p:blipFill>
          <a:blip r:embed="rId1"/>
          <a:stretch/>
        </p:blipFill>
        <p:spPr>
          <a:xfrm>
            <a:off x="254160" y="47520"/>
            <a:ext cx="8638920" cy="42483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7451640" y="199080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5292720" y="22068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979640" y="189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原来有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96720" y="39751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剩几只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211640" y="117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3708360" y="4726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292720" y="4726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29272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7451640" y="198900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6804000" y="465624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3780000" y="566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3492360" y="5516280"/>
            <a:ext cx="1295280" cy="289080"/>
            <a:chOff x="3492360" y="5516280"/>
            <a:chExt cx="1295280" cy="289080"/>
          </a:xfrm>
        </p:grpSpPr>
        <p:grpSp>
          <p:nvGrpSpPr>
            <p:cNvPr id="374" name=""/>
            <p:cNvGrpSpPr/>
            <p:nvPr/>
          </p:nvGrpSpPr>
          <p:grpSpPr>
            <a:xfrm>
              <a:off x="3492360" y="5516640"/>
              <a:ext cx="360" cy="288360"/>
              <a:chOff x="3492360" y="5516640"/>
              <a:chExt cx="360" cy="288360"/>
            </a:xfrm>
          </p:grpSpPr>
          <p:sp>
            <p:nvSpPr>
              <p:cNvPr id="375" name="Line 16"/>
              <p:cNvSpPr/>
              <p:nvPr/>
            </p:nvSpPr>
            <p:spPr>
              <a:xfrm>
                <a:off x="3492360" y="5516640"/>
                <a:ext cx="360" cy="28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3492360" y="551664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92360" y="5805000"/>
              <a:ext cx="1294920" cy="360"/>
              <a:chOff x="3492360" y="5805000"/>
              <a:chExt cx="1294920" cy="360"/>
            </a:xfrm>
          </p:grpSpPr>
          <p:sp>
            <p:nvSpPr>
              <p:cNvPr id="378" name="Line 17"/>
              <p:cNvSpPr/>
              <p:nvPr/>
            </p:nvSpPr>
            <p:spPr>
              <a:xfrm>
                <a:off x="3492360" y="5805000"/>
                <a:ext cx="129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3492360" y="5805000"/>
                <a:ext cx="129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786920" y="5516280"/>
              <a:ext cx="720" cy="288360"/>
              <a:chOff x="4786920" y="5516280"/>
              <a:chExt cx="720" cy="288360"/>
            </a:xfrm>
          </p:grpSpPr>
          <p:sp>
            <p:nvSpPr>
              <p:cNvPr id="381" name="Line 18"/>
              <p:cNvSpPr/>
              <p:nvPr/>
            </p:nvSpPr>
            <p:spPr>
              <a:xfrm flipV="1">
                <a:off x="4787280" y="5516280"/>
                <a:ext cx="360" cy="28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4786920" y="551628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9"/>
          <p:cNvGrpSpPr/>
          <p:nvPr/>
        </p:nvGrpSpPr>
        <p:grpSpPr>
          <a:xfrm>
            <a:off x="4427640" y="5444640"/>
            <a:ext cx="2017440" cy="794160"/>
            <a:chOff x="4427640" y="5444640"/>
            <a:chExt cx="2017440" cy="794160"/>
          </a:xfrm>
        </p:grpSpPr>
        <p:grpSp>
          <p:nvGrpSpPr>
            <p:cNvPr id="384" name=""/>
            <p:cNvGrpSpPr/>
            <p:nvPr/>
          </p:nvGrpSpPr>
          <p:grpSpPr>
            <a:xfrm>
              <a:off x="4427640" y="6238080"/>
              <a:ext cx="2015640" cy="720"/>
              <a:chOff x="4427640" y="6238080"/>
              <a:chExt cx="2015640" cy="720"/>
            </a:xfrm>
          </p:grpSpPr>
          <p:sp>
            <p:nvSpPr>
              <p:cNvPr id="385" name="Line 20"/>
              <p:cNvSpPr/>
              <p:nvPr/>
            </p:nvSpPr>
            <p:spPr>
              <a:xfrm>
                <a:off x="4427640" y="6238080"/>
                <a:ext cx="201564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4427640" y="6238080"/>
                <a:ext cx="20156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442920" y="5444640"/>
              <a:ext cx="2160" cy="793080"/>
              <a:chOff x="6442920" y="5444640"/>
              <a:chExt cx="2160" cy="793080"/>
            </a:xfrm>
          </p:grpSpPr>
          <p:sp>
            <p:nvSpPr>
              <p:cNvPr id="388" name="Line 21"/>
              <p:cNvSpPr/>
              <p:nvPr/>
            </p:nvSpPr>
            <p:spPr>
              <a:xfrm flipV="1">
                <a:off x="6443280" y="5444640"/>
                <a:ext cx="1800" cy="79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 rot="10800000">
                <a:off x="6442920" y="5444640"/>
                <a:ext cx="1800" cy="79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2"/>
          <p:cNvSpPr/>
          <p:nvPr/>
        </p:nvSpPr>
        <p:spPr>
          <a:xfrm>
            <a:off x="7453440" y="465444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672222 E">
                                      <p:cBhvr>
                                        <p:cTn id="46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75 0.367778 E">
                                      <p:cBhvr>
                                        <p:cTn id="47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736 0.388796 E">
                                      <p:cBhvr>
                                        <p:cTn id="4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Object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26520" cy="40323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1692360" y="-38412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3995640" y="162864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804000" y="170172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900000" y="44388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7"/>
          <p:cNvGrpSpPr/>
          <p:nvPr/>
        </p:nvGrpSpPr>
        <p:grpSpPr>
          <a:xfrm>
            <a:off x="1620720" y="5302080"/>
            <a:ext cx="1871280" cy="216360"/>
            <a:chOff x="1620720" y="5302080"/>
            <a:chExt cx="1871280" cy="216360"/>
          </a:xfrm>
        </p:grpSpPr>
        <p:grpSp>
          <p:nvGrpSpPr>
            <p:cNvPr id="398" name=""/>
            <p:cNvGrpSpPr/>
            <p:nvPr/>
          </p:nvGrpSpPr>
          <p:grpSpPr>
            <a:xfrm>
              <a:off x="1620720" y="5302080"/>
              <a:ext cx="720" cy="216000"/>
              <a:chOff x="1620720" y="5302080"/>
              <a:chExt cx="720" cy="21600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1620720" y="5302080"/>
                <a:ext cx="72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1620720" y="5302080"/>
                <a:ext cx="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620720" y="5518080"/>
              <a:ext cx="1870560" cy="360"/>
              <a:chOff x="1620720" y="5518080"/>
              <a:chExt cx="1870560" cy="360"/>
            </a:xfrm>
          </p:grpSpPr>
          <p:sp>
            <p:nvSpPr>
              <p:cNvPr id="402" name="Line 9"/>
              <p:cNvSpPr/>
              <p:nvPr/>
            </p:nvSpPr>
            <p:spPr>
              <a:xfrm>
                <a:off x="1620720" y="5518080"/>
                <a:ext cx="187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1620720" y="5518080"/>
                <a:ext cx="18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491280" y="5302080"/>
              <a:ext cx="720" cy="216000"/>
              <a:chOff x="3491280" y="5302080"/>
              <a:chExt cx="720" cy="216000"/>
            </a:xfrm>
          </p:grpSpPr>
          <p:sp>
            <p:nvSpPr>
              <p:cNvPr id="405" name="Line 10"/>
              <p:cNvSpPr/>
              <p:nvPr/>
            </p:nvSpPr>
            <p:spPr>
              <a:xfrm flipV="1">
                <a:off x="3491280" y="5302080"/>
                <a:ext cx="72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3491280" y="5302080"/>
                <a:ext cx="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11"/>
          <p:cNvSpPr/>
          <p:nvPr/>
        </p:nvSpPr>
        <p:spPr>
          <a:xfrm>
            <a:off x="2340000" y="5373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2"/>
          <p:cNvGrpSpPr/>
          <p:nvPr/>
        </p:nvGrpSpPr>
        <p:grpSpPr>
          <a:xfrm>
            <a:off x="2916360" y="5373360"/>
            <a:ext cx="2302920" cy="505080"/>
            <a:chOff x="2916360" y="5373360"/>
            <a:chExt cx="2302920" cy="505080"/>
          </a:xfrm>
        </p:grpSpPr>
        <p:grpSp>
          <p:nvGrpSpPr>
            <p:cNvPr id="409" name=""/>
            <p:cNvGrpSpPr/>
            <p:nvPr/>
          </p:nvGrpSpPr>
          <p:grpSpPr>
            <a:xfrm>
              <a:off x="2916360" y="5878080"/>
              <a:ext cx="2301120" cy="360"/>
              <a:chOff x="2916360" y="5878080"/>
              <a:chExt cx="2301120" cy="360"/>
            </a:xfrm>
          </p:grpSpPr>
          <p:sp>
            <p:nvSpPr>
              <p:cNvPr id="410" name="Line 13"/>
              <p:cNvSpPr/>
              <p:nvPr/>
            </p:nvSpPr>
            <p:spPr>
              <a:xfrm>
                <a:off x="2916360" y="5878080"/>
                <a:ext cx="2301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2916360" y="5878080"/>
                <a:ext cx="230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217120" y="5373360"/>
              <a:ext cx="2160" cy="504360"/>
              <a:chOff x="5217120" y="5373360"/>
              <a:chExt cx="2160" cy="504360"/>
            </a:xfrm>
          </p:grpSpPr>
          <p:sp>
            <p:nvSpPr>
              <p:cNvPr id="413" name="Line 14"/>
              <p:cNvSpPr/>
              <p:nvPr/>
            </p:nvSpPr>
            <p:spPr>
              <a:xfrm flipV="1">
                <a:off x="5217480" y="5373360"/>
                <a:ext cx="1800" cy="504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 rot="10800000">
                <a:off x="5217120" y="5373360"/>
                <a:ext cx="1800" cy="50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Text Box 15"/>
          <p:cNvSpPr/>
          <p:nvPr/>
        </p:nvSpPr>
        <p:spPr>
          <a:xfrm>
            <a:off x="7093080" y="414972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395280" y="333360"/>
            <a:ext cx="8137440" cy="3600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1692360" y="-38268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2124000" y="43876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9"/>
          <p:cNvGrpSpPr/>
          <p:nvPr/>
        </p:nvGrpSpPr>
        <p:grpSpPr>
          <a:xfrm>
            <a:off x="3851280" y="4221000"/>
            <a:ext cx="4103640" cy="1082880"/>
            <a:chOff x="3851280" y="4221000"/>
            <a:chExt cx="4103640" cy="1082880"/>
          </a:xfrm>
        </p:grpSpPr>
        <p:sp>
          <p:nvSpPr>
            <p:cNvPr id="420" name="Text Box 20"/>
            <p:cNvSpPr/>
            <p:nvPr/>
          </p:nvSpPr>
          <p:spPr>
            <a:xfrm>
              <a:off x="3851280" y="4386960"/>
              <a:ext cx="64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1"/>
            <p:cNvSpPr/>
            <p:nvPr/>
          </p:nvSpPr>
          <p:spPr>
            <a:xfrm>
              <a:off x="6011280" y="429372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4786920" y="4221360"/>
              <a:ext cx="1152360" cy="107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3"/>
            <p:cNvSpPr/>
            <p:nvPr/>
          </p:nvSpPr>
          <p:spPr>
            <a:xfrm>
              <a:off x="6802560" y="4221000"/>
              <a:ext cx="1152360" cy="107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2361 0.671944 E">
                                      <p:cBhvr>
                                        <p:cTn id="54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13472 0.356111 E">
                                      <p:cBhvr>
                                        <p:cTn id="557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361 0.357037 E">
                                      <p:cBhvr>
                                        <p:cTn id="566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Object 2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9096480" cy="383724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4282920" y="292428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211640" y="549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7164360" y="189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430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431" name="Line 7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434" name="Line 8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437" name="Line 9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xt Box 10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1"/>
          <p:cNvGrpSpPr/>
          <p:nvPr/>
        </p:nvGrpSpPr>
        <p:grpSpPr>
          <a:xfrm>
            <a:off x="2629080" y="5159160"/>
            <a:ext cx="2519280" cy="647640"/>
            <a:chOff x="2629080" y="5159160"/>
            <a:chExt cx="2519280" cy="647640"/>
          </a:xfrm>
        </p:grpSpPr>
        <p:grpSp>
          <p:nvGrpSpPr>
            <p:cNvPr id="441" name=""/>
            <p:cNvGrpSpPr/>
            <p:nvPr/>
          </p:nvGrpSpPr>
          <p:grpSpPr>
            <a:xfrm>
              <a:off x="2629080" y="5806440"/>
              <a:ext cx="2517120" cy="360"/>
              <a:chOff x="2629080" y="5806440"/>
              <a:chExt cx="2517120" cy="360"/>
            </a:xfrm>
          </p:grpSpPr>
          <p:sp>
            <p:nvSpPr>
              <p:cNvPr id="442" name="Line 12"/>
              <p:cNvSpPr/>
              <p:nvPr/>
            </p:nvSpPr>
            <p:spPr>
              <a:xfrm>
                <a:off x="2629080" y="5806440"/>
                <a:ext cx="2517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2629080" y="5806440"/>
                <a:ext cx="251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146200" y="5159160"/>
              <a:ext cx="2160" cy="646920"/>
              <a:chOff x="5146200" y="5159160"/>
              <a:chExt cx="2160" cy="646920"/>
            </a:xfrm>
          </p:grpSpPr>
          <p:sp>
            <p:nvSpPr>
              <p:cNvPr id="445" name="Line 13"/>
              <p:cNvSpPr/>
              <p:nvPr/>
            </p:nvSpPr>
            <p:spPr>
              <a:xfrm flipV="1">
                <a:off x="5146200" y="5159160"/>
                <a:ext cx="216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 rot="10800000">
                <a:off x="5146200" y="5159160"/>
                <a:ext cx="216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14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448" name="Rectangle 15"/>
            <p:cNvSpPr/>
            <p:nvPr/>
          </p:nvSpPr>
          <p:spPr>
            <a:xfrm>
              <a:off x="6445080" y="4222080"/>
              <a:ext cx="86328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6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4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  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>
              <a:off x="4717080" y="4221360"/>
              <a:ext cx="863280" cy="79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8"/>
          <p:cNvSpPr/>
          <p:nvPr/>
        </p:nvSpPr>
        <p:spPr>
          <a:xfrm>
            <a:off x="6588000" y="414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8196"/>
          <p:cNvSpPr/>
          <p:nvPr/>
        </p:nvSpPr>
        <p:spPr>
          <a:xfrm>
            <a:off x="183528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944 0.531944 E">
                                      <p:cBhvr>
                                        <p:cTn id="60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Object 2" descr=""/>
          <p:cNvPicPr/>
          <p:nvPr/>
        </p:nvPicPr>
        <p:blipFill>
          <a:blip r:embed="rId1"/>
          <a:stretch/>
        </p:blipFill>
        <p:spPr>
          <a:xfrm>
            <a:off x="36360" y="27000"/>
            <a:ext cx="9109080" cy="41227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3780000" y="3068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4284720" y="476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7236000" y="1270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6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459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460" name="Line 7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463" name="Line 8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466" name="Line 9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Text Box 10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1"/>
          <p:cNvGrpSpPr/>
          <p:nvPr/>
        </p:nvGrpSpPr>
        <p:grpSpPr>
          <a:xfrm>
            <a:off x="2629080" y="5159160"/>
            <a:ext cx="2519280" cy="647640"/>
            <a:chOff x="2629080" y="5159160"/>
            <a:chExt cx="2519280" cy="647640"/>
          </a:xfrm>
        </p:grpSpPr>
        <p:grpSp>
          <p:nvGrpSpPr>
            <p:cNvPr id="470" name=""/>
            <p:cNvGrpSpPr/>
            <p:nvPr/>
          </p:nvGrpSpPr>
          <p:grpSpPr>
            <a:xfrm>
              <a:off x="2629080" y="5806440"/>
              <a:ext cx="2517120" cy="360"/>
              <a:chOff x="2629080" y="5806440"/>
              <a:chExt cx="2517120" cy="360"/>
            </a:xfrm>
          </p:grpSpPr>
          <p:sp>
            <p:nvSpPr>
              <p:cNvPr id="471" name="Line 12"/>
              <p:cNvSpPr/>
              <p:nvPr/>
            </p:nvSpPr>
            <p:spPr>
              <a:xfrm>
                <a:off x="2629080" y="5806440"/>
                <a:ext cx="2517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2629080" y="5806440"/>
                <a:ext cx="251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146200" y="5159160"/>
              <a:ext cx="2160" cy="646920"/>
              <a:chOff x="5146200" y="5159160"/>
              <a:chExt cx="2160" cy="646920"/>
            </a:xfrm>
          </p:grpSpPr>
          <p:sp>
            <p:nvSpPr>
              <p:cNvPr id="474" name="Line 13"/>
              <p:cNvSpPr/>
              <p:nvPr/>
            </p:nvSpPr>
            <p:spPr>
              <a:xfrm flipV="1">
                <a:off x="5146200" y="5159160"/>
                <a:ext cx="216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10800000">
                <a:off x="5146200" y="5159160"/>
                <a:ext cx="216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14"/>
          <p:cNvGrpSpPr/>
          <p:nvPr/>
        </p:nvGrpSpPr>
        <p:grpSpPr>
          <a:xfrm>
            <a:off x="826920" y="4172040"/>
            <a:ext cx="7490160" cy="916920"/>
            <a:chOff x="826920" y="4172040"/>
            <a:chExt cx="7490160" cy="916920"/>
          </a:xfrm>
        </p:grpSpPr>
        <p:sp>
          <p:nvSpPr>
            <p:cNvPr id="477" name="Rectangle 15"/>
            <p:cNvSpPr/>
            <p:nvPr/>
          </p:nvSpPr>
          <p:spPr>
            <a:xfrm>
              <a:off x="6245640" y="4222080"/>
              <a:ext cx="95544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826920" y="417204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3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   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7"/>
            <p:cNvSpPr/>
            <p:nvPr/>
          </p:nvSpPr>
          <p:spPr>
            <a:xfrm>
              <a:off x="4333680" y="4221360"/>
              <a:ext cx="955440" cy="79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8"/>
          <p:cNvSpPr/>
          <p:nvPr/>
        </p:nvSpPr>
        <p:spPr>
          <a:xfrm>
            <a:off x="6445080" y="414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7569 0.5425 E">
                                      <p:cBhvr>
                                        <p:cTn id="64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1EEE-316C-476B-9D5B-D4B1CC6727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Object 3" descr=""/>
          <p:cNvPicPr/>
          <p:nvPr/>
        </p:nvPicPr>
        <p:blipFill>
          <a:blip r:embed="rId1"/>
          <a:stretch/>
        </p:blipFill>
        <p:spPr>
          <a:xfrm>
            <a:off x="396720" y="693720"/>
            <a:ext cx="8712360" cy="4897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4"/>
          <p:cNvSpPr/>
          <p:nvPr/>
        </p:nvSpPr>
        <p:spPr>
          <a:xfrm>
            <a:off x="2266920" y="141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266920" y="2709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19564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5219640" y="141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5219640" y="2709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529272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7956720" y="14860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7921800" y="2709720"/>
            <a:ext cx="6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7956720" y="4005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1"/>
          <p:cNvSpPr/>
          <p:nvPr/>
        </p:nvSpPr>
        <p:spPr>
          <a:xfrm>
            <a:off x="2651040" y="1125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3" descr=""/>
          <p:cNvPicPr/>
          <p:nvPr/>
        </p:nvPicPr>
        <p:blipFill>
          <a:blip r:embed="rId16"/>
          <a:stretch/>
        </p:blipFill>
        <p:spPr>
          <a:xfrm>
            <a:off x="38160" y="120600"/>
            <a:ext cx="9063000" cy="4965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625840" y="22795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92720" y="271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164360" y="28558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4000" y="52293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共有几只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900000" y="44280"/>
            <a:ext cx="766440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804000" y="1413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64000" y="13399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03640" y="981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203640" y="9079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64000" y="127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804000" y="13399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6560" y="294624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共有几只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08000" y="407844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914560" y="40989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24360" y="40784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1619280" y="4941720"/>
            <a:ext cx="1080720" cy="216360"/>
            <a:chOff x="1619280" y="4941720"/>
            <a:chExt cx="1080720" cy="21636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4941720"/>
              <a:ext cx="360" cy="216000"/>
              <a:chOff x="1619280" y="4941720"/>
              <a:chExt cx="360" cy="216000"/>
            </a:xfrm>
          </p:grpSpPr>
          <p:sp>
            <p:nvSpPr>
              <p:cNvPr id="107" name="Line 15"/>
              <p:cNvSpPr/>
              <p:nvPr/>
            </p:nvSpPr>
            <p:spPr>
              <a:xfrm>
                <a:off x="161928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61928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19280" y="5157720"/>
              <a:ext cx="1080360" cy="360"/>
              <a:chOff x="1619280" y="5157720"/>
              <a:chExt cx="1080360" cy="360"/>
            </a:xfrm>
          </p:grpSpPr>
          <p:sp>
            <p:nvSpPr>
              <p:cNvPr id="110" name="Line 16"/>
              <p:cNvSpPr/>
              <p:nvPr/>
            </p:nvSpPr>
            <p:spPr>
              <a:xfrm>
                <a:off x="1619280" y="5157720"/>
                <a:ext cx="10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1619280" y="5157720"/>
                <a:ext cx="108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99280" y="4941720"/>
              <a:ext cx="720" cy="216000"/>
              <a:chOff x="2699280" y="4941720"/>
              <a:chExt cx="720" cy="216000"/>
            </a:xfrm>
          </p:grpSpPr>
          <p:sp>
            <p:nvSpPr>
              <p:cNvPr id="113" name="Line 17"/>
              <p:cNvSpPr/>
              <p:nvPr/>
            </p:nvSpPr>
            <p:spPr>
              <a:xfrm flipV="1">
                <a:off x="269964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 rot="10800000">
                <a:off x="269928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18"/>
          <p:cNvSpPr/>
          <p:nvPr/>
        </p:nvSpPr>
        <p:spPr>
          <a:xfrm>
            <a:off x="1835280" y="5157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9"/>
          <p:cNvGrpSpPr/>
          <p:nvPr/>
        </p:nvGrpSpPr>
        <p:grpSpPr>
          <a:xfrm>
            <a:off x="2266920" y="5014440"/>
            <a:ext cx="1441080" cy="646200"/>
            <a:chOff x="2266920" y="5014440"/>
            <a:chExt cx="1441080" cy="646200"/>
          </a:xfrm>
        </p:grpSpPr>
        <p:grpSp>
          <p:nvGrpSpPr>
            <p:cNvPr id="117" name=""/>
            <p:cNvGrpSpPr/>
            <p:nvPr/>
          </p:nvGrpSpPr>
          <p:grpSpPr>
            <a:xfrm>
              <a:off x="2266920" y="5660280"/>
              <a:ext cx="1440000" cy="360"/>
              <a:chOff x="2266920" y="5660280"/>
              <a:chExt cx="1440000" cy="360"/>
            </a:xfrm>
          </p:grpSpPr>
          <p:sp>
            <p:nvSpPr>
              <p:cNvPr id="118" name="Line 20"/>
              <p:cNvSpPr/>
              <p:nvPr/>
            </p:nvSpPr>
            <p:spPr>
              <a:xfrm>
                <a:off x="2266920" y="5660280"/>
                <a:ext cx="144000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2266920" y="566028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706560" y="5014440"/>
              <a:ext cx="1440" cy="645480"/>
              <a:chOff x="3706560" y="5014440"/>
              <a:chExt cx="1440" cy="645480"/>
            </a:xfrm>
          </p:grpSpPr>
          <p:sp>
            <p:nvSpPr>
              <p:cNvPr id="121" name="Line 21"/>
              <p:cNvSpPr/>
              <p:nvPr/>
            </p:nvSpPr>
            <p:spPr>
              <a:xfrm flipV="1">
                <a:off x="3706920" y="5014440"/>
                <a:ext cx="1080" cy="645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0800000">
                <a:off x="3706560" y="5014440"/>
                <a:ext cx="1080" cy="64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2"/>
          <p:cNvSpPr/>
          <p:nvPr/>
        </p:nvSpPr>
        <p:spPr>
          <a:xfrm>
            <a:off x="4500720" y="40784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89 0.0175 L -0.200764 0.458426 E">
                                      <p:cBhvr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58 -0.003426 L -0.326806 0.406019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75 -0.003426 L -0.374097 0.395463 E">
                                      <p:cBhvr>
                                        <p:cTn id="4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1"/>
          <a:stretch/>
        </p:blipFill>
        <p:spPr>
          <a:xfrm>
            <a:off x="181080" y="333360"/>
            <a:ext cx="8394480" cy="3745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2340000" y="692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21440" y="692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237440" y="620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00000" y="44388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132" name="Text Box 9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"/>
            <p:cNvSpPr/>
            <p:nvPr/>
          </p:nvSpPr>
          <p:spPr>
            <a:xfrm>
              <a:off x="3492000" y="4243320"/>
              <a:ext cx="86400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1"/>
            <p:cNvSpPr/>
            <p:nvPr/>
          </p:nvSpPr>
          <p:spPr>
            <a:xfrm>
              <a:off x="5076360" y="4243320"/>
              <a:ext cx="86400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763640" y="5013360"/>
            <a:ext cx="1080720" cy="216360"/>
            <a:chOff x="1763640" y="5013360"/>
            <a:chExt cx="1080720" cy="216360"/>
          </a:xfrm>
        </p:grpSpPr>
        <p:grpSp>
          <p:nvGrpSpPr>
            <p:cNvPr id="136" name=""/>
            <p:cNvGrpSpPr/>
            <p:nvPr/>
          </p:nvGrpSpPr>
          <p:grpSpPr>
            <a:xfrm>
              <a:off x="1763640" y="5013360"/>
              <a:ext cx="360" cy="216000"/>
              <a:chOff x="1763640" y="5013360"/>
              <a:chExt cx="360" cy="216000"/>
            </a:xfrm>
          </p:grpSpPr>
          <p:sp>
            <p:nvSpPr>
              <p:cNvPr id="137" name="Line 13"/>
              <p:cNvSpPr/>
              <p:nvPr/>
            </p:nvSpPr>
            <p:spPr>
              <a:xfrm>
                <a:off x="1763640" y="501336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763640" y="501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63640" y="5229360"/>
              <a:ext cx="1080360" cy="360"/>
              <a:chOff x="1763640" y="5229360"/>
              <a:chExt cx="1080360" cy="360"/>
            </a:xfrm>
          </p:grpSpPr>
          <p:sp>
            <p:nvSpPr>
              <p:cNvPr id="140" name="Line 14"/>
              <p:cNvSpPr/>
              <p:nvPr/>
            </p:nvSpPr>
            <p:spPr>
              <a:xfrm>
                <a:off x="1763640" y="5229360"/>
                <a:ext cx="10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763640" y="5229360"/>
                <a:ext cx="108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843640" y="5013360"/>
              <a:ext cx="720" cy="216000"/>
              <a:chOff x="2843640" y="5013360"/>
              <a:chExt cx="720" cy="216000"/>
            </a:xfrm>
          </p:grpSpPr>
          <p:sp>
            <p:nvSpPr>
              <p:cNvPr id="143" name="Line 15"/>
              <p:cNvSpPr/>
              <p:nvPr/>
            </p:nvSpPr>
            <p:spPr>
              <a:xfrm flipV="1">
                <a:off x="2844000" y="501336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10800000">
                <a:off x="2843640" y="501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16"/>
          <p:cNvSpPr/>
          <p:nvPr/>
        </p:nvSpPr>
        <p:spPr>
          <a:xfrm>
            <a:off x="1979640" y="5157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2556000" y="5230800"/>
            <a:ext cx="1439640" cy="430200"/>
            <a:chOff x="2556000" y="5230800"/>
            <a:chExt cx="1439640" cy="430200"/>
          </a:xfrm>
        </p:grpSpPr>
        <p:grpSp>
          <p:nvGrpSpPr>
            <p:cNvPr id="147" name=""/>
            <p:cNvGrpSpPr/>
            <p:nvPr/>
          </p:nvGrpSpPr>
          <p:grpSpPr>
            <a:xfrm>
              <a:off x="2556000" y="5660640"/>
              <a:ext cx="1438560" cy="360"/>
              <a:chOff x="2556000" y="5660640"/>
              <a:chExt cx="1438560" cy="360"/>
            </a:xfrm>
          </p:grpSpPr>
          <p:sp>
            <p:nvSpPr>
              <p:cNvPr id="148" name="Line 18"/>
              <p:cNvSpPr/>
              <p:nvPr/>
            </p:nvSpPr>
            <p:spPr>
              <a:xfrm>
                <a:off x="2556000" y="5660640"/>
                <a:ext cx="143856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2556000" y="5660640"/>
                <a:ext cx="143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994200" y="5230800"/>
              <a:ext cx="1440" cy="429840"/>
              <a:chOff x="3994200" y="5230800"/>
              <a:chExt cx="1440" cy="429840"/>
            </a:xfrm>
          </p:grpSpPr>
          <p:sp>
            <p:nvSpPr>
              <p:cNvPr id="151" name="Line 19"/>
              <p:cNvSpPr/>
              <p:nvPr/>
            </p:nvSpPr>
            <p:spPr>
              <a:xfrm flipV="1">
                <a:off x="3994560" y="5230800"/>
                <a:ext cx="1080" cy="429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 rot="10800000">
                <a:off x="3994200" y="5230800"/>
                <a:ext cx="1080" cy="42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0"/>
          <p:cNvSpPr/>
          <p:nvPr/>
        </p:nvSpPr>
        <p:spPr>
          <a:xfrm>
            <a:off x="5219640" y="4149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375 0.514537 E">
                                      <p:cBhvr>
                                        <p:cTn id="11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-176040" y="909720"/>
            <a:ext cx="9356400" cy="43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47636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360" y="2494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572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500720" y="2565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9636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669080" y="256536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979640" y="3718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003640" y="371808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172360" y="3718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858160" cy="3600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8000" y="90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56000" y="44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164360" y="-255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173" name="Text Box 8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2772000" y="424332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869080" y="422208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4284360" y="422136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178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179" name="Line 13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182" name="Line 14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185" name="Line 15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 Box 16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7"/>
          <p:cNvGrpSpPr/>
          <p:nvPr/>
        </p:nvGrpSpPr>
        <p:grpSpPr>
          <a:xfrm>
            <a:off x="2627280" y="5159160"/>
            <a:ext cx="2087640" cy="647640"/>
            <a:chOff x="2627280" y="5159160"/>
            <a:chExt cx="2087640" cy="647640"/>
          </a:xfrm>
        </p:grpSpPr>
        <p:grpSp>
          <p:nvGrpSpPr>
            <p:cNvPr id="189" name=""/>
            <p:cNvGrpSpPr/>
            <p:nvPr/>
          </p:nvGrpSpPr>
          <p:grpSpPr>
            <a:xfrm>
              <a:off x="2627280" y="5806440"/>
              <a:ext cx="2085840" cy="360"/>
              <a:chOff x="2627280" y="5806440"/>
              <a:chExt cx="2085840" cy="360"/>
            </a:xfrm>
          </p:grpSpPr>
          <p:sp>
            <p:nvSpPr>
              <p:cNvPr id="190" name="Line 18"/>
              <p:cNvSpPr/>
              <p:nvPr/>
            </p:nvSpPr>
            <p:spPr>
              <a:xfrm>
                <a:off x="2627280" y="5806440"/>
                <a:ext cx="208584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2627280" y="5806440"/>
                <a:ext cx="208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12760" y="5159160"/>
              <a:ext cx="2160" cy="646920"/>
              <a:chOff x="4712760" y="5159160"/>
              <a:chExt cx="2160" cy="646920"/>
            </a:xfrm>
          </p:grpSpPr>
          <p:sp>
            <p:nvSpPr>
              <p:cNvPr id="193" name="Line 19"/>
              <p:cNvSpPr/>
              <p:nvPr/>
            </p:nvSpPr>
            <p:spPr>
              <a:xfrm flipV="1">
                <a:off x="4713120" y="5159160"/>
                <a:ext cx="180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4712760" y="5159160"/>
                <a:ext cx="180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 Box 20"/>
          <p:cNvSpPr/>
          <p:nvPr/>
        </p:nvSpPr>
        <p:spPr>
          <a:xfrm>
            <a:off x="5940360" y="4149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6"/>
          <p:cNvSpPr/>
          <p:nvPr/>
        </p:nvSpPr>
        <p:spPr>
          <a:xfrm>
            <a:off x="212400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1458 0.594907 E">
                                      <p:cBhvr>
                                        <p:cTn id="20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5347 0.60537 E"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001080" cy="3908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124000" y="44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7596360" y="260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380360" y="1773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1476360" y="4172040"/>
            <a:ext cx="6840720" cy="916920"/>
            <a:chOff x="1476360" y="4172040"/>
            <a:chExt cx="6840720" cy="916920"/>
          </a:xfrm>
        </p:grpSpPr>
        <p:sp>
          <p:nvSpPr>
            <p:cNvPr id="203" name="Text Box 7"/>
            <p:cNvSpPr/>
            <p:nvPr/>
          </p:nvSpPr>
          <p:spPr>
            <a:xfrm>
              <a:off x="1476360" y="4172040"/>
              <a:ext cx="684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6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2713320" y="424332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843160" y="422208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4242240" y="422136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1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208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209" name="Line 12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212" name="Line 13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215" name="Line 14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15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6"/>
          <p:cNvGrpSpPr/>
          <p:nvPr/>
        </p:nvGrpSpPr>
        <p:grpSpPr>
          <a:xfrm>
            <a:off x="2627280" y="5159160"/>
            <a:ext cx="2087640" cy="647640"/>
            <a:chOff x="2627280" y="5159160"/>
            <a:chExt cx="2087640" cy="647640"/>
          </a:xfrm>
        </p:grpSpPr>
        <p:grpSp>
          <p:nvGrpSpPr>
            <p:cNvPr id="219" name=""/>
            <p:cNvGrpSpPr/>
            <p:nvPr/>
          </p:nvGrpSpPr>
          <p:grpSpPr>
            <a:xfrm>
              <a:off x="2627280" y="5806440"/>
              <a:ext cx="2085840" cy="360"/>
              <a:chOff x="2627280" y="5806440"/>
              <a:chExt cx="2085840" cy="360"/>
            </a:xfrm>
          </p:grpSpPr>
          <p:sp>
            <p:nvSpPr>
              <p:cNvPr id="220" name="Line 17"/>
              <p:cNvSpPr/>
              <p:nvPr/>
            </p:nvSpPr>
            <p:spPr>
              <a:xfrm>
                <a:off x="2627280" y="5806440"/>
                <a:ext cx="208584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2627280" y="5806440"/>
                <a:ext cx="208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2760" y="5159160"/>
              <a:ext cx="2160" cy="646920"/>
              <a:chOff x="4712760" y="5159160"/>
              <a:chExt cx="2160" cy="646920"/>
            </a:xfrm>
          </p:grpSpPr>
          <p:sp>
            <p:nvSpPr>
              <p:cNvPr id="223" name="Line 18"/>
              <p:cNvSpPr/>
              <p:nvPr/>
            </p:nvSpPr>
            <p:spPr>
              <a:xfrm flipV="1">
                <a:off x="4713120" y="5159160"/>
                <a:ext cx="180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 rot="10800000">
                <a:off x="4712760" y="5159160"/>
                <a:ext cx="180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9"/>
          <p:cNvSpPr/>
          <p:nvPr/>
        </p:nvSpPr>
        <p:spPr>
          <a:xfrm>
            <a:off x="5724360" y="414972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681 0.563426 E">
                                      <p:cBhvr>
                                        <p:cTn id="25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806 0.34287 E">
                                      <p:cBhvr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+4+1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+3+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2+2+4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+0+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7+2+1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6+4+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900000" y="1270080"/>
            <a:ext cx="1008000" cy="216360"/>
            <a:chOff x="900000" y="1270080"/>
            <a:chExt cx="1008000" cy="216360"/>
          </a:xfrm>
        </p:grpSpPr>
        <p:grpSp>
          <p:nvGrpSpPr>
            <p:cNvPr id="229" name=""/>
            <p:cNvGrpSpPr/>
            <p:nvPr/>
          </p:nvGrpSpPr>
          <p:grpSpPr>
            <a:xfrm>
              <a:off x="900000" y="1270080"/>
              <a:ext cx="360" cy="216000"/>
              <a:chOff x="900000" y="1270080"/>
              <a:chExt cx="360" cy="216000"/>
            </a:xfrm>
          </p:grpSpPr>
          <p:sp>
            <p:nvSpPr>
              <p:cNvPr id="230" name="Line 4"/>
              <p:cNvSpPr/>
              <p:nvPr/>
            </p:nvSpPr>
            <p:spPr>
              <a:xfrm>
                <a:off x="900000" y="127008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900000" y="1270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900000" y="1486080"/>
              <a:ext cx="1007640" cy="360"/>
              <a:chOff x="900000" y="1486080"/>
              <a:chExt cx="1007640" cy="360"/>
            </a:xfrm>
          </p:grpSpPr>
          <p:sp>
            <p:nvSpPr>
              <p:cNvPr id="233" name="Line 5"/>
              <p:cNvSpPr/>
              <p:nvPr/>
            </p:nvSpPr>
            <p:spPr>
              <a:xfrm>
                <a:off x="900000" y="1486080"/>
                <a:ext cx="100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900000" y="148608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07280" y="1270080"/>
              <a:ext cx="720" cy="216000"/>
              <a:chOff x="1907280" y="1270080"/>
              <a:chExt cx="720" cy="216000"/>
            </a:xfrm>
          </p:grpSpPr>
          <p:sp>
            <p:nvSpPr>
              <p:cNvPr id="236" name="Line 6"/>
              <p:cNvSpPr/>
              <p:nvPr/>
            </p:nvSpPr>
            <p:spPr>
              <a:xfrm flipV="1">
                <a:off x="1907640" y="127008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1907280" y="1270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 Box 7"/>
          <p:cNvSpPr/>
          <p:nvPr/>
        </p:nvSpPr>
        <p:spPr>
          <a:xfrm>
            <a:off x="1116000" y="13622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547640" y="1339560"/>
            <a:ext cx="1079640" cy="433800"/>
            <a:chOff x="1547640" y="1339560"/>
            <a:chExt cx="1079640" cy="433800"/>
          </a:xfrm>
        </p:grpSpPr>
        <p:grpSp>
          <p:nvGrpSpPr>
            <p:cNvPr id="240" name=""/>
            <p:cNvGrpSpPr/>
            <p:nvPr/>
          </p:nvGrpSpPr>
          <p:grpSpPr>
            <a:xfrm>
              <a:off x="1547640" y="1773000"/>
              <a:ext cx="1078920" cy="360"/>
              <a:chOff x="1547640" y="1773000"/>
              <a:chExt cx="1078920" cy="360"/>
            </a:xfrm>
          </p:grpSpPr>
          <p:sp>
            <p:nvSpPr>
              <p:cNvPr id="241" name="Line 9"/>
              <p:cNvSpPr/>
              <p:nvPr/>
            </p:nvSpPr>
            <p:spPr>
              <a:xfrm>
                <a:off x="1547640" y="177300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547640" y="177300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626560" y="1339560"/>
              <a:ext cx="720" cy="433080"/>
              <a:chOff x="2626560" y="1339560"/>
              <a:chExt cx="720" cy="433080"/>
            </a:xfrm>
          </p:grpSpPr>
          <p:sp>
            <p:nvSpPr>
              <p:cNvPr id="244" name="Line 10"/>
              <p:cNvSpPr/>
              <p:nvPr/>
            </p:nvSpPr>
            <p:spPr>
              <a:xfrm flipV="1">
                <a:off x="2626560" y="133956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10800000">
                <a:off x="2626560" y="133956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Text Box 11"/>
          <p:cNvSpPr/>
          <p:nvPr/>
        </p:nvSpPr>
        <p:spPr>
          <a:xfrm>
            <a:off x="3132000" y="47772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900000" y="3141720"/>
            <a:ext cx="1008000" cy="216360"/>
            <a:chOff x="900000" y="3141720"/>
            <a:chExt cx="1008000" cy="216360"/>
          </a:xfrm>
        </p:grpSpPr>
        <p:grpSp>
          <p:nvGrpSpPr>
            <p:cNvPr id="248" name=""/>
            <p:cNvGrpSpPr/>
            <p:nvPr/>
          </p:nvGrpSpPr>
          <p:grpSpPr>
            <a:xfrm>
              <a:off x="900000" y="3141720"/>
              <a:ext cx="360" cy="216000"/>
              <a:chOff x="900000" y="3141720"/>
              <a:chExt cx="360" cy="216000"/>
            </a:xfrm>
          </p:grpSpPr>
          <p:sp>
            <p:nvSpPr>
              <p:cNvPr id="249" name="Line 13"/>
              <p:cNvSpPr/>
              <p:nvPr/>
            </p:nvSpPr>
            <p:spPr>
              <a:xfrm>
                <a:off x="900000" y="31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900000" y="31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900000" y="3357720"/>
              <a:ext cx="1007640" cy="360"/>
              <a:chOff x="900000" y="3357720"/>
              <a:chExt cx="1007640" cy="360"/>
            </a:xfrm>
          </p:grpSpPr>
          <p:sp>
            <p:nvSpPr>
              <p:cNvPr id="252" name="Line 14"/>
              <p:cNvSpPr/>
              <p:nvPr/>
            </p:nvSpPr>
            <p:spPr>
              <a:xfrm>
                <a:off x="900000" y="3357720"/>
                <a:ext cx="100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900000" y="335772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7280" y="3141720"/>
              <a:ext cx="720" cy="216000"/>
              <a:chOff x="1907280" y="3141720"/>
              <a:chExt cx="720" cy="216000"/>
            </a:xfrm>
          </p:grpSpPr>
          <p:sp>
            <p:nvSpPr>
              <p:cNvPr id="255" name="Line 15"/>
              <p:cNvSpPr/>
              <p:nvPr/>
            </p:nvSpPr>
            <p:spPr>
              <a:xfrm flipV="1">
                <a:off x="1907640" y="31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800000">
                <a:off x="1907280" y="31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16"/>
          <p:cNvSpPr/>
          <p:nvPr/>
        </p:nvSpPr>
        <p:spPr>
          <a:xfrm>
            <a:off x="1116000" y="321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1547640" y="3212640"/>
            <a:ext cx="1079640" cy="433800"/>
            <a:chOff x="1547640" y="3212640"/>
            <a:chExt cx="1079640" cy="43380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3646080"/>
              <a:ext cx="1078920" cy="360"/>
              <a:chOff x="1547640" y="3646080"/>
              <a:chExt cx="1078920" cy="360"/>
            </a:xfrm>
          </p:grpSpPr>
          <p:sp>
            <p:nvSpPr>
              <p:cNvPr id="260" name="Line 18"/>
              <p:cNvSpPr/>
              <p:nvPr/>
            </p:nvSpPr>
            <p:spPr>
              <a:xfrm>
                <a:off x="1547640" y="364608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547640" y="364608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626560" y="3212640"/>
              <a:ext cx="720" cy="433080"/>
              <a:chOff x="2626560" y="3212640"/>
              <a:chExt cx="720" cy="433080"/>
            </a:xfrm>
          </p:grpSpPr>
          <p:sp>
            <p:nvSpPr>
              <p:cNvPr id="263" name="Line 19"/>
              <p:cNvSpPr/>
              <p:nvPr/>
            </p:nvSpPr>
            <p:spPr>
              <a:xfrm flipV="1">
                <a:off x="2626560" y="321264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2626560" y="321264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Text Box 20"/>
          <p:cNvSpPr/>
          <p:nvPr/>
        </p:nvSpPr>
        <p:spPr>
          <a:xfrm>
            <a:off x="3203640" y="2278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1"/>
          <p:cNvGrpSpPr/>
          <p:nvPr/>
        </p:nvGrpSpPr>
        <p:grpSpPr>
          <a:xfrm>
            <a:off x="5003640" y="1339920"/>
            <a:ext cx="865440" cy="216360"/>
            <a:chOff x="5003640" y="1339920"/>
            <a:chExt cx="865440" cy="216360"/>
          </a:xfrm>
        </p:grpSpPr>
        <p:grpSp>
          <p:nvGrpSpPr>
            <p:cNvPr id="267" name=""/>
            <p:cNvGrpSpPr/>
            <p:nvPr/>
          </p:nvGrpSpPr>
          <p:grpSpPr>
            <a:xfrm>
              <a:off x="5003640" y="1339920"/>
              <a:ext cx="360" cy="216000"/>
              <a:chOff x="5003640" y="1339920"/>
              <a:chExt cx="360" cy="216000"/>
            </a:xfrm>
          </p:grpSpPr>
          <p:sp>
            <p:nvSpPr>
              <p:cNvPr id="268" name="Line 22"/>
              <p:cNvSpPr/>
              <p:nvPr/>
            </p:nvSpPr>
            <p:spPr>
              <a:xfrm>
                <a:off x="5003640" y="13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5003640" y="13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003640" y="1555920"/>
              <a:ext cx="865080" cy="360"/>
              <a:chOff x="5003640" y="1555920"/>
              <a:chExt cx="865080" cy="360"/>
            </a:xfrm>
          </p:grpSpPr>
          <p:sp>
            <p:nvSpPr>
              <p:cNvPr id="271" name="Line 23"/>
              <p:cNvSpPr/>
              <p:nvPr/>
            </p:nvSpPr>
            <p:spPr>
              <a:xfrm>
                <a:off x="5003640" y="1555920"/>
                <a:ext cx="865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5003640" y="1555920"/>
                <a:ext cx="86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868360" y="1339920"/>
              <a:ext cx="720" cy="216000"/>
              <a:chOff x="5868360" y="1339920"/>
              <a:chExt cx="720" cy="216000"/>
            </a:xfrm>
          </p:grpSpPr>
          <p:sp>
            <p:nvSpPr>
              <p:cNvPr id="274" name="Line 24"/>
              <p:cNvSpPr/>
              <p:nvPr/>
            </p:nvSpPr>
            <p:spPr>
              <a:xfrm flipV="1">
                <a:off x="5868720" y="13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10800000">
                <a:off x="5868360" y="13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5"/>
          <p:cNvGrpSpPr/>
          <p:nvPr/>
        </p:nvGrpSpPr>
        <p:grpSpPr>
          <a:xfrm>
            <a:off x="5003640" y="3139920"/>
            <a:ext cx="863640" cy="216360"/>
            <a:chOff x="5003640" y="3139920"/>
            <a:chExt cx="863640" cy="216360"/>
          </a:xfrm>
        </p:grpSpPr>
        <p:grpSp>
          <p:nvGrpSpPr>
            <p:cNvPr id="277" name=""/>
            <p:cNvGrpSpPr/>
            <p:nvPr/>
          </p:nvGrpSpPr>
          <p:grpSpPr>
            <a:xfrm>
              <a:off x="5003640" y="3139920"/>
              <a:ext cx="360" cy="216000"/>
              <a:chOff x="5003640" y="3139920"/>
              <a:chExt cx="360" cy="216000"/>
            </a:xfrm>
          </p:grpSpPr>
          <p:sp>
            <p:nvSpPr>
              <p:cNvPr id="278" name="Line 26"/>
              <p:cNvSpPr/>
              <p:nvPr/>
            </p:nvSpPr>
            <p:spPr>
              <a:xfrm>
                <a:off x="5003640" y="31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5003640" y="31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003640" y="3355920"/>
              <a:ext cx="863280" cy="360"/>
              <a:chOff x="5003640" y="3355920"/>
              <a:chExt cx="863280" cy="360"/>
            </a:xfrm>
          </p:grpSpPr>
          <p:sp>
            <p:nvSpPr>
              <p:cNvPr id="281" name="Line 27"/>
              <p:cNvSpPr/>
              <p:nvPr/>
            </p:nvSpPr>
            <p:spPr>
              <a:xfrm>
                <a:off x="5003640" y="3355920"/>
                <a:ext cx="86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5003640" y="3355920"/>
                <a:ext cx="86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866560" y="3139920"/>
              <a:ext cx="720" cy="216000"/>
              <a:chOff x="5866560" y="3139920"/>
              <a:chExt cx="720" cy="216000"/>
            </a:xfrm>
          </p:grpSpPr>
          <p:sp>
            <p:nvSpPr>
              <p:cNvPr id="284" name="Line 28"/>
              <p:cNvSpPr/>
              <p:nvPr/>
            </p:nvSpPr>
            <p:spPr>
              <a:xfrm flipV="1">
                <a:off x="5866920" y="31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 rot="10800000">
                <a:off x="5866560" y="31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29"/>
          <p:cNvGrpSpPr/>
          <p:nvPr/>
        </p:nvGrpSpPr>
        <p:grpSpPr>
          <a:xfrm>
            <a:off x="971640" y="4941720"/>
            <a:ext cx="865080" cy="216360"/>
            <a:chOff x="971640" y="4941720"/>
            <a:chExt cx="865080" cy="216360"/>
          </a:xfrm>
        </p:grpSpPr>
        <p:grpSp>
          <p:nvGrpSpPr>
            <p:cNvPr id="287" name=""/>
            <p:cNvGrpSpPr/>
            <p:nvPr/>
          </p:nvGrpSpPr>
          <p:grpSpPr>
            <a:xfrm>
              <a:off x="971640" y="4941720"/>
              <a:ext cx="360" cy="216000"/>
              <a:chOff x="971640" y="4941720"/>
              <a:chExt cx="360" cy="216000"/>
            </a:xfrm>
          </p:grpSpPr>
          <p:sp>
            <p:nvSpPr>
              <p:cNvPr id="288" name="Line 30"/>
              <p:cNvSpPr/>
              <p:nvPr/>
            </p:nvSpPr>
            <p:spPr>
              <a:xfrm>
                <a:off x="97164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97164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971640" y="5157720"/>
              <a:ext cx="864720" cy="360"/>
              <a:chOff x="971640" y="5157720"/>
              <a:chExt cx="864720" cy="360"/>
            </a:xfrm>
          </p:grpSpPr>
          <p:sp>
            <p:nvSpPr>
              <p:cNvPr id="291" name="Line 31"/>
              <p:cNvSpPr/>
              <p:nvPr/>
            </p:nvSpPr>
            <p:spPr>
              <a:xfrm>
                <a:off x="971640" y="5157720"/>
                <a:ext cx="86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971640" y="5157720"/>
                <a:ext cx="86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836000" y="4941720"/>
              <a:ext cx="720" cy="216000"/>
              <a:chOff x="1836000" y="4941720"/>
              <a:chExt cx="720" cy="216000"/>
            </a:xfrm>
          </p:grpSpPr>
          <p:sp>
            <p:nvSpPr>
              <p:cNvPr id="294" name="Line 32"/>
              <p:cNvSpPr/>
              <p:nvPr/>
            </p:nvSpPr>
            <p:spPr>
              <a:xfrm flipV="1">
                <a:off x="183636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183600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33"/>
          <p:cNvGrpSpPr/>
          <p:nvPr/>
        </p:nvGrpSpPr>
        <p:grpSpPr>
          <a:xfrm>
            <a:off x="5076720" y="4941720"/>
            <a:ext cx="863640" cy="216360"/>
            <a:chOff x="5076720" y="4941720"/>
            <a:chExt cx="863640" cy="216360"/>
          </a:xfrm>
        </p:grpSpPr>
        <p:grpSp>
          <p:nvGrpSpPr>
            <p:cNvPr id="297" name=""/>
            <p:cNvGrpSpPr/>
            <p:nvPr/>
          </p:nvGrpSpPr>
          <p:grpSpPr>
            <a:xfrm>
              <a:off x="5076720" y="4941720"/>
              <a:ext cx="360" cy="216000"/>
              <a:chOff x="5076720" y="4941720"/>
              <a:chExt cx="360" cy="216000"/>
            </a:xfrm>
          </p:grpSpPr>
          <p:sp>
            <p:nvSpPr>
              <p:cNvPr id="298" name="Line 34"/>
              <p:cNvSpPr/>
              <p:nvPr/>
            </p:nvSpPr>
            <p:spPr>
              <a:xfrm>
                <a:off x="507672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507672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76720" y="5157720"/>
              <a:ext cx="863280" cy="360"/>
              <a:chOff x="5076720" y="5157720"/>
              <a:chExt cx="863280" cy="360"/>
            </a:xfrm>
          </p:grpSpPr>
          <p:sp>
            <p:nvSpPr>
              <p:cNvPr id="301" name="Line 35"/>
              <p:cNvSpPr/>
              <p:nvPr/>
            </p:nvSpPr>
            <p:spPr>
              <a:xfrm>
                <a:off x="5076720" y="5157720"/>
                <a:ext cx="86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5076720" y="5157720"/>
                <a:ext cx="86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939640" y="4941720"/>
              <a:ext cx="720" cy="216000"/>
              <a:chOff x="5939640" y="4941720"/>
              <a:chExt cx="720" cy="216000"/>
            </a:xfrm>
          </p:grpSpPr>
          <p:sp>
            <p:nvSpPr>
              <p:cNvPr id="304" name="Line 36"/>
              <p:cNvSpPr/>
              <p:nvPr/>
            </p:nvSpPr>
            <p:spPr>
              <a:xfrm flipV="1">
                <a:off x="594000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593964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Text Box 37"/>
          <p:cNvSpPr/>
          <p:nvPr/>
        </p:nvSpPr>
        <p:spPr>
          <a:xfrm>
            <a:off x="5148360" y="141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5148360" y="328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114560" y="5013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5076720" y="50864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5580000" y="1413000"/>
            <a:ext cx="1079640" cy="431640"/>
            <a:chOff x="5580000" y="1413000"/>
            <a:chExt cx="1079640" cy="431640"/>
          </a:xfrm>
        </p:grpSpPr>
        <p:grpSp>
          <p:nvGrpSpPr>
            <p:cNvPr id="311" name=""/>
            <p:cNvGrpSpPr/>
            <p:nvPr/>
          </p:nvGrpSpPr>
          <p:grpSpPr>
            <a:xfrm>
              <a:off x="5580000" y="1844280"/>
              <a:ext cx="1078920" cy="360"/>
              <a:chOff x="5580000" y="1844280"/>
              <a:chExt cx="1078920" cy="360"/>
            </a:xfrm>
          </p:grpSpPr>
          <p:sp>
            <p:nvSpPr>
              <p:cNvPr id="312" name="Line 42"/>
              <p:cNvSpPr/>
              <p:nvPr/>
            </p:nvSpPr>
            <p:spPr>
              <a:xfrm>
                <a:off x="5580000" y="184428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5580000" y="184428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658920" y="1413000"/>
              <a:ext cx="720" cy="431280"/>
              <a:chOff x="6658920" y="1413000"/>
              <a:chExt cx="720" cy="431280"/>
            </a:xfrm>
          </p:grpSpPr>
          <p:sp>
            <p:nvSpPr>
              <p:cNvPr id="315" name="Line 43"/>
              <p:cNvSpPr/>
              <p:nvPr/>
            </p:nvSpPr>
            <p:spPr>
              <a:xfrm flipV="1">
                <a:off x="6658920" y="1413000"/>
                <a:ext cx="72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10800000">
                <a:off x="6658920" y="1413000"/>
                <a:ext cx="720" cy="43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44"/>
          <p:cNvGrpSpPr/>
          <p:nvPr/>
        </p:nvGrpSpPr>
        <p:grpSpPr>
          <a:xfrm>
            <a:off x="5581800" y="3212640"/>
            <a:ext cx="1079280" cy="433800"/>
            <a:chOff x="5581800" y="3212640"/>
            <a:chExt cx="1079280" cy="433800"/>
          </a:xfrm>
        </p:grpSpPr>
        <p:grpSp>
          <p:nvGrpSpPr>
            <p:cNvPr id="318" name=""/>
            <p:cNvGrpSpPr/>
            <p:nvPr/>
          </p:nvGrpSpPr>
          <p:grpSpPr>
            <a:xfrm>
              <a:off x="5581800" y="3646080"/>
              <a:ext cx="1078560" cy="360"/>
              <a:chOff x="5581800" y="3646080"/>
              <a:chExt cx="1078560" cy="360"/>
            </a:xfrm>
          </p:grpSpPr>
          <p:sp>
            <p:nvSpPr>
              <p:cNvPr id="319" name="Line 45"/>
              <p:cNvSpPr/>
              <p:nvPr/>
            </p:nvSpPr>
            <p:spPr>
              <a:xfrm>
                <a:off x="5581800" y="3646080"/>
                <a:ext cx="107856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581800" y="3646080"/>
                <a:ext cx="107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0360" y="3212640"/>
              <a:ext cx="720" cy="433080"/>
              <a:chOff x="6660360" y="3212640"/>
              <a:chExt cx="720" cy="433080"/>
            </a:xfrm>
          </p:grpSpPr>
          <p:sp>
            <p:nvSpPr>
              <p:cNvPr id="322" name="Line 46"/>
              <p:cNvSpPr/>
              <p:nvPr/>
            </p:nvSpPr>
            <p:spPr>
              <a:xfrm flipV="1">
                <a:off x="6660360" y="321264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10800000">
                <a:off x="6660360" y="321264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47"/>
          <p:cNvGrpSpPr/>
          <p:nvPr/>
        </p:nvGrpSpPr>
        <p:grpSpPr>
          <a:xfrm>
            <a:off x="1619280" y="5014440"/>
            <a:ext cx="1009800" cy="432360"/>
            <a:chOff x="1619280" y="5014440"/>
            <a:chExt cx="1009800" cy="432360"/>
          </a:xfrm>
        </p:grpSpPr>
        <p:grpSp>
          <p:nvGrpSpPr>
            <p:cNvPr id="325" name=""/>
            <p:cNvGrpSpPr/>
            <p:nvPr/>
          </p:nvGrpSpPr>
          <p:grpSpPr>
            <a:xfrm>
              <a:off x="1619280" y="5446440"/>
              <a:ext cx="1009080" cy="360"/>
              <a:chOff x="1619280" y="5446440"/>
              <a:chExt cx="1009080" cy="360"/>
            </a:xfrm>
          </p:grpSpPr>
          <p:sp>
            <p:nvSpPr>
              <p:cNvPr id="326" name="Line 48"/>
              <p:cNvSpPr/>
              <p:nvPr/>
            </p:nvSpPr>
            <p:spPr>
              <a:xfrm>
                <a:off x="1619280" y="5446440"/>
                <a:ext cx="100908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619280" y="5446440"/>
                <a:ext cx="100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628360" y="5014440"/>
              <a:ext cx="720" cy="431640"/>
              <a:chOff x="2628360" y="5014440"/>
              <a:chExt cx="720" cy="431640"/>
            </a:xfrm>
          </p:grpSpPr>
          <p:sp>
            <p:nvSpPr>
              <p:cNvPr id="329" name="Line 49"/>
              <p:cNvSpPr/>
              <p:nvPr/>
            </p:nvSpPr>
            <p:spPr>
              <a:xfrm flipV="1">
                <a:off x="2628360" y="5014440"/>
                <a:ext cx="72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 rot="10800000">
                <a:off x="2628360" y="5014440"/>
                <a:ext cx="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50"/>
          <p:cNvGrpSpPr/>
          <p:nvPr/>
        </p:nvGrpSpPr>
        <p:grpSpPr>
          <a:xfrm>
            <a:off x="5867280" y="5013000"/>
            <a:ext cx="793440" cy="433800"/>
            <a:chOff x="5867280" y="5013000"/>
            <a:chExt cx="793440" cy="433800"/>
          </a:xfrm>
        </p:grpSpPr>
        <p:grpSp>
          <p:nvGrpSpPr>
            <p:cNvPr id="332" name=""/>
            <p:cNvGrpSpPr/>
            <p:nvPr/>
          </p:nvGrpSpPr>
          <p:grpSpPr>
            <a:xfrm>
              <a:off x="5867280" y="5446440"/>
              <a:ext cx="793080" cy="360"/>
              <a:chOff x="5867280" y="5446440"/>
              <a:chExt cx="793080" cy="360"/>
            </a:xfrm>
          </p:grpSpPr>
          <p:sp>
            <p:nvSpPr>
              <p:cNvPr id="333" name="Line 51"/>
              <p:cNvSpPr/>
              <p:nvPr/>
            </p:nvSpPr>
            <p:spPr>
              <a:xfrm>
                <a:off x="5867280" y="5446440"/>
                <a:ext cx="79308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5867280" y="5446440"/>
                <a:ext cx="79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0000" y="5013000"/>
              <a:ext cx="720" cy="433080"/>
              <a:chOff x="6660000" y="5013000"/>
              <a:chExt cx="720" cy="433080"/>
            </a:xfrm>
          </p:grpSpPr>
          <p:sp>
            <p:nvSpPr>
              <p:cNvPr id="336" name="Line 52"/>
              <p:cNvSpPr/>
              <p:nvPr/>
            </p:nvSpPr>
            <p:spPr>
              <a:xfrm flipV="1">
                <a:off x="6660360" y="5013000"/>
                <a:ext cx="36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 rot="10800000">
                <a:off x="6660000" y="5013000"/>
                <a:ext cx="36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53"/>
          <p:cNvSpPr/>
          <p:nvPr/>
        </p:nvSpPr>
        <p:spPr>
          <a:xfrm>
            <a:off x="7236000" y="477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4"/>
          <p:cNvSpPr/>
          <p:nvPr/>
        </p:nvSpPr>
        <p:spPr>
          <a:xfrm>
            <a:off x="7308720" y="227664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5"/>
          <p:cNvSpPr/>
          <p:nvPr/>
        </p:nvSpPr>
        <p:spPr>
          <a:xfrm>
            <a:off x="3203640" y="40989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6"/>
          <p:cNvSpPr/>
          <p:nvPr/>
        </p:nvSpPr>
        <p:spPr>
          <a:xfrm>
            <a:off x="7236000" y="4078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1"/>
          <a:stretch/>
        </p:blipFill>
        <p:spPr>
          <a:xfrm>
            <a:off x="1692360" y="838080"/>
            <a:ext cx="6048360" cy="604836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3" descr=""/>
          <p:cNvPicPr/>
          <p:nvPr/>
        </p:nvPicPr>
        <p:blipFill>
          <a:blip r:embed="rId2"/>
          <a:stretch/>
        </p:blipFill>
        <p:spPr>
          <a:xfrm>
            <a:off x="-4680" y="331920"/>
            <a:ext cx="9185040" cy="936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5724360" y="321300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284720" y="4797360"/>
            <a:ext cx="13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8196"/>
          <p:cNvSpPr/>
          <p:nvPr/>
        </p:nvSpPr>
        <p:spPr>
          <a:xfrm>
            <a:off x="1908000" y="6308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06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