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78A-C8BF-4369-B252-42A25C23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9A0-5FD4-4330-B29F-0D068E40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51A-360F-477B-9A84-B6438A51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F18-3475-4F6E-86BE-B8A87BDA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0EA8-2E65-4C84-950D-4872C135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656A-4639-455D-BAFB-FADF85C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97C0-05B9-41FE-86AA-598317E1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A837-7EBF-461F-BABE-55C4EAB5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3653-A3FC-4357-9A86-6A6ED3B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A37D-029D-4416-B000-E7F06EC6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90FE-3A6F-4E72-97CE-73698395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41A-96CE-4ADD-81D3-E218C5F6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1C5E-020C-4596-B321-19F8818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DD4B-67E6-43AE-B526-471987B7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4A08-C343-45E7-9047-A1B0963A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334F-7326-4EAA-8079-FD0AC77D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8705-7662-4C35-9E1A-06306C5D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FA5-CA59-482E-8E1C-B9731EB5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83A-C4D3-43BD-AFA6-4C132C0D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BD8-3911-4F24-B8E3-544B001F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1D7-ADE4-4288-B4E5-1E15DFC3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C5F-9017-4F08-B8A5-2393ADB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719-07C4-40CB-9EB2-267E2A7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24C-0963-421E-9FFB-5972CBB6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235C-E2CD-4F17-8973-464B41D5A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844C-B57A-4806-9344-2A517CF7801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1814-17F1-4071-A605-6CFF487EE5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414080"/>
            <a:ext cx="8584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汉仪大宋简"/>
                <a:ea typeface="汉仪大宋简"/>
              </a:rPr>
              <a:t>小学课件</a:t>
            </a:r>
            <a:r>
              <a:rPr b="0" lang="en-US" sz="4000" spc="-1" strike="noStrike">
                <a:solidFill>
                  <a:srgbClr val="ffff00"/>
                </a:solidFill>
                <a:latin typeface="汉仪大宋简"/>
                <a:ea typeface="汉仪大宋简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汉仪大宋简"/>
                <a:ea typeface="汉仪大宋简"/>
              </a:rPr>
              <a:t>的认识和加减法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ject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05920" cy="5410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1066680" y="4495680"/>
            <a:ext cx="2819520" cy="1371600"/>
            <a:chOff x="1066680" y="4495680"/>
            <a:chExt cx="2819520" cy="1371600"/>
          </a:xfrm>
        </p:grpSpPr>
        <p:sp>
          <p:nvSpPr>
            <p:cNvPr id="162" name="Rectangle 3"/>
            <p:cNvSpPr/>
            <p:nvPr/>
          </p:nvSpPr>
          <p:spPr>
            <a:xfrm>
              <a:off x="1066680" y="464832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4"/>
            <p:cNvSpPr/>
            <p:nvPr/>
          </p:nvSpPr>
          <p:spPr>
            <a:xfrm>
              <a:off x="1600200" y="464832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5"/>
            <p:cNvSpPr/>
            <p:nvPr/>
          </p:nvSpPr>
          <p:spPr>
            <a:xfrm>
              <a:off x="2133720" y="4495680"/>
              <a:ext cx="761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6"/>
            <p:cNvSpPr/>
            <p:nvPr/>
          </p:nvSpPr>
          <p:spPr>
            <a:xfrm>
              <a:off x="3048120" y="4495680"/>
              <a:ext cx="838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2"/>
          <p:cNvGrpSpPr/>
          <p:nvPr/>
        </p:nvGrpSpPr>
        <p:grpSpPr>
          <a:xfrm>
            <a:off x="5105520" y="4495680"/>
            <a:ext cx="2743200" cy="1371600"/>
            <a:chOff x="5105520" y="4495680"/>
            <a:chExt cx="2743200" cy="1371600"/>
          </a:xfrm>
        </p:grpSpPr>
        <p:sp>
          <p:nvSpPr>
            <p:cNvPr id="167" name="Rectangle 7"/>
            <p:cNvSpPr/>
            <p:nvPr/>
          </p:nvSpPr>
          <p:spPr>
            <a:xfrm>
              <a:off x="5105520" y="4495680"/>
              <a:ext cx="761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5638680" y="4495680"/>
              <a:ext cx="762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6095880" y="4495680"/>
              <a:ext cx="762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7086600" y="464832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文本框 8196"/>
          <p:cNvSpPr/>
          <p:nvPr/>
        </p:nvSpPr>
        <p:spPr>
          <a:xfrm>
            <a:off x="1547640" y="573264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01560" y="5472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更多全套课件免费下载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7620120" y="2209680"/>
            <a:ext cx="76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620120" y="3657600"/>
            <a:ext cx="761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1EE1-5A93-4CF8-955F-C633CC5212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bject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342900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3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80010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447920" y="3657600"/>
            <a:ext cx="914400" cy="360"/>
            <a:chOff x="1447920" y="3657600"/>
            <a:chExt cx="914400" cy="360"/>
          </a:xfrm>
        </p:grpSpPr>
        <p:sp>
          <p:nvSpPr>
            <p:cNvPr id="183" name="Line 4"/>
            <p:cNvSpPr/>
            <p:nvPr/>
          </p:nvSpPr>
          <p:spPr>
            <a:xfrm>
              <a:off x="1447920" y="365760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447920" y="36576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14800" y="3657600"/>
            <a:ext cx="914400" cy="360"/>
            <a:chOff x="4114800" y="3657600"/>
            <a:chExt cx="914400" cy="360"/>
          </a:xfrm>
        </p:grpSpPr>
        <p:sp>
          <p:nvSpPr>
            <p:cNvPr id="186" name="Line 9"/>
            <p:cNvSpPr/>
            <p:nvPr/>
          </p:nvSpPr>
          <p:spPr>
            <a:xfrm>
              <a:off x="4114800" y="365760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114800" y="36576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6"/>
          <p:cNvGrpSpPr/>
          <p:nvPr/>
        </p:nvGrpSpPr>
        <p:grpSpPr>
          <a:xfrm>
            <a:off x="6553080" y="5257800"/>
            <a:ext cx="914400" cy="1219320"/>
            <a:chOff x="6553080" y="5257800"/>
            <a:chExt cx="914400" cy="1219320"/>
          </a:xfrm>
        </p:grpSpPr>
        <p:grpSp>
          <p:nvGrpSpPr>
            <p:cNvPr id="189" name=""/>
            <p:cNvGrpSpPr/>
            <p:nvPr/>
          </p:nvGrpSpPr>
          <p:grpSpPr>
            <a:xfrm>
              <a:off x="6553080" y="5562720"/>
              <a:ext cx="914400" cy="360"/>
              <a:chOff x="6553080" y="5562720"/>
              <a:chExt cx="914400" cy="360"/>
            </a:xfrm>
          </p:grpSpPr>
          <p:sp>
            <p:nvSpPr>
              <p:cNvPr id="190" name="Line 5"/>
              <p:cNvSpPr/>
              <p:nvPr/>
            </p:nvSpPr>
            <p:spPr>
              <a:xfrm>
                <a:off x="6553080" y="556272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6553080" y="55627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Rectangle 10"/>
            <p:cNvSpPr/>
            <p:nvPr/>
          </p:nvSpPr>
          <p:spPr>
            <a:xfrm>
              <a:off x="6629400" y="5257800"/>
              <a:ext cx="762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5"/>
          <p:cNvGrpSpPr/>
          <p:nvPr/>
        </p:nvGrpSpPr>
        <p:grpSpPr>
          <a:xfrm>
            <a:off x="3886200" y="5257800"/>
            <a:ext cx="914400" cy="1219320"/>
            <a:chOff x="3886200" y="5257800"/>
            <a:chExt cx="914400" cy="1219320"/>
          </a:xfrm>
        </p:grpSpPr>
        <p:grpSp>
          <p:nvGrpSpPr>
            <p:cNvPr id="194" name=""/>
            <p:cNvGrpSpPr/>
            <p:nvPr/>
          </p:nvGrpSpPr>
          <p:grpSpPr>
            <a:xfrm>
              <a:off x="3886200" y="5562720"/>
              <a:ext cx="914400" cy="360"/>
              <a:chOff x="3886200" y="5562720"/>
              <a:chExt cx="914400" cy="36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3886200" y="556272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886200" y="55627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Rectangle 11"/>
            <p:cNvSpPr/>
            <p:nvPr/>
          </p:nvSpPr>
          <p:spPr>
            <a:xfrm>
              <a:off x="3962520" y="5257800"/>
              <a:ext cx="7617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4"/>
          <p:cNvGrpSpPr/>
          <p:nvPr/>
        </p:nvGrpSpPr>
        <p:grpSpPr>
          <a:xfrm>
            <a:off x="1143000" y="5257800"/>
            <a:ext cx="914400" cy="1219320"/>
            <a:chOff x="1143000" y="5257800"/>
            <a:chExt cx="914400" cy="1219320"/>
          </a:xfrm>
        </p:grpSpPr>
        <p:grpSp>
          <p:nvGrpSpPr>
            <p:cNvPr id="199" name=""/>
            <p:cNvGrpSpPr/>
            <p:nvPr/>
          </p:nvGrpSpPr>
          <p:grpSpPr>
            <a:xfrm>
              <a:off x="1143000" y="5562720"/>
              <a:ext cx="914400" cy="360"/>
              <a:chOff x="1143000" y="5562720"/>
              <a:chExt cx="914400" cy="360"/>
            </a:xfrm>
          </p:grpSpPr>
          <p:sp>
            <p:nvSpPr>
              <p:cNvPr id="200" name="Line 7"/>
              <p:cNvSpPr/>
              <p:nvPr/>
            </p:nvSpPr>
            <p:spPr>
              <a:xfrm>
                <a:off x="1143000" y="556272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143000" y="55627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Rectangle 12"/>
            <p:cNvSpPr/>
            <p:nvPr/>
          </p:nvSpPr>
          <p:spPr>
            <a:xfrm>
              <a:off x="1219320" y="5257800"/>
              <a:ext cx="7617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23"/>
          <p:cNvGrpSpPr/>
          <p:nvPr/>
        </p:nvGrpSpPr>
        <p:grpSpPr>
          <a:xfrm>
            <a:off x="6934320" y="3352680"/>
            <a:ext cx="1066680" cy="1219320"/>
            <a:chOff x="6934320" y="3352680"/>
            <a:chExt cx="1066680" cy="1219320"/>
          </a:xfrm>
        </p:grpSpPr>
        <p:grpSp>
          <p:nvGrpSpPr>
            <p:cNvPr id="204" name=""/>
            <p:cNvGrpSpPr/>
            <p:nvPr/>
          </p:nvGrpSpPr>
          <p:grpSpPr>
            <a:xfrm>
              <a:off x="6934320" y="3657600"/>
              <a:ext cx="914400" cy="360"/>
              <a:chOff x="6934320" y="3657600"/>
              <a:chExt cx="914400" cy="360"/>
            </a:xfrm>
          </p:grpSpPr>
          <p:sp>
            <p:nvSpPr>
              <p:cNvPr id="205" name="Line 8"/>
              <p:cNvSpPr/>
              <p:nvPr/>
            </p:nvSpPr>
            <p:spPr>
              <a:xfrm>
                <a:off x="6934320" y="365760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6934320" y="36576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Rectangle 13"/>
            <p:cNvSpPr/>
            <p:nvPr/>
          </p:nvSpPr>
          <p:spPr>
            <a:xfrm>
              <a:off x="7010280" y="3352680"/>
              <a:ext cx="9907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4"/>
          <p:cNvSpPr/>
          <p:nvPr/>
        </p:nvSpPr>
        <p:spPr>
          <a:xfrm>
            <a:off x="4191120" y="3352680"/>
            <a:ext cx="761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1523880" y="3352680"/>
            <a:ext cx="762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2286000" y="2514600"/>
            <a:ext cx="762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7315200" y="4343400"/>
            <a:ext cx="762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4952880" y="2514600"/>
            <a:ext cx="762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7696080" y="25909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2057400" y="4419720"/>
            <a:ext cx="762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4419720"/>
            <a:ext cx="762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761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429000" y="40384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8381880" y="3886200"/>
            <a:ext cx="76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867280" y="40384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6172200" cy="2210040"/>
          </a:xfrm>
          <a:prstGeom prst="rect">
            <a:avLst/>
          </a:prstGeom>
          <a:ln w="0">
            <a:noFill/>
          </a:ln>
        </p:spPr>
      </p:pic>
      <p:pic>
        <p:nvPicPr>
          <p:cNvPr id="90" name="Object 3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6781680" cy="2514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886200" y="32004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886200" y="43434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467480" y="43434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560" y="32004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248520" cy="2590920"/>
          </a:xfrm>
          <a:prstGeom prst="rect">
            <a:avLst/>
          </a:prstGeom>
          <a:ln w="0">
            <a:noFill/>
          </a:ln>
        </p:spPr>
      </p:pic>
      <p:pic>
        <p:nvPicPr>
          <p:cNvPr id="96" name="Object 3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678168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429000" y="35812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2286000" y="4724280"/>
            <a:ext cx="1905120" cy="914400"/>
            <a:chOff x="2286000" y="4724280"/>
            <a:chExt cx="1905120" cy="914400"/>
          </a:xfrm>
        </p:grpSpPr>
        <p:sp>
          <p:nvSpPr>
            <p:cNvPr id="99" name="Rectangle 5"/>
            <p:cNvSpPr/>
            <p:nvPr/>
          </p:nvSpPr>
          <p:spPr>
            <a:xfrm>
              <a:off x="3429000" y="47242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2286000" y="47242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6934320" y="350532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5791320" y="4724280"/>
            <a:ext cx="1904760" cy="914400"/>
            <a:chOff x="5791320" y="4724280"/>
            <a:chExt cx="1904760" cy="914400"/>
          </a:xfrm>
        </p:grpSpPr>
        <p:sp>
          <p:nvSpPr>
            <p:cNvPr id="103" name="Rectangle 7"/>
            <p:cNvSpPr/>
            <p:nvPr/>
          </p:nvSpPr>
          <p:spPr>
            <a:xfrm>
              <a:off x="5791320" y="4724280"/>
              <a:ext cx="761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6934320" y="4724280"/>
              <a:ext cx="761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3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6781680" cy="2438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3581280" y="35812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13"/>
          <p:cNvGrpSpPr/>
          <p:nvPr/>
        </p:nvGrpSpPr>
        <p:grpSpPr>
          <a:xfrm>
            <a:off x="1295280" y="4648320"/>
            <a:ext cx="3048120" cy="914400"/>
            <a:chOff x="1295280" y="4648320"/>
            <a:chExt cx="3048120" cy="914400"/>
          </a:xfrm>
        </p:grpSpPr>
        <p:sp>
          <p:nvSpPr>
            <p:cNvPr id="109" name="Rectangle 6"/>
            <p:cNvSpPr/>
            <p:nvPr/>
          </p:nvSpPr>
          <p:spPr>
            <a:xfrm>
              <a:off x="358128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129528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243828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4"/>
          <p:cNvGrpSpPr/>
          <p:nvPr/>
        </p:nvGrpSpPr>
        <p:grpSpPr>
          <a:xfrm>
            <a:off x="4800600" y="4648320"/>
            <a:ext cx="3048120" cy="914400"/>
            <a:chOff x="4800600" y="4648320"/>
            <a:chExt cx="3048120" cy="914400"/>
          </a:xfrm>
        </p:grpSpPr>
        <p:sp>
          <p:nvSpPr>
            <p:cNvPr id="113" name="Rectangle 7"/>
            <p:cNvSpPr/>
            <p:nvPr/>
          </p:nvSpPr>
          <p:spPr>
            <a:xfrm>
              <a:off x="480060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08660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594360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12"/>
          <p:cNvSpPr/>
          <p:nvPr/>
        </p:nvSpPr>
        <p:spPr>
          <a:xfrm>
            <a:off x="7086600" y="35812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010280" cy="243828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3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858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6"/>
          <p:cNvGrpSpPr/>
          <p:nvPr/>
        </p:nvGrpSpPr>
        <p:grpSpPr>
          <a:xfrm>
            <a:off x="6095880" y="3733920"/>
            <a:ext cx="1981440" cy="990360"/>
            <a:chOff x="6095880" y="3733920"/>
            <a:chExt cx="1981440" cy="990360"/>
          </a:xfrm>
        </p:grpSpPr>
        <p:sp>
          <p:nvSpPr>
            <p:cNvPr id="120" name="Rectangle 6"/>
            <p:cNvSpPr/>
            <p:nvPr/>
          </p:nvSpPr>
          <p:spPr>
            <a:xfrm>
              <a:off x="6095880" y="3733920"/>
              <a:ext cx="838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7315200" y="3733920"/>
              <a:ext cx="762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447920" y="4724280"/>
            <a:ext cx="3124080" cy="990720"/>
            <a:chOff x="1447920" y="4724280"/>
            <a:chExt cx="3124080" cy="990720"/>
          </a:xfrm>
        </p:grpSpPr>
        <p:sp>
          <p:nvSpPr>
            <p:cNvPr id="123" name="Rectangle 7"/>
            <p:cNvSpPr/>
            <p:nvPr/>
          </p:nvSpPr>
          <p:spPr>
            <a:xfrm>
              <a:off x="1447920" y="4724280"/>
              <a:ext cx="761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666880" y="4724280"/>
              <a:ext cx="762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3733920" y="4724280"/>
              <a:ext cx="838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4"/>
          <p:cNvGrpSpPr/>
          <p:nvPr/>
        </p:nvGrpSpPr>
        <p:grpSpPr>
          <a:xfrm>
            <a:off x="2666880" y="3733920"/>
            <a:ext cx="1828800" cy="990360"/>
            <a:chOff x="2666880" y="3733920"/>
            <a:chExt cx="1828800" cy="990360"/>
          </a:xfrm>
        </p:grpSpPr>
        <p:sp>
          <p:nvSpPr>
            <p:cNvPr id="127" name="Rectangle 4"/>
            <p:cNvSpPr/>
            <p:nvPr/>
          </p:nvSpPr>
          <p:spPr>
            <a:xfrm>
              <a:off x="2666880" y="3733920"/>
              <a:ext cx="762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3733920" y="3733920"/>
              <a:ext cx="761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7"/>
          <p:cNvGrpSpPr/>
          <p:nvPr/>
        </p:nvGrpSpPr>
        <p:grpSpPr>
          <a:xfrm>
            <a:off x="4952880" y="4724280"/>
            <a:ext cx="3124440" cy="990720"/>
            <a:chOff x="4952880" y="4724280"/>
            <a:chExt cx="3124440" cy="990720"/>
          </a:xfrm>
        </p:grpSpPr>
        <p:sp>
          <p:nvSpPr>
            <p:cNvPr id="130" name="Rectangle 5"/>
            <p:cNvSpPr/>
            <p:nvPr/>
          </p:nvSpPr>
          <p:spPr>
            <a:xfrm>
              <a:off x="7315200" y="4724280"/>
              <a:ext cx="762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6172200" y="4724280"/>
              <a:ext cx="762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4952880" y="47242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320040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3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662940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3505320" y="327672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086600" y="3124080"/>
            <a:ext cx="76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8196"/>
          <p:cNvSpPr/>
          <p:nvPr/>
        </p:nvSpPr>
        <p:spPr>
          <a:xfrm>
            <a:off x="1619280" y="4653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9240" y="3657600"/>
            <a:ext cx="685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7238880" y="4800600"/>
            <a:ext cx="1676520" cy="838080"/>
            <a:chOff x="7238880" y="4800600"/>
            <a:chExt cx="1676520" cy="838080"/>
          </a:xfrm>
        </p:grpSpPr>
        <p:sp>
          <p:nvSpPr>
            <p:cNvPr id="141" name="Rectangle 4"/>
            <p:cNvSpPr/>
            <p:nvPr/>
          </p:nvSpPr>
          <p:spPr>
            <a:xfrm>
              <a:off x="7238880" y="4800600"/>
              <a:ext cx="685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8229600" y="4800600"/>
              <a:ext cx="685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6324480" y="1371600"/>
            <a:ext cx="2514600" cy="914400"/>
            <a:chOff x="6324480" y="1371600"/>
            <a:chExt cx="2514600" cy="914400"/>
          </a:xfrm>
        </p:grpSpPr>
        <p:sp>
          <p:nvSpPr>
            <p:cNvPr id="144" name="Rectangle 7"/>
            <p:cNvSpPr/>
            <p:nvPr/>
          </p:nvSpPr>
          <p:spPr>
            <a:xfrm>
              <a:off x="6324480" y="1447920"/>
              <a:ext cx="685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>
              <a:off x="8077320" y="1371600"/>
              <a:ext cx="761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Rectangle 9"/>
          <p:cNvSpPr/>
          <p:nvPr/>
        </p:nvSpPr>
        <p:spPr>
          <a:xfrm>
            <a:off x="6400800" y="35812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2"/>
          <p:cNvGrpSpPr/>
          <p:nvPr/>
        </p:nvGrpSpPr>
        <p:grpSpPr>
          <a:xfrm>
            <a:off x="7086600" y="2514600"/>
            <a:ext cx="1828800" cy="914400"/>
            <a:chOff x="7086600" y="2514600"/>
            <a:chExt cx="1828800" cy="914400"/>
          </a:xfrm>
        </p:grpSpPr>
        <p:sp>
          <p:nvSpPr>
            <p:cNvPr id="148" name="Rectangle 6"/>
            <p:cNvSpPr/>
            <p:nvPr/>
          </p:nvSpPr>
          <p:spPr>
            <a:xfrm>
              <a:off x="7086600" y="2514600"/>
              <a:ext cx="685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8153280" y="251460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Object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6095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6324480" y="28195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048120" y="129528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581280" y="8380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67080" y="6858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952880" y="7621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562720" y="121932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019920" y="190512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590920" y="198108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209680" y="28195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8:14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10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