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90F-8FC8-4C3F-92BF-24704782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573-9ABD-45AB-8D07-13D1EDE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2D5-CF5B-43DB-BD22-87576C10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A33-04A7-490D-9012-B56C00C7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E78-EE07-475E-BBEC-5672C27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FAE3-91E7-4B4D-983E-26C139F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A87-39BC-47BB-ADC6-E1F7DC7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47E-276B-4DEF-A0AE-57408A5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A5B4-1BCF-4377-AE4B-92A9D1A9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59D-5DB7-4FFB-BB38-563FA04D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18B-0698-421F-A626-9CBD5DB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28F-04FF-44F5-A24F-D25D271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8B92-2104-455A-95A4-86B83D6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EDEA-6AC7-4781-B6F8-CE604CE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B042-105F-4B25-8EF6-A4844F9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39A-5306-45CF-B44B-0941F1DD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013-5B30-4A71-8DC9-D1939311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D2F-899A-4B61-A61B-FD2A6E06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A6D-8F15-4DB7-A544-80E74EFC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1E1-B44E-4C88-A928-E3330DAC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1C6-4CBC-4A52-AAC2-F3AED240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2B8-E902-4665-81BE-FBF9750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CEE-8814-474D-AC97-1ACBDE0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DFD-6755-4DFB-90F6-23E3934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463-311A-4368-A467-1B4106BB3F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3EA-18AE-4E5E-A149-79B45F8E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9CAD-9889-4505-B5E3-452272B7F9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438-0801-4554-BBC4-5412334064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1619280" y="1197000"/>
            <a:ext cx="5967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乡下人家语文课件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PPT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模板下载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WordArt 14"/>
          <p:cNvSpPr txBox="1"/>
          <p:nvPr/>
        </p:nvSpPr>
        <p:spPr>
          <a:xfrm>
            <a:off x="539640" y="620640"/>
            <a:ext cx="136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u=68309736,54217869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46" name="d  浪漫曲_催眠音乐_海顿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田园风光8s"/>
          <p:cNvPicPr/>
          <p:nvPr/>
        </p:nvPicPr>
        <p:blipFill>
          <a:blip r:embed="rId3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0" y="21337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绘成了一幅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自然、和谐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的田园风景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13584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9298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20057311518189129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023480" y="5824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744560" y="22446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468080" y="90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画画这幅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999080" y="170028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你都要画上什么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873600" y="3068640"/>
            <a:ext cx="87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幼圆"/>
              </a:rPr>
              <a:t>红霞、微风、归巢的鸟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951120" y="5602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92760" y="973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827360" y="1197000"/>
            <a:ext cx="46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歌声真好听，赛过催眠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让那些辛苦一天的人们，甜甜蜜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进入梦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a_s_01_1279_01_00"/>
          <p:cNvPicPr/>
          <p:nvPr/>
        </p:nvPicPr>
        <p:blipFill>
          <a:blip r:embed="rId1"/>
          <a:stretch/>
        </p:blipFill>
        <p:spPr>
          <a:xfrm>
            <a:off x="324000" y="620640"/>
            <a:ext cx="8280360" cy="5904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3300"/>
              </a:solidFill>
              <a:latin typeface="Arial"/>
              <a:ea typeface="幼圆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屋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瓜架　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夏天傍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门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鲜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乡下人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屋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春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独特迷人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院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儿　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秋天夜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河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小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85656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>
            <a:hlinkClick r:id="" action="ppaction://hlinkshowjump?jump=nextslide"/>
          </p:cNvPr>
          <p:cNvSpPr/>
          <p:nvPr/>
        </p:nvSpPr>
        <p:spPr>
          <a:xfrm>
            <a:off x="7596360" y="5734080"/>
            <a:ext cx="792000" cy="682560"/>
          </a:xfrm>
          <a:custGeom>
            <a:avLst/>
            <a:gdLst>
              <a:gd name="textAreaLeft" fmla="*/ 43920 w 792000"/>
              <a:gd name="textAreaRight" fmla="*/ 748080 w 792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61" h="21600">
                <a:moveTo>
                  <a:pt x="0" y="0"/>
                </a:moveTo>
                <a:lnTo>
                  <a:pt x="25061" y="0"/>
                </a:lnTo>
                <a:lnTo>
                  <a:pt x="25061" y="21600"/>
                </a:lnTo>
                <a:lnTo>
                  <a:pt x="0" y="21600"/>
                </a:lnTo>
                <a:close/>
              </a:path>
              <a:path fill="lightenLess" w="25061" h="21600">
                <a:moveTo>
                  <a:pt x="0" y="0"/>
                </a:moveTo>
                <a:lnTo>
                  <a:pt x="25061" y="0"/>
                </a:lnTo>
                <a:lnTo>
                  <a:pt x="23661" y="1400"/>
                </a:lnTo>
                <a:lnTo>
                  <a:pt x="1400" y="1400"/>
                </a:lnTo>
                <a:close/>
              </a:path>
              <a:path fill="darken" w="25061" h="21600">
                <a:moveTo>
                  <a:pt x="25061" y="0"/>
                </a:moveTo>
                <a:lnTo>
                  <a:pt x="25061" y="21600"/>
                </a:lnTo>
                <a:lnTo>
                  <a:pt x="23661" y="20200"/>
                </a:lnTo>
                <a:lnTo>
                  <a:pt x="23661" y="1400"/>
                </a:lnTo>
                <a:close/>
              </a:path>
              <a:path fill="darkenLess" w="25061" h="21600">
                <a:moveTo>
                  <a:pt x="25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1" y="20200"/>
                </a:lnTo>
                <a:close/>
              </a:path>
              <a:path fill="lighten" w="25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1" h="21600">
                <a:moveTo>
                  <a:pt x="5524" y="3794"/>
                </a:moveTo>
                <a:lnTo>
                  <a:pt x="19537" y="10800"/>
                </a:lnTo>
                <a:lnTo>
                  <a:pt x="55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8200"/>
          <p:cNvSpPr/>
          <p:nvPr/>
        </p:nvSpPr>
        <p:spPr>
          <a:xfrm>
            <a:off x="3708360" y="1486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123984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95280" y="333360"/>
            <a:ext cx="6280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长藤绿叶瓜架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春雨竹笋鲜花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雄鸡悠闲自在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小桥流水戏鸭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夕阳鸟儿如画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纺织娘高唱甜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最美乡下人家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21692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>
            <a:hlinkClick r:id="" action="ppaction://hlinkshowjump?jump=nextslide"/>
          </p:cNvPr>
          <p:cNvSpPr/>
          <p:nvPr/>
        </p:nvSpPr>
        <p:spPr>
          <a:xfrm>
            <a:off x="77407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3794"/>
                </a:moveTo>
                <a:lnTo>
                  <a:pt x="22907" y="10800"/>
                </a:lnTo>
                <a:lnTo>
                  <a:pt x="88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50920" y="623736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u=3695149594,85684226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8"/>
          <p:cNvSpPr/>
          <p:nvPr/>
        </p:nvSpPr>
        <p:spPr>
          <a:xfrm>
            <a:off x="1332000" y="189000"/>
            <a:ext cx="72723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戴望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到小径中走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雨润过的泥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是凉爽又温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炫耀着新绿的小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下子洗净了尘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再胆怯的小白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慢地抬起它们的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试寒，试试暖，      然后一瓣瓣地绽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抖去水珠的凤蝶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木叶间自在悠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它五彩的智慧书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曝着阳光一开一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小径中去走走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山间移动的暗绿－－云的脚迹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也在闲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滚滚红尘.mp3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7"/>
          <p:cNvSpPr/>
          <p:nvPr/>
        </p:nvSpPr>
        <p:spPr>
          <a:xfrm>
            <a:off x="0" y="57261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9550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3957e3b4bb18e6cdf07e6e5cf9bd74f"/>
          <p:cNvPicPr/>
          <p:nvPr/>
        </p:nvPicPr>
        <p:blipFill>
          <a:blip r:embed="rId1"/>
          <a:stretch/>
        </p:blipFill>
        <p:spPr>
          <a:xfrm>
            <a:off x="0" y="2800440"/>
            <a:ext cx="5651640" cy="40575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12"/>
          <p:cNvSpPr txBox="1"/>
          <p:nvPr/>
        </p:nvSpPr>
        <p:spPr>
          <a:xfrm>
            <a:off x="2050920" y="3789360"/>
            <a:ext cx="180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冬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6" name="Picture 13" descr="u=134109864,29461523&amp;gp=2"/>
          <p:cNvPicPr/>
          <p:nvPr/>
        </p:nvPicPr>
        <p:blipFill>
          <a:blip r:embed="rId4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u=2224444144,4287791282&amp;gp=0"/>
          <p:cNvPicPr/>
          <p:nvPr/>
        </p:nvPicPr>
        <p:blipFill>
          <a:blip r:embed="rId5"/>
          <a:stretch/>
        </p:blipFill>
        <p:spPr>
          <a:xfrm>
            <a:off x="3851280" y="0"/>
            <a:ext cx="18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u=443132702,101717798&amp;gp=1"/>
          <p:cNvPicPr/>
          <p:nvPr/>
        </p:nvPicPr>
        <p:blipFill>
          <a:blip r:embed="rId6"/>
          <a:stretch/>
        </p:blipFill>
        <p:spPr>
          <a:xfrm>
            <a:off x="5724360" y="458136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u=2582024235,4173004771&amp;gp=0"/>
          <p:cNvPicPr/>
          <p:nvPr/>
        </p:nvPicPr>
        <p:blipFill>
          <a:blip r:embed="rId7"/>
          <a:stretch/>
        </p:blipFill>
        <p:spPr>
          <a:xfrm>
            <a:off x="5724360" y="2781360"/>
            <a:ext cx="3419640" cy="172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u=562490517,2728391236&amp;gp=2"/>
          <p:cNvPicPr/>
          <p:nvPr/>
        </p:nvPicPr>
        <p:blipFill>
          <a:blip r:embed="rId8"/>
          <a:stretch/>
        </p:blipFill>
        <p:spPr>
          <a:xfrm>
            <a:off x="0" y="0"/>
            <a:ext cx="3780000" cy="2708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8"/>
          <p:cNvSpPr/>
          <p:nvPr/>
        </p:nvSpPr>
        <p:spPr>
          <a:xfrm>
            <a:off x="1428120" y="49086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想象一下，在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乡下别的地方，可能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幅怎样的图画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836784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>
            <a:hlinkClick r:id="" action="ppaction://hlinkshowjump?jump=nextslide"/>
          </p:cNvPr>
          <p:cNvSpPr/>
          <p:nvPr/>
        </p:nvSpPr>
        <p:spPr>
          <a:xfrm>
            <a:off x="8352000" y="6319800"/>
            <a:ext cx="792000" cy="53820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79" h="21600">
                <a:moveTo>
                  <a:pt x="0" y="0"/>
                </a:moveTo>
                <a:lnTo>
                  <a:pt x="31779" y="0"/>
                </a:lnTo>
                <a:lnTo>
                  <a:pt x="31779" y="21600"/>
                </a:lnTo>
                <a:lnTo>
                  <a:pt x="0" y="21600"/>
                </a:lnTo>
                <a:close/>
              </a:path>
              <a:path fill="lightenLess" w="31779" h="21600">
                <a:moveTo>
                  <a:pt x="0" y="0"/>
                </a:moveTo>
                <a:lnTo>
                  <a:pt x="31779" y="0"/>
                </a:lnTo>
                <a:lnTo>
                  <a:pt x="30379" y="1400"/>
                </a:lnTo>
                <a:lnTo>
                  <a:pt x="1400" y="1400"/>
                </a:lnTo>
                <a:close/>
              </a:path>
              <a:path fill="darken" w="31779" h="21600">
                <a:moveTo>
                  <a:pt x="31779" y="0"/>
                </a:moveTo>
                <a:lnTo>
                  <a:pt x="31779" y="21600"/>
                </a:lnTo>
                <a:lnTo>
                  <a:pt x="30379" y="20200"/>
                </a:lnTo>
                <a:lnTo>
                  <a:pt x="30379" y="1400"/>
                </a:lnTo>
                <a:close/>
              </a:path>
              <a:path fill="darkenLess" w="31779" h="21600">
                <a:moveTo>
                  <a:pt x="3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79" y="20200"/>
                </a:lnTo>
                <a:close/>
              </a:path>
              <a:path fill="lighten" w="3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79" h="21600">
                <a:moveTo>
                  <a:pt x="8883" y="3794"/>
                </a:moveTo>
                <a:lnTo>
                  <a:pt x="22896" y="10800"/>
                </a:lnTo>
                <a:lnTo>
                  <a:pt x="88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72C-876B-43E9-BE04-3DFA6677B7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951120" y="5602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92760" y="973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24000" y="674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幼圆"/>
              </a:rPr>
              <a:t>准备开展一次“走进田园”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幼圆"/>
              </a:rPr>
              <a:t>综合性学习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幼圆"/>
              </a:rPr>
              <a:t>活动吧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4000" y="24526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积累好词、佳句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把你认为写得好的词、句摘抄在积累本上，并读一读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4000" y="4613400"/>
            <a:ext cx="86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画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把你喜欢的一处风景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段落多读读，并展开想象把它画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b200312030000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165320" y="692280"/>
            <a:ext cx="62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乡下人家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不论什么时候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不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季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都有一道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新宋体"/>
              </a:rPr>
              <a:t>独特、迷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8600" y="556272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253160" y="224172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屋前搭瓜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945680" y="227664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门前种鲜花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73680" y="342900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屋后春笋冒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874040" y="3500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院里鸡觅食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73680" y="465300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河中鸭嬉戏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018760" y="4724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门前吃晚饭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145320" y="580536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夜静催眠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=433417562,60103242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50920" y="0"/>
            <a:ext cx="8646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乡下人家，虽然住着小小的房屋，但总爱在屋前搭一瓜架，或种南瓜，或种丝瓜，让那些瓜藤攀上棚架，爬上屋檐。当花儿落了的时候，藤上便结出了青的、红的瓜，它们一个个挂在房前，衬着那长长的藤，绿绿的叶。青、红的瓜，碧绿的藤和叶，构成了一道别有风趣的装饰，比那高楼门前蹲着一对石狮子或是竖着两根大旗杆，可爱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49620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7956720" y="6093000"/>
            <a:ext cx="792000" cy="395280"/>
          </a:xfrm>
          <a:custGeom>
            <a:avLst/>
            <a:gdLst>
              <a:gd name="textAreaLeft" fmla="*/ 25560 w 792000"/>
              <a:gd name="textAreaRight" fmla="*/ 766440 w 79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43259" h="21600">
                <a:moveTo>
                  <a:pt x="0" y="0"/>
                </a:moveTo>
                <a:lnTo>
                  <a:pt x="43259" y="0"/>
                </a:lnTo>
                <a:lnTo>
                  <a:pt x="43259" y="21600"/>
                </a:lnTo>
                <a:lnTo>
                  <a:pt x="0" y="21600"/>
                </a:lnTo>
                <a:close/>
              </a:path>
              <a:path fill="lightenLess" w="43259" h="21600">
                <a:moveTo>
                  <a:pt x="0" y="0"/>
                </a:moveTo>
                <a:lnTo>
                  <a:pt x="43259" y="0"/>
                </a:lnTo>
                <a:lnTo>
                  <a:pt x="41859" y="1400"/>
                </a:lnTo>
                <a:lnTo>
                  <a:pt x="1400" y="1400"/>
                </a:lnTo>
                <a:close/>
              </a:path>
              <a:path fill="darken" w="43259" h="21600">
                <a:moveTo>
                  <a:pt x="43259" y="0"/>
                </a:moveTo>
                <a:lnTo>
                  <a:pt x="43259" y="21600"/>
                </a:lnTo>
                <a:lnTo>
                  <a:pt x="41859" y="20200"/>
                </a:lnTo>
                <a:lnTo>
                  <a:pt x="41859" y="1400"/>
                </a:lnTo>
                <a:close/>
              </a:path>
              <a:path fill="darkenLess" w="43259" h="21600">
                <a:moveTo>
                  <a:pt x="43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9" y="20200"/>
                </a:lnTo>
                <a:close/>
              </a:path>
              <a:path fill="lighten" w="43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9" h="21600">
                <a:moveTo>
                  <a:pt x="14623" y="3794"/>
                </a:moveTo>
                <a:lnTo>
                  <a:pt x="28636" y="10800"/>
                </a:lnTo>
                <a:lnTo>
                  <a:pt x="14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复件 (9) 美景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0" y="0"/>
            <a:ext cx="932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青、红的瓜，碧绿的藤和叶，构成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道别有风趣的装饰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比那高楼门前蹲着一对石狮子或是竖着两根大旗杆，可爱多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255680" y="575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975680" y="364500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在这里“别有风趣的装饰”指的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975680" y="479124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为什么说这些都是“别有风趣的装饰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746280" y="609300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085480" y="620640"/>
            <a:ext cx="520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只母鸡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率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群小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竹林中觅食；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耸着尾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鸡，在场地上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大踏步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走来走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723320" y="3500280"/>
            <a:ext cx="555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这雄鸡耸着尾巴，大踏步地走来走去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在干什么呢？心里会怎么想？你学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50920" y="4797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拟人的手法，体现了宁静、和谐的农家生活画面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326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田园风光8g"/>
          <p:cNvPicPr/>
          <p:nvPr/>
        </p:nvPicPr>
        <p:blipFill>
          <a:blip r:embed="rId2"/>
          <a:stretch/>
        </p:blipFill>
        <p:spPr>
          <a:xfrm>
            <a:off x="0" y="2276640"/>
            <a:ext cx="3492360" cy="4581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06640" y="6156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0020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2898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河中的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656080" y="836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从哪些词中读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20050129091050542745"/>
          <p:cNvPicPr/>
          <p:nvPr/>
        </p:nvPicPr>
        <p:blipFill>
          <a:blip r:embed="rId3"/>
          <a:stretch/>
        </p:blipFill>
        <p:spPr>
          <a:xfrm>
            <a:off x="3419640" y="2276640"/>
            <a:ext cx="5724360" cy="45813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8200"/>
          <p:cNvSpPr/>
          <p:nvPr/>
        </p:nvSpPr>
        <p:spPr>
          <a:xfrm>
            <a:off x="3059280" y="177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u=3952854327,36428817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u=922943099,3904428460&amp;gp=1"/>
          <p:cNvPicPr/>
          <p:nvPr/>
        </p:nvPicPr>
        <p:blipFill>
          <a:blip r:embed="rId2"/>
          <a:stretch/>
        </p:blipFill>
        <p:spPr>
          <a:xfrm>
            <a:off x="0" y="0"/>
            <a:ext cx="3276720" cy="414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复件 (9) 美景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95280" y="443700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几场春雨过后，到那里走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常常会看见许多鲜嫩的笋，成群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从土里探出头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912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u=1147853952,3111645847&amp;gp=2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u=3952854327,36428817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123640" y="2492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你从中读懂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50920" y="333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几场春雨过后，到那里走走，常常会看见许多鲜嫩的笋，成群地从土里探出头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95280" y="3213000"/>
            <a:ext cx="885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探出来”与“长出来”有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530000" y="4253040"/>
            <a:ext cx="5298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现在你们就是这些小春笋，告诉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那么快想从地里钻出来想看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155600" y="5811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u=1041729734,3745917432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新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天边的红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向晚的微风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头上飞过的归巢的鸟儿，都是他们的好友，它们和乡下人家一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绘成了一幅自然、 和谐的田园风景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3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5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