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57F-FDAA-4C2B-B76C-6BC5442F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6F9-671F-49C5-9C2D-FF3308B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CAB-DD55-422D-B36C-FCE8ED92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760-6535-487D-9ECF-25251A58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5F9B-4972-47CE-8507-DFA96909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A0FA-1799-425F-90C3-1AC914EE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0902-97DF-488F-880D-11E7BD2F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883-86E4-4D5A-ABB4-5BC749B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54C-3FD8-452D-82E5-471504A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EC64-BB30-4913-B5D8-8B58A0E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7D3-7549-4534-9DFE-761D5DC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2E5-595C-4433-9A96-6AE4C63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854B-B0CD-4E3C-B751-F0288EC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BE1-005B-41B1-96CB-F4D4695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EF4F-C2BC-4E20-932E-EF1349C7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E8EE-2269-4399-B998-58E34F4D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FD0-ACEC-47F3-BA23-9E7D4949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1A43-A946-4162-8931-8B3F3E67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F4D3-B6FE-4C66-8830-7629B86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430D-441F-4215-9276-F5674A7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FB45-E107-4AA5-A2EE-21B656A8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CD3E-90CD-4A98-AEB3-422D7B2D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8DE-0380-4B4C-BD1C-10F5A56A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CBA6-DBAD-4EA2-A58F-452CB38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8725-B4AE-4A90-B5D3-7931D3D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6B3D-BC07-4603-9596-BB411026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B213-8A6D-49A3-9ED4-FA36F7A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99AD-EC86-4283-BF40-C99F87EB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FFE4-83AE-4EC7-A918-F3412688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12A5-7249-4F60-AB60-733A1ABD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64B-55F4-47F9-8392-ECFF3B21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EDA-8BB4-44C0-98C4-7A81F31C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5E8-75E2-4A01-8664-429FA1C4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169-76AF-4A71-8846-62B661BB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5D1-A76E-4E92-8FC7-C15FAB9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F4D-76A3-4EE6-8C0A-5625F4F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52C9-691B-4D9C-816F-119A45A6E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E60-E13E-4319-AE0B-C16A1D68F61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1287-5DB5-4962-A3E4-6909EF0D2A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782-B31E-4D0F-9BFC-F283B0D1DB6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7"/>
          <p:cNvSpPr/>
          <p:nvPr/>
        </p:nvSpPr>
        <p:spPr>
          <a:xfrm>
            <a:off x="133200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Picture 2" descr="{DA8255D7-3035-4B41-B158-8CC2FD3BFCB3}"/>
          <p:cNvPicPr/>
          <p:nvPr/>
        </p:nvPicPr>
        <p:blipFill>
          <a:blip r:embed="rId1">
            <a:alphaModFix amt="3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Text Box 3" descr=""/>
          <p:cNvPicPr/>
          <p:nvPr/>
        </p:nvPicPr>
        <p:blipFill>
          <a:blip r:embed="rId2"/>
          <a:stretch/>
        </p:blipFill>
        <p:spPr>
          <a:xfrm>
            <a:off x="971640" y="1447920"/>
            <a:ext cx="7561080" cy="699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M_001"/>
          <p:cNvPicPr/>
          <p:nvPr/>
        </p:nvPicPr>
        <p:blipFill>
          <a:blip r:embed="rId1"/>
          <a:stretch/>
        </p:blipFill>
        <p:spPr>
          <a:xfrm>
            <a:off x="-18108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28600" y="838080"/>
            <a:ext cx="89154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鸟儿睁大眼睛，盯着灯火看了一会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接着，她就唱起去年唱过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歌给灯火听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唱完了歌，鸟儿又对着灯火看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一会儿，就飞走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249240" y="83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588000" y="35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A380-1927-4C39-81A0-EDF9EC8CB409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671480" y="1268280"/>
            <a:ext cx="35337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想对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PM_001"/>
          <p:cNvPicPr/>
          <p:nvPr/>
        </p:nvPicPr>
        <p:blipFill>
          <a:blip r:embed="rId1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79280" y="80892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一棵树和一只鸟儿是好朋友。鸟儿站在树枝上，天天给树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唱歌。树呢，天天听着鸟儿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唱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接着，她就唱起去年唱过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歌给灯火听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M_001"/>
          <p:cNvPicPr/>
          <p:nvPr/>
        </p:nvPicPr>
        <p:blipFill>
          <a:blip r:embed="rId1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324000" y="1125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棵树和一只鸟儿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朋友。鸟儿站在树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，天天给树唱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PM_001"/>
          <p:cNvPicPr/>
          <p:nvPr/>
        </p:nvPicPr>
        <p:blipFill>
          <a:blip r:embed="rId1"/>
          <a:stretch/>
        </p:blipFill>
        <p:spPr>
          <a:xfrm>
            <a:off x="-18108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24000" y="1125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棵树和一只鸟儿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朋友。鸟儿站在树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，天天给树唱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93160" y="256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369520" y="328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PM_001"/>
          <p:cNvPicPr/>
          <p:nvPr/>
        </p:nvPicPr>
        <p:blipFill>
          <a:blip r:embed="rId1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539640" y="24314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站在树枝上，天天给树唱歌。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music.wav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196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{DA8255D7-3035-4B41-B158-8CC2FD3BFCB3}"/>
          <p:cNvPicPr/>
          <p:nvPr/>
        </p:nvPicPr>
        <p:blipFill>
          <a:blip r:embed="rId1">
            <a:alphaModFix amt="3000"/>
          </a:blip>
          <a:stretch/>
        </p:blipFill>
        <p:spPr>
          <a:xfrm>
            <a:off x="-30492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"/>
          <p:cNvSpPr/>
          <p:nvPr/>
        </p:nvSpPr>
        <p:spPr>
          <a:xfrm rot="4153800">
            <a:off x="5164200" y="2948040"/>
            <a:ext cx="2768760" cy="4628880"/>
          </a:xfrm>
          <a:prstGeom prst="cloudCallout">
            <a:avLst>
              <a:gd name="adj1" fmla="val -26166"/>
              <a:gd name="adj2" fmla="val 83087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19720" y="43434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再见了，小鸟！        明年春天请你回来，  还唱歌给我听。”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5963000">
            <a:off x="1033200" y="-729000"/>
            <a:ext cx="2733480" cy="4800600"/>
          </a:xfrm>
          <a:prstGeom prst="cloudCallout">
            <a:avLst>
              <a:gd name="adj1" fmla="val -1222"/>
              <a:gd name="adj2" fmla="val 73606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好的，我明年春          天一定回来，给你唱歌。请等着我吧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M_001"/>
          <p:cNvPicPr/>
          <p:nvPr/>
        </p:nvPicPr>
        <p:blipFill>
          <a:blip r:embed="rId1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0" y="4572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立在这儿的那棵树，到什么地方去了呀？”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伐木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斧子把他砍倒，拉到山谷里去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的好朋友树在哪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您知道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么，在厂子里给切成细条条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成火柴，运到那边的村子里卖掉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告诉我，你知道火柴在哪儿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火柴已经用光了。可是，火柴点燃的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在这盏灯里亮着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文本框 8200"/>
          <p:cNvSpPr/>
          <p:nvPr/>
        </p:nvSpPr>
        <p:spPr>
          <a:xfrm>
            <a:off x="898560" y="155736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04920" y="990000"/>
            <a:ext cx="82296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树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在这儿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棵树，到什么地方去了呀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大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好朋友树在哪儿，您知道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女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请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我，你知道火柴在哪儿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PM_001"/>
          <p:cNvPicPr/>
          <p:nvPr/>
        </p:nvPicPr>
        <p:blipFill>
          <a:blip r:embed="rId1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0" y="4572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立在这儿的那棵树，到什么地方去了呀？”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伐木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斧子把他砍倒，拉到山谷里去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的好朋友树在哪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您知道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么，在厂子里给切成细条条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成火柴，运到那边的村子里卖掉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告诉我，你知道火柴在哪儿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火柴已经用光了。可是，火柴点燃的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在这盏灯里亮着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2:04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07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