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hammer.wav" ContentType="audio/x-wav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F472-68DC-4CFB-8D95-6C1713E4D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B101-BE65-43E3-A4CF-ECEAC01D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93157-9418-41E6-8BA9-12C0CF36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BDC0B-093C-4362-8BBD-53351978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DB1C62-CEC8-4DEF-961A-2B20C51B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42B62-E638-4A19-8909-799B8C52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DAC9E4-F677-4561-8484-D29FD885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35F67-4CD6-49BF-9D70-377AF9CD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64940-640D-4C17-B6A8-B5370011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318B9-7E9B-411F-B79B-CFD2F2F08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F7EE7-05B7-4E72-833B-2776B381F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2823-F914-491B-93DF-5AA379774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DC60-B955-4FE7-8A88-2E1AE7768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B46F-9927-45CE-8241-AFECC1893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D833-90CE-4F38-BC0B-10D15C17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7100-5D7D-4FCF-8914-1A5D8D59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FEE5-7A26-4A32-BCF1-FF5E5E36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8DFC-2BB9-4FB0-A099-CE4CAF2E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3974-0511-4EF1-91FD-E4A67EF9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41C6-BEE5-4278-A8A8-AC239619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A655-D2D3-42D0-9C96-9EB5AFF8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C4AD-54EC-464E-BFFB-10696F6C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CE3A-D4DC-45CA-A111-967217FE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09D3-FA57-44DB-A543-857C7923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113F-2250-4231-8937-A010D1EFA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98C1-1499-4659-8CCA-DAD2076E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06D2B-9B80-4237-8390-140E42F2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C25F3-44A9-4032-8A83-E2820B5D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3379B-D478-4201-B641-D9A28026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E057A-19FC-4192-9DCF-2CE651FC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E21F1-37C2-4940-94B5-8B176A83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E36E-7810-4C73-B837-1AE90FC9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30E78-9481-4851-9335-652C437D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EBAC7-2EE8-4376-BE86-40609589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06918-FA4A-4909-81DA-1CD134E9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5E67E-9CA7-46F1-9007-3A939C87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89CC8-44D4-4BC1-B6C3-03EAB6B6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EFDA9-48B3-4259-B423-4174ED4FB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6D936-5B64-4925-9E4F-9C113754E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F445C-D832-455D-AFAB-A39212A46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189AC-6E94-4C7C-A34E-D088DC23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81DB8-3AAC-4D8D-9BF5-CA305FCF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A42E-A8B7-46E3-B808-7FF8F6B9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41953-0463-4F3C-9479-E98569FC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FAF8D-5D00-437A-A156-FFDF9FC2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D7C7F-6E4A-43D6-9B71-3BA8AA3F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63B99-EF7C-4575-9D14-5EFCD478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C6F41-39CD-4C7C-901F-32A9C61E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097CA-0CD4-498E-B079-0DEB64C3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C6281-CC9D-4840-95D1-25E4BD9A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EE4AA-E0E0-4751-B2D9-25C1CAE14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8979B-1FB4-405D-B2AE-CA789F461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EF04C-1E85-40FF-93E1-F50C4E051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6C9C-FAA3-48FC-8B2F-290B6318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B6A50-DC33-42FD-A0DA-7EB8B6E9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98204-123D-4E53-B9E6-9FFEA93E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34EC4-98BE-44A1-9C51-290A91C9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A44B5-20AB-45F8-A0B2-39F0E043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7243E-2DA5-4CFB-A4C1-334BD40F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55E49-379F-47AD-B402-C6BE555A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7660F-7632-4FA2-9AA9-38274F36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02E83-BDC6-4059-91CD-8C20C58C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600AE-CE8F-4CE1-8F45-C2E86BEC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9F1E8-6B40-4D32-9432-DA3F79037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CC4F-8285-4E1E-8E81-9E1BD301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226BA-CC75-4142-B83B-6131B2E8B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AD947-8FB6-4867-9DE7-F3523FE64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015EC-9500-4801-B19E-D82CAD78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E149C-A718-4C2F-8DA3-09391BEB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B0839-174B-4309-A44A-A7D7DD2B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1D727-D920-44C2-AD5A-60C54C71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C0A7B-5DCF-4B00-958A-D8D20BEA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D201A-9720-4995-B58B-A9849413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5F03D-6EB2-48D5-8B88-8AEE8B89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12BEC-BB2F-4650-9B3C-1ED53E3E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662B-6B56-4BD2-A06D-E278D012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02812-F526-41D0-A791-29BCB445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541D1-1093-4E22-94B1-F8E8D9607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FFDC1-F213-43E6-8642-749657B50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785BC-A1C8-4364-B820-03CD867EB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EBA2B-E151-4354-B30B-F4593B27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3B3B1-0335-4547-ABF2-1818CA46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483B5-A47B-4C3A-AA6E-B8E17CA6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B7D78-B9F6-4522-AEE1-2AB11015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7087C-B8F4-4F66-8E8C-3BAC053D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0E0E9-719C-4ACD-B25B-9EB3C0AC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9E98-B00D-4D0B-A1F8-BF8A3BEC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73C10-631E-4386-915F-DD7E95B8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ACE79-EAEA-42EB-88A9-37137F61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CB5B6-2FD3-4DC2-AB74-775D2388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B996E-8253-49E8-A16B-5F4210937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8FA85-0ED2-4E0D-A7A5-FFE881AB8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055A63-9943-4EDD-84F2-47DC14EC0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99C1EC-F205-42FD-BF4A-6C51BF5F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82A79B-281A-4B2E-BA49-87C4939E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E84374-85F8-4A65-A597-ECE8E3F0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96A3FE-F313-41A6-9B0C-B1B28378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EA52-A338-4C85-9EAB-CBD7C3F7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DC3AB2-7D19-429E-91D8-CB0C76D9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332582-B627-4A95-83FA-6C87369F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2B37A4-82D5-42DA-8D24-C88416F0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27F0DA-CFDA-4C23-9825-0C37A86E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F3B641-DA81-442E-B5A8-865CB01F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177BF0-E639-4ACE-91AD-2D1191750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2EA3AC-037A-452A-AA76-9AF9DD41C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1D49C-806C-47E4-88A0-24732152D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2D841-E5B8-453A-8805-8DCBF629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60F8C-111F-4AB0-843D-14A0D4F5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D955-F6E1-4BA0-8448-5D0259A59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" name=""/>
              <p:cNvGrpSpPr/>
              <p:nvPr/>
            </p:nvGrpSpPr>
            <p:grpSpPr>
              <a:xfrm>
                <a:off x="380880" y="1494000"/>
                <a:ext cx="8305920" cy="360"/>
                <a:chOff x="380880" y="1494000"/>
                <a:chExt cx="8305920" cy="360"/>
              </a:xfrm>
            </p:grpSpPr>
            <p:sp>
              <p:nvSpPr>
                <p:cNvPr id="46" name="Line 6"/>
                <p:cNvSpPr/>
                <p:nvPr/>
              </p:nvSpPr>
              <p:spPr>
                <a:xfrm>
                  <a:off x="380880" y="1494000"/>
                  <a:ext cx="8305920" cy="0"/>
                </a:xfrm>
                <a:prstGeom prst="line">
                  <a:avLst/>
                </a:prstGeom>
                <a:ln w="19080">
                  <a:solidFill>
                    <a:srgbClr val="3300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 txBox="1"/>
                <p:nvPr/>
              </p:nvSpPr>
              <p:spPr>
                <a:xfrm>
                  <a:off x="380880" y="1494000"/>
                  <a:ext cx="8305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56B0-46D8-430F-8F50-007024BE62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876920"/>
            <a:ext cx="609480" cy="360"/>
            <a:chOff x="0" y="4876920"/>
            <a:chExt cx="609480" cy="360"/>
          </a:xfrm>
        </p:grpSpPr>
        <p:sp>
          <p:nvSpPr>
            <p:cNvPr id="54" name="Line 12"/>
            <p:cNvSpPr/>
            <p:nvPr/>
          </p:nvSpPr>
          <p:spPr>
            <a:xfrm>
              <a:off x="0" y="4876920"/>
              <a:ext cx="609480" cy="0"/>
            </a:xfrm>
            <a:prstGeom prst="line">
              <a:avLst/>
            </a:prstGeom>
            <a:ln w="44280">
              <a:solidFill>
                <a:srgbClr val="33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 txBox="1"/>
            <p:nvPr/>
          </p:nvSpPr>
          <p:spPr>
            <a:xfrm>
              <a:off x="0" y="487692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D152-21F9-4FAB-8E44-B99347815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71C4-BAE8-4CB0-A22D-20AF98A3D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C720-A386-4399-B6BC-5D27DA8B37B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D9F0-1CD7-4AAA-85E0-B13A8FB3C65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52FC-8496-45E2-9B11-70EA777C0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57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59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1" name=""/>
              <p:cNvGrpSpPr/>
              <p:nvPr/>
            </p:nvGrpSpPr>
            <p:grpSpPr>
              <a:xfrm>
                <a:off x="0" y="4876920"/>
                <a:ext cx="990720" cy="360"/>
                <a:chOff x="0" y="4876920"/>
                <a:chExt cx="990720" cy="360"/>
              </a:xfrm>
            </p:grpSpPr>
            <p:sp>
              <p:nvSpPr>
                <p:cNvPr id="262" name="Line 7"/>
                <p:cNvSpPr/>
                <p:nvPr/>
              </p:nvSpPr>
              <p:spPr>
                <a:xfrm>
                  <a:off x="0" y="4876920"/>
                  <a:ext cx="990720" cy="0"/>
                </a:xfrm>
                <a:prstGeom prst="line">
                  <a:avLst/>
                </a:prstGeom>
                <a:ln w="50760">
                  <a:solidFill>
                    <a:srgbClr val="3300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 txBox="1"/>
                <p:nvPr/>
              </p:nvSpPr>
              <p:spPr>
                <a:xfrm>
                  <a:off x="0" y="4876920"/>
                  <a:ext cx="990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6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35040" y="685800"/>
                <a:ext cx="8077320" cy="360"/>
                <a:chOff x="635040" y="685800"/>
                <a:chExt cx="8077320" cy="360"/>
              </a:xfrm>
            </p:grpSpPr>
            <p:sp>
              <p:nvSpPr>
                <p:cNvPr id="267" name="Line 10"/>
                <p:cNvSpPr/>
                <p:nvPr/>
              </p:nvSpPr>
              <p:spPr>
                <a:xfrm>
                  <a:off x="635040" y="685800"/>
                  <a:ext cx="8077320" cy="0"/>
                </a:xfrm>
                <a:prstGeom prst="line">
                  <a:avLst/>
                </a:prstGeom>
                <a:ln w="44280">
                  <a:solidFill>
                    <a:srgbClr val="3300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 txBox="1"/>
                <p:nvPr/>
              </p:nvSpPr>
              <p:spPr>
                <a:xfrm>
                  <a:off x="635040" y="685800"/>
                  <a:ext cx="80773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AEE1-FAB9-446C-97CE-1C2ABEDEBB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1BF4-5DDA-470C-A14C-E2013F2F7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ED1F-9739-495D-B75F-895A05F22F6C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4" descr="yingxiong1"/>
          <p:cNvPicPr/>
          <p:nvPr/>
        </p:nvPicPr>
        <p:blipFill>
          <a:blip r:embed="rId1"/>
          <a:stretch/>
        </p:blipFill>
        <p:spPr>
          <a:xfrm>
            <a:off x="-36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5" name="MIDI0033.MID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9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文本框 1"/>
          <p:cNvSpPr/>
          <p:nvPr/>
        </p:nvSpPr>
        <p:spPr>
          <a:xfrm>
            <a:off x="863640" y="1876320"/>
            <a:ext cx="70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61616"/>
                </a:solidFill>
                <a:latin typeface="Arial"/>
                <a:ea typeface="宋体"/>
              </a:rPr>
              <a:t>小英雄雨来语文课件</a:t>
            </a:r>
            <a:r>
              <a:rPr b="0" lang="en-US" sz="4000" spc="-1" strike="noStrike">
                <a:solidFill>
                  <a:srgbClr val="161616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161616"/>
                </a:solidFill>
                <a:latin typeface="Arial"/>
                <a:ea typeface="宋体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874" fill="hold"/>
                                        <p:tgtEl>
                                          <p:spTgt spid="3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453A-7D86-45FE-ADF8-1938DBBF0A0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24000" y="1412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"/>
              </a:rPr>
              <a:t>想一想：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0" y="321264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你想做一个怎样的孩子？今后，遇到坏人坏事，你准备怎么办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2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矩形 6"/>
          <p:cNvSpPr/>
          <p:nvPr/>
        </p:nvSpPr>
        <p:spPr>
          <a:xfrm>
            <a:off x="826920" y="1413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" descr="yingxiong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7"/>
          <p:cNvSpPr/>
          <p:nvPr/>
        </p:nvSpPr>
        <p:spPr>
          <a:xfrm>
            <a:off x="2411280" y="5805360"/>
            <a:ext cx="5997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0e08"/>
                </a:solidFill>
                <a:latin typeface="Times New Roman"/>
              </a:rPr>
              <a:t>一、</a:t>
            </a:r>
            <a:r>
              <a:rPr b="1" lang="zh-CN" sz="3200" spc="-1" strike="noStrike">
                <a:solidFill>
                  <a:srgbClr val="f80e08"/>
                </a:solidFill>
                <a:latin typeface="Times New Roman"/>
              </a:rPr>
              <a:t>雨来的游泳本领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4" descr="yingxiong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5"/>
          <p:cNvSpPr/>
          <p:nvPr/>
        </p:nvSpPr>
        <p:spPr>
          <a:xfrm>
            <a:off x="0" y="1773360"/>
            <a:ext cx="8769240" cy="7034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二、雨来上夜校受到爱国主义教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4" descr="yingxiong17"/>
          <p:cNvPicPr/>
          <p:nvPr/>
        </p:nvPicPr>
        <p:blipFill>
          <a:blip r:embed="rId1"/>
          <a:stretch/>
        </p:blipFill>
        <p:spPr>
          <a:xfrm>
            <a:off x="0" y="0"/>
            <a:ext cx="4572000" cy="32846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yingxiong18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2846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yingxiong19"/>
          <p:cNvPicPr/>
          <p:nvPr/>
        </p:nvPicPr>
        <p:blipFill>
          <a:blip r:embed="rId3"/>
          <a:stretch/>
        </p:blipFill>
        <p:spPr>
          <a:xfrm>
            <a:off x="0" y="3213000"/>
            <a:ext cx="4572000" cy="36450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" descr="yingxiong20"/>
          <p:cNvPicPr/>
          <p:nvPr/>
        </p:nvPicPr>
        <p:blipFill>
          <a:blip r:embed="rId4"/>
          <a:stretch/>
        </p:blipFill>
        <p:spPr>
          <a:xfrm>
            <a:off x="4572000" y="3213000"/>
            <a:ext cx="4572000" cy="364500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8"/>
          <p:cNvSpPr/>
          <p:nvPr/>
        </p:nvSpPr>
        <p:spPr>
          <a:xfrm>
            <a:off x="1671480" y="3146400"/>
            <a:ext cx="62136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0e08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f80e08"/>
                </a:solidFill>
                <a:latin typeface="Times New Roman"/>
              </a:rPr>
              <a:t>三、雨来掩护交通员李大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4" descr="yingxiongyulai1"/>
          <p:cNvPicPr/>
          <p:nvPr/>
        </p:nvPicPr>
        <p:blipFill>
          <a:blip r:embed="rId1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yingxiongyulai2"/>
          <p:cNvPicPr/>
          <p:nvPr/>
        </p:nvPicPr>
        <p:blipFill>
          <a:blip r:embed="rId2"/>
          <a:stretch/>
        </p:blipFill>
        <p:spPr>
          <a:xfrm>
            <a:off x="4500720" y="3429000"/>
            <a:ext cx="4643280" cy="3429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yingxiio28"/>
          <p:cNvPicPr/>
          <p:nvPr/>
        </p:nvPicPr>
        <p:blipFill>
          <a:blip r:embed="rId3"/>
          <a:stretch/>
        </p:blipFill>
        <p:spPr>
          <a:xfrm>
            <a:off x="0" y="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8" descr="yingxiio29"/>
          <p:cNvPicPr/>
          <p:nvPr/>
        </p:nvPicPr>
        <p:blipFill>
          <a:blip r:embed="rId4"/>
          <a:stretch/>
        </p:blipFill>
        <p:spPr>
          <a:xfrm>
            <a:off x="4500720" y="0"/>
            <a:ext cx="4643280" cy="350028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9"/>
          <p:cNvSpPr/>
          <p:nvPr/>
        </p:nvSpPr>
        <p:spPr>
          <a:xfrm>
            <a:off x="1619280" y="2997360"/>
            <a:ext cx="585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0"/>
          <p:cNvSpPr/>
          <p:nvPr/>
        </p:nvSpPr>
        <p:spPr>
          <a:xfrm>
            <a:off x="1887480" y="2997360"/>
            <a:ext cx="578016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四、雨来和鬼子进行不屈的斗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" descr="yingxiongyulai3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5" descr="yingxiongyulai4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6"/>
          <p:cNvSpPr/>
          <p:nvPr/>
        </p:nvSpPr>
        <p:spPr>
          <a:xfrm>
            <a:off x="1384200" y="1916280"/>
            <a:ext cx="68598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80e08"/>
                </a:solidFill>
                <a:latin typeface="Times New Roman"/>
              </a:rPr>
              <a:t>五、芦花村的人误以为雨来死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4" descr="yingxiongyulai7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yingxiongyulai8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4290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7" descr="yingxiong9"/>
          <p:cNvPicPr/>
          <p:nvPr/>
        </p:nvPicPr>
        <p:blipFill>
          <a:blip r:embed="rId3"/>
          <a:stretch/>
        </p:blipFill>
        <p:spPr>
          <a:xfrm>
            <a:off x="0" y="335772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8" descr="yingxiongyulai11"/>
          <p:cNvPicPr/>
          <p:nvPr/>
        </p:nvPicPr>
        <p:blipFill>
          <a:blip r:embed="rId4"/>
          <a:stretch/>
        </p:blipFill>
        <p:spPr>
          <a:xfrm>
            <a:off x="4500720" y="3357720"/>
            <a:ext cx="4643280" cy="35002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9"/>
          <p:cNvSpPr/>
          <p:nvPr/>
        </p:nvSpPr>
        <p:spPr>
          <a:xfrm>
            <a:off x="3132000" y="5734080"/>
            <a:ext cx="6716880" cy="581400"/>
          </a:xfrm>
          <a:prstGeom prst="rect">
            <a:avLst/>
          </a:prstGeom>
          <a:solidFill>
            <a:srgbClr val="cceb0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80e08"/>
                </a:solidFill>
                <a:latin typeface="Times New Roman"/>
              </a:rPr>
              <a:t>六、雨来没有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ff"/>
                </a:solidFill>
                <a:latin typeface="Times New Roman"/>
              </a:rPr>
              <a:t>读课题思考：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24000" y="2971440"/>
            <a:ext cx="8540640" cy="21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本课的主要人物是雨来，为什么称他是小英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机智勇敢、不畏强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20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20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页脚占位符 4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6e430"/>
                </a:solidFill>
                <a:latin typeface="Arial"/>
              </a:rPr>
              <a:t>小标题：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游泳本领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上夜校读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掩护李大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与鬼子作斗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河沿上的枪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雨来没有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" dur="2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" dur="20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" dur="20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" dur="20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2000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" dur="2000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3:27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0:18Z</dcterms:modified>
  <cp:revision>1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