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5.jpeg" ContentType="image/jpeg"/>
  <Override PartName="/ppt/media/image14.png" ContentType="image/pn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25A2-1EBF-4F5B-8C47-73954C7F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AC40-8EAA-4699-8BA7-AE999541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210F-68F5-409D-AB50-9234EBE5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BC2D-A657-4FF5-886A-8DCCEB47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CA7B-8F26-425D-A7BE-E4CD305C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613D-519D-4BA9-BC62-C8B9A387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FE14-1902-4180-BD4D-C9EE6C3B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6471-A3A2-40BC-8AEF-0E1CC81F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749B-4A03-49C4-9C1D-89D13F78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7CEB-9315-4098-AD22-B1AD9DBE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C940-9F2F-4B2F-A5CC-F35CA2ED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B4E8-5D7F-41CE-8C39-52AE3D91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6CB9-94F2-45B4-AF27-43699205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202D-2246-4968-BE74-16F4BFEA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34B0-CF5F-4DC1-8803-E21B49FC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9923-AFC5-4C78-A93D-A7DF3D53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67DA-59B2-443B-AC40-53BA8122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0C0C3E-6CE0-4911-A31C-88E57EEF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8A703-B2D1-4C79-B74B-B156E6E0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426771-9224-4D7A-860E-A529B3EB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1A452E-6580-47C5-9C39-BA3CF27B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3E5F9C-CEE9-4668-B4A4-7361D3AB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1CB5-B383-495A-9610-A8AD9F19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A34FA-78ED-4885-8CEE-19CC2C0C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63E99-F8F4-49FA-AE9B-EF58D1F6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4C9E6-9269-42FD-A620-023A539E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19837-E729-4288-A514-AB02BD13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B29AC-8AFB-4DC1-BE6D-94726F3D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68E61-EC96-4B05-8561-929956C5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94C38-8228-4890-A2A6-8FD48303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B6C4-9DAD-486E-A43B-BA5209E2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1B4-6552-46B8-BEBB-95C64726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063B-C17B-4303-9E73-A29C1329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7656-ED1F-4F33-9545-9121D0E8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0D3D-3989-479B-9D2D-79733179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D92F-9359-49A1-8C09-EF1EAD4B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36D1-87CB-44E7-847F-DFB10BC3F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0C8E-2394-4FDB-BF8B-336604410A4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6453-9EEF-494B-82DB-C65FD0A58A0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A318-F3C4-45AC-96CD-E9A452509A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aike.baidu.com/view/1158321.htm" TargetMode="External"/><Relationship Id="rId2" Type="http://schemas.openxmlformats.org/officeDocument/2006/relationships/hyperlink" Target="http://baike.baidu.com/view/17298.htm" TargetMode="External"/><Relationship Id="rId3" Type="http://schemas.openxmlformats.org/officeDocument/2006/relationships/hyperlink" Target="http://baike.baidu.com/view/20422.htm" TargetMode="External"/><Relationship Id="rId4" Type="http://schemas.openxmlformats.org/officeDocument/2006/relationships/hyperlink" Target="http://baike.baidu.com/view/28216.htm" TargetMode="External"/><Relationship Id="rId5" Type="http://schemas.openxmlformats.org/officeDocument/2006/relationships/hyperlink" Target="http://baike.baidu.com/view/307682.htm" TargetMode="External"/><Relationship Id="rId6" Type="http://schemas.openxmlformats.org/officeDocument/2006/relationships/hyperlink" Target="http://baike.baidu.com/view/1218927.htm" TargetMode="External"/><Relationship Id="rId7" Type="http://schemas.openxmlformats.org/officeDocument/2006/relationships/hyperlink" Target="http://baike.baidu.com/view/127691.htm" TargetMode="External"/><Relationship Id="rId8" Type="http://schemas.openxmlformats.org/officeDocument/2006/relationships/hyperlink" Target="http://baike.baidu.com/view/634141.htm" TargetMode="Externa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《清明上河图》原作局部欣赏1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《清明上河图》原作局部欣赏2"/>
          <p:cNvPicPr/>
          <p:nvPr/>
        </p:nvPicPr>
        <p:blipFill>
          <a:blip r:embed="rId2"/>
          <a:stretch/>
        </p:blipFill>
        <p:spPr>
          <a:xfrm>
            <a:off x="0" y="2347920"/>
            <a:ext cx="9144000" cy="2089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《清明上河图》原作局部欣赏3"/>
          <p:cNvPicPr/>
          <p:nvPr/>
        </p:nvPicPr>
        <p:blipFill>
          <a:blip r:embed="rId3"/>
          <a:stretch/>
        </p:blipFill>
        <p:spPr>
          <a:xfrm>
            <a:off x="0" y="4940280"/>
            <a:ext cx="9144000" cy="19447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198360" y="2767320"/>
            <a:ext cx="8747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幅名扬中外的画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PPT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课件下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dur="indefinite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dur="indefinite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画名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作者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年代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大小</a:t>
            </a: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959120" y="1916280"/>
            <a:ext cx="268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《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清明上河图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392200" y="2641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2550240" y="2637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张择端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2176560" y="2492280"/>
            <a:ext cx="15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张择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2124000" y="2924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北宋时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2203920" y="3645000"/>
            <a:ext cx="33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宋体"/>
              </a:rPr>
              <a:t>长</a:t>
            </a:r>
            <a:r>
              <a:rPr b="0" lang="en-US" sz="2800" spc="-1" strike="noStrike">
                <a:solidFill>
                  <a:srgbClr val="000099"/>
                </a:solidFill>
                <a:latin typeface="宋体"/>
              </a:rPr>
              <a:t>528</a:t>
            </a:r>
            <a:r>
              <a:rPr b="0" lang="zh-CN" sz="2800" spc="-1" strike="noStrike">
                <a:solidFill>
                  <a:srgbClr val="000099"/>
                </a:solidFill>
                <a:latin typeface="宋体"/>
              </a:rPr>
              <a:t>厘米，高</a:t>
            </a:r>
            <a:r>
              <a:rPr b="0" lang="en-US" sz="2800" spc="-1" strike="noStrike">
                <a:solidFill>
                  <a:srgbClr val="000099"/>
                </a:solidFill>
                <a:latin typeface="宋体"/>
              </a:rPr>
              <a:t>24.8</a:t>
            </a:r>
            <a:r>
              <a:rPr b="0" lang="zh-CN" sz="2800" spc="-1" strike="noStrike">
                <a:solidFill>
                  <a:srgbClr val="000099"/>
                </a:solidFill>
                <a:latin typeface="宋体"/>
              </a:rPr>
              <a:t>厘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文本框 8200"/>
          <p:cNvSpPr/>
          <p:nvPr/>
        </p:nvSpPr>
        <p:spPr>
          <a:xfrm>
            <a:off x="2195640" y="1052640"/>
            <a:ext cx="4454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9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3"/>
          <p:cNvPicPr/>
          <p:nvPr/>
        </p:nvPicPr>
        <p:blipFill>
          <a:blip r:embed="rId1"/>
          <a:stretch/>
        </p:blipFill>
        <p:spPr>
          <a:xfrm>
            <a:off x="-7381800" y="907920"/>
            <a:ext cx="19945440" cy="70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图片1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684360" y="119700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光是画上的人物，就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五百多个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从乡下来的农民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撑船的船工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做各种买卖的生意人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留着长胡子的道士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走江湖的医生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摆小摊的摊贩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官吏和读书人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三百六十行，哪一行的人都画在上面了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8172360" y="5805360"/>
            <a:ext cx="216000" cy="216000"/>
          </a:xfrm>
          <a:prstGeom prst="smileyFace">
            <a:avLst>
              <a:gd name="adj" fmla="val 4653"/>
            </a:avLst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u2"/>
          <p:cNvPicPr/>
          <p:nvPr/>
        </p:nvPicPr>
        <p:blipFill>
          <a:blip r:embed="rId1"/>
          <a:stretch/>
        </p:blipFill>
        <p:spPr>
          <a:xfrm>
            <a:off x="-1523880" y="0"/>
            <a:ext cx="1219176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3"/>
          <p:cNvSpPr/>
          <p:nvPr/>
        </p:nvSpPr>
        <p:spPr>
          <a:xfrm>
            <a:off x="8101080" y="5877000"/>
            <a:ext cx="503280" cy="288720"/>
          </a:xfrm>
          <a:custGeom>
            <a:avLst/>
            <a:gdLst>
              <a:gd name="textAreaLeft" fmla="*/ 207360 w 503280"/>
              <a:gd name="textAreaRight" fmla="*/ 295920 w 503280"/>
              <a:gd name="textAreaTop" fmla="*/ 118800 h 288720"/>
              <a:gd name="textAreaBottom" fmla="*/ 1699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1042920" y="2421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71640" y="981000"/>
            <a:ext cx="6985080" cy="1556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画面的街市可热闹了。街上有挂着各种招牌的店铺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、作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zu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ō]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坊、酒楼、茶馆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··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····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Arial"/>
              </a:rPr>
              <a:t>走在街上的，是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Arial"/>
              </a:rPr>
              <a:t>来来往往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990000"/>
                </a:solidFill>
                <a:latin typeface="Tahoma"/>
              </a:rPr>
              <a:t>形态各异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的人：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有的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骑着马，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有的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挑着担，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有的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赶着毛驴，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有的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推着独轮  车，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有的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悠闲地在街上溜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[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i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ū]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达。画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面上的这些人，有的不到一寸，有的甚至只有黄豆那么大。别看画上的人 小，每个人在干什么，都能看得清清楚楚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8028000" y="6165720"/>
            <a:ext cx="216000" cy="142920"/>
          </a:xfrm>
          <a:prstGeom prst="smileyFace">
            <a:avLst>
              <a:gd name="adj" fmla="val 4653"/>
            </a:avLst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1908000" y="1268280"/>
            <a:ext cx="6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763640" y="1484280"/>
            <a:ext cx="3672000" cy="360"/>
            <a:chOff x="1763640" y="1484280"/>
            <a:chExt cx="3672000" cy="360"/>
          </a:xfrm>
        </p:grpSpPr>
        <p:sp>
          <p:nvSpPr>
            <p:cNvPr id="183" name="Line 8"/>
            <p:cNvSpPr/>
            <p:nvPr/>
          </p:nvSpPr>
          <p:spPr>
            <a:xfrm>
              <a:off x="1763640" y="1484280"/>
              <a:ext cx="367200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1763640" y="1484280"/>
              <a:ext cx="367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5" name="Freeform 15"/>
          <p:cNvSpPr/>
          <p:nvPr/>
        </p:nvSpPr>
        <p:spPr>
          <a:xfrm>
            <a:off x="1116000" y="-819000"/>
            <a:ext cx="7728120" cy="5856120"/>
          </a:xfrm>
          <a:custGeom>
            <a:avLst/>
            <a:gdLst/>
            <a:ahLst/>
            <a:rect l="l" t="t" r="r" b="b"/>
            <a:pathLst>
              <a:path w="4868" h="3689">
                <a:moveTo>
                  <a:pt x="0" y="3311"/>
                </a:moveTo>
                <a:cubicBezTo>
                  <a:pt x="1739" y="3285"/>
                  <a:pt x="3478" y="3259"/>
                  <a:pt x="4173" y="3266"/>
                </a:cubicBezTo>
                <a:cubicBezTo>
                  <a:pt x="4868" y="3273"/>
                  <a:pt x="4649" y="3689"/>
                  <a:pt x="4173" y="3356"/>
                </a:cubicBezTo>
                <a:cubicBezTo>
                  <a:pt x="3697" y="3023"/>
                  <a:pt x="1784" y="1610"/>
                  <a:pt x="1315" y="1270"/>
                </a:cubicBezTo>
                <a:cubicBezTo>
                  <a:pt x="846" y="930"/>
                  <a:pt x="1429" y="1496"/>
                  <a:pt x="1361" y="1315"/>
                </a:cubicBezTo>
                <a:cubicBezTo>
                  <a:pt x="1293" y="1134"/>
                  <a:pt x="990" y="362"/>
                  <a:pt x="907" y="181"/>
                </a:cubicBezTo>
                <a:cubicBezTo>
                  <a:pt x="824" y="0"/>
                  <a:pt x="786" y="46"/>
                  <a:pt x="862" y="227"/>
                </a:cubicBezTo>
                <a:cubicBezTo>
                  <a:pt x="938" y="408"/>
                  <a:pt x="1149" y="839"/>
                  <a:pt x="1361" y="127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Freeform 17"/>
          <p:cNvSpPr/>
          <p:nvPr/>
        </p:nvSpPr>
        <p:spPr>
          <a:xfrm>
            <a:off x="1116000" y="4437000"/>
            <a:ext cx="6551640" cy="1800"/>
          </a:xfrm>
          <a:custGeom>
            <a:avLst/>
            <a:gdLst/>
            <a:ahLst/>
            <a:rect l="l" t="t" r="r" b="b"/>
            <a:pathLst>
              <a:path w="4127" h="1">
                <a:moveTo>
                  <a:pt x="0" y="0"/>
                </a:moveTo>
                <a:cubicBezTo>
                  <a:pt x="1719" y="0"/>
                  <a:pt x="3439" y="0"/>
                  <a:pt x="4127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1258920" y="3246480"/>
            <a:ext cx="35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6805440" y="3443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26"/>
          <p:cNvSpPr/>
          <p:nvPr/>
        </p:nvSpPr>
        <p:spPr>
          <a:xfrm>
            <a:off x="1908000" y="5445000"/>
            <a:ext cx="5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1998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042920" y="2421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042920" y="169056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cc99"/>
                </a:solidFill>
                <a:latin typeface="Arial"/>
              </a:rPr>
              <a:t>画面上的这些人</a:t>
            </a:r>
            <a:r>
              <a:rPr b="1" lang="en-US" sz="4000" spc="-1" strike="noStrike">
                <a:solidFill>
                  <a:srgbClr val="00cc99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cc99"/>
                </a:solidFill>
                <a:latin typeface="Arial"/>
              </a:rPr>
              <a:t>有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不到一寸</a:t>
            </a:r>
            <a:r>
              <a:rPr b="1" lang="zh-CN" sz="4000" spc="-1" strike="noStrike">
                <a:solidFill>
                  <a:srgbClr val="00cc99"/>
                </a:solidFill>
                <a:latin typeface="Arial"/>
              </a:rPr>
              <a:t>，有的甚至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只有黄豆那么大</a:t>
            </a:r>
            <a:r>
              <a:rPr b="1" lang="zh-CN" sz="4000" spc="-1" strike="noStrike">
                <a:solidFill>
                  <a:srgbClr val="00cc99"/>
                </a:solidFill>
                <a:latin typeface="Arial"/>
              </a:rPr>
              <a:t>。别看画上的人小，每个人在干什么</a:t>
            </a:r>
            <a:r>
              <a:rPr b="1" lang="en-US" sz="4000" spc="-1" strike="noStrike">
                <a:solidFill>
                  <a:srgbClr val="00cc99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cc99"/>
                </a:solidFill>
                <a:latin typeface="Arial"/>
              </a:rPr>
              <a:t>都能看得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清清楚楚</a:t>
            </a:r>
            <a:r>
              <a:rPr b="1" lang="zh-CN" sz="4000" spc="-1" strike="noStrike">
                <a:solidFill>
                  <a:srgbClr val="00cc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8028000" y="6165720"/>
            <a:ext cx="216000" cy="142920"/>
          </a:xfrm>
          <a:prstGeom prst="smileyFace">
            <a:avLst>
              <a:gd name="adj" fmla="val 4653"/>
            </a:avLst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9608ef8ba0364b1fc8fc7a2a"/>
          <p:cNvPicPr/>
          <p:nvPr/>
        </p:nvPicPr>
        <p:blipFill>
          <a:blip r:embed="rId1"/>
          <a:srcRect l="221" t="0" r="0" b="0"/>
          <a:stretch/>
        </p:blipFill>
        <p:spPr>
          <a:xfrm>
            <a:off x="-4573440" y="0"/>
            <a:ext cx="1524456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684360" y="385920"/>
            <a:ext cx="748800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最有意思的是桥北头的情景：一个人骑着马，正往桥下走。 因为人太多，眼看就要碰上对面来的一乘轿子。就在这个紧急时刻，那个骑马人一下子拽住了马笼头，这才没碰上那乘轿子。不过，这么一来，倒把马右边的两头小毛驴吓得又踢又跳。  站在桥栏杆边欣赏风景的人，被小毛驴惊扰了，连忙回过头来赶小毛驴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你看，张择端画的画，是多么传神啊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！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484360" y="1341360"/>
            <a:ext cx="144720" cy="505080"/>
            <a:chOff x="2484360" y="1341360"/>
            <a:chExt cx="144720" cy="505080"/>
          </a:xfrm>
        </p:grpSpPr>
        <p:sp>
          <p:nvSpPr>
            <p:cNvPr id="201" name="Line 5"/>
            <p:cNvSpPr/>
            <p:nvPr/>
          </p:nvSpPr>
          <p:spPr>
            <a:xfrm flipH="1">
              <a:off x="2484360" y="1341360"/>
              <a:ext cx="144720" cy="5050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2484360" y="1341360"/>
              <a:ext cx="14472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066920" y="692280"/>
            <a:ext cx="144720" cy="504720"/>
            <a:chOff x="4066920" y="692280"/>
            <a:chExt cx="144720" cy="504720"/>
          </a:xfrm>
        </p:grpSpPr>
        <p:sp>
          <p:nvSpPr>
            <p:cNvPr id="204" name="Line 6"/>
            <p:cNvSpPr/>
            <p:nvPr/>
          </p:nvSpPr>
          <p:spPr>
            <a:xfrm flipH="1">
              <a:off x="4066920" y="692280"/>
              <a:ext cx="14436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4067280" y="692280"/>
              <a:ext cx="144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435280" y="692280"/>
            <a:ext cx="144720" cy="504720"/>
            <a:chOff x="5435280" y="692280"/>
            <a:chExt cx="144720" cy="504720"/>
          </a:xfrm>
        </p:grpSpPr>
        <p:sp>
          <p:nvSpPr>
            <p:cNvPr id="207" name="Line 7"/>
            <p:cNvSpPr/>
            <p:nvPr/>
          </p:nvSpPr>
          <p:spPr>
            <a:xfrm flipH="1">
              <a:off x="5435280" y="692280"/>
              <a:ext cx="14436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5435640" y="692280"/>
              <a:ext cx="144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596000" y="692280"/>
            <a:ext cx="144720" cy="504720"/>
            <a:chOff x="7596000" y="692280"/>
            <a:chExt cx="144720" cy="504720"/>
          </a:xfrm>
        </p:grpSpPr>
        <p:sp>
          <p:nvSpPr>
            <p:cNvPr id="210" name="Line 8"/>
            <p:cNvSpPr/>
            <p:nvPr/>
          </p:nvSpPr>
          <p:spPr>
            <a:xfrm flipH="1">
              <a:off x="7596000" y="692280"/>
              <a:ext cx="14436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7596360" y="692280"/>
              <a:ext cx="144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858920" y="1341360"/>
            <a:ext cx="144720" cy="505080"/>
            <a:chOff x="4858920" y="1341360"/>
            <a:chExt cx="144720" cy="505080"/>
          </a:xfrm>
        </p:grpSpPr>
        <p:sp>
          <p:nvSpPr>
            <p:cNvPr id="213" name="Line 9"/>
            <p:cNvSpPr/>
            <p:nvPr/>
          </p:nvSpPr>
          <p:spPr>
            <a:xfrm flipH="1">
              <a:off x="4858920" y="1341360"/>
              <a:ext cx="144360" cy="5050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4859280" y="1341360"/>
              <a:ext cx="14436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948360" y="1341360"/>
            <a:ext cx="144720" cy="505080"/>
            <a:chOff x="6948360" y="1341360"/>
            <a:chExt cx="144720" cy="505080"/>
          </a:xfrm>
        </p:grpSpPr>
        <p:sp>
          <p:nvSpPr>
            <p:cNvPr id="216" name="Line 10"/>
            <p:cNvSpPr/>
            <p:nvPr/>
          </p:nvSpPr>
          <p:spPr>
            <a:xfrm flipH="1">
              <a:off x="6948360" y="1341360"/>
              <a:ext cx="144720" cy="5050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6948360" y="1341360"/>
              <a:ext cx="14472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042560" y="1989000"/>
            <a:ext cx="144720" cy="505080"/>
            <a:chOff x="1042560" y="1989000"/>
            <a:chExt cx="144720" cy="505080"/>
          </a:xfrm>
        </p:grpSpPr>
        <p:sp>
          <p:nvSpPr>
            <p:cNvPr id="219" name="Line 11"/>
            <p:cNvSpPr/>
            <p:nvPr/>
          </p:nvSpPr>
          <p:spPr>
            <a:xfrm flipH="1">
              <a:off x="1042560" y="1989000"/>
              <a:ext cx="144360" cy="5050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1042920" y="1989000"/>
              <a:ext cx="14436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484360" y="1989000"/>
            <a:ext cx="144720" cy="505080"/>
            <a:chOff x="2484360" y="1989000"/>
            <a:chExt cx="144720" cy="505080"/>
          </a:xfrm>
        </p:grpSpPr>
        <p:sp>
          <p:nvSpPr>
            <p:cNvPr id="222" name="Line 12"/>
            <p:cNvSpPr/>
            <p:nvPr/>
          </p:nvSpPr>
          <p:spPr>
            <a:xfrm flipH="1">
              <a:off x="2484360" y="1989000"/>
              <a:ext cx="144720" cy="5050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2484360" y="1989000"/>
              <a:ext cx="14472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651280" y="1989000"/>
            <a:ext cx="144720" cy="505080"/>
            <a:chOff x="5651280" y="1989000"/>
            <a:chExt cx="144720" cy="505080"/>
          </a:xfrm>
        </p:grpSpPr>
        <p:sp>
          <p:nvSpPr>
            <p:cNvPr id="225" name="Line 13"/>
            <p:cNvSpPr/>
            <p:nvPr/>
          </p:nvSpPr>
          <p:spPr>
            <a:xfrm flipH="1">
              <a:off x="5651280" y="1989000"/>
              <a:ext cx="144360" cy="5050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5651640" y="1989000"/>
              <a:ext cx="14436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195280" y="2565360"/>
            <a:ext cx="144720" cy="504720"/>
            <a:chOff x="2195280" y="2565360"/>
            <a:chExt cx="144720" cy="504720"/>
          </a:xfrm>
        </p:grpSpPr>
        <p:sp>
          <p:nvSpPr>
            <p:cNvPr id="228" name="Line 14"/>
            <p:cNvSpPr/>
            <p:nvPr/>
          </p:nvSpPr>
          <p:spPr>
            <a:xfrm flipH="1">
              <a:off x="2195280" y="2565360"/>
              <a:ext cx="14436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2195640" y="2565360"/>
              <a:ext cx="144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203280" y="2637000"/>
            <a:ext cx="144720" cy="504720"/>
            <a:chOff x="3203280" y="2637000"/>
            <a:chExt cx="144720" cy="504720"/>
          </a:xfrm>
        </p:grpSpPr>
        <p:sp>
          <p:nvSpPr>
            <p:cNvPr id="231" name="Line 15"/>
            <p:cNvSpPr/>
            <p:nvPr/>
          </p:nvSpPr>
          <p:spPr>
            <a:xfrm flipH="1">
              <a:off x="3203280" y="2637000"/>
              <a:ext cx="14436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3203640" y="2637000"/>
              <a:ext cx="144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211280" y="2637000"/>
            <a:ext cx="144720" cy="504720"/>
            <a:chOff x="4211280" y="2637000"/>
            <a:chExt cx="144720" cy="504720"/>
          </a:xfrm>
        </p:grpSpPr>
        <p:sp>
          <p:nvSpPr>
            <p:cNvPr id="234" name="Line 16"/>
            <p:cNvSpPr/>
            <p:nvPr/>
          </p:nvSpPr>
          <p:spPr>
            <a:xfrm flipH="1">
              <a:off x="4211280" y="2637000"/>
              <a:ext cx="14436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4211640" y="2637000"/>
              <a:ext cx="144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51640" y="2565360"/>
            <a:ext cx="144720" cy="504720"/>
            <a:chOff x="7451640" y="2565360"/>
            <a:chExt cx="144720" cy="504720"/>
          </a:xfrm>
        </p:grpSpPr>
        <p:sp>
          <p:nvSpPr>
            <p:cNvPr id="237" name="Line 17"/>
            <p:cNvSpPr/>
            <p:nvPr/>
          </p:nvSpPr>
          <p:spPr>
            <a:xfrm flipH="1">
              <a:off x="7451640" y="2565360"/>
              <a:ext cx="14472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7451640" y="2565360"/>
              <a:ext cx="14472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724360" y="3213000"/>
            <a:ext cx="144720" cy="505080"/>
            <a:chOff x="5724360" y="3213000"/>
            <a:chExt cx="144720" cy="505080"/>
          </a:xfrm>
        </p:grpSpPr>
        <p:sp>
          <p:nvSpPr>
            <p:cNvPr id="240" name="Line 18"/>
            <p:cNvSpPr/>
            <p:nvPr/>
          </p:nvSpPr>
          <p:spPr>
            <a:xfrm flipH="1">
              <a:off x="5724360" y="3213000"/>
              <a:ext cx="144720" cy="5050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5724360" y="3213000"/>
              <a:ext cx="14472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092720" y="3284640"/>
            <a:ext cx="144720" cy="504720"/>
            <a:chOff x="7092720" y="3284640"/>
            <a:chExt cx="144720" cy="504720"/>
          </a:xfrm>
        </p:grpSpPr>
        <p:sp>
          <p:nvSpPr>
            <p:cNvPr id="243" name="Line 19"/>
            <p:cNvSpPr/>
            <p:nvPr/>
          </p:nvSpPr>
          <p:spPr>
            <a:xfrm flipH="1">
              <a:off x="7092720" y="3284640"/>
              <a:ext cx="14436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7093080" y="3284640"/>
              <a:ext cx="144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763280" y="3860640"/>
            <a:ext cx="144720" cy="505080"/>
            <a:chOff x="1763280" y="3860640"/>
            <a:chExt cx="144720" cy="505080"/>
          </a:xfrm>
        </p:grpSpPr>
        <p:sp>
          <p:nvSpPr>
            <p:cNvPr id="246" name="Line 20"/>
            <p:cNvSpPr/>
            <p:nvPr/>
          </p:nvSpPr>
          <p:spPr>
            <a:xfrm flipH="1">
              <a:off x="1763280" y="3860640"/>
              <a:ext cx="144360" cy="5050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1763640" y="3860640"/>
              <a:ext cx="14436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484360" y="3860640"/>
            <a:ext cx="144720" cy="505080"/>
            <a:chOff x="2484360" y="3860640"/>
            <a:chExt cx="144720" cy="505080"/>
          </a:xfrm>
        </p:grpSpPr>
        <p:sp>
          <p:nvSpPr>
            <p:cNvPr id="249" name="Line 21"/>
            <p:cNvSpPr/>
            <p:nvPr/>
          </p:nvSpPr>
          <p:spPr>
            <a:xfrm flipH="1">
              <a:off x="2484360" y="3860640"/>
              <a:ext cx="144720" cy="5050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2484360" y="3860640"/>
              <a:ext cx="14472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364000" y="3860640"/>
            <a:ext cx="144720" cy="505080"/>
            <a:chOff x="5364000" y="3860640"/>
            <a:chExt cx="144720" cy="505080"/>
          </a:xfrm>
        </p:grpSpPr>
        <p:sp>
          <p:nvSpPr>
            <p:cNvPr id="252" name="Line 22"/>
            <p:cNvSpPr/>
            <p:nvPr/>
          </p:nvSpPr>
          <p:spPr>
            <a:xfrm flipH="1">
              <a:off x="5364000" y="3860640"/>
              <a:ext cx="144720" cy="5050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5364000" y="3860640"/>
              <a:ext cx="14472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803640" y="3860640"/>
            <a:ext cx="144720" cy="505080"/>
            <a:chOff x="6803640" y="3860640"/>
            <a:chExt cx="144720" cy="505080"/>
          </a:xfrm>
        </p:grpSpPr>
        <p:sp>
          <p:nvSpPr>
            <p:cNvPr id="255" name="Line 23"/>
            <p:cNvSpPr/>
            <p:nvPr/>
          </p:nvSpPr>
          <p:spPr>
            <a:xfrm flipH="1">
              <a:off x="6803640" y="3860640"/>
              <a:ext cx="144360" cy="5050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6804000" y="3860640"/>
              <a:ext cx="14436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476000" y="4508640"/>
            <a:ext cx="144720" cy="504720"/>
            <a:chOff x="1476000" y="4508640"/>
            <a:chExt cx="144720" cy="504720"/>
          </a:xfrm>
        </p:grpSpPr>
        <p:sp>
          <p:nvSpPr>
            <p:cNvPr id="258" name="Line 24"/>
            <p:cNvSpPr/>
            <p:nvPr/>
          </p:nvSpPr>
          <p:spPr>
            <a:xfrm flipH="1">
              <a:off x="1476000" y="4508640"/>
              <a:ext cx="14436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1476360" y="4508640"/>
              <a:ext cx="144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563640" y="4508640"/>
            <a:ext cx="144720" cy="504720"/>
            <a:chOff x="3563640" y="4508640"/>
            <a:chExt cx="144720" cy="504720"/>
          </a:xfrm>
        </p:grpSpPr>
        <p:sp>
          <p:nvSpPr>
            <p:cNvPr id="261" name="Line 25"/>
            <p:cNvSpPr/>
            <p:nvPr/>
          </p:nvSpPr>
          <p:spPr>
            <a:xfrm flipH="1">
              <a:off x="3563640" y="4508640"/>
              <a:ext cx="14436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3564000" y="4508640"/>
              <a:ext cx="144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724360" y="4508640"/>
            <a:ext cx="144720" cy="504720"/>
            <a:chOff x="5724360" y="4508640"/>
            <a:chExt cx="144720" cy="504720"/>
          </a:xfrm>
        </p:grpSpPr>
        <p:sp>
          <p:nvSpPr>
            <p:cNvPr id="264" name="Line 26"/>
            <p:cNvSpPr/>
            <p:nvPr/>
          </p:nvSpPr>
          <p:spPr>
            <a:xfrm flipH="1">
              <a:off x="5724360" y="4508640"/>
              <a:ext cx="14472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5724360" y="4508640"/>
              <a:ext cx="14472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092720" y="4508640"/>
            <a:ext cx="144720" cy="504720"/>
            <a:chOff x="7092720" y="4508640"/>
            <a:chExt cx="144720" cy="504720"/>
          </a:xfrm>
        </p:grpSpPr>
        <p:sp>
          <p:nvSpPr>
            <p:cNvPr id="267" name="Line 27"/>
            <p:cNvSpPr/>
            <p:nvPr/>
          </p:nvSpPr>
          <p:spPr>
            <a:xfrm flipH="1">
              <a:off x="7092720" y="4508640"/>
              <a:ext cx="14436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7093080" y="4508640"/>
              <a:ext cx="144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284360" y="5157720"/>
            <a:ext cx="144720" cy="504720"/>
            <a:chOff x="4284360" y="5157720"/>
            <a:chExt cx="144720" cy="504720"/>
          </a:xfrm>
        </p:grpSpPr>
        <p:sp>
          <p:nvSpPr>
            <p:cNvPr id="270" name="Line 28"/>
            <p:cNvSpPr/>
            <p:nvPr/>
          </p:nvSpPr>
          <p:spPr>
            <a:xfrm flipH="1">
              <a:off x="4284360" y="5157720"/>
              <a:ext cx="14436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4284720" y="5157720"/>
              <a:ext cx="1443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084720" y="5157720"/>
            <a:ext cx="144720" cy="504720"/>
            <a:chOff x="6084720" y="5157720"/>
            <a:chExt cx="144720" cy="504720"/>
          </a:xfrm>
        </p:grpSpPr>
        <p:sp>
          <p:nvSpPr>
            <p:cNvPr id="273" name="Line 29"/>
            <p:cNvSpPr/>
            <p:nvPr/>
          </p:nvSpPr>
          <p:spPr>
            <a:xfrm flipH="1">
              <a:off x="6084720" y="5157720"/>
              <a:ext cx="144720" cy="504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6084720" y="5157720"/>
              <a:ext cx="14472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7928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Picture 4" descr="KE)4E4`EN[(XYU5_UJY`OSF"/>
          <p:cNvPicPr/>
          <p:nvPr/>
        </p:nvPicPr>
        <p:blipFill>
          <a:blip r:embed="rId1"/>
          <a:stretch/>
        </p:blipFill>
        <p:spPr>
          <a:xfrm>
            <a:off x="0" y="0"/>
            <a:ext cx="9144000" cy="75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24000" y="404640"/>
            <a:ext cx="10009440" cy="160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Tahoma"/>
                <a:ea typeface="楷体_GB2312"/>
              </a:rPr>
              <a:t>      </a:t>
            </a:r>
            <a:r>
              <a:rPr b="0" lang="zh-CN" sz="4800" spc="-1" strike="noStrike">
                <a:solidFill>
                  <a:srgbClr val="000099"/>
                </a:solidFill>
                <a:latin typeface="Tahoma"/>
              </a:rPr>
              <a:t>张择端的画是多么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</a:rPr>
              <a:t>传神</a:t>
            </a:r>
            <a:r>
              <a:rPr b="0" lang="zh-CN" sz="4800" spc="-1" strike="noStrike">
                <a:solidFill>
                  <a:srgbClr val="000099"/>
                </a:solidFill>
                <a:latin typeface="Tahoma"/>
              </a:rPr>
              <a:t>啊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1844280"/>
            <a:ext cx="88930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Tahoma"/>
                <a:ea typeface="楷体_GB2312"/>
              </a:rPr>
              <a:t>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宋体"/>
              </a:rPr>
              <a:t>       </a:t>
            </a:r>
            <a:r>
              <a:rPr b="0" lang="en-US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清明上河图</a:t>
            </a:r>
            <a:r>
              <a:rPr b="0" lang="en-US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》</a:t>
            </a: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使我们看到了八百年以前的古都风貌，看到了当时普通老百姓的生活情景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304920" y="22208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6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39640" y="1916280"/>
            <a:ext cx="748980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汴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梁    保 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存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撑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船    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摊 贩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官 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吏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   毛 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驴  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悠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闲    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拽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惊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 扰</a:t>
            </a:r>
            <a:r>
              <a:rPr b="0" lang="zh-CN" sz="1800" spc="-1" strike="noStrike">
                <a:solidFill>
                  <a:srgbClr val="000099"/>
                </a:solidFill>
                <a:latin typeface="Tahoma"/>
              </a:rPr>
              <a:t>          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形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态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各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418280" y="324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971640" y="1484280"/>
            <a:ext cx="43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正确读出下列词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0" name="中国馆清明上河图特写 00_00_00-00_01_49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09134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3" name="Picture 5" descr="啊"/>
          <p:cNvPicPr/>
          <p:nvPr/>
        </p:nvPicPr>
        <p:blipFill>
          <a:blip r:embed="rId1"/>
          <a:stretch/>
        </p:blipFill>
        <p:spPr>
          <a:xfrm>
            <a:off x="0" y="0"/>
            <a:ext cx="9534600" cy="72327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2679840" y="372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2462040" y="749160"/>
            <a:ext cx="2934000" cy="55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历 经 风 雨 八 百 年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繁 华 古 都 在 眼 前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千 姿 百 态 众 生 相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尽 在 绵 绵 画 中 间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扬 名 海 外 震 国 威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惊 世 绝 技 人 人 赞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绝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中 华 文 化 真 叫 绝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6" name="渔舟唱晚.mp3" descr=""/>
          <p:cNvPicPr/>
          <p:nvPr/>
        </p:nvPicPr>
        <p:blipFill>
          <a:blip r:embed="rId2"/>
          <a:stretch/>
        </p:blipFill>
        <p:spPr>
          <a:xfrm>
            <a:off x="9144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285513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D998-28AA-4135-98CA-A7C9B1B30AF4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341460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258920" y="7650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   </a:t>
            </a:r>
            <a:r>
              <a:rPr b="1" lang="en-US" sz="44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20*  </a:t>
            </a:r>
            <a:r>
              <a:rPr b="1" lang="zh-CN" sz="44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一幅名扬中外的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1295280" y="2590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人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1295280" y="34592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街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295280" y="4297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情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3132000" y="2565360"/>
            <a:ext cx="26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多  形态各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2700360" y="342900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热闹   清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733920" y="4297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传神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AutoShape 10"/>
          <p:cNvSpPr/>
          <p:nvPr/>
        </p:nvSpPr>
        <p:spPr>
          <a:xfrm>
            <a:off x="5867280" y="2743200"/>
            <a:ext cx="152640" cy="1981080"/>
          </a:xfrm>
          <a:custGeom>
            <a:avLst/>
            <a:gdLst>
              <a:gd name="textAreaLeft" fmla="*/ 0 w 152640"/>
              <a:gd name="textAreaRight" fmla="*/ 55080 w 15264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6248520" y="2997360"/>
            <a:ext cx="2057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古都风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生活情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304920" y="22208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6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11280" y="2060640"/>
            <a:ext cx="748980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i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           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ú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    ch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ē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g       t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ā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汴 梁    保 存     撑 船    摊 贩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ì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         lǘ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       y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ō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u          zhu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官 吏    毛 驴     悠 闲    拽 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ǎ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o            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惊 扰</a:t>
            </a:r>
            <a:r>
              <a:rPr b="0" lang="zh-CN" sz="1800" spc="-1" strike="noStrike">
                <a:solidFill>
                  <a:srgbClr val="000099"/>
                </a:solidFill>
                <a:latin typeface="Tahoma"/>
              </a:rPr>
              <a:t>          </a:t>
            </a:r>
            <a:r>
              <a:rPr b="0" lang="zh-CN" sz="4000" spc="-1" strike="noStrike">
                <a:solidFill>
                  <a:srgbClr val="000099"/>
                </a:solidFill>
                <a:latin typeface="Tahoma"/>
              </a:rPr>
              <a:t>形态各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418280" y="324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332000" y="1052640"/>
            <a:ext cx="54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正确读出下列词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4418280" y="324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1384200" y="2209680"/>
            <a:ext cx="68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539640" y="2133720"/>
            <a:ext cx="8280360" cy="4664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u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ō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作坊）                           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li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ū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（溜达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作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    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uò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作业）                        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li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ù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（一溜烟）</a:t>
            </a: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é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ng 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（乘车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乘   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è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ng </a:t>
            </a: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（乘机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h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è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g  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一乘轿子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0199"/>
                </a:solidFill>
                <a:latin typeface="Tahoma"/>
              </a:rPr>
              <a:t>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2340000" y="292428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987640" y="5373720"/>
            <a:ext cx="554040" cy="625320"/>
          </a:xfrm>
          <a:prstGeom prst="bracketPair">
            <a:avLst>
              <a:gd name="adj" fmla="val 16666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2411280" y="2924280"/>
            <a:ext cx="914400" cy="914400"/>
          </a:xfrm>
          <a:prstGeom prst="bracketPair">
            <a:avLst>
              <a:gd name="adj" fmla="val 16666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700360" y="3789360"/>
            <a:ext cx="71280" cy="71928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1116000" y="2276640"/>
            <a:ext cx="216000" cy="158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000"/>
              <a:gd name="textAreaBottom" fmla="*/ 154296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20"/>
          <p:cNvSpPr/>
          <p:nvPr/>
        </p:nvSpPr>
        <p:spPr>
          <a:xfrm>
            <a:off x="1116000" y="4508640"/>
            <a:ext cx="216000" cy="15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21"/>
          <p:cNvSpPr/>
          <p:nvPr/>
        </p:nvSpPr>
        <p:spPr>
          <a:xfrm>
            <a:off x="5796000" y="2276640"/>
            <a:ext cx="216000" cy="158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41040 h 1584000"/>
              <a:gd name="textAreaBottom" fmla="*/ 154296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2340360" y="10191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正确读出下列多音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文本框 8200"/>
          <p:cNvSpPr/>
          <p:nvPr/>
        </p:nvSpPr>
        <p:spPr>
          <a:xfrm>
            <a:off x="736560" y="1681200"/>
            <a:ext cx="445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9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8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2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3" descr="q1"/>
          <p:cNvPicPr/>
          <p:nvPr/>
        </p:nvPicPr>
        <p:blipFill>
          <a:blip r:embed="rId1"/>
          <a:stretch/>
        </p:blipFill>
        <p:spPr>
          <a:xfrm>
            <a:off x="0" y="0"/>
            <a:ext cx="31165920" cy="7101000"/>
          </a:xfrm>
          <a:prstGeom prst="rect">
            <a:avLst/>
          </a:prstGeom>
          <a:ln w="0">
            <a:noFill/>
          </a:ln>
        </p:spPr>
      </p:pic>
      <p:pic>
        <p:nvPicPr>
          <p:cNvPr id="152" name="望江南.mp3" descr=""/>
          <p:cNvPicPr/>
          <p:nvPr/>
        </p:nvPicPr>
        <p:blipFill>
          <a:blip r:embed="rId2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3" name="望江南.mp3" descr=""/>
          <p:cNvPicPr/>
          <p:nvPr/>
        </p:nvPicPr>
        <p:blipFill>
          <a:blip r:embed="rId3"/>
          <a:stretch/>
        </p:blipFill>
        <p:spPr>
          <a:xfrm>
            <a:off x="7451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6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6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5" descr="quan"/>
          <p:cNvPicPr/>
          <p:nvPr/>
        </p:nvPicPr>
        <p:blipFill>
          <a:blip r:embed="rId1"/>
          <a:stretch/>
        </p:blipFill>
        <p:spPr>
          <a:xfrm>
            <a:off x="0" y="689040"/>
            <a:ext cx="91440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250920" y="476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539640" y="692280"/>
            <a:ext cx="813600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中国十大传世名画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之一的清明上河图为北宋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风俗画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作品，宽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24.8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厘米，长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528.7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厘米，绢本设色；该画卷是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北宋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画家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张择端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存世的仅见的一幅精品，属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国宝级文物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，现存于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北京故宫博物院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。作品以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长卷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形式，采用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散点透视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的构图法，生动地记录了中国十二世纪城市生活的面貌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张择端像"/>
          <p:cNvPicPr/>
          <p:nvPr/>
        </p:nvPicPr>
        <p:blipFill>
          <a:blip r:embed="rId1"/>
          <a:stretch/>
        </p:blipFill>
        <p:spPr>
          <a:xfrm>
            <a:off x="0" y="0"/>
            <a:ext cx="38448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4267080" y="380880"/>
            <a:ext cx="4572000" cy="1595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作者张择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北宋画家，字正道，东武（今山东诸城）人。早年游学汴京（今河南开封），后习绘画。宋徽宗时供职翰林图画院。专工界画宫室，尤擅绘舟车、市肆、桥梁、街道、城郭。存世作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清明上河图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卷，描绘当年汴京近郊在清明时节社会各阶层的生活景象，真实生动，是一件具有重要历史价值的优秀风俗画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button104"/>
          <p:cNvPicPr/>
          <p:nvPr/>
        </p:nvPicPr>
        <p:blipFill>
          <a:blip r:embed="rId2"/>
          <a:stretch/>
        </p:blipFill>
        <p:spPr>
          <a:xfrm>
            <a:off x="8686800" y="6400800"/>
            <a:ext cx="38088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24000" y="1196640"/>
            <a:ext cx="85168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北宋时候，有位画家叫张择端。他画了一幅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名扬中外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的画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——《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清明上河图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》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。这幅画长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528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厘米，高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24.8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厘米，画的是北宋都城汴梁热闹的场面。这幅画已经有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八百多年</a:t>
            </a: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的历史了，现在还完整地保存在北京故宫博物院里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8:00:0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34Z</dcterms:modified>
  <cp:revision>2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