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8AC-9661-4E1E-B4B6-C0CE8D56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111-8634-4133-AD13-1F216151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6D2-D55E-4F39-88A0-B99BE753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F2F-E73B-493B-8B3F-D2026C29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C9DC-67EA-4F2F-84EC-241FCED8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4E7C-7D3C-401C-9C14-91CF3F90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854B-0F72-44D3-BDF9-D4A1B5C8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CF6A-2528-4DB6-B249-2AA251D1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2A19-4898-492E-813E-55419171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0799-E9C0-4A2B-AC5E-9790D0A1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55B-0005-4A05-8559-61EB34BB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3F2-48D0-4E9D-BDF8-341FD13D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54FA-EB85-4F1A-97CD-527E6FDF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77BF-277B-44BD-81A7-C9FA222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6CAE-BCD0-4EE6-AC29-87B6859B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52C1-28DA-4401-A203-07B20FFF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7962-3110-4815-AC71-C74A519A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EF3-CC08-4E1E-9D9A-78DA388B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ABE-10EC-401E-8085-0246BAE8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5E5-27E8-456E-94DF-D88E02EC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651-44D8-4719-9469-1513D626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10AB-66B8-4AD9-A2AD-B6BB53D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200-6FB3-4C5B-9967-74ECA061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859-1D1E-4415-9FAA-2C828BEF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2AFD-56B8-4022-97BC-ECBB588F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8E6E-2707-4690-8647-D157D0401AD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888A-8194-4050-8962-B7E4A263CA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282,11,&#24187;&#28783;&#29255; 11" TargetMode="External"/><Relationship Id="rId3" Type="http://schemas.openxmlformats.org/officeDocument/2006/relationships/hyperlink" Target="282,11,&#24187;&#28783;&#29255; 11" TargetMode="External"/><Relationship Id="rId4" Type="http://schemas.openxmlformats.org/officeDocument/2006/relationships/hyperlink" Target="278,12,&#24187;&#28783;&#29255; 12" TargetMode="External"/><Relationship Id="rId5" Type="http://schemas.openxmlformats.org/officeDocument/2006/relationships/hyperlink" Target="278,12,&#24187;&#28783;&#29255; 12" TargetMode="External"/><Relationship Id="rId6" Type="http://schemas.openxmlformats.org/officeDocument/2006/relationships/hyperlink" Target="280,13,&#24187;&#28783;&#29255; 13" TargetMode="External"/><Relationship Id="rId7" Type="http://schemas.openxmlformats.org/officeDocument/2006/relationships/hyperlink" Target="280,13,&#24187;&#28783;&#29255; 13" TargetMode="External"/><Relationship Id="rId8" Type="http://schemas.openxmlformats.org/officeDocument/2006/relationships/hyperlink" Target="281,16,&#12288;&#12288; &#25105;&#30340;&#29240;&#29240;&#31934;&#36890;&#22235;&#22269;&#35821;&#35328;&#65292;&#26159;&#19968;&#20301;&#20986;&#33394;&#30340;&#32463;&#27982;&#23398;&#30805;&#22763;&#65292;&#26412;&#26469;&#20182;&#24212;&#35813;&#20026;&#20154;&#31867;&#20316;&#20986;&#26356;&#22823;&#30340;&#36129;&#29486;&#65292;&#21364;&#34987;&#25112;&#20105;&#22842;&#21435;&#20102;&#23453;&#36149;&#30340;&#29983;&#21629;&#12290;&#20182;&#30340;&#27515;&#26159;&#20809;&#33635;&#30340;&#65292;&#20182;&#26159;&#20026;&#21644;&#24179;&#32780;&#20498;&#19979;&#30340;&#65292;&#20182;&#20498;&#22312;&#20102;&#32500;&#25252;&#19990;&#30028;&#21644;&#24179;&#30340;&#22307;&#22363;&#19978;&#12290;  " TargetMode="External"/><Relationship Id="rId9" Type="http://schemas.openxmlformats.org/officeDocument/2006/relationships/hyperlink" Target="281,16,&#12288;&#12288; &#25105;&#30340;&#29240;&#29240;&#31934;&#36890;&#22235;&#22269;&#35821;&#35328;&#65292;&#26159;&#19968;&#20301;&#20986;&#33394;&#30340;&#32463;&#27982;&#23398;&#30805;&#22763;&#65292;&#26412;&#26469;&#20182;&#24212;&#35813;&#20026;&#20154;&#31867;&#20316;&#20986;&#26356;&#22823;&#30340;&#36129;&#29486;&#65292;&#21364;&#34987;&#25112;&#20105;&#22842;&#21435;&#20102;&#23453;&#36149;&#30340;&#29983;&#21629;&#12290;&#20182;&#30340;&#27515;&#26159;&#20809;&#33635;&#30340;&#65292;&#20182;&#26159;&#20026;&#21644;&#24179;&#32780;&#20498;&#19979;&#30340;&#65292;&#20182;&#20498;&#22312;&#20102;&#32500;&#25252;&#19990;&#30028;&#21644;&#24179;&#30340;&#22307;&#22363;&#19978;&#12290;  " TargetMode="Externa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276,10,&#24187;&#28783;&#29255; 10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23443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Text Box 5" descr=""/>
          <p:cNvPicPr/>
          <p:nvPr/>
        </p:nvPicPr>
        <p:blipFill>
          <a:blip r:embed="rId2"/>
          <a:stretch/>
        </p:blipFill>
        <p:spPr>
          <a:xfrm>
            <a:off x="177840" y="907920"/>
            <a:ext cx="8956800" cy="7016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一个中国孩子的呼声1_图像206"/>
          <p:cNvPicPr/>
          <p:nvPr/>
        </p:nvPicPr>
        <p:blipFill>
          <a:blip r:embed="rId1"/>
          <a:stretch/>
        </p:blipFill>
        <p:spPr>
          <a:xfrm>
            <a:off x="-125280" y="-93600"/>
            <a:ext cx="9269280" cy="6951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592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加利先生，在此，我代表我的家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表所有的中国孩子，通过您向整个国际社会呼吁：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救救孩子们，要和平不要战争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母亲不再失去儿子，为了妻子不再失去丈夫，为了孩子不再失去父亲，全世界应该一致行动起来，维护和平，制止战争！让那已经能够听到脚步声的二十一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战争敲响丧钟，让明天的世界真正成为充满阳光、鲜花和爱的人类家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749680" y="632952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幻灯片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044960" y="632952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幻灯片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342040" y="6329520"/>
            <a:ext cx="904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幻灯片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716160" y="6329520"/>
            <a:ext cx="950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　　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年以前，我亲爱的爸爸作为联合国的一名军事观察员，在执行维护和平的行动中壮烈牺牲，您给予了他高度的评价，赞扬他是“一名卓越的观察员，在执行联合国维和行动中体现了人道与公正的素质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80820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349080" y="631512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476280"/>
            <a:ext cx="9371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两年多来，我们全家沉浸在失去亲人的巨大悲痛中，我至今都忘不了，爸爸临上飞机前对我和妈妈那深情的目光。他说：“孩子，等爸爸回来，我一定送你一顶‘蓝盔’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341080" y="6026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这顶蓝盔回来了，但它是钉在爸爸的灵柩上回来的。我们如约捧着鲜花，接到的却是爸爸那覆盖着国旗的遗体。鲜血染红了他的征衣，腕上的手表浸满了凝固的血。爸爸的嘴张着，仿佛在呼唤着什么。啊！我听见了，妈妈听见了，在场的叔叔阿姨听见了，全世界都听见了，他呼唤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平！和平！和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这顶蓝盔回来了，但它是钉在爸爸的灵柩上回来的。我们如约捧着鲜花，接到的却是爸爸那（           ）的遗体。鲜血（      ）了他的征衣，腕上的手表（     ）了（      ）的血。爸爸的嘴张着，仿佛在呼唤着什么。啊！我听见了，妈妈听见了，在场的叔叔阿姨听见了，全世界都听见了，他呼唤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      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8200"/>
          <p:cNvSpPr/>
          <p:nvPr/>
        </p:nvSpPr>
        <p:spPr>
          <a:xfrm>
            <a:off x="298764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这顶蓝盔回来了，但它是钉在爸爸的灵柩上回来的。我们如约捧着鲜花，接到的却是爸爸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覆盖着国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遗体。鲜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染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他的征衣，腕上的手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浸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凝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血。爸爸的嘴张着，仿佛在呼唤着什么。啊！我听见了，妈妈听见了，在场的叔叔阿姨听见了，全世界都听见了，他呼唤的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平！和平！和平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28"/>
          <p:cNvSpPr/>
          <p:nvPr/>
        </p:nvSpPr>
        <p:spPr>
          <a:xfrm>
            <a:off x="2917080" y="6242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的爸爸精通四国语言，是一位出色的经济学硕士，本来他应该为人类作出更大的贡献，却被战争夺去了宝贵的生命。他的死是光荣的，他是为和平而倒下的，他倒在了维护世界和平的圣坛上。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917080" y="6242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一个中国孩子的呼声1_图像206"/>
          <p:cNvPicPr/>
          <p:nvPr/>
        </p:nvPicPr>
        <p:blipFill>
          <a:blip r:embed="rId1"/>
          <a:stretch/>
        </p:blipFill>
        <p:spPr>
          <a:xfrm>
            <a:off x="-125280" y="-93600"/>
            <a:ext cx="9269280" cy="6951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29"/>
          <p:cNvSpPr/>
          <p:nvPr/>
        </p:nvSpPr>
        <p:spPr>
          <a:xfrm>
            <a:off x="592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30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加利先生，在此，我代表我的家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表所有的中国孩子，通过您向整个国际社会呼吁：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救救孩子们，要和平不要战争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母亲不再失去儿子，为了妻子不再失去丈夫，为了孩子不再失去父亲，全世界应该一致行动起来，维护和平，制止战争！让那已经能够听到脚步声的二十一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战争敲响丧钟，让明天的世界真正成为充满阳光、鲜花和爱的人类家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_1048044898_1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4317840" y="53737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阿富汗长期内乱，人们不得不远走他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928440" y="5516640"/>
            <a:ext cx="681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，美国纽约市世贸大厦遭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恐怖袭击，顷刻间倒坍，死亡两千多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90000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一个中国孩子的呼声1_图像1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图1"/>
          <p:cNvPicPr/>
          <p:nvPr/>
        </p:nvPicPr>
        <p:blipFill>
          <a:blip r:embed="rId1"/>
          <a:stretch/>
        </p:blipFill>
        <p:spPr>
          <a:xfrm>
            <a:off x="395280" y="0"/>
            <a:ext cx="8137440" cy="5075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579920" y="551664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巴勒斯坦和以色列的长期争端所带来的不断的仇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xinsrc_27d5da1c617642a19cb39de2e6cd794b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>
            <a:off x="6861960" y="-555120"/>
            <a:ext cx="789840" cy="77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伊拉克孩子在战火中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一个中国孩子的呼声1_图像188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24000" y="5537160"/>
            <a:ext cx="89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印度和巴基斯坦经常为克什米尔发生争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期的争端给当地的人民带来的灾难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一个中国孩子的呼声1_图像182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2138400" y="5229360"/>
            <a:ext cx="513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车臣恐怖分子绑架人质案，让三百多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质死于非命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468720" y="-360"/>
            <a:ext cx="9612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战争让无数人失去了生命。据不完全统计，第一次世界大战持续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月，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国家参战，卷入战争人口达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上，军民伤亡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0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第二次世界大战历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之久，先后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国家和地区参战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卷入战争，死亡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70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代战争给人类造成的破坏更巨大。联合国儿童基金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报告，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因为战争，世界有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儿童死亡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6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儿童受伤或残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728520" y="649116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呼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一个中国孩子的呼声1_图像206"/>
          <p:cNvPicPr/>
          <p:nvPr/>
        </p:nvPicPr>
        <p:blipFill>
          <a:blip r:embed="rId1"/>
          <a:stretch/>
        </p:blipFill>
        <p:spPr>
          <a:xfrm>
            <a:off x="-125280" y="-93600"/>
            <a:ext cx="9269280" cy="695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92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敬爱的加利先生，在此，我代表我的家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代表所有的中国孩子，通过您向整个国际社会呼吁：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救救孩子们，要和平不要战争！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母亲不再失去儿子，为了妻子不再失去丈夫，为了孩子不再失去父亲，全世界应该一致行动起来，维护和平，制止战争！让那已经能够听到脚步声的二十一世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战争敲响丧钟，让明天的世界真正成为充满阳光、鲜花和爱的人类家园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一个中国孩子的呼声1_图像2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美丽.MP3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一个中国孩子的呼声1_图像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一个中国孩子的呼声1_图像2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一个中国孩子的呼声1_图像279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一个中国孩子的呼声1_图像1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一个中国孩子的呼声1_图像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0227_087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3260880" y="139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187160" y="0"/>
            <a:ext cx="237528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鸽 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鸽子是和平的使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衔着绿色的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穿梭在天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撒播和平的种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鸽子飞过的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长出一棵棵枝繁叶茂的和平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从此，地球的一隅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yǔ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战火熄灭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CC7A-8589-4079-80D3-A08155E330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2229120" y="907920"/>
            <a:ext cx="487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学了课文，你一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很多感受，让我们也写几句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吁世界和平的话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一个中国孩子的呼声1_图像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一个中国孩子的呼声1_图像1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一个中国孩子的呼声1_图像1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一个中国孩子的呼声1_图像1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一个中国孩子的呼声1_图像1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维和"/>
          <p:cNvPicPr/>
          <p:nvPr/>
        </p:nvPicPr>
        <p:blipFill>
          <a:blip r:embed="rId1"/>
          <a:stretch/>
        </p:blipFill>
        <p:spPr>
          <a:xfrm>
            <a:off x="0" y="3200400"/>
            <a:ext cx="342900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276360" y="2971440"/>
            <a:ext cx="5638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x005F_x000B__x005F_x000C_"/>
                <a:ea typeface="华文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_x005F_x000B__x005F_x000C_"/>
                <a:ea typeface="华文宋体"/>
              </a:rPr>
              <a:t>联合国军事观察员</a:t>
            </a:r>
            <a:r>
              <a:rPr b="0" lang="zh-CN" sz="2400" spc="-1" strike="noStrike">
                <a:solidFill>
                  <a:srgbClr val="000000"/>
                </a:solidFill>
                <a:latin typeface="_x005F_x000B__x005F_x000C_"/>
                <a:ea typeface="华文宋体"/>
              </a:rPr>
              <a:t>是联合国维持和平行动的一部分。军事观察员来自联合国成员国。他们除佩戴标有各自国家名称和国旗标志的臂章外，一律戴天蓝色的贝雷帽，因为天蓝色是和平的象征。维和部队和军事观察员也因此被称为“蓝盔部队”。军事观察员的主要任务是监督冲突各方对停火协议的遵守情况。由于在执行任务时不能携带武器，因此军事观察员随时会面临一定危险</a:t>
            </a:r>
            <a:r>
              <a:rPr b="0" lang="zh-CN" sz="1800" spc="-1" strike="noStrike">
                <a:solidFill>
                  <a:srgbClr val="000000"/>
                </a:solidFill>
                <a:latin typeface="_x005F_x000B__x005F_x000C_"/>
                <a:ea typeface="华文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秘书加利"/>
          <p:cNvPicPr/>
          <p:nvPr/>
        </p:nvPicPr>
        <p:blipFill>
          <a:blip r:embed="rId2"/>
          <a:stretch/>
        </p:blipFill>
        <p:spPr>
          <a:xfrm>
            <a:off x="0" y="0"/>
            <a:ext cx="2362320" cy="2819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2438280" y="228600"/>
            <a:ext cx="689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合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创建于世界反法西斯战争胜利的凯歌声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几十年来，联合国历经国际风云变幻，在曲折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道路上成长壮大，为人类的和平与繁荣作出了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要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307320" y="1752480"/>
            <a:ext cx="44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联合国第六任秘书长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布特罗斯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加利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埃及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任期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:  1992-1996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2:1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1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