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0.png" ContentType="image/png"/>
  <Override PartName="/ppt/media/image15.jpeg" ContentType="image/jpeg"/>
  <Override PartName="/ppt/media/image14.gif" ContentType="image/gif"/>
  <Override PartName="/ppt/media/image13.png" ContentType="image/png"/>
  <Override PartName="/ppt/media/image11.jpeg" ContentType="image/jpeg"/>
  <Override PartName="/ppt/media/image1.png" ContentType="image/png"/>
  <Override PartName="/ppt/media/image2.jpeg" ContentType="image/jpeg"/>
  <Override PartName="/ppt/media/image4.png" ContentType="image/png"/>
  <Override PartName="/ppt/media/image5.jpeg" ContentType="image/jpeg"/>
  <Override PartName="/ppt/media/image9.png" ContentType="image/png"/>
  <Override PartName="/ppt/media/image6.gif" ContentType="image/gif"/>
  <Override PartName="/ppt/media/chimes.wav" ContentType="audio/x-wav"/>
  <Override PartName="/ppt/media/image16.png" ContentType="image/png"/>
  <Override PartName="/ppt/media/image7.png" ContentType="image/png"/>
  <Override PartName="/ppt/media/image8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7DDE-7E53-47B1-923F-486EB14EF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C103-6E7B-43D2-807A-567CCC085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F09A-1E4D-4349-B377-4F64B5B32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9775-87EA-4246-A400-73CDF4A3C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146CD-26B3-46D2-856A-5E690EA8A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9AF04-0D34-4973-8654-B472906B1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F207E-A544-4C2C-A5C9-46426EDD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B8C85-02BD-48DE-A4B2-6861733DF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4C7E5-0BD5-4C36-AAC4-AB5E03ECA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2A7A4-061D-46FA-AA2A-C8536A25C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A2DDE-1EBC-44C0-ADC3-C5D59340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8FEA-8C73-41CC-A1C5-A24B4AD0D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01BE4-50C1-4AEA-BA6B-4A32E5BF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E733F-6261-4299-B0B0-69D5EE1A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CE420-4879-4545-94E0-926C12FB8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FD126-92DD-48CD-BF7D-1203A3A93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3F755-67A5-47C1-9D83-556D0144E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D31F-8414-4D42-B9AE-4CDAC9EE0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3F68-DCE0-4687-B936-1EE41F51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491A-42E7-44A5-8DB0-2E7715493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A5EE-E259-404D-BDB9-ABC3B6BF7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6897-043B-4626-A8F7-3FF4B0FD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3AF9-AFF6-49E6-AF7A-AEE3D147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F8C4-6DA3-49F1-BB1B-A5D1BADA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6A3E5-0258-43A2-82D5-161D98C67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964F9-6F17-4CBC-9C8A-097B9011AA88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3ED3E-3232-4911-B450-C7CA045925C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hyperlink" Target="271,9,&#24187;&#28783;&#29255; 9" TargetMode="External"/><Relationship Id="rId8" Type="http://schemas.openxmlformats.org/officeDocument/2006/relationships/hyperlink" Target="265,10,&#24187;&#28783;&#29255; 10" TargetMode="External"/><Relationship Id="rId9" Type="http://schemas.openxmlformats.org/officeDocument/2006/relationships/hyperlink" Target="272,11,&#24187;&#28783;&#29255; 11" TargetMode="External"/><Relationship Id="rId10" Type="http://schemas.openxmlformats.org/officeDocument/2006/relationships/hyperlink" Target="263,12,&#24187;&#28783;&#29255; 12" TargetMode="External"/><Relationship Id="rId11" Type="http://schemas.openxmlformats.org/officeDocument/2006/relationships/hyperlink" Target="267,13,&#24187;&#28783;&#29255; 13" TargetMode="External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hyperlink" Target="271,9,&#24187;&#28783;&#29255; 9" TargetMode="External"/><Relationship Id="rId8" Type="http://schemas.openxmlformats.org/officeDocument/2006/relationships/hyperlink" Target="265,10,&#24187;&#28783;&#29255; 10" TargetMode="External"/><Relationship Id="rId9" Type="http://schemas.openxmlformats.org/officeDocument/2006/relationships/hyperlink" Target="272,11,&#24187;&#28783;&#29255; 11" TargetMode="External"/><Relationship Id="rId10" Type="http://schemas.openxmlformats.org/officeDocument/2006/relationships/hyperlink" Target="263,12,&#24187;&#28783;&#29255; 12" TargetMode="External"/><Relationship Id="rId11" Type="http://schemas.openxmlformats.org/officeDocument/2006/relationships/hyperlink" Target="267,13,&#24187;&#28783;&#29255; 13" TargetMode="External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hyperlink" Target="271,9,&#24187;&#28783;&#29255; 9" TargetMode="External"/><Relationship Id="rId8" Type="http://schemas.openxmlformats.org/officeDocument/2006/relationships/hyperlink" Target="265,10,&#24187;&#28783;&#29255; 10" TargetMode="External"/><Relationship Id="rId9" Type="http://schemas.openxmlformats.org/officeDocument/2006/relationships/hyperlink" Target="272,11,&#24187;&#28783;&#29255; 11" TargetMode="External"/><Relationship Id="rId10" Type="http://schemas.openxmlformats.org/officeDocument/2006/relationships/hyperlink" Target="263,12,&#24187;&#28783;&#29255; 12" TargetMode="External"/><Relationship Id="rId11" Type="http://schemas.openxmlformats.org/officeDocument/2006/relationships/hyperlink" Target="267,13,&#24187;&#28783;&#29255; 13" TargetMode="External"/><Relationship Id="rId12" Type="http://schemas.openxmlformats.org/officeDocument/2006/relationships/hyperlink" Target="http://www.eeppt.com" TargetMode="Externa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hyperlink" Target="271,9,&#24187;&#28783;&#29255; 9" TargetMode="External"/><Relationship Id="rId8" Type="http://schemas.openxmlformats.org/officeDocument/2006/relationships/hyperlink" Target="265,10,&#24187;&#28783;&#29255; 10" TargetMode="External"/><Relationship Id="rId9" Type="http://schemas.openxmlformats.org/officeDocument/2006/relationships/hyperlink" Target="272,11,&#24187;&#28783;&#29255; 11" TargetMode="External"/><Relationship Id="rId10" Type="http://schemas.openxmlformats.org/officeDocument/2006/relationships/hyperlink" Target="263,12,&#24187;&#28783;&#29255; 12" TargetMode="External"/><Relationship Id="rId11" Type="http://schemas.openxmlformats.org/officeDocument/2006/relationships/hyperlink" Target="267,13,&#24187;&#28783;&#29255; 13" TargetMode="External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hyperlink" Target="271,9,&#24187;&#28783;&#29255; 9" TargetMode="External"/><Relationship Id="rId8" Type="http://schemas.openxmlformats.org/officeDocument/2006/relationships/hyperlink" Target="265,10,&#24187;&#28783;&#29255; 10" TargetMode="External"/><Relationship Id="rId9" Type="http://schemas.openxmlformats.org/officeDocument/2006/relationships/hyperlink" Target="272,11,&#24187;&#28783;&#29255; 11" TargetMode="External"/><Relationship Id="rId10" Type="http://schemas.openxmlformats.org/officeDocument/2006/relationships/hyperlink" Target="263,12,&#24187;&#28783;&#29255; 12" TargetMode="External"/><Relationship Id="rId11" Type="http://schemas.openxmlformats.org/officeDocument/2006/relationships/hyperlink" Target="267,13,&#24187;&#28783;&#29255; 13" TargetMode="External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hyperlink" Target="271,9,&#24187;&#28783;&#29255; 9" TargetMode="External"/><Relationship Id="rId8" Type="http://schemas.openxmlformats.org/officeDocument/2006/relationships/hyperlink" Target="265,10,&#24187;&#28783;&#29255; 10" TargetMode="External"/><Relationship Id="rId9" Type="http://schemas.openxmlformats.org/officeDocument/2006/relationships/hyperlink" Target="272,11,&#24187;&#28783;&#29255; 11" TargetMode="External"/><Relationship Id="rId10" Type="http://schemas.openxmlformats.org/officeDocument/2006/relationships/hyperlink" Target="263,12,&#24187;&#28783;&#29255; 12" TargetMode="External"/><Relationship Id="rId11" Type="http://schemas.openxmlformats.org/officeDocument/2006/relationships/hyperlink" Target="267,13,&#24187;&#28783;&#29255; 13" TargetMode="External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12"/>
          <p:cNvSpPr/>
          <p:nvPr/>
        </p:nvSpPr>
        <p:spPr>
          <a:xfrm>
            <a:off x="4648320" y="32767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五星红旗2"/>
          <p:cNvPicPr/>
          <p:nvPr/>
        </p:nvPicPr>
        <p:blipFill>
          <a:blip r:embed="rId2"/>
          <a:stretch/>
        </p:blipFill>
        <p:spPr>
          <a:xfrm>
            <a:off x="1981080" y="2590920"/>
            <a:ext cx="5105520" cy="33969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2494800" y="1219320"/>
            <a:ext cx="3674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一面五星红旗语文</a:t>
            </a:r>
            <a:r>
              <a:rPr b="0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PPT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课件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523880" y="447840"/>
            <a:ext cx="57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华文新魏"/>
                <a:ea typeface="华文新魏"/>
              </a:rPr>
              <a:t>  </a:t>
            </a:r>
            <a:r>
              <a:rPr b="0" lang="zh-CN" sz="2000" spc="-1" strike="noStrike">
                <a:solidFill>
                  <a:srgbClr val="0000cc"/>
                </a:solidFill>
                <a:latin typeface="华文新魏"/>
                <a:ea typeface="华文新魏"/>
              </a:rPr>
              <a:t>义务教育课程标准教科书  语文    （三年级 下册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4" descr="7"/>
          <p:cNvPicPr/>
          <p:nvPr/>
        </p:nvPicPr>
        <p:blipFill>
          <a:blip r:embed="rId3"/>
          <a:stretch/>
        </p:blipFill>
        <p:spPr>
          <a:xfrm>
            <a:off x="8305920" y="6400800"/>
            <a:ext cx="685800" cy="179280"/>
          </a:xfrm>
          <a:prstGeom prst="rect">
            <a:avLst/>
          </a:prstGeom>
          <a:ln w="0">
            <a:noFill/>
          </a:ln>
        </p:spPr>
      </p:pic>
      <p:pic>
        <p:nvPicPr>
          <p:cNvPr id="87" name="五星红旗（刘媛媛）.mp3" descr=""/>
          <p:cNvPicPr/>
          <p:nvPr/>
        </p:nvPicPr>
        <p:blipFill>
          <a:blip r:embed="rId4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8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41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7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mph" presetID="27" repeatCount="indefinite">
                                  <p:stCondLst>
                                    <p:cond delay="7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3" dur="1000" autoRev="1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4" dur="1000" autoRev="1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" dur="1000" autoRev="1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mediacall" presetID="1">
                                  <p:stCondLst>
                                    <p:cond delay="7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280033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动物2"/>
          <p:cNvPicPr/>
          <p:nvPr/>
        </p:nvPicPr>
        <p:blipFill>
          <a:blip r:embed="rId2"/>
          <a:stretch/>
        </p:blipFill>
        <p:spPr>
          <a:xfrm>
            <a:off x="685800" y="3962520"/>
            <a:ext cx="1676520" cy="168588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4"/>
          <p:cNvSpPr/>
          <p:nvPr/>
        </p:nvSpPr>
        <p:spPr>
          <a:xfrm>
            <a:off x="1523880" y="1136520"/>
            <a:ext cx="5562720" cy="2057400"/>
          </a:xfrm>
          <a:prstGeom prst="wedgeRoundRectCallout">
            <a:avLst>
              <a:gd name="adj1" fmla="val -40666"/>
              <a:gd name="adj2" fmla="val 91976"/>
              <a:gd name="adj3" fmla="val 16667"/>
            </a:avLst>
          </a:prstGeom>
          <a:solidFill>
            <a:srgbClr val="cc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1752480" y="1295280"/>
            <a:ext cx="525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楷体_GB2312"/>
              </a:rPr>
              <a:t>画出面包店老板态度变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楷体_GB2312"/>
              </a:rPr>
              <a:t>的句子，想想为什么会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楷体_GB2312"/>
              </a:rPr>
              <a:t>这样的变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2897280" y="4599000"/>
            <a:ext cx="637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cc"/>
                </a:solidFill>
                <a:latin typeface="Arial"/>
                <a:ea typeface="华文新魏"/>
              </a:rPr>
              <a:t>想一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2922480" y="3048120"/>
            <a:ext cx="74016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00"/>
                </a:solidFill>
                <a:latin typeface="Arial"/>
                <a:ea typeface="华文新魏"/>
              </a:rPr>
              <a:t>演一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5234040" y="2622600"/>
            <a:ext cx="1704600" cy="19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Arial"/>
                <a:ea typeface="华文新魏"/>
              </a:rPr>
              <a:t>记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Arial"/>
                <a:ea typeface="华文新魏"/>
              </a:rPr>
              <a:t>面包店老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Arial"/>
                <a:ea typeface="华文新魏"/>
              </a:rPr>
              <a:t>中国留学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23"/>
          <p:cNvGrpSpPr/>
          <p:nvPr/>
        </p:nvGrpSpPr>
        <p:grpSpPr>
          <a:xfrm>
            <a:off x="2895480" y="958680"/>
            <a:ext cx="3733920" cy="5899320"/>
            <a:chOff x="2895480" y="958680"/>
            <a:chExt cx="3733920" cy="5899320"/>
          </a:xfrm>
        </p:grpSpPr>
        <p:pic>
          <p:nvPicPr>
            <p:cNvPr id="165" name="Picture 16" descr="五星红旗1"/>
            <p:cNvPicPr/>
            <p:nvPr/>
          </p:nvPicPr>
          <p:blipFill>
            <a:blip r:embed="rId1"/>
            <a:stretch/>
          </p:blipFill>
          <p:spPr>
            <a:xfrm>
              <a:off x="2895480" y="958680"/>
              <a:ext cx="3733920" cy="346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Rectangle 13"/>
            <p:cNvSpPr/>
            <p:nvPr/>
          </p:nvSpPr>
          <p:spPr>
            <a:xfrm>
              <a:off x="3048120" y="1676520"/>
              <a:ext cx="152280" cy="518148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50000">
                  <a:srgbClr val="ffffcc"/>
                </a:gs>
                <a:gs pos="100000">
                  <a:srgbClr val="ffff99"/>
                </a:gs>
              </a:gsLst>
              <a:lin ang="0"/>
            </a:gra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7" name="孙楠-五星红旗.mp3" descr=""/>
          <p:cNvPicPr/>
          <p:nvPr/>
        </p:nvPicPr>
        <p:blipFill>
          <a:blip r:embed="rId2"/>
          <a:stretch/>
        </p:blipFill>
        <p:spPr>
          <a:xfrm>
            <a:off x="84582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4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1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D8239-382F-4377-8D38-40CF6FEC795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3520800" y="2268360"/>
            <a:ext cx="2375280" cy="1557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ff"/>
                </a:solidFill>
                <a:latin typeface="Arial"/>
                <a:ea typeface="华文新魏"/>
              </a:rPr>
              <a:t>再见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168" dur="250" autoRev="1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9" dur="250" autoRev="1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0" dur="250" autoRev="1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1447920" y="1143000"/>
            <a:ext cx="7696080" cy="44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华文琥珀"/>
                <a:ea typeface="华文琥珀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华文琥珀"/>
                <a:ea typeface="华文琥珀"/>
              </a:rPr>
              <a:t>                         </a:t>
            </a:r>
            <a:r>
              <a:rPr b="0" lang="zh-CN" sz="2800" spc="-1" strike="noStrike">
                <a:solidFill>
                  <a:srgbClr val="ff0000"/>
                </a:solidFill>
                <a:latin typeface="华文琥珀"/>
                <a:ea typeface="华文琥珀"/>
              </a:rPr>
              <a:t>自学提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自由朗读课文，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读准字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  </a:t>
            </a:r>
            <a:r>
              <a:rPr b="0" lang="en-US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2.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想一想：你读懂了什么？       </a:t>
            </a: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借助字典学习理解生字新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4.</a:t>
            </a: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同桌之间互相检查生字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人物2"/>
          <p:cNvPicPr/>
          <p:nvPr/>
        </p:nvPicPr>
        <p:blipFill>
          <a:blip r:embed="rId2"/>
          <a:stretch/>
        </p:blipFill>
        <p:spPr>
          <a:xfrm>
            <a:off x="6629400" y="5181480"/>
            <a:ext cx="838080" cy="8384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  <p:sndAc>
      <p:stSnd>
        <p:snd r:embed="rId3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动物1"/>
          <p:cNvPicPr/>
          <p:nvPr/>
        </p:nvPicPr>
        <p:blipFill>
          <a:blip r:embed="rId2"/>
          <a:stretch/>
        </p:blipFill>
        <p:spPr>
          <a:xfrm>
            <a:off x="914400" y="762120"/>
            <a:ext cx="880920" cy="9428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0"/>
          <p:cNvSpPr/>
          <p:nvPr/>
        </p:nvSpPr>
        <p:spPr>
          <a:xfrm>
            <a:off x="3186720" y="144792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摊 奈 凝 竖 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2"/>
          <p:cNvSpPr/>
          <p:nvPr/>
        </p:nvSpPr>
        <p:spPr>
          <a:xfrm>
            <a:off x="3659400" y="2514600"/>
            <a:ext cx="155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把双手一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一脸的无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久久地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凝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竖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起大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拇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1021320" y="1676520"/>
            <a:ext cx="820800" cy="5205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我会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947600" y="1447920"/>
            <a:ext cx="5398200" cy="39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小组合作学习建议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请你画出课文中写到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五星红旗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”</a:t>
            </a: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的句子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并把你感受最深的句子读给小组的同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.</a:t>
            </a: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和小组的同学交流交流，从这个句子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中你知道了什么？还有什么不理解？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空白处画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问题泡泡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”</a:t>
            </a: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5"/>
          <p:cNvGrpSpPr/>
          <p:nvPr/>
        </p:nvGrpSpPr>
        <p:grpSpPr>
          <a:xfrm>
            <a:off x="3048120" y="5943600"/>
            <a:ext cx="2971800" cy="404640"/>
            <a:chOff x="3048120" y="5943600"/>
            <a:chExt cx="2971800" cy="404640"/>
          </a:xfrm>
        </p:grpSpPr>
        <p:pic>
          <p:nvPicPr>
            <p:cNvPr id="100" name="Picture 6" descr="11"/>
            <p:cNvPicPr/>
            <p:nvPr/>
          </p:nvPicPr>
          <p:blipFill>
            <a:blip r:embed="rId2"/>
            <a:stretch/>
          </p:blipFill>
          <p:spPr>
            <a:xfrm>
              <a:off x="3048120" y="5943600"/>
              <a:ext cx="5335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7" descr="11"/>
            <p:cNvPicPr/>
            <p:nvPr/>
          </p:nvPicPr>
          <p:blipFill>
            <a:blip r:embed="rId3"/>
            <a:stretch/>
          </p:blipFill>
          <p:spPr>
            <a:xfrm>
              <a:off x="3657600" y="5943600"/>
              <a:ext cx="5335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8" descr="11"/>
            <p:cNvPicPr/>
            <p:nvPr/>
          </p:nvPicPr>
          <p:blipFill>
            <a:blip r:embed="rId4"/>
            <a:stretch/>
          </p:blipFill>
          <p:spPr>
            <a:xfrm>
              <a:off x="4267440" y="5943600"/>
              <a:ext cx="53316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9" descr="11"/>
            <p:cNvPicPr/>
            <p:nvPr/>
          </p:nvPicPr>
          <p:blipFill>
            <a:blip r:embed="rId5"/>
            <a:stretch/>
          </p:blipFill>
          <p:spPr>
            <a:xfrm>
              <a:off x="4876920" y="5943600"/>
              <a:ext cx="5335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10" descr="11"/>
            <p:cNvPicPr/>
            <p:nvPr/>
          </p:nvPicPr>
          <p:blipFill>
            <a:blip r:embed="rId6"/>
            <a:stretch/>
          </p:blipFill>
          <p:spPr>
            <a:xfrm>
              <a:off x="5486400" y="5943600"/>
              <a:ext cx="533520" cy="39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11"/>
            <p:cNvSpPr/>
            <p:nvPr/>
          </p:nvSpPr>
          <p:spPr>
            <a:xfrm>
              <a:off x="3119760" y="5979960"/>
              <a:ext cx="279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7"/>
                </a:rPr>
                <a:t> 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8"/>
                </a:rPr>
                <a:t>2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9"/>
                </a:rPr>
                <a:t>3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10"/>
                </a:rPr>
                <a:t>4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11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3202200" y="2587680"/>
            <a:ext cx="2923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收拾好背包，我把它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在筏子上，手举一面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艳的五星红旗，便出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4"/>
          <p:cNvGrpSpPr/>
          <p:nvPr/>
        </p:nvGrpSpPr>
        <p:grpSpPr>
          <a:xfrm>
            <a:off x="2971800" y="6248520"/>
            <a:ext cx="2971800" cy="404640"/>
            <a:chOff x="2971800" y="6248520"/>
            <a:chExt cx="2971800" cy="404640"/>
          </a:xfrm>
        </p:grpSpPr>
        <p:pic>
          <p:nvPicPr>
            <p:cNvPr id="109" name="Picture 8" descr="11"/>
            <p:cNvPicPr/>
            <p:nvPr/>
          </p:nvPicPr>
          <p:blipFill>
            <a:blip r:embed="rId2"/>
            <a:stretch/>
          </p:blipFill>
          <p:spPr>
            <a:xfrm>
              <a:off x="2971800" y="6248520"/>
              <a:ext cx="5335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9" descr="11"/>
            <p:cNvPicPr/>
            <p:nvPr/>
          </p:nvPicPr>
          <p:blipFill>
            <a:blip r:embed="rId3"/>
            <a:stretch/>
          </p:blipFill>
          <p:spPr>
            <a:xfrm>
              <a:off x="3581280" y="6248520"/>
              <a:ext cx="5335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10" descr="11"/>
            <p:cNvPicPr/>
            <p:nvPr/>
          </p:nvPicPr>
          <p:blipFill>
            <a:blip r:embed="rId4"/>
            <a:stretch/>
          </p:blipFill>
          <p:spPr>
            <a:xfrm>
              <a:off x="4191120" y="6248520"/>
              <a:ext cx="53316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11" descr="11"/>
            <p:cNvPicPr/>
            <p:nvPr/>
          </p:nvPicPr>
          <p:blipFill>
            <a:blip r:embed="rId5"/>
            <a:stretch/>
          </p:blipFill>
          <p:spPr>
            <a:xfrm>
              <a:off x="4800600" y="6248520"/>
              <a:ext cx="5335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icture 12" descr="11"/>
            <p:cNvPicPr/>
            <p:nvPr/>
          </p:nvPicPr>
          <p:blipFill>
            <a:blip r:embed="rId6"/>
            <a:stretch/>
          </p:blipFill>
          <p:spPr>
            <a:xfrm>
              <a:off x="5410080" y="6248520"/>
              <a:ext cx="533520" cy="39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13"/>
            <p:cNvSpPr/>
            <p:nvPr/>
          </p:nvSpPr>
          <p:spPr>
            <a:xfrm>
              <a:off x="3043440" y="6284880"/>
              <a:ext cx="279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7"/>
                </a:rPr>
                <a:t> 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8"/>
                </a:rPr>
                <a:t>2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9"/>
                </a:rPr>
                <a:t>3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10"/>
                </a:rPr>
                <a:t>4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11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out" orient="ver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017880" y="2359080"/>
            <a:ext cx="2923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为了防止丢失，也为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行动方便，我把国旗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旗杆上抽下来，系在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子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3124080" y="13716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1338120" y="22860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1905120" y="297180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10"/>
          <p:cNvGrpSpPr/>
          <p:nvPr/>
        </p:nvGrpSpPr>
        <p:grpSpPr>
          <a:xfrm>
            <a:off x="3048120" y="6226200"/>
            <a:ext cx="2971800" cy="404640"/>
            <a:chOff x="3048120" y="6226200"/>
            <a:chExt cx="2971800" cy="404640"/>
          </a:xfrm>
        </p:grpSpPr>
        <p:pic>
          <p:nvPicPr>
            <p:cNvPr id="121" name="Picture 11" descr="11"/>
            <p:cNvPicPr/>
            <p:nvPr/>
          </p:nvPicPr>
          <p:blipFill>
            <a:blip r:embed="rId2"/>
            <a:stretch/>
          </p:blipFill>
          <p:spPr>
            <a:xfrm>
              <a:off x="3048120" y="6226200"/>
              <a:ext cx="5335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12" descr="11"/>
            <p:cNvPicPr/>
            <p:nvPr/>
          </p:nvPicPr>
          <p:blipFill>
            <a:blip r:embed="rId3"/>
            <a:stretch/>
          </p:blipFill>
          <p:spPr>
            <a:xfrm>
              <a:off x="3657600" y="6226200"/>
              <a:ext cx="5335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13" descr="11"/>
            <p:cNvPicPr/>
            <p:nvPr/>
          </p:nvPicPr>
          <p:blipFill>
            <a:blip r:embed="rId4"/>
            <a:stretch/>
          </p:blipFill>
          <p:spPr>
            <a:xfrm>
              <a:off x="4267440" y="6226200"/>
              <a:ext cx="53316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14" descr="11"/>
            <p:cNvPicPr/>
            <p:nvPr/>
          </p:nvPicPr>
          <p:blipFill>
            <a:blip r:embed="rId5"/>
            <a:stretch/>
          </p:blipFill>
          <p:spPr>
            <a:xfrm>
              <a:off x="4876920" y="6226200"/>
              <a:ext cx="5335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15" descr="11"/>
            <p:cNvPicPr/>
            <p:nvPr/>
          </p:nvPicPr>
          <p:blipFill>
            <a:blip r:embed="rId6"/>
            <a:stretch/>
          </p:blipFill>
          <p:spPr>
            <a:xfrm>
              <a:off x="5486400" y="6226200"/>
              <a:ext cx="533520" cy="39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6"/>
            <p:cNvSpPr/>
            <p:nvPr/>
          </p:nvSpPr>
          <p:spPr>
            <a:xfrm>
              <a:off x="3119760" y="6262560"/>
              <a:ext cx="279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7"/>
                </a:rPr>
                <a:t> 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8"/>
                </a:rPr>
                <a:t>2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9"/>
                </a:rPr>
                <a:t>3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10"/>
                </a:rPr>
                <a:t>4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11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文本框 8200"/>
          <p:cNvSpPr/>
          <p:nvPr/>
        </p:nvSpPr>
        <p:spPr>
          <a:xfrm>
            <a:off x="2590920" y="5257800"/>
            <a:ext cx="4419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2897280" y="2971800"/>
            <a:ext cx="2923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这面做工精致的五星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旗，经过河水的冲洗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依然是那么鲜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7"/>
          <p:cNvGrpSpPr/>
          <p:nvPr/>
        </p:nvGrpSpPr>
        <p:grpSpPr>
          <a:xfrm>
            <a:off x="3124080" y="6226200"/>
            <a:ext cx="2971800" cy="404640"/>
            <a:chOff x="3124080" y="6226200"/>
            <a:chExt cx="2971800" cy="404640"/>
          </a:xfrm>
        </p:grpSpPr>
        <p:pic>
          <p:nvPicPr>
            <p:cNvPr id="131" name="Picture 8" descr="11"/>
            <p:cNvPicPr/>
            <p:nvPr/>
          </p:nvPicPr>
          <p:blipFill>
            <a:blip r:embed="rId2"/>
            <a:stretch/>
          </p:blipFill>
          <p:spPr>
            <a:xfrm>
              <a:off x="3124080" y="6226200"/>
              <a:ext cx="5335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9" descr="11"/>
            <p:cNvPicPr/>
            <p:nvPr/>
          </p:nvPicPr>
          <p:blipFill>
            <a:blip r:embed="rId3"/>
            <a:stretch/>
          </p:blipFill>
          <p:spPr>
            <a:xfrm>
              <a:off x="3733560" y="6226200"/>
              <a:ext cx="5335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10" descr="11"/>
            <p:cNvPicPr/>
            <p:nvPr/>
          </p:nvPicPr>
          <p:blipFill>
            <a:blip r:embed="rId4"/>
            <a:stretch/>
          </p:blipFill>
          <p:spPr>
            <a:xfrm>
              <a:off x="4343400" y="6226200"/>
              <a:ext cx="53316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11" descr="11"/>
            <p:cNvPicPr/>
            <p:nvPr/>
          </p:nvPicPr>
          <p:blipFill>
            <a:blip r:embed="rId5"/>
            <a:stretch/>
          </p:blipFill>
          <p:spPr>
            <a:xfrm>
              <a:off x="4952880" y="6226200"/>
              <a:ext cx="5335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12" descr="11"/>
            <p:cNvPicPr/>
            <p:nvPr/>
          </p:nvPicPr>
          <p:blipFill>
            <a:blip r:embed="rId6"/>
            <a:stretch/>
          </p:blipFill>
          <p:spPr>
            <a:xfrm>
              <a:off x="5562360" y="6226200"/>
              <a:ext cx="533520" cy="39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13"/>
            <p:cNvSpPr/>
            <p:nvPr/>
          </p:nvSpPr>
          <p:spPr>
            <a:xfrm>
              <a:off x="3195720" y="6262560"/>
              <a:ext cx="279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7"/>
                </a:rPr>
                <a:t> 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8"/>
                </a:rPr>
                <a:t>2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9"/>
                </a:rPr>
                <a:t>3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10"/>
                </a:rPr>
                <a:t>4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11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2209680" y="2755800"/>
            <a:ext cx="5334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我愣了一下，然后久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地凝视着手中的五星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7"/>
          <p:cNvGrpSpPr/>
          <p:nvPr/>
        </p:nvGrpSpPr>
        <p:grpSpPr>
          <a:xfrm>
            <a:off x="2971800" y="6226200"/>
            <a:ext cx="2971800" cy="404640"/>
            <a:chOff x="2971800" y="6226200"/>
            <a:chExt cx="2971800" cy="404640"/>
          </a:xfrm>
        </p:grpSpPr>
        <p:pic>
          <p:nvPicPr>
            <p:cNvPr id="140" name="Picture 8" descr="11"/>
            <p:cNvPicPr/>
            <p:nvPr/>
          </p:nvPicPr>
          <p:blipFill>
            <a:blip r:embed="rId2"/>
            <a:stretch/>
          </p:blipFill>
          <p:spPr>
            <a:xfrm>
              <a:off x="2971800" y="6226200"/>
              <a:ext cx="5335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9" descr="11"/>
            <p:cNvPicPr/>
            <p:nvPr/>
          </p:nvPicPr>
          <p:blipFill>
            <a:blip r:embed="rId3"/>
            <a:stretch/>
          </p:blipFill>
          <p:spPr>
            <a:xfrm>
              <a:off x="3581280" y="6226200"/>
              <a:ext cx="5335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10" descr="11"/>
            <p:cNvPicPr/>
            <p:nvPr/>
          </p:nvPicPr>
          <p:blipFill>
            <a:blip r:embed="rId4"/>
            <a:stretch/>
          </p:blipFill>
          <p:spPr>
            <a:xfrm>
              <a:off x="4191120" y="6226200"/>
              <a:ext cx="53316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11" descr="11"/>
            <p:cNvPicPr/>
            <p:nvPr/>
          </p:nvPicPr>
          <p:blipFill>
            <a:blip r:embed="rId5"/>
            <a:stretch/>
          </p:blipFill>
          <p:spPr>
            <a:xfrm>
              <a:off x="4800600" y="6226200"/>
              <a:ext cx="5335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12" descr="11"/>
            <p:cNvPicPr/>
            <p:nvPr/>
          </p:nvPicPr>
          <p:blipFill>
            <a:blip r:embed="rId6"/>
            <a:stretch/>
          </p:blipFill>
          <p:spPr>
            <a:xfrm>
              <a:off x="5410080" y="6226200"/>
              <a:ext cx="533520" cy="39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3"/>
            <p:cNvSpPr/>
            <p:nvPr/>
          </p:nvSpPr>
          <p:spPr>
            <a:xfrm>
              <a:off x="3043440" y="6262560"/>
              <a:ext cx="279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7"/>
                </a:rPr>
                <a:t> 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8"/>
                </a:rPr>
                <a:t>2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9"/>
                </a:rPr>
                <a:t>3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10"/>
                </a:rPr>
                <a:t>4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11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1523880" y="2590920"/>
            <a:ext cx="6324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我摇摇头，吃力地穿上大衣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拿着鲜艳的国旗，趔趔趄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地向外走去。突然，我摔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在地上，就什么也不知道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5"/>
          <p:cNvGrpSpPr/>
          <p:nvPr/>
        </p:nvGrpSpPr>
        <p:grpSpPr>
          <a:xfrm>
            <a:off x="2971800" y="6248520"/>
            <a:ext cx="2971800" cy="404640"/>
            <a:chOff x="2971800" y="6248520"/>
            <a:chExt cx="2971800" cy="404640"/>
          </a:xfrm>
        </p:grpSpPr>
        <p:pic>
          <p:nvPicPr>
            <p:cNvPr id="149" name="Picture 6" descr="11"/>
            <p:cNvPicPr/>
            <p:nvPr/>
          </p:nvPicPr>
          <p:blipFill>
            <a:blip r:embed="rId2"/>
            <a:stretch/>
          </p:blipFill>
          <p:spPr>
            <a:xfrm>
              <a:off x="2971800" y="6248520"/>
              <a:ext cx="5335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7" descr="11"/>
            <p:cNvPicPr/>
            <p:nvPr/>
          </p:nvPicPr>
          <p:blipFill>
            <a:blip r:embed="rId3"/>
            <a:stretch/>
          </p:blipFill>
          <p:spPr>
            <a:xfrm>
              <a:off x="3581280" y="6248520"/>
              <a:ext cx="5335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8" descr="11"/>
            <p:cNvPicPr/>
            <p:nvPr/>
          </p:nvPicPr>
          <p:blipFill>
            <a:blip r:embed="rId4"/>
            <a:stretch/>
          </p:blipFill>
          <p:spPr>
            <a:xfrm>
              <a:off x="4191120" y="6248520"/>
              <a:ext cx="53316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9" descr="11"/>
            <p:cNvPicPr/>
            <p:nvPr/>
          </p:nvPicPr>
          <p:blipFill>
            <a:blip r:embed="rId5"/>
            <a:stretch/>
          </p:blipFill>
          <p:spPr>
            <a:xfrm>
              <a:off x="4800600" y="6248520"/>
              <a:ext cx="5335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10" descr="11"/>
            <p:cNvPicPr/>
            <p:nvPr/>
          </p:nvPicPr>
          <p:blipFill>
            <a:blip r:embed="rId6"/>
            <a:stretch/>
          </p:blipFill>
          <p:spPr>
            <a:xfrm>
              <a:off x="5410080" y="6248520"/>
              <a:ext cx="533520" cy="39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Text Box 11"/>
            <p:cNvSpPr/>
            <p:nvPr/>
          </p:nvSpPr>
          <p:spPr>
            <a:xfrm>
              <a:off x="3043440" y="6284880"/>
              <a:ext cx="279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7"/>
                </a:rPr>
                <a:t> 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8"/>
                </a:rPr>
                <a:t>2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9"/>
                </a:rPr>
                <a:t>3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10"/>
                </a:rPr>
                <a:t>4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11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0T08:05:3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2:58:36Z</dcterms:modified>
  <cp:revision>3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  <property fmtid="{D5CDD505-2E9C-101B-9397-08002B2CF9AE}" pid="3" name="Version">
    <vt:r8>1</vt:r8>
  </property>
</Properties>
</file>