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8F5-3AFB-4C21-A786-ADD1697D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283-3D0A-4CD5-A1F7-E4BDEC9D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328A4-7DCC-478D-85CA-702206E9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E81A0-F3B2-4491-8C7B-08C314D4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7C2D2-55FF-469D-917E-02325572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D3C8C-8676-4D85-98F7-18CE8F16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27B49-6425-49E1-B1F7-42E81F23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B9D96-5E3C-43EB-AFE5-3BC47929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5339E-895F-452E-9EC4-F193647A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7BE97-70C1-48BB-A198-075E87EC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F10F-26AB-4084-9EB1-9FC0D463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F3AE4-250D-49E2-9FCC-B6C57E97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427-41A6-4E6D-87EC-CF33C325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D9757-EDD3-4432-960C-B658211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C9F8F-75AE-454A-91AB-2BD5745A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1AD515-3467-4AF5-8C4D-5BADFAF3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18743-E0AA-4F8E-B895-90F8FA9C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34A672-3B6E-4EE9-8A2D-9CAC3A29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C3BBB-EED6-435F-BA74-88478958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AC50E-29A8-4622-B478-6796EF9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6A739-9DA7-4443-AE01-7EC27534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9259A-B4ED-4831-B90E-BAE854B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8F6A4-2BF6-4994-9439-41DE2452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73D-69E4-4376-AC2C-C825656F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47141-EE83-4983-9520-B014C61B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ABFEF-7EC9-48D9-B830-F17A4FE0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9279D-125D-47AD-AD69-2CB21D7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AAE7A-FFFE-4C52-B29C-CD102193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199A3-1DAF-444E-8A3F-08B86DEE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AFC1C-19DF-4C74-A528-C14B0CB0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FAD00D-BE1E-4BD1-9DC7-6E05CD63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F6DC6-8A32-486F-A05D-D110A6A8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ACD72-15FD-42F4-AD49-DE130C48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B1A59-01A6-4BB1-AD89-55C60AC0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78F2-6D44-480E-8CEC-91902C35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F501E-BFB2-438D-8257-37D6FF40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5A5DC-9752-4618-84B0-05332A3B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8B1FD-4A33-437A-9DCF-43920576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75354-500E-4380-9856-ADF9AC0F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5E745-1682-4DFD-B9ED-A1A68044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A6316-21A2-4050-9877-0C17483F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B38B4-C4C1-4A7C-ACC6-2FFF81B2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D6569-C183-42F2-B8BD-D8F3619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DB25C-3FFD-41EA-B3C4-CA6BC90F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80B94-61EE-485A-B688-C08D7837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FB98A-2DED-40A4-818B-EC78CC8D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F34408-367F-441F-81C1-F4732765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D421F-D56A-4C36-8B4A-4E33075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D77D0-D3D8-4298-B368-0AA5EAD1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DF8C5-8421-419D-9D2C-00F1E23E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E0271-E7F7-43AC-A8EF-A0838DB2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FF1F9-0F5F-4955-AF40-22862780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A5ED8-95F2-4D9C-8A59-97E8910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F87D7-DFF3-418A-8F32-D619A274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920B5-0D37-4D0A-9BAB-8C2B740C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A7E17-3E5D-4493-94C3-6BF8340C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5F15-BCF3-4A30-9ED6-36EB245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C83B2-CE73-40AD-ADCB-ACB0BD2A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86A4B-1747-490D-8DE9-63979D6C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78C8A-0619-4993-98FE-9C5D4FC0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4BECF-0036-48B7-812F-0B082E1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4F751D-F31F-418E-B0F8-2D089311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45FB1-32CA-4101-A75D-3E8B1AB0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DFB33-91F5-4FC2-9CCA-CA3E62D23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30EF-1630-46DB-9ECC-93D9A80B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B490-AD29-4BE2-9E83-F3BCC112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85DA-1F3B-4064-8645-A1B6D5E4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EA7F-EFBD-4C15-B8DD-07E33FB1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3C4-7565-4EDA-9D52-885CB90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1878-DB6E-4DA1-A80C-1876A2B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BC28-AC93-40D8-B6A2-EC72B98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D3AC-B399-48B1-881F-06C21180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9993-3E11-412F-B6BE-77404093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F40-00F0-42D5-A890-9F7C4F99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3020C-11FD-43FF-89A7-133D1D6C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0724-1E1A-4C4D-90BB-8B134D96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73239-C633-4DD6-B905-A8111197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B6732-EF4F-44C9-8F5B-2931A532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033D-A623-4FE8-BEF9-E5A84365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920-B0D0-47DE-A3BE-5AD5A6FB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EC84-C94E-43F3-BD2A-0C928E20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6D1A9-0A53-4C50-9A4E-6A29FB6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FDD1-44DC-4357-8421-6794031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5CA0B-3EF6-4C5D-9493-BAD4FD3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02A9D-196D-4852-941F-301EF35D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4CE3-D7F7-49DB-B593-FF8B22CF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E3A7-5059-4143-A45E-427121F4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33E6-84A6-40E5-98FE-636FCBF0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1CA0C-DD03-4C9F-B88C-322C8E2B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E22F3-DFE1-4738-B10C-D63C2312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AA67-B92F-4A44-9E84-40366726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5898E-46BD-4965-AF56-3B424CBB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CFBF2-2671-4EB0-B534-AC6466A4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C32AD-05C6-4750-AC01-C018EFF4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EF46B-F665-4CD0-8248-E0EB1A7E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F925D-8021-4A41-832A-144ABABD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A05E-5A1F-4E29-BBAE-353100DC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B505-95C5-498C-99B8-1D5AD40D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7D9E2-82EA-4A37-8AC1-CA45A5B0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7D33-C412-49EC-A17D-5393AF99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DA3D-0680-43C5-8E7A-2A2C4CDF9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85D-CF1E-4015-A4A6-5444CE26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5605-59EE-4092-B3F7-EB1D0183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3C3B2-E669-4B2A-A928-DB226405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EB492-83FD-446B-8104-C88F4390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5D3B-5E70-4699-B565-6890313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24F5D-E9D5-457F-B1EB-728D4EAC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D55B-B153-486D-9582-CEDE44BC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C51C9-D993-4171-A76F-DCB3DFC2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D9AF1-B9FE-4E55-87C1-5B2C0D23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27E8C-2378-4AEE-8F1B-322EF60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D51A6-6000-4C61-AB4A-7432AAF5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222-71DB-4B55-B0B2-8E15E485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F0692-6BDE-445D-AA83-587517AA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1D9A1-F1D0-4D40-B9E9-DE11C7EA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E5E65-DE18-4D46-8048-70B50C76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A4C6F-E4F9-4E23-AA67-9E2FD996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0ED4-D892-4D7B-BA7F-E14F7ED7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3B725-9121-4149-B950-8A3E568E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D74A9-55AB-493C-91B4-719DF1E4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72A19-EF73-47F6-9F3B-226AC13F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A4960-50F0-4767-B2C8-78E557AB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40F94-F414-4201-A336-C0D6C805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003-91C7-4241-BA0F-5B62ACDB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32048-AFD0-42B2-877D-2CF42C88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EE456-6349-4605-988B-B169DC6E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EE1F7-E094-4B46-B2FF-C63FB547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9257C-AEEB-4C39-954D-E7366731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CD80F-BD7D-4E9F-9CB0-7B2D8127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54B1D-B4EB-483E-9153-D3E2E76A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16F39-5397-4482-8DE8-D62232B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F09A3-80D5-4964-9200-F7C19C13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366D4-075B-4F09-87F1-5709047C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12FC3-68C4-4793-8228-4D7ADB9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327-24A4-44E8-B698-088C71A6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6C26C-F1D1-497C-A28D-C360D26C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E6D3D-E2A3-41DF-B5FD-F76280F9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F1877-D3F3-4CAA-ADBF-0B9CDC3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5E20A-982E-4489-B857-F42AC16E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CAA9F-D098-49B4-9E44-77A12EB2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49549-6B14-40FD-B10A-0A8A83FB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AE32-3AF1-4F33-802F-1BBDE1F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B3A5D-BC41-4D73-8478-7AD35146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71EED-B599-4F28-88BC-60B96BC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84AF-0D84-4ACE-85A3-762695F2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B0B6-F6FD-454D-8DF3-6D009C2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96B8A-8C09-4336-9BA6-67F6DC40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4AB6C-186B-4F32-ACA7-964DF7A0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684F9-B4CD-4A3A-A072-2757FD5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2929E-35C0-4B85-AEF3-6AD85C69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74415-25D3-4DD6-8CDC-BDE16B3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43054-30A2-497C-A0BC-112EE6F9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BB7E5-65EE-4909-A23D-DDF39243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73550B-46F7-4B38-B159-1843268D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8B1F5-217C-432E-A513-82DBA6C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6BE9E-F411-4DA7-97DD-FF7A48EE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1CBC-0C1C-45A8-B4DC-BC96A6E206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E0AC-89B4-4BFA-9A9E-202A43A588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2A8E-41DF-4DD7-878D-F02B398375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33C9-B890-4FC2-8744-76474F0AB9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4AD6-F5E4-4092-9F17-7A3BA3AB25A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00F-3DA6-436F-AAFA-5125BFC7D6E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9FD-5681-42DC-B299-94AEF95BEB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E5BA-28B0-498A-9B63-D5DA2D289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FEBE-106B-4D2E-9AA3-BF94A060DF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4607-3AED-4B6C-B551-170F0A9B01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A89-6EBD-470C-8D57-F12F17C5DC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C0EB-CB65-4368-8EF9-D22598EF79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67A9-4610-4C38-817C-36FF879262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80F5-CAE5-42EC-B790-1275F328A1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958080"/>
          </a:xfrm>
          <a:prstGeom prst="rect">
            <a:avLst/>
          </a:prstGeom>
          <a:ln w="0">
            <a:noFill/>
          </a:ln>
        </p:spPr>
      </p:pic>
      <p:pic>
        <p:nvPicPr>
          <p:cNvPr id="573" name="矩形 1" descr=""/>
          <p:cNvPicPr/>
          <p:nvPr/>
        </p:nvPicPr>
        <p:blipFill>
          <a:blip r:embed="rId2"/>
          <a:stretch/>
        </p:blipFill>
        <p:spPr>
          <a:xfrm>
            <a:off x="330120" y="612720"/>
            <a:ext cx="8547120" cy="623880"/>
          </a:xfrm>
          <a:prstGeom prst="rect">
            <a:avLst/>
          </a:prstGeom>
          <a:ln w="0">
            <a:noFill/>
          </a:ln>
        </p:spPr>
      </p:pic>
      <p:sp>
        <p:nvSpPr>
          <p:cNvPr id="57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eec94"/>
                </a:solidFill>
                <a:latin typeface="Times New Roman"/>
              </a:rPr>
              <a:t>结合以上问题，以小组形势，选择其中一个问题进行探究。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3" name="AutoShape 4">
            <a:hlinkClick r:id="" action="ppaction://hlinkshowjump?jump=previousslide"/>
          </p:cNvPr>
          <p:cNvSpPr/>
          <p:nvPr/>
        </p:nvSpPr>
        <p:spPr>
          <a:xfrm>
            <a:off x="7956720" y="6165720"/>
            <a:ext cx="863280" cy="692280"/>
          </a:xfrm>
          <a:custGeom>
            <a:avLst/>
            <a:gdLst>
              <a:gd name="textAreaLeft" fmla="*/ 44640 w 863280"/>
              <a:gd name="textAreaRight" fmla="*/ 818640 w 863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圆明园示意图"/>
          <p:cNvPicPr/>
          <p:nvPr/>
        </p:nvPicPr>
        <p:blipFill>
          <a:blip r:embed="rId1"/>
          <a:stretch/>
        </p:blipFill>
        <p:spPr>
          <a:xfrm>
            <a:off x="-684360" y="-1292400"/>
            <a:ext cx="10404720" cy="8150400"/>
          </a:xfrm>
          <a:prstGeom prst="rect">
            <a:avLst/>
          </a:prstGeom>
          <a:ln w="0">
            <a:noFill/>
          </a:ln>
        </p:spPr>
      </p:pic>
      <p:sp>
        <p:nvSpPr>
          <p:cNvPr id="595" name="AutoShape 3"/>
          <p:cNvSpPr/>
          <p:nvPr/>
        </p:nvSpPr>
        <p:spPr>
          <a:xfrm>
            <a:off x="1066680" y="1752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AutoShape 4"/>
          <p:cNvSpPr/>
          <p:nvPr/>
        </p:nvSpPr>
        <p:spPr>
          <a:xfrm>
            <a:off x="1371600" y="20574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AutoShape 5"/>
          <p:cNvSpPr/>
          <p:nvPr/>
        </p:nvSpPr>
        <p:spPr>
          <a:xfrm>
            <a:off x="8686800" y="278136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838080" y="44956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AutoShape 7"/>
          <p:cNvSpPr/>
          <p:nvPr/>
        </p:nvSpPr>
        <p:spPr>
          <a:xfrm>
            <a:off x="1752480" y="3733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AutoShape 8"/>
          <p:cNvSpPr/>
          <p:nvPr/>
        </p:nvSpPr>
        <p:spPr>
          <a:xfrm>
            <a:off x="990720" y="2895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1371600" y="57150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8077320" y="48769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AutoShape 11"/>
          <p:cNvSpPr/>
          <p:nvPr/>
        </p:nvSpPr>
        <p:spPr>
          <a:xfrm>
            <a:off x="8686800" y="3716280"/>
            <a:ext cx="457200" cy="68580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AutoShape 12"/>
          <p:cNvSpPr/>
          <p:nvPr/>
        </p:nvSpPr>
        <p:spPr>
          <a:xfrm>
            <a:off x="7543800" y="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AutoShape 13"/>
          <p:cNvSpPr/>
          <p:nvPr/>
        </p:nvSpPr>
        <p:spPr>
          <a:xfrm>
            <a:off x="2743200" y="5181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AutoShape 14"/>
          <p:cNvSpPr/>
          <p:nvPr/>
        </p:nvSpPr>
        <p:spPr>
          <a:xfrm>
            <a:off x="7620120" y="54864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1752480" y="9907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AutoShape 16"/>
          <p:cNvSpPr/>
          <p:nvPr/>
        </p:nvSpPr>
        <p:spPr>
          <a:xfrm>
            <a:off x="8388360" y="14842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17"/>
          <p:cNvSpPr/>
          <p:nvPr/>
        </p:nvSpPr>
        <p:spPr>
          <a:xfrm>
            <a:off x="4114800" y="6324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AutoShape 18"/>
          <p:cNvSpPr/>
          <p:nvPr/>
        </p:nvSpPr>
        <p:spPr>
          <a:xfrm>
            <a:off x="6172200" y="6324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AutoShape 19"/>
          <p:cNvSpPr/>
          <p:nvPr/>
        </p:nvSpPr>
        <p:spPr>
          <a:xfrm>
            <a:off x="2057400" y="632448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380880" y="12193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圆明园中，有金碧辉煌的殿堂，也有玲珑剔透的亭台楼阁；有象征着热闹街市的“买卖街” ，也有象征着田园风光的山乡村野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8197"/>
          <p:cNvSpPr/>
          <p:nvPr/>
        </p:nvSpPr>
        <p:spPr>
          <a:xfrm>
            <a:off x="2195640" y="1268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457200" y="5335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园中许多景物都是仿照各地名胜建造的。如杭州西湖的平湖秋月、雷峰夕照，海宁的安澜园，苏州的狮子林等。还有很多景物是根据古代诗人的诗情画意建造的 ，如蓬莱瑶台、武陵春色。园中不仅有民族建筑，还有西洋景观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380880" y="12193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漫步园内，有如漫游在天南海北，饱览着中外风景名胜；流连其间，仿佛置身在幻想的境界里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导              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68000" y="177300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学习本组课文，继续复习巩固前面学到的读书方法，多读、多想、多体会，分清文章的主次，体会文章所表达的思想感情，领悟作者的表达方法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457200" y="990720"/>
            <a:ext cx="8305920" cy="37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圆明园中，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也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；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也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园中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。还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园中不仅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，还有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漫步园内，有如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； 流连其间，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04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24000" y="1197000"/>
            <a:ext cx="849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他们把园内凡是能拿走的东西，统统掠走，拿不动的，就用大车或牲口搬运。实在运不走的，就任意破坏、毁掉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4" name="Group 3"/>
          <p:cNvGrpSpPr/>
          <p:nvPr/>
        </p:nvGrpSpPr>
        <p:grpSpPr>
          <a:xfrm>
            <a:off x="1763640" y="2144880"/>
            <a:ext cx="4051440" cy="3309840"/>
            <a:chOff x="1763640" y="2144880"/>
            <a:chExt cx="4051440" cy="3309840"/>
          </a:xfrm>
        </p:grpSpPr>
        <p:sp>
          <p:nvSpPr>
            <p:cNvPr id="625" name="Oval 4"/>
            <p:cNvSpPr/>
            <p:nvPr/>
          </p:nvSpPr>
          <p:spPr>
            <a:xfrm>
              <a:off x="4540320" y="2144880"/>
              <a:ext cx="14904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Oval 5"/>
            <p:cNvSpPr/>
            <p:nvPr/>
          </p:nvSpPr>
          <p:spPr>
            <a:xfrm>
              <a:off x="5064120" y="2144880"/>
              <a:ext cx="150840" cy="153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Oval 6"/>
            <p:cNvSpPr/>
            <p:nvPr/>
          </p:nvSpPr>
          <p:spPr>
            <a:xfrm>
              <a:off x="1763640" y="3297240"/>
              <a:ext cx="14940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Oval 7"/>
            <p:cNvSpPr/>
            <p:nvPr/>
          </p:nvSpPr>
          <p:spPr>
            <a:xfrm>
              <a:off x="2363760" y="3297240"/>
              <a:ext cx="14940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Oval 8"/>
            <p:cNvSpPr/>
            <p:nvPr/>
          </p:nvSpPr>
          <p:spPr>
            <a:xfrm>
              <a:off x="5140440" y="4221000"/>
              <a:ext cx="1490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Oval 9"/>
            <p:cNvSpPr/>
            <p:nvPr/>
          </p:nvSpPr>
          <p:spPr>
            <a:xfrm>
              <a:off x="5664240" y="4221000"/>
              <a:ext cx="1508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Oval 10"/>
            <p:cNvSpPr/>
            <p:nvPr/>
          </p:nvSpPr>
          <p:spPr>
            <a:xfrm>
              <a:off x="2340000" y="5300640"/>
              <a:ext cx="1508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Oval 11"/>
            <p:cNvSpPr/>
            <p:nvPr/>
          </p:nvSpPr>
          <p:spPr>
            <a:xfrm>
              <a:off x="2843280" y="5300640"/>
              <a:ext cx="149040" cy="154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2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634" name="文本框 8197"/>
          <p:cNvSpPr/>
          <p:nvPr/>
        </p:nvSpPr>
        <p:spPr>
          <a:xfrm>
            <a:off x="755640" y="2854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带着自己对课文的体会，有感情地朗读课文。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用自己喜欢的方法背课文。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8493-3A61-41F3-B770-0E8BB7BD8028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如果此时你正在圆明园的废墟旁，你想说些什么？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4"/>
          <p:cNvSpPr txBox="1"/>
          <p:nvPr/>
        </p:nvSpPr>
        <p:spPr>
          <a:xfrm>
            <a:off x="900000" y="1052640"/>
            <a:ext cx="2303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latin typeface="宋体"/>
              </a:rPr>
              <a:t>毁灭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578" name="WordArt 5"/>
          <p:cNvSpPr txBox="1"/>
          <p:nvPr/>
        </p:nvSpPr>
        <p:spPr>
          <a:xfrm>
            <a:off x="3276720" y="1413000"/>
            <a:ext cx="244764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是什么意思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9" name="WordArt 6"/>
          <p:cNvSpPr txBox="1"/>
          <p:nvPr/>
        </p:nvSpPr>
        <p:spPr>
          <a:xfrm>
            <a:off x="6084720" y="119700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60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0" name="WordArt 7"/>
          <p:cNvSpPr txBox="1"/>
          <p:nvPr/>
        </p:nvSpPr>
        <p:spPr>
          <a:xfrm>
            <a:off x="3132000" y="2781360"/>
            <a:ext cx="2837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latin typeface="宋体"/>
              </a:rPr>
              <a:t>谁的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581" name="WordArt 8"/>
          <p:cNvSpPr txBox="1"/>
          <p:nvPr/>
        </p:nvSpPr>
        <p:spPr>
          <a:xfrm>
            <a:off x="900000" y="2997360"/>
            <a:ext cx="2160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课文是写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2" name="WordArt 9"/>
          <p:cNvSpPr txBox="1"/>
          <p:nvPr/>
        </p:nvSpPr>
        <p:spPr>
          <a:xfrm>
            <a:off x="6012000" y="3213000"/>
            <a:ext cx="1150920" cy="5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毁灭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3" name="WordArt 10"/>
          <p:cNvSpPr txBox="1"/>
          <p:nvPr/>
        </p:nvSpPr>
        <p:spPr>
          <a:xfrm>
            <a:off x="7596360" y="2997360"/>
            <a:ext cx="761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60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4" name="WordArt 13"/>
          <p:cNvSpPr txBox="1"/>
          <p:nvPr/>
        </p:nvSpPr>
        <p:spPr>
          <a:xfrm>
            <a:off x="900000" y="4653000"/>
            <a:ext cx="53164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通过课题你想知道什么</a:t>
            </a:r>
            <a:endParaRPr b="0" lang="en-US" sz="18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5" name="WordArt 14"/>
          <p:cNvSpPr txBox="1"/>
          <p:nvPr/>
        </p:nvSpPr>
        <p:spPr>
          <a:xfrm>
            <a:off x="6804000" y="4581360"/>
            <a:ext cx="762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6000" spc="-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8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11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圆明园毁灭以前是什么样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圆明园是怎样被毁灭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圆明园现在是什么样的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4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ec94"/>
                </a:solidFill>
                <a:latin typeface="Times New Roman"/>
              </a:rPr>
              <a:t>带着刚才的问题听范读，注意听准字音。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42472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自读课文，注意读准字音，思考课文写了那几方面的内容？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分部分朗读课文，注意检查字音读得是否正确。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Times New Roman"/>
              </a:rPr>
              <a:t>再读课文，看一看在整体感知的基础上，你又产生了哪些新问题？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68000" y="549360"/>
            <a:ext cx="867564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为什么圆明园的毁灭是祖国文化史上，及全世界文化史上不可估量的损失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圆明园原来是什么样的？从哪可以看出圆明园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园林艺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的瑰宝？建筑艺术的精华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圆明园被毁灭的经过是怎样的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课文题目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圆明园的毁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，可为什么用较大篇幅写它辉煌的过去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从这篇文章中你体会到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23:07:5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54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7</vt:r8>
  </property>
</Properties>
</file>