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NOTIFY.WAV" ContentType="audio/x-wav"/>
  <Override PartName="/ppt/media/image24.jpeg" ContentType="image/jpeg"/>
  <Override PartName="/ppt/media/chimes.wav" ContentType="audio/x-wav"/>
  <Override PartName="/ppt/media/image21.jpeg" ContentType="image/jpeg"/>
  <Override PartName="/ppt/media/RECYCLE.WAV" ContentType="audio/x-wav"/>
  <Override PartName="/ppt/media/image4.jpeg" ContentType="image/jpeg"/>
  <Override PartName="/ppt/media/image25.jpeg" ContentType="image/jpeg"/>
  <Override PartName="/ppt/media/DING.WAV" ContentType="audio/x-wav"/>
  <Override PartName="/ppt/media/image5.jpeg" ContentType="image/jpeg"/>
  <Override PartName="/ppt/media/image22.jpeg" ContentType="image/jpeg"/>
  <Override PartName="/ppt/media/UNDERW~4.WAV" ContentType="audio/x-wav"/>
  <Override PartName="/ppt/media/image1.jpeg" ContentType="image/jpeg"/>
  <Override PartName="/ppt/media/image23.jpeg" ContentType="image/jpeg"/>
  <Override PartName="/ppt/media/image3.jpeg" ContentType="image/jpeg"/>
  <Override PartName="/ppt/media/CHIMES.WAV" ContentType="audio/x-wav"/>
  <Override PartName="/ppt/media/%E6%8F%90%E7%A4%BA%E6%97%B6%E5%A5%8F%E5%B9%BB%E6%83%B3%E7%A9%BA%E9%97%B4.WAV" ContentType="audio/x-wav"/>
  <Override PartName="/ppt/media/LOGOFF.WAV" ContentType="audio/x-wav"/>
  <Override PartName="/ppt/media/image8.jpeg" ContentType="image/jpeg"/>
  <Override PartName="/ppt/media/image10.jpeg" ContentType="image/jpeg"/>
  <Override PartName="/ppt/media/image7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%E5%90%91%E4%B8%8A%E8%BF%98%E5%8E%9F%E6%97%B6%E5%A5%8F%E5%B9%BB%E6%83%B3%E7%A9%BA%E9%97%B4.wav" ContentType="audio/x-wav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F63-8C64-4579-A79B-570BE066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B2F-CEDE-4C3E-8722-25102E0D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4A8-F3AB-4939-BC6A-37682AAA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279-3FB2-411D-8BF7-DFF7F2D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5D28-EBBF-41E6-BB86-4D80686B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77B-0263-435A-B75E-5F43102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D101-00B4-4F99-BEE0-C1AB4EE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A1B0-C6D1-4733-8BCB-3DB3FF64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BE7F-79A1-4E4A-9FA0-1D407D7C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099-ED7E-4417-A661-A6666B29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B848-7553-4461-BA91-BC02946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4BA-1F44-4C59-8120-AB1D135C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AAE1-B829-42B7-987C-2AB5CF8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328-B746-4251-9256-D517125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6425-8767-4F9E-B249-E21DDDB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524-1365-48B3-84A9-B4E811C9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72CA-88F4-48DB-B219-D1A5B4B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7AF-D393-424A-A74A-A6B84D9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56B-74B8-4E6F-B473-6FE3D08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FE7-AB2C-4C37-B126-A3C444B4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9E6-2F74-4CB4-A93F-D460CD54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69B-8E9E-4A38-82D9-5E8D660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B89-47B8-423B-B52A-9991D48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AD0-0C55-4188-822E-D68771C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8EF-6F20-4C9D-A2E6-E1C59FC4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CFD-7DCC-4227-8BB4-9534219C0C4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1D9-76F5-404E-8B5B-1EC136C8DC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RECYCLE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audio" Target="../media/RECYCLE.WAV"/><Relationship Id="rId8" Type="http://schemas.openxmlformats.org/officeDocument/2006/relationships/audio" Target="../media/RECYCL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RECYCLE.WAV"/><Relationship Id="rId3" Type="http://schemas.openxmlformats.org/officeDocument/2006/relationships/audio" Target="../media/chimes.wav"/><Relationship Id="rId4" Type="http://schemas.openxmlformats.org/officeDocument/2006/relationships/audio" Target="../media/&#21521;&#19978;&#36824;&#21407;&#26102;&#22863;&#24187;&#24819;&#31354;&#38388;.wav"/><Relationship Id="rId5" Type="http://schemas.openxmlformats.org/officeDocument/2006/relationships/audio" Target="../media/&#21521;&#19978;&#36824;&#21407;&#26102;&#22863;&#24187;&#24819;&#31354;&#38388;.wav"/><Relationship Id="rId6" Type="http://schemas.openxmlformats.org/officeDocument/2006/relationships/audio" Target="../media/&#21521;&#19978;&#36824;&#21407;&#26102;&#22863;&#24187;&#24819;&#31354;&#38388;.wav"/><Relationship Id="rId7" Type="http://schemas.openxmlformats.org/officeDocument/2006/relationships/audio" Target="../media/&#21521;&#19978;&#36824;&#21407;&#26102;&#22863;&#24187;&#24819;&#31354;&#38388;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NOTIFY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NOTIFY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audio" Target="../media/NOTIFY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&#25552;&#31034;&#26102;&#22863;&#24187;&#24819;&#31354;&#38388;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NOTIFY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UNDERW~4.WAV"/><Relationship Id="rId5" Type="http://schemas.openxmlformats.org/officeDocument/2006/relationships/audio" Target="../media/UNDERW~4.WAV"/><Relationship Id="rId6" Type="http://schemas.openxmlformats.org/officeDocument/2006/relationships/audio" Target="../media/DING.WAV"/><Relationship Id="rId7" Type="http://schemas.openxmlformats.org/officeDocument/2006/relationships/audio" Target="../media/NOTIFY.WAV"/><Relationship Id="rId8" Type="http://schemas.openxmlformats.org/officeDocument/2006/relationships/audio" Target="../media/NOTIFY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DING.WAV"/><Relationship Id="rId5" Type="http://schemas.openxmlformats.org/officeDocument/2006/relationships/audio" Target="../media/RECYCL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RECYCLE.WAV"/><Relationship Id="rId4" Type="http://schemas.openxmlformats.org/officeDocument/2006/relationships/audio" Target="../media/RECYCLE.WAV"/><Relationship Id="rId5" Type="http://schemas.openxmlformats.org/officeDocument/2006/relationships/audio" Target="../media/RECYCLE.WAV"/><Relationship Id="rId6" Type="http://schemas.openxmlformats.org/officeDocument/2006/relationships/audio" Target="../media/RECYCLE.WAV"/><Relationship Id="rId7" Type="http://schemas.openxmlformats.org/officeDocument/2006/relationships/audio" Target="../media/RECYCLE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NOTIFY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20094168293448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79640" y="1197000"/>
            <a:ext cx="76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鱼游到了纸上课件</a:t>
            </a:r>
            <a:r>
              <a:rPr b="0" lang="en-US" sz="4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p200991122411239632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4132800" y="2666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71600" y="3124080"/>
            <a:ext cx="457200" cy="360"/>
            <a:chOff x="1371600" y="3124080"/>
            <a:chExt cx="457200" cy="360"/>
          </a:xfrm>
        </p:grpSpPr>
        <p:sp>
          <p:nvSpPr>
            <p:cNvPr id="184" name="Line 10"/>
            <p:cNvSpPr/>
            <p:nvPr/>
          </p:nvSpPr>
          <p:spPr>
            <a:xfrm>
              <a:off x="137160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37160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95480" y="3124080"/>
            <a:ext cx="457200" cy="360"/>
            <a:chOff x="2895480" y="3124080"/>
            <a:chExt cx="457200" cy="360"/>
          </a:xfrm>
        </p:grpSpPr>
        <p:sp>
          <p:nvSpPr>
            <p:cNvPr id="187" name="Line 11"/>
            <p:cNvSpPr/>
            <p:nvPr/>
          </p:nvSpPr>
          <p:spPr>
            <a:xfrm>
              <a:off x="289548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89548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943600" y="3124080"/>
            <a:ext cx="457200" cy="360"/>
            <a:chOff x="5943600" y="3124080"/>
            <a:chExt cx="457200" cy="360"/>
          </a:xfrm>
        </p:grpSpPr>
        <p:sp>
          <p:nvSpPr>
            <p:cNvPr id="190" name="Line 12"/>
            <p:cNvSpPr/>
            <p:nvPr/>
          </p:nvSpPr>
          <p:spPr>
            <a:xfrm>
              <a:off x="5943600" y="31240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943600" y="3124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3809880"/>
            <a:ext cx="457200" cy="360"/>
            <a:chOff x="3048120" y="3809880"/>
            <a:chExt cx="457200" cy="360"/>
          </a:xfrm>
        </p:grpSpPr>
        <p:sp>
          <p:nvSpPr>
            <p:cNvPr id="193" name="Line 13"/>
            <p:cNvSpPr/>
            <p:nvPr/>
          </p:nvSpPr>
          <p:spPr>
            <a:xfrm>
              <a:off x="3048120" y="380988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048120" y="38098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14"/>
          <p:cNvSpPr/>
          <p:nvPr/>
        </p:nvSpPr>
        <p:spPr>
          <a:xfrm>
            <a:off x="1392840" y="13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有感情的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679560" y="1981080"/>
            <a:ext cx="1613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读</a:t>
            </a:r>
            <a:endParaRPr b="0" lang="en-US" sz="1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8" descr="200962423335925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327320" y="70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读课文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523880" y="182880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哪些句子具体描写了青年画鱼画得很好，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[      ]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标出并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3520" y="16765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0" dur="1" fill="hold"/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4" descr="20091250201944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3520" y="3048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96600" y="339408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工笔细描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33520" y="46483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588760" y="504972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挥笔速写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33920" y="1066680"/>
            <a:ext cx="4114800" cy="360"/>
            <a:chOff x="3733920" y="1066680"/>
            <a:chExt cx="4114800" cy="360"/>
          </a:xfrm>
        </p:grpSpPr>
        <p:sp>
          <p:nvSpPr>
            <p:cNvPr id="210" name="Line 10"/>
            <p:cNvSpPr/>
            <p:nvPr/>
          </p:nvSpPr>
          <p:spPr>
            <a:xfrm>
              <a:off x="3733920" y="1066680"/>
              <a:ext cx="41148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733920" y="106668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43000" y="1752480"/>
            <a:ext cx="3505320" cy="360"/>
            <a:chOff x="1143000" y="1752480"/>
            <a:chExt cx="3505320" cy="360"/>
          </a:xfrm>
        </p:grpSpPr>
        <p:sp>
          <p:nvSpPr>
            <p:cNvPr id="213" name="Line 11"/>
            <p:cNvSpPr/>
            <p:nvPr/>
          </p:nvSpPr>
          <p:spPr>
            <a:xfrm>
              <a:off x="1143000" y="1752480"/>
              <a:ext cx="350532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1143000" y="1752480"/>
              <a:ext cx="3505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43000" y="2514600"/>
            <a:ext cx="2438280" cy="360"/>
            <a:chOff x="1143000" y="2514600"/>
            <a:chExt cx="2438280" cy="360"/>
          </a:xfrm>
        </p:grpSpPr>
        <p:sp>
          <p:nvSpPr>
            <p:cNvPr id="216" name="Line 12"/>
            <p:cNvSpPr/>
            <p:nvPr/>
          </p:nvSpPr>
          <p:spPr>
            <a:xfrm>
              <a:off x="1143000" y="2514600"/>
              <a:ext cx="243828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143000" y="251460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3800" y="1828800"/>
            <a:ext cx="457200" cy="360"/>
            <a:chOff x="7543800" y="1828800"/>
            <a:chExt cx="457200" cy="360"/>
          </a:xfrm>
        </p:grpSpPr>
        <p:sp>
          <p:nvSpPr>
            <p:cNvPr id="219" name="Line 13"/>
            <p:cNvSpPr/>
            <p:nvPr/>
          </p:nvSpPr>
          <p:spPr>
            <a:xfrm>
              <a:off x="7543800" y="1828800"/>
              <a:ext cx="45720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543800" y="1828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2" descr="2009430133672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292840" y="3124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选择正确的解释并说明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765960" y="39625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看得很专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864960" y="4572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、画鱼很勤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98108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630240" y="57150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315800" y="2620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90%91%E4%B8%8A%E8%BF%98%E5%8E%9F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p20098821335395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914400" y="2895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611520" y="129528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朗        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1" descr="200911291512144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39" name="Line 5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93072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7" descr="fesh"/>
          <p:cNvPicPr/>
          <p:nvPr/>
        </p:nvPicPr>
        <p:blipFill>
          <a:blip r:embed="rId2"/>
          <a:stretch/>
        </p:blipFill>
        <p:spPr>
          <a:xfrm>
            <a:off x="123840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fesh"/>
          <p:cNvPicPr/>
          <p:nvPr/>
        </p:nvPicPr>
        <p:blipFill>
          <a:blip r:embed="rId3"/>
          <a:stretch/>
        </p:blipFill>
        <p:spPr>
          <a:xfrm>
            <a:off x="1371600" y="160020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9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252" name="Line 2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p20096130405582536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143000" y="28195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围观的人越来越多，大家赞叹着，议论着，唯一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有任何反应的是他自己。他好像和游鱼已经融为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体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356840" y="13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2" descr="p20093115544266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18"/>
          <p:cNvGrpSpPr/>
          <p:nvPr/>
        </p:nvGrpSpPr>
        <p:grpSpPr>
          <a:xfrm>
            <a:off x="2209680" y="3886200"/>
            <a:ext cx="1471680" cy="2057400"/>
            <a:chOff x="2209680" y="3886200"/>
            <a:chExt cx="1471680" cy="2057400"/>
          </a:xfrm>
        </p:grpSpPr>
        <p:pic>
          <p:nvPicPr>
            <p:cNvPr id="261" name="Object 15" descr=""/>
            <p:cNvPicPr/>
            <p:nvPr/>
          </p:nvPicPr>
          <p:blipFill>
            <a:blip r:embed="rId2"/>
            <a:stretch/>
          </p:blipFill>
          <p:spPr>
            <a:xfrm>
              <a:off x="2209680" y="4419720"/>
              <a:ext cx="14716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6"/>
            <p:cNvSpPr/>
            <p:nvPr/>
          </p:nvSpPr>
          <p:spPr>
            <a:xfrm>
              <a:off x="2678760" y="3886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99"/>
                  </a:solidFill>
                  <a:latin typeface="Times New Roman"/>
                </a:rPr>
                <a:t>？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17"/>
          <p:cNvSpPr/>
          <p:nvPr/>
        </p:nvSpPr>
        <p:spPr>
          <a:xfrm>
            <a:off x="4191120" y="44956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青年是个怎样的人？你从哪些句子可以看出来？请找出直接描写的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goldfish.mp3.MP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"/>
          <p:cNvPicPr/>
          <p:nvPr/>
        </p:nvPicPr>
        <p:blipFill>
          <a:blip r:embed="rId4"/>
          <a:stretch/>
        </p:blipFill>
        <p:spPr>
          <a:xfrm>
            <a:off x="2286000" y="1371600"/>
            <a:ext cx="133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7" descr="p200912191813773846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71" name="Line 8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Text Box 9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2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" descr="fesh"/>
          <p:cNvPicPr/>
          <p:nvPr/>
        </p:nvPicPr>
        <p:blipFill>
          <a:blip r:embed="rId4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5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286" name="Line 26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文本框 1"/>
          <p:cNvSpPr/>
          <p:nvPr/>
        </p:nvSpPr>
        <p:spPr>
          <a:xfrm>
            <a:off x="2255040" y="32004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8" descr="2009122918574451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763640" y="3124080"/>
            <a:ext cx="63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鱼游到了心里”和“鱼游到了纸上”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268360" y="979560"/>
            <a:ext cx="59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让我想一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"/>
          <p:cNvSpPr/>
          <p:nvPr/>
        </p:nvSpPr>
        <p:spPr>
          <a:xfrm>
            <a:off x="826920" y="399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200912717474372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905120" y="2438280"/>
            <a:ext cx="574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这篇课文主要讲作者在（          ）观鱼时，发现了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位（                 ）的青年，他（              ）看得非常专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             ）画得活灵活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76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玉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629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举止特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22576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158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449360" y="1187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填空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1" descr="2009112716333238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298" name="Line 6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7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5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6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" descr="fesh"/>
          <p:cNvPicPr/>
          <p:nvPr/>
        </p:nvPicPr>
        <p:blipFill>
          <a:blip r:embed="rId4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8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313" name="Line 19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20"/>
          <p:cNvSpPr/>
          <p:nvPr/>
        </p:nvSpPr>
        <p:spPr>
          <a:xfrm>
            <a:off x="6722640" y="372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勤动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037B-5F38-4A62-A846-E005663B41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1" descr="200981019171714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3096720" y="175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把带点的词语写具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367720" y="28954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围观的人越来越多，大家赞叹着，议论着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876920" y="3276720"/>
            <a:ext cx="761760" cy="360"/>
            <a:chOff x="4876920" y="3276720"/>
            <a:chExt cx="761760" cy="360"/>
          </a:xfrm>
        </p:grpSpPr>
        <p:sp>
          <p:nvSpPr>
            <p:cNvPr id="325" name="Line 8"/>
            <p:cNvSpPr/>
            <p:nvPr/>
          </p:nvSpPr>
          <p:spPr>
            <a:xfrm>
              <a:off x="4876920" y="3276720"/>
              <a:ext cx="76176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76920" y="32767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19920" y="3276720"/>
            <a:ext cx="838080" cy="360"/>
            <a:chOff x="6019920" y="3276720"/>
            <a:chExt cx="838080" cy="360"/>
          </a:xfrm>
        </p:grpSpPr>
        <p:sp>
          <p:nvSpPr>
            <p:cNvPr id="328" name="Line 9"/>
            <p:cNvSpPr/>
            <p:nvPr/>
          </p:nvSpPr>
          <p:spPr>
            <a:xfrm>
              <a:off x="6019920" y="3276720"/>
              <a:ext cx="838080" cy="0"/>
            </a:xfrm>
            <a:prstGeom prst="line">
              <a:avLst/>
            </a:prstGeom>
            <a:ln cap="rnd" w="28440">
              <a:solidFill>
                <a:srgbClr val="99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019920" y="3276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152568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该练习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3" descr="200911217511179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127160" y="21337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课文中哪个句子最能说明青年画鱼画得好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~~~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 文中标出来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990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声朗读课文，边读边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19320" y="378936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哪个句子最能说明青年看鱼很专心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——”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文中标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04920" y="1905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04920" y="37162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2" descr="200961085715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8"/>
          <p:cNvSpPr/>
          <p:nvPr/>
        </p:nvSpPr>
        <p:spPr>
          <a:xfrm>
            <a:off x="2948040" y="146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2948040" y="352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08" name="Line 31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2"/>
          <p:cNvSpPr/>
          <p:nvPr/>
        </p:nvSpPr>
        <p:spPr>
          <a:xfrm>
            <a:off x="5195880" y="146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427720" y="352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7537680" y="148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7122960" y="2492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7" descr="fesh"/>
          <p:cNvPicPr/>
          <p:nvPr/>
        </p:nvPicPr>
        <p:blipFill>
          <a:blip r:embed="rId2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0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18" name="Line 41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NDERW~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NDERW~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20094168293448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316880" y="798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默读课文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42920" y="2057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</a:rPr>
              <a:t>课文哪些句子描写出了青年爱鱼达到了忘我的境界，用（     ）标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0880" y="19494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4" descr="2010130212721416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209120" y="114300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5320" y="23209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696040" y="254952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他”指谁？长得怎样，请找出有关句子读一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371600" y="30481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（他高高的身材，长得很秀气，一对大眼睛明亮得就像玉泉的水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373840" y="419112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老是”是什么意思？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5320" y="376884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9" descr="200910261759226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464292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39" name="Line 20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5" descr="fesh"/>
          <p:cNvPicPr/>
          <p:nvPr/>
        </p:nvPicPr>
        <p:blipFill>
          <a:blip r:embed="rId2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7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49" name="Line 28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1"/>
          <p:cNvSpPr/>
          <p:nvPr/>
        </p:nvSpPr>
        <p:spPr>
          <a:xfrm>
            <a:off x="2255040" y="320040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6" descr="p2009325013392089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129560" y="762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2040" y="24685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选择正确的解释并说明你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078000" y="3165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9350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看鱼很专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941560" y="4800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706560" y="54864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爱鱼达到了忘我的境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26504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6" descr="200991522565597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276360" y="2133360"/>
            <a:ext cx="360" cy="1447560"/>
            <a:chOff x="3276360" y="2133360"/>
            <a:chExt cx="360" cy="1447560"/>
          </a:xfrm>
        </p:grpSpPr>
        <p:sp>
          <p:nvSpPr>
            <p:cNvPr id="166" name="Line 12"/>
            <p:cNvSpPr/>
            <p:nvPr/>
          </p:nvSpPr>
          <p:spPr>
            <a:xfrm flipV="1">
              <a:off x="3276720" y="2133360"/>
              <a:ext cx="0" cy="1447560"/>
            </a:xfrm>
            <a:prstGeom prst="line">
              <a:avLst/>
            </a:prstGeom>
            <a:ln w="15840">
              <a:solidFill>
                <a:srgbClr val="00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 rot="10800000">
              <a:off x="3276360" y="21333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3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fesh"/>
          <p:cNvPicPr/>
          <p:nvPr/>
        </p:nvPicPr>
        <p:blipFill>
          <a:blip r:embed="rId2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fesh"/>
          <p:cNvPicPr/>
          <p:nvPr/>
        </p:nvPicPr>
        <p:blipFill>
          <a:blip r:embed="rId3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4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609480"/>
            <a:ext cx="9144000" cy="360"/>
            <a:chOff x="0" y="609480"/>
            <a:chExt cx="9144000" cy="360"/>
          </a:xfrm>
        </p:grpSpPr>
        <p:sp>
          <p:nvSpPr>
            <p:cNvPr id="178" name="Line 25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1:37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9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