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0F0-661F-4736-8375-4E44EA0B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4B3-9073-493F-8DC7-A43DE560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F58-C5F4-49C4-9A0E-1FC84B0D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ACA-B112-4C36-B480-83324955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4889-8B24-4174-8B9E-B7110305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D44F-B623-4C71-92B5-19C773D8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A72C-0A00-4531-AECF-2A4CBFA9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6CD6-9501-469F-BF1B-AFFE1F00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B82F-6895-4411-A679-DAE6A35D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D250-86D3-4CB8-8CED-FDEB8E80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6634-818D-4D22-8493-21AEF0A1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1E4-E642-4D57-8167-6BBD2F42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58DC-CC18-4471-B043-DF83A30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23B8-E578-4D90-AE4D-10C8F73D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851B-8232-4918-8585-1AD052E2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D7B2-1AE4-4A4E-AAFB-B29D3470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4608-B1A4-4505-896B-6D35231D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C08D-552F-44E9-9F3B-DF29A795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412F-DCD1-4AE3-9FDC-99F31B23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D4C7-92B3-440C-901A-42CC2289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2AFA-D6EF-4538-8884-44DF6FDF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AB3C-FF7A-423A-B0DA-358CD33C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D0B-0D01-40C6-B299-5DD3514F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1E98-FEB4-4CE4-966F-FFE70FA3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1BA0-7195-478C-884D-966B107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B663D-916B-49BC-ABA9-A6BE8361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0E87-5810-4963-8E50-4533726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732F-831E-40D1-B4A9-D5F240B1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DC84-E5CE-4C3F-A191-6018A97C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6368-0F23-413E-866C-99B283BD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949-BEC2-4D90-814C-778C89F6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6E3-C333-442F-B21E-2266B24B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7F5-1531-4F48-A585-38794068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AE4-EB47-46BC-A530-70CA1963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357-9D5C-440E-9CCC-A427AD47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5C4-F8F5-4CA6-850E-D1B00A5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1B6B-8A03-4F21-8652-C25850942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5916-48A6-4922-82F7-6D63184E39F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D3D-7A01-4EA5-A61B-503FD2F5AB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94F2-0E52-4552-B581-7037B69D2C80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1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7138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燕子语文课件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0"/>
            <a:ext cx="8823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燕子  乌黑  轻快    翅膀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剪刀  尾巴  活泼    机灵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微风  赶集  聚拢    增添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生机  掠过  稻田    偶尔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一圈  音符  演奏    赞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光彩夺目           一转眼</a:t>
            </a:r>
            <a:r>
              <a:rPr b="0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文本框 8199"/>
          <p:cNvSpPr/>
          <p:nvPr/>
        </p:nvSpPr>
        <p:spPr>
          <a:xfrm>
            <a:off x="898560" y="472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79280" y="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身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黑光亮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羽毛，一对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俊俏轻快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翅膀，加上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剪刀似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尾巴，凑成了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活泼可爱</a:t>
            </a:r>
            <a:r>
              <a:rPr b="1" lang="zh-CN" sz="7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小燕子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f9cbdcc4e57bf0301e92886"/>
          <p:cNvPicPr/>
          <p:nvPr/>
        </p:nvPicPr>
        <p:blipFill>
          <a:blip r:embed="rId1"/>
          <a:stretch/>
        </p:blipFill>
        <p:spPr>
          <a:xfrm>
            <a:off x="0" y="0"/>
            <a:ext cx="325116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200810192114010940"/>
          <p:cNvPicPr/>
          <p:nvPr/>
        </p:nvPicPr>
        <p:blipFill>
          <a:blip r:embed="rId2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9280" y="18900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才下过几阵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蒙蒙的细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雨。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风吹拂着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千万条才展开带黄色的嫩叶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柳丝。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草，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绿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叶，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各色鲜艳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花，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像赶集似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聚拢来，形成了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彩夺目的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春天。</a:t>
            </a:r>
            <a:r>
              <a:rPr b="0" lang="zh-CN" sz="6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17"/>
          <p:cNvPicPr/>
          <p:nvPr/>
        </p:nvPicPr>
        <p:blipFill>
          <a:blip r:embed="rId1"/>
          <a:stretch/>
        </p:blipFill>
        <p:spPr>
          <a:xfrm>
            <a:off x="0" y="3429000"/>
            <a:ext cx="312408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NATUR018"/>
          <p:cNvPicPr/>
          <p:nvPr/>
        </p:nvPicPr>
        <p:blipFill>
          <a:blip r:embed="rId2"/>
          <a:stretch/>
        </p:blipFill>
        <p:spPr>
          <a:xfrm>
            <a:off x="5943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P20020917151845"/>
          <p:cNvPicPr/>
          <p:nvPr/>
        </p:nvPicPr>
        <p:blipFill>
          <a:blip r:embed="rId3"/>
          <a:stretch/>
        </p:blipFill>
        <p:spPr>
          <a:xfrm>
            <a:off x="0" y="0"/>
            <a:ext cx="31608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SSGP5834"/>
          <p:cNvPicPr/>
          <p:nvPr/>
        </p:nvPicPr>
        <p:blipFill>
          <a:blip r:embed="rId4"/>
          <a:stretch/>
        </p:blipFill>
        <p:spPr>
          <a:xfrm>
            <a:off x="3124080" y="182880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V2-012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V2-019"/>
          <p:cNvPicPr/>
          <p:nvPr/>
        </p:nvPicPr>
        <p:blipFill>
          <a:blip r:embed="rId6"/>
          <a:stretch/>
        </p:blipFill>
        <p:spPr>
          <a:xfrm>
            <a:off x="3124080" y="3429000"/>
            <a:ext cx="285768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V2-081"/>
          <p:cNvPicPr/>
          <p:nvPr/>
        </p:nvPicPr>
        <p:blipFill>
          <a:blip r:embed="rId7"/>
          <a:stretch/>
        </p:blipFill>
        <p:spPr>
          <a:xfrm>
            <a:off x="3124080" y="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比较一下，说说哪句写得好，好在哪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1752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身羽毛，一对翅膀，加上尾巴，凑成了小燕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身乌黑光亮的羽毛，一对俊俏轻快的翅膀，加上剪刀似的尾巴，凑成了活泼可爱的小燕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57200" y="3441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身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黑光亮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羽毛，一对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俊俏轻快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翅膀，加上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剪刀似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尾巴，凑成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活泼可爱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小燕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1752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才下过几阵雨，风吹拂着柳丝，草、叶、花聚拢来，形成了春天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比较一下，说说哪句写得好，好在哪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31528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才下过几阵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蒙蒙的细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雨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风吹拂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千万条才展开带黄色的嫩叶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柳丝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青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草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绿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叶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各色鲜艳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花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像赶集似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聚拢来，形成了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彩夺目的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春天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62012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c5900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15800" y="1038240"/>
            <a:ext cx="831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在微风中，在阳光中，燕子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着身子在天空中掠过，唧唧地叫着，有的由这边的稻田上，一转眼飞到了那边的柳树下边；有的横掠过湖面，尾巴偶尔沾了一下水面，就看到波纹一圈一圈地荡漾开去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15800" y="1038240"/>
            <a:ext cx="831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在微风中，在阳光中，燕子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着身子在天空中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掠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过，唧唧地叫着，有的由这边的稻田上，一转眼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到了那边的柳树下边；有的横掠过湖面，尾巴偶尔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沾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了一下水面，就看到波纹一圈一圈地荡漾开去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082960" y="1371600"/>
            <a:ext cx="498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线上。蓝蓝的天空，电杆之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连着几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痕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细线，多么像五线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啊。停着的燕子成了音符，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出一支正待演奏的春天的赞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文本框 8199"/>
          <p:cNvSpPr/>
          <p:nvPr/>
        </p:nvSpPr>
        <p:spPr>
          <a:xfrm>
            <a:off x="898560" y="486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5"/>
          <p:cNvSpPr/>
          <p:nvPr/>
        </p:nvSpPr>
        <p:spPr>
          <a:xfrm>
            <a:off x="161928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Picture 2" descr="SSGP58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087640" y="1371600"/>
            <a:ext cx="4987440" cy="344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线上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蓝蓝的天空，电杆之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连着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痕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细线，多么像五线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啊。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停着的燕子成了音符，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出一支正待演奏的春天的赞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2008103110281941_2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087640" y="1371600"/>
            <a:ext cx="4987440" cy="344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线上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蓝蓝的天空，电杆之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连着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痕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细线，多么像五线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啊。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停着的燕子成了音符，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出一支正待演奏的春天的赞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4B97-6F03-4CFA-8A78-25F925E746EF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136960" y="1413000"/>
            <a:ext cx="4987440" cy="344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几对燕子飞倦了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落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线上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蓝蓝的天空，电杆之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连着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痕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细线，多么像五线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啊。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停着的燕子成了音符，谱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出一支正待演奏的春天的赞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26" descr="P200209171518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26" descr="V2-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V2-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7"/>
          <p:cNvSpPr txBox="1"/>
          <p:nvPr/>
        </p:nvSpPr>
        <p:spPr>
          <a:xfrm>
            <a:off x="6300720" y="436572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翼尖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826920" y="429264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掠过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6300720" y="191628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聚拢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3564000" y="429264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稻田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900000" y="198900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唧唧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5" name="WordArt 16"/>
          <p:cNvSpPr txBox="1"/>
          <p:nvPr/>
        </p:nvSpPr>
        <p:spPr>
          <a:xfrm>
            <a:off x="1042920" y="1341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jī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6343560" y="1341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jù lǒng 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WordArt 20"/>
          <p:cNvSpPr txBox="1"/>
          <p:nvPr/>
        </p:nvSpPr>
        <p:spPr>
          <a:xfrm>
            <a:off x="3598920" y="3645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dào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8" name="WordArt 21"/>
          <p:cNvSpPr txBox="1"/>
          <p:nvPr/>
        </p:nvSpPr>
        <p:spPr>
          <a:xfrm>
            <a:off x="6443640" y="37638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yì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900000" y="443700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几痕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6443640" y="1773360"/>
            <a:ext cx="165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荡漾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900000" y="1844640"/>
            <a:ext cx="165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沾水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6372360" y="4292640"/>
            <a:ext cx="165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映衬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3" name="WordArt 11"/>
          <p:cNvSpPr txBox="1"/>
          <p:nvPr/>
        </p:nvSpPr>
        <p:spPr>
          <a:xfrm>
            <a:off x="826920" y="126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zhā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4" name="WordArt 12"/>
          <p:cNvSpPr txBox="1"/>
          <p:nvPr/>
        </p:nvSpPr>
        <p:spPr>
          <a:xfrm>
            <a:off x="7236000" y="1197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yàng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5" name="WordArt 13"/>
          <p:cNvSpPr txBox="1"/>
          <p:nvPr/>
        </p:nvSpPr>
        <p:spPr>
          <a:xfrm>
            <a:off x="1763640" y="3789360"/>
            <a:ext cx="6732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hé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6" name="WordArt 15"/>
          <p:cNvSpPr txBox="1"/>
          <p:nvPr/>
        </p:nvSpPr>
        <p:spPr>
          <a:xfrm>
            <a:off x="6300720" y="3789360"/>
            <a:ext cx="16765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yìng chèn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3:11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0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