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A59-59A5-4F40-BD5B-767C36A0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AA1-04B6-4594-AF87-2ECD3D98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8E2-94E4-48B7-BD92-1F99EB82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BB8-5637-4D0E-9A05-15D2EF2C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BBDF-E33F-42B1-B4EA-36FA584A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20C6-E933-408D-A5F9-4474BD83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C9AB-9A24-4EC5-96F2-C8AFF4B1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D4F8-CFD8-410C-89D5-F024672D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83DC-EDE5-4B55-8F24-AE2E68E4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FDE3-2A45-4F68-8A9F-27E6EE9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7A52-D697-4DE5-A562-1D93979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9CD-22FF-416C-8149-B7FD409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B183-3A7F-4CDB-A0EC-91045140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89D2-422F-4DEE-A29D-178D4E1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EBE2-0F08-4C9D-946E-3C8FB327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F015-4158-4765-B0A0-375A3E05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107C-F6BA-499E-96FE-A50761E8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EF4-5893-42B3-BA9D-AA03DF4A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598-D85B-446C-9754-641EBCFA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11B-DA93-42A8-8F6D-1728A931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457-D384-44BE-ACBB-24B48260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1E1-83F6-4230-919C-705F3803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09A-9EE7-4B0A-9228-4150A29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F7C-E89F-47F0-8F7C-B2E80A0B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485E-3F2B-45C4-A8F3-EA1DA6630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394D-A9E9-4E92-93F8-EE7E375A292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A40D-CB66-4420-97BA-A28645CA00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0" t="0" r="0" b="45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1332000" y="2492280"/>
            <a:ext cx="6481800" cy="16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7f7f7f"/>
                  </a:outerShdw>
                </a:effectLst>
                <a:latin typeface="华文中宋"/>
              </a:rPr>
              <a:t>燕子专列语文课件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7f7f7f"/>
                  </a:outerShdw>
                </a:effectLst>
                <a:latin typeface="华文中宋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7f7f7f"/>
                  </a:outerShdw>
                </a:effectLst>
                <a:latin typeface="华文中宋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7f7f7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192400" y="40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教版小学语文第六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132000" y="566100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886760" y="1143000"/>
            <a:ext cx="536220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叫贝蒂的小姑娘，听到广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，和爸爸妈妈一起，在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覆盖着皑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白雪的山间岩缝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天下来，她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个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救护了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十几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。她的脸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冻得通红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冻得僵硬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但她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点也不在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课文插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祝福小燕子们无论到什么地方，都永远幸福快乐！因为我们人类都关爱着你们！再见了，燕子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A0F2-D714-4970-AF53-83C146A12E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课文插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24000" y="18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68360" y="0"/>
            <a:ext cx="9178920" cy="3284640"/>
          </a:xfrm>
          <a:prstGeom prst="cloudCallout">
            <a:avLst>
              <a:gd name="adj1" fmla="val -41958"/>
              <a:gd name="adj2" fmla="val -4381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这是心的呼唤，这是爱的奉献， 这是人间的春风， 这是生命的源泉 ，再没有心的沙漠 ，再没有爱的荒原， 死神也望而却步 ，幸福之花处处开遍 ，啊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――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只要人人都献出一点爱， 世界将变成美好的人间 ！</a:t>
            </a:r>
            <a:br>
              <a:rPr sz="2400"/>
            </a:b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啊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――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只要人人都献出一点爱， 世界将变成美好的人间 ！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黑鸭子合唱组-爱的奉献.mp3" descr=""/>
          <p:cNvPicPr/>
          <p:nvPr/>
        </p:nvPicPr>
        <p:blipFill>
          <a:blip r:embed="rId2"/>
          <a:stretch/>
        </p:blipFill>
        <p:spPr>
          <a:xfrm>
            <a:off x="7667640" y="5950080"/>
            <a:ext cx="936720" cy="79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44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081800" y="488880"/>
            <a:ext cx="6764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洲  瑞士  舒适  载着  政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程  特殊　麻烦  骤降  救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劳  饥寒交迫　　料峭　呼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濒临　皑皑白雪　　跋涉　踏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8920" y="404640"/>
            <a:ext cx="8713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年春天，成千上万只燕子从南方飞回北方时，在瑞士境内遇到了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麻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当地气温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骤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风雪不止，几乎所有昆虫都被冻死了。燕子经过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长途跋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已经非常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疲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再加上找不到食物，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饥寒交迫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濒临死亡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0"/>
          <p:cNvSpPr/>
          <p:nvPr/>
        </p:nvSpPr>
        <p:spPr>
          <a:xfrm>
            <a:off x="169236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taiyan"/>
          <p:cNvPicPr/>
          <p:nvPr/>
        </p:nvPicPr>
        <p:blipFill>
          <a:blip r:embed="rId3"/>
          <a:stretch/>
        </p:blipFill>
        <p:spPr>
          <a:xfrm>
            <a:off x="1820880" y="586728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taiyan"/>
          <p:cNvPicPr/>
          <p:nvPr/>
        </p:nvPicPr>
        <p:blipFill>
          <a:blip r:embed="rId4"/>
          <a:stretch/>
        </p:blipFill>
        <p:spPr>
          <a:xfrm>
            <a:off x="3048120" y="586728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taiyan"/>
          <p:cNvPicPr/>
          <p:nvPr/>
        </p:nvPicPr>
        <p:blipFill>
          <a:blip r:embed="rId5"/>
          <a:stretch/>
        </p:blipFill>
        <p:spPr>
          <a:xfrm>
            <a:off x="4343400" y="590544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taiyan"/>
          <p:cNvPicPr/>
          <p:nvPr/>
        </p:nvPicPr>
        <p:blipFill>
          <a:blip r:embed="rId6"/>
          <a:stretch/>
        </p:blipFill>
        <p:spPr>
          <a:xfrm>
            <a:off x="5707080" y="5905440"/>
            <a:ext cx="6174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630080" y="2133720"/>
            <a:ext cx="6296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列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漂亮舒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空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车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备启程，站台上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站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送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421280" y="1981080"/>
            <a:ext cx="67032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士政府知道了这个情况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火车把这些燕子送到温暖的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395000" y="1752480"/>
            <a:ext cx="6398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是，政府通过电视和广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呼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们立即行动起来，寻找燕子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们送到火车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8200"/>
          <p:cNvSpPr/>
          <p:nvPr/>
        </p:nvSpPr>
        <p:spPr>
          <a:xfrm>
            <a:off x="4861080" y="3141720"/>
            <a:ext cx="3800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1350720" y="1523880"/>
            <a:ext cx="67028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到消息后，居民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纷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门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冒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料峭的春寒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顶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舞的大雪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踏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冻得坚硬的山路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四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8200"/>
          <p:cNvSpPr/>
          <p:nvPr/>
        </p:nvSpPr>
        <p:spPr>
          <a:xfrm>
            <a:off x="900000" y="227664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6:56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27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