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A34-0EBC-4EBD-BB51-0E4E8AFB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3A3-6E17-4394-B310-401CF4A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AFD-6D1F-4B43-A784-23A05B0D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040-BF3B-4991-9DD0-C3CD3C83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C5BE-A92F-4E36-AD94-5E8C8080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C66-CEE1-4442-A88C-CA53880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97B-442B-4840-8364-08A722D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9932-A2BA-4DF1-B9A9-2676AE5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15D-EF06-42B9-8A9A-57D1F36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312E-6AFF-4BD2-AE5B-D4B291FD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F5F0-402D-46C8-9028-836C0FA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7E1-A2EF-45F3-85F0-8675D93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2CD-42CA-4645-A80B-B4160D98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B165-63F5-41C6-964C-E07DBA6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C014-37FA-416B-BF0A-1E9822DC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A63B-8E03-4F0C-9672-50884980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250-F816-4654-ABE7-E0E39365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EA4-F265-49B1-B984-0D5772D8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FD5-AB52-403E-8874-584E9F08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DA7-8910-44E0-8310-A58D649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382-1B1A-4DE1-803A-C586E6D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77B-BC2A-4BB6-A75A-ED2658A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41D-4C52-448E-811C-309E842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530-1DEC-4D69-AB04-2131F98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B15-76AD-4FB0-9B15-23431FDF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7AD8-A33B-4871-AE58-7163F51E539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C10-C325-4218-85F9-E23241B611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39640" y="1270080"/>
            <a:ext cx="8064720" cy="16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中国国际救援队，真棒！课件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553967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mg209565639"/>
          <p:cNvPicPr/>
          <p:nvPr/>
        </p:nvPicPr>
        <p:blipFill>
          <a:blip r:embed="rId1"/>
          <a:stretch/>
        </p:blipFill>
        <p:spPr>
          <a:xfrm>
            <a:off x="468360" y="620640"/>
            <a:ext cx="8064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826920" y="2492280"/>
            <a:ext cx="7417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中国国际救援队，真棒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263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那名在废墟中挣扎了三天的小孩，你会对中国救援队说些什么？或者，你是小孩的亲人，又甚至你是目睹这一切的路人，你又会对中国救援队说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95280" y="1268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请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200"/>
          <p:cNvSpPr/>
          <p:nvPr/>
        </p:nvSpPr>
        <p:spPr>
          <a:xfrm>
            <a:off x="1979640" y="1844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5564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，阿尔及利亚群众在送别中国国际救援部队时，用一句话表达了发自他们内心的祝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···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132000" y="35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中国万岁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24000" y="476280"/>
            <a:ext cx="828036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场突如其来的灾难给印尼、斯里兰卡、泰国、印度，马尔代夫等国造成巨大的人员伤亡和财产损失。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为止的统计数据显示，印度洋大地震和海啸已经造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死亡，这可能是世界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年来死伤最惨重的海啸灾难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3789360"/>
            <a:ext cx="842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印度洋海啸灾情前所未有地触动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香港市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他们踊跃为灾民捐款。港人这次赈灾捐款，除了打破香港有史以来的捐款纪录外，也创造了以单一城市及人均捐款计算的全球之冠。据了解，香港各界已筹得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港元的赈灾款项，平均每位香港市民捐款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港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CB8A-FD3E-412A-B42A-1BA709B905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3429000"/>
            <a:ext cx="7848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欧洲国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官方救援款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欧元增加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，居世界之首。德国总理施罗德率先提议延缓甚至减免受灾国的债务，得到法英意的支持。德国还主张欧盟成员国同受灾国建立持久的伙伴关系，帮助它们重建。施罗德在中断圣诞休假赶回国后，号召民众把过新年的钱省下来捐给灾区。他说，即使小额捐款也同样重要和弥足珍贵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50920" y="836640"/>
            <a:ext cx="806616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印度洋大海啸，在欧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美国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起前所未有的震撼和人道救援总动员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中午，所有欧盟国家都为海啸罹难者举行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的默哀。美国总统布什也宣布，本周美国将降半旗，“为一场惨痛悲剧的死难者志哀”。灾难发生后，各种各样的赈灾计划陆续出台，如火如荼的募捐活动在欧美全面展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2268360" y="1197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1044P1T1D7958633F21DT20051009200720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s_l_043"/>
          <p:cNvPicPr/>
          <p:nvPr/>
        </p:nvPicPr>
        <p:blipFill>
          <a:blip r:embed="rId1"/>
          <a:stretch/>
        </p:blipFill>
        <p:spPr>
          <a:xfrm>
            <a:off x="108000" y="163440"/>
            <a:ext cx="89280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62864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异国他乡，一位非洲少年对中国人民非常友好。下面的课文讲的也是发生在中国人民和外国人民之间的事情。让我们默读下面的课文，想想课文讲了一件什么事，表达了怎样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8510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阅读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79280" y="549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文主要讲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484280"/>
            <a:ext cx="81374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地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, 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生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,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成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迅速赶往灾区现场，展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,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后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63528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2133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尔及利亚北部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19640" y="2133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里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级地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547640" y="2781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千二百多人死亡，一万多人受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284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国际救援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24000" y="39337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紧张的救援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4000" y="4508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满地完成了抢险救援任务，载誉返回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77336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国际救援队在到达阿尔及利亚之后具体表现如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”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划出相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526-algeria-clapsedhouse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xinsrc_ccc5f9522260413f8b2e71582288ed88"/>
          <p:cNvPicPr/>
          <p:nvPr/>
        </p:nvPicPr>
        <p:blipFill>
          <a:blip r:embed="rId1"/>
          <a:stretch/>
        </p:blipFill>
        <p:spPr>
          <a:xfrm>
            <a:off x="179280" y="476280"/>
            <a:ext cx="8569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xinsrc_9a138e699b8342a1a6b2f28d9dfea05e"/>
          <p:cNvPicPr/>
          <p:nvPr/>
        </p:nvPicPr>
        <p:blipFill>
          <a:blip r:embed="rId1"/>
          <a:stretch/>
        </p:blipFill>
        <p:spPr>
          <a:xfrm>
            <a:off x="250920" y="615960"/>
            <a:ext cx="8353440" cy="56214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200"/>
          <p:cNvSpPr/>
          <p:nvPr/>
        </p:nvSpPr>
        <p:spPr>
          <a:xfrm>
            <a:off x="466560" y="6453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6:1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