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laser.wav" ContentType="audio/x-wav"/>
  <Override PartName="/ppt/media/image16.jpeg" ContentType="image/jpeg"/>
  <Override PartName="/ppt/media/image21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29.jpeg" ContentType="image/jpeg"/>
  <Override PartName="/ppt/media/image25.jpeg" ContentType="image/jpeg"/>
  <Override PartName="/ppt/media/image26.png" ContentType="image/png"/>
  <Override PartName="/ppt/media/image17.jpeg" ContentType="image/jpeg"/>
  <Override PartName="/ppt/media/image27.jpeg" ContentType="image/jpeg"/>
  <Override PartName="/ppt/media/image5.png" ContentType="image/png"/>
  <Override PartName="/ppt/media/applause.wav" ContentType="audio/x-wav"/>
  <Override PartName="/ppt/media/chimes.wav" ContentType="audio/x-wav"/>
  <Override PartName="/ppt/media/image4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8.png" ContentType="image/png"/>
  <Override PartName="/ppt/media/image6.jpeg" ContentType="image/jpeg"/>
  <Override PartName="/ppt/media/type.wav" ContentType="audio/x-wav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C46-5711-4604-AB1D-B0B7E565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8E5-DCB8-4C50-A6D8-1AE52828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2A5-2D65-43F2-83F8-400FE4A3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AA1-7887-4AB3-9921-22E9C4D4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3D36-FE55-4952-AA77-EECF31A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8209-3D01-43C2-8139-9AF451D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4B0F-23D0-4C94-9D66-2AF8A8E8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30E-187F-41ED-B4E1-CBD9227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E93F-ADBD-46C0-9391-0CF9B2A8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238D-6A32-4717-8985-0C84937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A93-C567-4927-B592-2AFF9FF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C2A-05EF-4D90-9FF9-7FFD075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7F1-F0C1-456B-8BC5-67DDCBA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B8C-89A2-47FC-8918-FCC4881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9E5D-8950-4CB3-A1FD-215043A3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BFA9-81C5-4594-9C18-6948CD3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AE99-46A2-49EC-8D19-F52CCC6D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E33-7EC1-45BD-8F29-71BF7B54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055-780A-42D2-91E1-88180F5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E4D-7099-4B41-99EE-5635768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F01-9464-4924-8506-F7CF223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324-80E2-4812-BE5B-74E5049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636-9814-474C-84C5-7400CC9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E2D-3916-46E5-85A8-90DA0FD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90D-7589-4060-A609-F5C41EF5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99E-7229-4CF8-BE2C-ACC8B0C8F6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30FE-1224-4BF1-9396-770B2FAA3E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407880" y="765000"/>
            <a:ext cx="6228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找骆驼语文课件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生活中，只要我们用心观察，认真思考，就会有所发现。下面这个故事里的老人，通过观察，发现了什么呢？读读课文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想一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丢失的骆驼有哪些特点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②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老人是怎么知道骆驼的这些特点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③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怎么找到骆驼的？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539640" y="4762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由读课文，思考：老 人发现商人走失的骆驼有什么特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“－－”画出来。老人是怎么知道骆驼的这些特点的？用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~~~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画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362320" y="35812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962520" y="358128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26" descr="A:\asd.JPG"/>
          <p:cNvPicPr/>
          <p:nvPr/>
        </p:nvPicPr>
        <p:blipFill>
          <a:blip r:embed="rId2"/>
          <a:stretch/>
        </p:blipFill>
        <p:spPr>
          <a:xfrm>
            <a:off x="0" y="3921120"/>
            <a:ext cx="3929040" cy="293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My Documents\骆驼和脚印.tif"/>
          <p:cNvPicPr/>
          <p:nvPr/>
        </p:nvPicPr>
        <p:blipFill>
          <a:blip r:embed="rId3"/>
          <a:stretch/>
        </p:blipFill>
        <p:spPr>
          <a:xfrm>
            <a:off x="4800600" y="914400"/>
            <a:ext cx="373392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641600" y="76320"/>
            <a:ext cx="85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8908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4136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24000" y="981000"/>
            <a:ext cx="491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隶书"/>
              </a:rPr>
              <a:t>商人的骆驼有哪些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C:\My Documents\My Pictures\思考符号.gif"/>
          <p:cNvPicPr/>
          <p:nvPr/>
        </p:nvPicPr>
        <p:blipFill>
          <a:blip r:embed="rId4"/>
          <a:stretch/>
        </p:blipFill>
        <p:spPr>
          <a:xfrm>
            <a:off x="1600200" y="25909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5856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952dc919a0ac9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413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商人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愤愤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别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哄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了，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定是你把我的骆驼藏起来了。要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怎么知道得这样详细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780160" y="90792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11000" y="50846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（焦急与气恼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95280" y="2276640"/>
            <a:ext cx="81374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人是怎样发现这只骆驼的特点的？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971640" y="479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952dc919a0ac9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-181080" y="259920"/>
            <a:ext cx="9577440" cy="73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老人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不紧不慢地说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干吗生气呢，听我说吧。刚才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路上有骆驼的脚印，右边深，左边浅，就知道骆驼的左脚有点跛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又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路的左边有一些蜜，右边有一点米，我想骆驼驮的一定是这两样东西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还看见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骆驼啃过的树叶，上面留下了牙齿印，所以知道它缺了一颗牙齿。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至于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骆驼究竟往哪儿去了，应该顺着它的脚印去找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00000" y="1989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能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因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所以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是因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仿宋_GB2312"/>
              </a:rPr>
              <a:t>……”</a:t>
            </a:r>
            <a:r>
              <a:rPr b="1" lang="en-US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句式说说老人的判断过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1" descr="C:\My Documents\My Pictures\骆驼脚印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2"/>
          <p:cNvSpPr/>
          <p:nvPr/>
        </p:nvSpPr>
        <p:spPr>
          <a:xfrm>
            <a:off x="3806280" y="333360"/>
            <a:ext cx="433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20d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04108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2462400" y="3645000"/>
            <a:ext cx="6663600" cy="2362680"/>
            <a:chOff x="2462400" y="3645000"/>
            <a:chExt cx="6663600" cy="2362680"/>
          </a:xfrm>
        </p:grpSpPr>
        <p:sp>
          <p:nvSpPr>
            <p:cNvPr id="143" name="Text Box 23"/>
            <p:cNvSpPr/>
            <p:nvPr/>
          </p:nvSpPr>
          <p:spPr>
            <a:xfrm>
              <a:off x="2462400" y="364500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3119400" y="481644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3"/>
          <p:cNvSpPr/>
          <p:nvPr/>
        </p:nvSpPr>
        <p:spPr>
          <a:xfrm>
            <a:off x="4645080" y="4797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5" descr="C:\My Documents\My Pictures\米和蜜.tif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79280" y="907920"/>
            <a:ext cx="8382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ed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441360" y="365760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zh-CN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1828800" y="3581280"/>
            <a:ext cx="526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人看见路的左边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1692360" y="537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4927680" y="4869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4419720" y="2209680"/>
            <a:ext cx="4724280" cy="4345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057400" y="7621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</a:rPr>
              <a:t>谜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90720" y="2057400"/>
            <a:ext cx="426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脊背突起像山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沙漠之舟能载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风沙干旱都不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戈壁滩上的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5"/>
          <p:cNvPicPr/>
          <p:nvPr/>
        </p:nvPicPr>
        <p:blipFill>
          <a:blip r:embed="rId3"/>
          <a:stretch/>
        </p:blipFill>
        <p:spPr>
          <a:xfrm>
            <a:off x="533520" y="76212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36000" y="57340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My Documents\My Pictures\米和蜜-骆驼.t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126440" y="357120"/>
            <a:ext cx="33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ed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79280" y="306864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叶，上面留下了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958840" y="4508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My Documents\My Pictures\树叶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"/>
          <p:cNvGrpSpPr/>
          <p:nvPr/>
        </p:nvGrpSpPr>
        <p:grpSpPr>
          <a:xfrm>
            <a:off x="428760" y="2768760"/>
            <a:ext cx="1476360" cy="1422000"/>
            <a:chOff x="428760" y="2768760"/>
            <a:chExt cx="1476360" cy="1422000"/>
          </a:xfrm>
        </p:grpSpPr>
        <p:sp>
          <p:nvSpPr>
            <p:cNvPr id="161" name="Freeform 11"/>
            <p:cNvSpPr/>
            <p:nvPr/>
          </p:nvSpPr>
          <p:spPr>
            <a:xfrm>
              <a:off x="428760" y="2957040"/>
              <a:ext cx="1476360" cy="1233720"/>
            </a:xfrm>
            <a:custGeom>
              <a:avLst/>
              <a:gdLst/>
              <a:ahLst/>
              <a:rect l="l" t="t" r="r" b="b"/>
              <a:pathLst>
                <a:path w="1026" h="1152">
                  <a:moveTo>
                    <a:pt x="573" y="0"/>
                  </a:moveTo>
                  <a:cubicBezTo>
                    <a:pt x="596" y="8"/>
                    <a:pt x="620" y="16"/>
                    <a:pt x="643" y="24"/>
                  </a:cubicBezTo>
                  <a:cubicBezTo>
                    <a:pt x="707" y="46"/>
                    <a:pt x="753" y="107"/>
                    <a:pt x="819" y="130"/>
                  </a:cubicBezTo>
                  <a:cubicBezTo>
                    <a:pt x="862" y="192"/>
                    <a:pt x="918" y="243"/>
                    <a:pt x="961" y="306"/>
                  </a:cubicBezTo>
                  <a:cubicBezTo>
                    <a:pt x="988" y="389"/>
                    <a:pt x="976" y="353"/>
                    <a:pt x="996" y="412"/>
                  </a:cubicBezTo>
                  <a:cubicBezTo>
                    <a:pt x="1000" y="424"/>
                    <a:pt x="1008" y="447"/>
                    <a:pt x="1008" y="447"/>
                  </a:cubicBezTo>
                  <a:cubicBezTo>
                    <a:pt x="1026" y="582"/>
                    <a:pt x="1001" y="685"/>
                    <a:pt x="961" y="811"/>
                  </a:cubicBezTo>
                  <a:cubicBezTo>
                    <a:pt x="957" y="825"/>
                    <a:pt x="943" y="834"/>
                    <a:pt x="937" y="847"/>
                  </a:cubicBezTo>
                  <a:cubicBezTo>
                    <a:pt x="910" y="908"/>
                    <a:pt x="903" y="967"/>
                    <a:pt x="867" y="1023"/>
                  </a:cubicBezTo>
                  <a:cubicBezTo>
                    <a:pt x="855" y="1068"/>
                    <a:pt x="833" y="1098"/>
                    <a:pt x="819" y="1141"/>
                  </a:cubicBezTo>
                  <a:cubicBezTo>
                    <a:pt x="774" y="1071"/>
                    <a:pt x="822" y="1119"/>
                    <a:pt x="761" y="1129"/>
                  </a:cubicBezTo>
                  <a:cubicBezTo>
                    <a:pt x="749" y="1131"/>
                    <a:pt x="737" y="1121"/>
                    <a:pt x="725" y="1117"/>
                  </a:cubicBezTo>
                  <a:cubicBezTo>
                    <a:pt x="721" y="1105"/>
                    <a:pt x="725" y="1087"/>
                    <a:pt x="714" y="1082"/>
                  </a:cubicBezTo>
                  <a:cubicBezTo>
                    <a:pt x="685" y="1068"/>
                    <a:pt x="663" y="1117"/>
                    <a:pt x="655" y="1129"/>
                  </a:cubicBezTo>
                  <a:cubicBezTo>
                    <a:pt x="635" y="1070"/>
                    <a:pt x="616" y="1012"/>
                    <a:pt x="596" y="953"/>
                  </a:cubicBezTo>
                  <a:cubicBezTo>
                    <a:pt x="592" y="941"/>
                    <a:pt x="573" y="945"/>
                    <a:pt x="561" y="941"/>
                  </a:cubicBezTo>
                  <a:cubicBezTo>
                    <a:pt x="526" y="945"/>
                    <a:pt x="488" y="941"/>
                    <a:pt x="455" y="953"/>
                  </a:cubicBezTo>
                  <a:cubicBezTo>
                    <a:pt x="442" y="958"/>
                    <a:pt x="438" y="975"/>
                    <a:pt x="432" y="988"/>
                  </a:cubicBezTo>
                  <a:cubicBezTo>
                    <a:pt x="403" y="1053"/>
                    <a:pt x="414" y="1128"/>
                    <a:pt x="338" y="1152"/>
                  </a:cubicBezTo>
                  <a:cubicBezTo>
                    <a:pt x="274" y="1137"/>
                    <a:pt x="212" y="1113"/>
                    <a:pt x="149" y="1094"/>
                  </a:cubicBezTo>
                  <a:cubicBezTo>
                    <a:pt x="67" y="965"/>
                    <a:pt x="65" y="806"/>
                    <a:pt x="44" y="659"/>
                  </a:cubicBezTo>
                  <a:cubicBezTo>
                    <a:pt x="37" y="612"/>
                    <a:pt x="28" y="565"/>
                    <a:pt x="20" y="518"/>
                  </a:cubicBezTo>
                  <a:cubicBezTo>
                    <a:pt x="16" y="494"/>
                    <a:pt x="8" y="447"/>
                    <a:pt x="8" y="447"/>
                  </a:cubicBezTo>
                  <a:cubicBezTo>
                    <a:pt x="9" y="425"/>
                    <a:pt x="0" y="275"/>
                    <a:pt x="32" y="212"/>
                  </a:cubicBezTo>
                  <a:cubicBezTo>
                    <a:pt x="62" y="153"/>
                    <a:pt x="119" y="133"/>
                    <a:pt x="173" y="106"/>
                  </a:cubicBezTo>
                  <a:cubicBezTo>
                    <a:pt x="320" y="33"/>
                    <a:pt x="408" y="17"/>
                    <a:pt x="57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fdd3"/>
                </a:gs>
                <a:gs pos="50000">
                  <a:srgbClr val="8ff97d"/>
                </a:gs>
                <a:gs pos="100000">
                  <a:srgbClr val="d9fdd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1011600" y="2768760"/>
              <a:ext cx="426960" cy="974520"/>
            </a:xfrm>
            <a:custGeom>
              <a:avLst/>
              <a:gdLst/>
              <a:ahLst/>
              <a:rect l="l" t="t" r="r" b="b"/>
              <a:pathLst>
                <a:path w="297" h="910">
                  <a:moveTo>
                    <a:pt x="297" y="0"/>
                  </a:moveTo>
                  <a:cubicBezTo>
                    <a:pt x="285" y="8"/>
                    <a:pt x="270" y="12"/>
                    <a:pt x="262" y="24"/>
                  </a:cubicBezTo>
                  <a:cubicBezTo>
                    <a:pt x="242" y="53"/>
                    <a:pt x="240" y="93"/>
                    <a:pt x="215" y="118"/>
                  </a:cubicBezTo>
                  <a:cubicBezTo>
                    <a:pt x="197" y="136"/>
                    <a:pt x="168" y="133"/>
                    <a:pt x="144" y="141"/>
                  </a:cubicBezTo>
                  <a:cubicBezTo>
                    <a:pt x="117" y="223"/>
                    <a:pt x="100" y="316"/>
                    <a:pt x="50" y="388"/>
                  </a:cubicBezTo>
                  <a:cubicBezTo>
                    <a:pt x="42" y="419"/>
                    <a:pt x="38" y="452"/>
                    <a:pt x="27" y="482"/>
                  </a:cubicBezTo>
                  <a:cubicBezTo>
                    <a:pt x="22" y="495"/>
                    <a:pt x="4" y="503"/>
                    <a:pt x="3" y="517"/>
                  </a:cubicBezTo>
                  <a:cubicBezTo>
                    <a:pt x="0" y="592"/>
                    <a:pt x="8" y="667"/>
                    <a:pt x="15" y="741"/>
                  </a:cubicBezTo>
                  <a:cubicBezTo>
                    <a:pt x="19" y="784"/>
                    <a:pt x="40" y="871"/>
                    <a:pt x="74" y="905"/>
                  </a:cubicBezTo>
                  <a:cubicBezTo>
                    <a:pt x="79" y="910"/>
                    <a:pt x="74" y="890"/>
                    <a:pt x="74" y="882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660240" y="3033000"/>
              <a:ext cx="490320" cy="188640"/>
            </a:xfrm>
            <a:custGeom>
              <a:avLst/>
              <a:gdLst/>
              <a:ahLst/>
              <a:rect l="l" t="t" r="r" b="b"/>
              <a:pathLst>
                <a:path w="341" h="176">
                  <a:moveTo>
                    <a:pt x="341" y="0"/>
                  </a:moveTo>
                  <a:cubicBezTo>
                    <a:pt x="282" y="9"/>
                    <a:pt x="221" y="3"/>
                    <a:pt x="165" y="23"/>
                  </a:cubicBezTo>
                  <a:cubicBezTo>
                    <a:pt x="138" y="32"/>
                    <a:pt x="118" y="54"/>
                    <a:pt x="94" y="70"/>
                  </a:cubicBezTo>
                  <a:cubicBezTo>
                    <a:pt x="55" y="96"/>
                    <a:pt x="45" y="176"/>
                    <a:pt x="0" y="176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1252800" y="3108240"/>
              <a:ext cx="456120" cy="264240"/>
            </a:xfrm>
            <a:custGeom>
              <a:avLst/>
              <a:gdLst/>
              <a:ahLst/>
              <a:rect l="l" t="t" r="r" b="b"/>
              <a:pathLst>
                <a:path w="317" h="247">
                  <a:moveTo>
                    <a:pt x="0" y="0"/>
                  </a:moveTo>
                  <a:cubicBezTo>
                    <a:pt x="47" y="16"/>
                    <a:pt x="94" y="33"/>
                    <a:pt x="141" y="47"/>
                  </a:cubicBezTo>
                  <a:cubicBezTo>
                    <a:pt x="178" y="75"/>
                    <a:pt x="205" y="93"/>
                    <a:pt x="235" y="130"/>
                  </a:cubicBezTo>
                  <a:cubicBezTo>
                    <a:pt x="264" y="166"/>
                    <a:pt x="282" y="215"/>
                    <a:pt x="317" y="247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10640" y="3360960"/>
              <a:ext cx="287640" cy="288720"/>
            </a:xfrm>
            <a:custGeom>
              <a:avLst/>
              <a:gdLst/>
              <a:ahLst/>
              <a:rect l="l" t="t" r="r" b="b"/>
              <a:pathLst>
                <a:path w="200" h="270">
                  <a:moveTo>
                    <a:pt x="200" y="0"/>
                  </a:moveTo>
                  <a:cubicBezTo>
                    <a:pt x="184" y="4"/>
                    <a:pt x="167" y="3"/>
                    <a:pt x="153" y="11"/>
                  </a:cubicBezTo>
                  <a:cubicBezTo>
                    <a:pt x="100" y="41"/>
                    <a:pt x="69" y="114"/>
                    <a:pt x="36" y="164"/>
                  </a:cubicBezTo>
                  <a:cubicBezTo>
                    <a:pt x="22" y="185"/>
                    <a:pt x="20" y="211"/>
                    <a:pt x="12" y="235"/>
                  </a:cubicBezTo>
                  <a:cubicBezTo>
                    <a:pt x="8" y="247"/>
                    <a:pt x="0" y="270"/>
                    <a:pt x="0" y="270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1050120" y="3486240"/>
              <a:ext cx="270360" cy="18828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0"/>
                  </a:moveTo>
                  <a:cubicBezTo>
                    <a:pt x="72" y="25"/>
                    <a:pt x="72" y="56"/>
                    <a:pt x="129" y="94"/>
                  </a:cubicBezTo>
                  <a:cubicBezTo>
                    <a:pt x="142" y="132"/>
                    <a:pt x="150" y="159"/>
                    <a:pt x="188" y="176"/>
                  </a:cubicBezTo>
                </a:path>
              </a:pathLst>
            </a:custGeom>
            <a:gradFill rotWithShape="0">
              <a:gsLst>
                <a:gs pos="0">
                  <a:srgbClr val="b7fbac"/>
                </a:gs>
                <a:gs pos="50000">
                  <a:srgbClr val="8ff97d"/>
                </a:gs>
                <a:gs pos="100000">
                  <a:srgbClr val="b7fbac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17" descr="C:\My Documents\My Pictures\米和蜜-骆驼.tif"/>
          <p:cNvPicPr/>
          <p:nvPr/>
        </p:nvPicPr>
        <p:blipFill>
          <a:blip r:embed="rId2"/>
          <a:stretch/>
        </p:blipFill>
        <p:spPr>
          <a:xfrm>
            <a:off x="2743200" y="0"/>
            <a:ext cx="52578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58"/>
          <p:cNvGrpSpPr/>
          <p:nvPr/>
        </p:nvGrpSpPr>
        <p:grpSpPr>
          <a:xfrm>
            <a:off x="1312920" y="762120"/>
            <a:ext cx="1430280" cy="1523880"/>
            <a:chOff x="1312920" y="762120"/>
            <a:chExt cx="1430280" cy="1523880"/>
          </a:xfrm>
        </p:grpSpPr>
        <p:sp>
          <p:nvSpPr>
            <p:cNvPr id="169" name="Freeform 4"/>
            <p:cNvSpPr/>
            <p:nvPr/>
          </p:nvSpPr>
          <p:spPr>
            <a:xfrm>
              <a:off x="1312920" y="94464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032200" y="762120"/>
              <a:ext cx="28584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2127600" y="1430280"/>
              <a:ext cx="279360" cy="30168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1754280" y="155592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3"/>
            <p:cNvSpPr/>
            <p:nvPr/>
          </p:nvSpPr>
          <p:spPr>
            <a:xfrm>
              <a:off x="1551240" y="1184400"/>
              <a:ext cx="447480" cy="33948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>
              <a:off x="2151360" y="1195560"/>
              <a:ext cx="503280" cy="32832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2"/>
          <p:cNvSpPr/>
          <p:nvPr/>
        </p:nvSpPr>
        <p:spPr>
          <a:xfrm>
            <a:off x="1351440" y="351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14812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20d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7"/>
          <p:cNvGrpSpPr/>
          <p:nvPr/>
        </p:nvGrpSpPr>
        <p:grpSpPr>
          <a:xfrm>
            <a:off x="1312920" y="762120"/>
            <a:ext cx="1430280" cy="1523520"/>
            <a:chOff x="1312920" y="762120"/>
            <a:chExt cx="1430280" cy="1523520"/>
          </a:xfrm>
        </p:grpSpPr>
        <p:sp>
          <p:nvSpPr>
            <p:cNvPr id="178" name="Freeform 50"/>
            <p:cNvSpPr/>
            <p:nvPr/>
          </p:nvSpPr>
          <p:spPr>
            <a:xfrm>
              <a:off x="1312920" y="944280"/>
              <a:ext cx="1430280" cy="1341360"/>
            </a:xfrm>
            <a:custGeom>
              <a:avLst/>
              <a:gdLst/>
              <a:ahLst/>
              <a:rect l="l" t="t" r="r" b="b"/>
              <a:pathLst>
                <a:path w="901" h="1252">
                  <a:moveTo>
                    <a:pt x="477" y="30"/>
                  </a:moveTo>
                  <a:cubicBezTo>
                    <a:pt x="418" y="10"/>
                    <a:pt x="371" y="34"/>
                    <a:pt x="313" y="53"/>
                  </a:cubicBezTo>
                  <a:cubicBezTo>
                    <a:pt x="265" y="69"/>
                    <a:pt x="212" y="79"/>
                    <a:pt x="172" y="112"/>
                  </a:cubicBezTo>
                  <a:cubicBezTo>
                    <a:pt x="85" y="184"/>
                    <a:pt x="66" y="305"/>
                    <a:pt x="31" y="406"/>
                  </a:cubicBezTo>
                  <a:cubicBezTo>
                    <a:pt x="24" y="579"/>
                    <a:pt x="0" y="736"/>
                    <a:pt x="54" y="900"/>
                  </a:cubicBezTo>
                  <a:cubicBezTo>
                    <a:pt x="60" y="917"/>
                    <a:pt x="78" y="988"/>
                    <a:pt x="101" y="1006"/>
                  </a:cubicBezTo>
                  <a:cubicBezTo>
                    <a:pt x="125" y="1025"/>
                    <a:pt x="191" y="1039"/>
                    <a:pt x="219" y="1053"/>
                  </a:cubicBezTo>
                  <a:cubicBezTo>
                    <a:pt x="227" y="1065"/>
                    <a:pt x="228" y="1085"/>
                    <a:pt x="242" y="1088"/>
                  </a:cubicBezTo>
                  <a:cubicBezTo>
                    <a:pt x="257" y="1092"/>
                    <a:pt x="338" y="1070"/>
                    <a:pt x="360" y="1064"/>
                  </a:cubicBezTo>
                  <a:cubicBezTo>
                    <a:pt x="416" y="1027"/>
                    <a:pt x="374" y="1039"/>
                    <a:pt x="430" y="1064"/>
                  </a:cubicBezTo>
                  <a:cubicBezTo>
                    <a:pt x="453" y="1074"/>
                    <a:pt x="501" y="1088"/>
                    <a:pt x="501" y="1088"/>
                  </a:cubicBezTo>
                  <a:cubicBezTo>
                    <a:pt x="517" y="1111"/>
                    <a:pt x="539" y="1131"/>
                    <a:pt x="548" y="1158"/>
                  </a:cubicBezTo>
                  <a:cubicBezTo>
                    <a:pt x="552" y="1170"/>
                    <a:pt x="554" y="1183"/>
                    <a:pt x="560" y="1194"/>
                  </a:cubicBezTo>
                  <a:cubicBezTo>
                    <a:pt x="566" y="1207"/>
                    <a:pt x="571" y="1222"/>
                    <a:pt x="583" y="1229"/>
                  </a:cubicBezTo>
                  <a:cubicBezTo>
                    <a:pt x="604" y="1242"/>
                    <a:pt x="654" y="1252"/>
                    <a:pt x="654" y="1252"/>
                  </a:cubicBezTo>
                  <a:cubicBezTo>
                    <a:pt x="670" y="1244"/>
                    <a:pt x="689" y="1241"/>
                    <a:pt x="701" y="1229"/>
                  </a:cubicBezTo>
                  <a:cubicBezTo>
                    <a:pt x="710" y="1220"/>
                    <a:pt x="705" y="1204"/>
                    <a:pt x="713" y="1194"/>
                  </a:cubicBezTo>
                  <a:cubicBezTo>
                    <a:pt x="722" y="1183"/>
                    <a:pt x="736" y="1178"/>
                    <a:pt x="748" y="1170"/>
                  </a:cubicBezTo>
                  <a:cubicBezTo>
                    <a:pt x="752" y="1158"/>
                    <a:pt x="766" y="1146"/>
                    <a:pt x="760" y="1135"/>
                  </a:cubicBezTo>
                  <a:cubicBezTo>
                    <a:pt x="754" y="1124"/>
                    <a:pt x="734" y="1131"/>
                    <a:pt x="724" y="1123"/>
                  </a:cubicBezTo>
                  <a:cubicBezTo>
                    <a:pt x="704" y="1107"/>
                    <a:pt x="697" y="1075"/>
                    <a:pt x="689" y="1053"/>
                  </a:cubicBezTo>
                  <a:cubicBezTo>
                    <a:pt x="701" y="1049"/>
                    <a:pt x="712" y="1039"/>
                    <a:pt x="724" y="1041"/>
                  </a:cubicBezTo>
                  <a:cubicBezTo>
                    <a:pt x="738" y="1043"/>
                    <a:pt x="746" y="1064"/>
                    <a:pt x="760" y="1064"/>
                  </a:cubicBezTo>
                  <a:cubicBezTo>
                    <a:pt x="774" y="1064"/>
                    <a:pt x="783" y="1049"/>
                    <a:pt x="795" y="1041"/>
                  </a:cubicBezTo>
                  <a:cubicBezTo>
                    <a:pt x="832" y="985"/>
                    <a:pt x="813" y="1020"/>
                    <a:pt x="842" y="935"/>
                  </a:cubicBezTo>
                  <a:cubicBezTo>
                    <a:pt x="846" y="923"/>
                    <a:pt x="854" y="900"/>
                    <a:pt x="854" y="900"/>
                  </a:cubicBezTo>
                  <a:cubicBezTo>
                    <a:pt x="870" y="778"/>
                    <a:pt x="881" y="656"/>
                    <a:pt x="901" y="535"/>
                  </a:cubicBezTo>
                  <a:cubicBezTo>
                    <a:pt x="897" y="496"/>
                    <a:pt x="896" y="457"/>
                    <a:pt x="889" y="418"/>
                  </a:cubicBezTo>
                  <a:cubicBezTo>
                    <a:pt x="866" y="298"/>
                    <a:pt x="876" y="388"/>
                    <a:pt x="842" y="312"/>
                  </a:cubicBezTo>
                  <a:cubicBezTo>
                    <a:pt x="832" y="289"/>
                    <a:pt x="826" y="265"/>
                    <a:pt x="818" y="241"/>
                  </a:cubicBezTo>
                  <a:cubicBezTo>
                    <a:pt x="805" y="203"/>
                    <a:pt x="727" y="97"/>
                    <a:pt x="689" y="65"/>
                  </a:cubicBezTo>
                  <a:cubicBezTo>
                    <a:pt x="648" y="31"/>
                    <a:pt x="556" y="0"/>
                    <a:pt x="501" y="6"/>
                  </a:cubicBezTo>
                  <a:cubicBezTo>
                    <a:pt x="490" y="7"/>
                    <a:pt x="485" y="22"/>
                    <a:pt x="47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2031840" y="762120"/>
              <a:ext cx="285840" cy="993600"/>
            </a:xfrm>
            <a:custGeom>
              <a:avLst/>
              <a:gdLst/>
              <a:ahLst/>
              <a:rect l="l" t="t" r="r" b="b"/>
              <a:pathLst>
                <a:path w="180" h="928">
                  <a:moveTo>
                    <a:pt x="180" y="0"/>
                  </a:moveTo>
                  <a:cubicBezTo>
                    <a:pt x="102" y="26"/>
                    <a:pt x="84" y="81"/>
                    <a:pt x="62" y="153"/>
                  </a:cubicBezTo>
                  <a:cubicBezTo>
                    <a:pt x="55" y="177"/>
                    <a:pt x="38" y="223"/>
                    <a:pt x="38" y="223"/>
                  </a:cubicBezTo>
                  <a:cubicBezTo>
                    <a:pt x="0" y="457"/>
                    <a:pt x="17" y="316"/>
                    <a:pt x="3" y="646"/>
                  </a:cubicBezTo>
                  <a:cubicBezTo>
                    <a:pt x="7" y="677"/>
                    <a:pt x="9" y="709"/>
                    <a:pt x="15" y="740"/>
                  </a:cubicBezTo>
                  <a:cubicBezTo>
                    <a:pt x="26" y="801"/>
                    <a:pt x="62" y="866"/>
                    <a:pt x="62" y="928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2127240" y="1430280"/>
              <a:ext cx="279360" cy="301320"/>
            </a:xfrm>
            <a:custGeom>
              <a:avLst/>
              <a:gdLst/>
              <a:ahLst/>
              <a:rect l="l" t="t" r="r" b="b"/>
              <a:pathLst>
                <a:path w="176" h="282">
                  <a:moveTo>
                    <a:pt x="0" y="0"/>
                  </a:moveTo>
                  <a:cubicBezTo>
                    <a:pt x="49" y="34"/>
                    <a:pt x="68" y="84"/>
                    <a:pt x="117" y="118"/>
                  </a:cubicBezTo>
                  <a:cubicBezTo>
                    <a:pt x="133" y="164"/>
                    <a:pt x="176" y="238"/>
                    <a:pt x="176" y="282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1754280" y="1555560"/>
              <a:ext cx="204840" cy="25200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129" y="0"/>
                  </a:moveTo>
                  <a:cubicBezTo>
                    <a:pt x="129" y="0"/>
                    <a:pt x="60" y="56"/>
                    <a:pt x="58" y="58"/>
                  </a:cubicBezTo>
                  <a:cubicBezTo>
                    <a:pt x="16" y="100"/>
                    <a:pt x="0" y="177"/>
                    <a:pt x="0" y="235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2162520" y="1676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220d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1550880" y="1184040"/>
              <a:ext cx="447840" cy="339480"/>
            </a:xfrm>
            <a:custGeom>
              <a:avLst/>
              <a:gdLst/>
              <a:ahLst/>
              <a:rect l="l" t="t" r="r" b="b"/>
              <a:pathLst>
                <a:path w="282" h="317">
                  <a:moveTo>
                    <a:pt x="282" y="0"/>
                  </a:moveTo>
                  <a:cubicBezTo>
                    <a:pt x="232" y="15"/>
                    <a:pt x="216" y="39"/>
                    <a:pt x="176" y="70"/>
                  </a:cubicBezTo>
                  <a:cubicBezTo>
                    <a:pt x="154" y="87"/>
                    <a:pt x="105" y="117"/>
                    <a:pt x="105" y="117"/>
                  </a:cubicBezTo>
                  <a:cubicBezTo>
                    <a:pt x="83" y="187"/>
                    <a:pt x="32" y="250"/>
                    <a:pt x="0" y="317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151000" y="1195200"/>
              <a:ext cx="503280" cy="328320"/>
            </a:xfrm>
            <a:custGeom>
              <a:avLst/>
              <a:gdLst/>
              <a:ahLst/>
              <a:rect l="l" t="t" r="r" b="b"/>
              <a:pathLst>
                <a:path w="317" h="306">
                  <a:moveTo>
                    <a:pt x="0" y="0"/>
                  </a:moveTo>
                  <a:cubicBezTo>
                    <a:pt x="57" y="38"/>
                    <a:pt x="111" y="84"/>
                    <a:pt x="176" y="106"/>
                  </a:cubicBezTo>
                  <a:cubicBezTo>
                    <a:pt x="184" y="118"/>
                    <a:pt x="190" y="131"/>
                    <a:pt x="200" y="141"/>
                  </a:cubicBezTo>
                  <a:cubicBezTo>
                    <a:pt x="214" y="155"/>
                    <a:pt x="234" y="161"/>
                    <a:pt x="247" y="176"/>
                  </a:cubicBezTo>
                  <a:cubicBezTo>
                    <a:pt x="289" y="223"/>
                    <a:pt x="293" y="255"/>
                    <a:pt x="317" y="306"/>
                  </a:cubicBezTo>
                </a:path>
              </a:pathLst>
            </a:custGeom>
            <a:gradFill rotWithShape="0">
              <a:gsLst>
                <a:gs pos="0">
                  <a:srgbClr val="edfeea"/>
                </a:gs>
                <a:gs pos="50000">
                  <a:srgbClr val="8ff97d"/>
                </a:gs>
                <a:gs pos="100000">
                  <a:srgbClr val="edfe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59" descr="C:\My Documents\背景按钮\an14\an14-19.gif"/>
          <p:cNvPicPr/>
          <p:nvPr/>
        </p:nvPicPr>
        <p:blipFill>
          <a:blip r:embed="rId3"/>
          <a:stretch/>
        </p:blipFill>
        <p:spPr>
          <a:xfrm>
            <a:off x="800100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填一填，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1197000"/>
            <a:ext cx="9144000" cy="5000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看见（      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又看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老人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还看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知道（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76720" y="1557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脚印右边深，左边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56000" y="213372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骆驼的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564000" y="51577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627280" y="5589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708360" y="33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路的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56400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419640" y="3429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492360" y="3500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059280" y="393372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驮的是蜜和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851280" y="501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骆驼啃过的树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651640" y="7029360"/>
            <a:ext cx="28810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755640" y="1125360"/>
          <a:ext cx="7572240" cy="460692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116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观察到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老人知道了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2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0" name="TextBox 3"/>
          <p:cNvSpPr/>
          <p:nvPr/>
        </p:nvSpPr>
        <p:spPr>
          <a:xfrm>
            <a:off x="1476360" y="263700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印右深左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5508720" y="2708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脚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55640" y="378936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左边有蜜，右边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4716360" y="486900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716360" y="37162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驮蜜，右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68360" y="414972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啃过的树叶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的牙齿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187280" y="2349360"/>
            <a:ext cx="65534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人是怎样的一个人？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476360" y="2205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商人是怎样找到骆驼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201105170754100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根据老人这一连串的推测，我们知道了：应该顺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去找，才能找到骆驼。后来，商人果然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26" descr="A:\asd.JPG"/>
          <p:cNvPicPr/>
          <p:nvPr/>
        </p:nvPicPr>
        <p:blipFill>
          <a:blip r:embed="rId2"/>
          <a:stretch/>
        </p:blipFill>
        <p:spPr>
          <a:xfrm>
            <a:off x="1403280" y="3068640"/>
            <a:ext cx="5832720" cy="3065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900000" y="11970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至于骆驼究竟往哪儿去了，应该顺着它的脚印去找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201105170754100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句式比较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58920" y="177336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42920" y="4149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果然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3851280" cy="6885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83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说一说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14560" y="1915920"/>
            <a:ext cx="532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、我们应该向老人学习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学了这篇课文后，你有什么收获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020000" y="6858000"/>
            <a:ext cx="316692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284200" cy="39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野骆驼1"/>
          <p:cNvPicPr/>
          <p:nvPr/>
        </p:nvPicPr>
        <p:blipFill>
          <a:blip r:embed="rId3"/>
          <a:stretch/>
        </p:blipFill>
        <p:spPr>
          <a:xfrm>
            <a:off x="346536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u=3653974449,1444256059&amp;gp=48"/>
          <p:cNvPicPr/>
          <p:nvPr/>
        </p:nvPicPr>
        <p:blipFill>
          <a:blip r:embed="rId2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468360" y="206064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遇到问题，不能光着急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要冷静，要动脑筋思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7190-F72B-4502-B7C8-24CB0FECC7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u=3653974449,1444256059&amp;gp=48"/>
          <p:cNvPicPr/>
          <p:nvPr/>
        </p:nvPicPr>
        <p:blipFill>
          <a:blip r:embed="rId2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900000" y="170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我们要向老人那样，遇到问题要仔细观察，认真思考，才得出正确的结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14099_19042606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76321"/>
          <p:cNvPicPr/>
          <p:nvPr/>
        </p:nvPicPr>
        <p:blipFill>
          <a:blip r:embed="rId2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10364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骆驼有双峰驼和单峰驼两种。骆驼的胃里有水囊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，能贮存很多水；驼峰里储存有一百多千克脂肪，必要时可以转变成水的能量，维持骆驼的生命活动。因此，在沙漠里，可以一连三四十天不吃不喝，适于长途跋涉。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4859280" y="26028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骆驼简介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夹板"/>
          <p:cNvPicPr/>
          <p:nvPr/>
        </p:nvPicPr>
        <p:blipFill>
          <a:blip r:embed="rId1"/>
          <a:stretch/>
        </p:blipFill>
        <p:spPr>
          <a:xfrm>
            <a:off x="-324000" y="-819000"/>
            <a:ext cx="10261800" cy="8424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518120" y="569880"/>
            <a:ext cx="6215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驮米 缺少 哄骗 跛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脚印 究竟 至于 指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顺着 商人 详细 好嘛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牙齿印 忿忿不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啃树叶 不紧不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91628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分角色名朗读课文，边读边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课文主要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651640" y="6858000"/>
            <a:ext cx="309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A:\asd.JPG"/>
          <p:cNvPicPr/>
          <p:nvPr/>
        </p:nvPicPr>
        <p:blipFill>
          <a:blip r:embed="rId2"/>
          <a:stretch/>
        </p:blipFill>
        <p:spPr>
          <a:xfrm>
            <a:off x="0" y="4538520"/>
            <a:ext cx="3071880" cy="2297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447920" y="10666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找骆驼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》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这个故事讲了在沙漠中商人（        ）一只骆驼，向老人（        ），经老人（       ），（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617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543360" y="256536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09680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90516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4000" y="333360"/>
            <a:ext cx="230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201105170755414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生活中，只要我们用心观察，认真思考，就会有所发现。下面这个故事里的老人，通过观察，发现了什么呢？读读课文，想一想：商人丢失的骆驼有哪些特点？老人是怎么知道骆驼的这些特点的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商人怎么找到骆驼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3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44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