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6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1.jpeg" ContentType="image/jpeg"/>
  <Override PartName="/ppt/media/image9.png" ContentType="image/png"/>
  <Override PartName="/ppt/media/call.wav" ContentType="audio/x-wav"/>
  <Override PartName="/ppt/media/chimes.wav" ContentType="audio/x-wav"/>
  <Override PartName="/ppt/media/image16.jpeg" ContentType="image/jpe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B02-C167-4A4F-AA16-7F7EA47D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A4A-CBE0-4C43-AB14-25047F70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28A-6ADB-4446-8499-08D4E7BD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538-6279-40DE-AC7C-60FC4D3E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CEC3-2AF1-4A1B-8655-0E6492CE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7026-FB8B-4AED-AA5C-0AC3072A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3ACD-2658-4E5A-9D87-6397E6CD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5156-9E98-4ADA-BB7D-0EC35F30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F7FB-29DF-463F-8A7F-EE10E7A9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6391-6C7D-4476-9DD0-AFDC1C07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0F1D-A656-4B22-BF3D-DF1A13ED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36F-E7AD-4611-8CB5-0D849C23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E7AD-BD0D-4AE1-8003-5AC10A93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43F4-1177-4552-BAAC-43F3432D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AEBF-B685-49B0-876F-C6EACB2D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2DD6-6E63-4A49-BD14-1E6B00B7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B010-C259-48CF-8055-DD4DC9E0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611E0-3EA8-42F4-B140-99D86528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082E9-A4A1-48C2-AB29-A69CA194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82798-27E4-4867-9F62-C231CD98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36078-B888-4F34-8252-ABF5DDB1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E1923-08F3-4508-809A-096F8D9E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C7D-1A68-4279-A4A4-739ED750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9A279-2605-4501-8748-62E51DC1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CCDD2-E48F-4E54-ABA3-435260F3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0CF0B-62AA-46BC-B5AC-BF5C4FCE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60130-C6A6-4755-BBB5-75E04B28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2484F-DF99-4574-81B9-1B38A81B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0F2B2-3B5B-4AE1-8BFE-B5F158CD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D2153-CFA8-4C86-8DC1-B2F05DD1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8019C-5321-48E0-B664-1DF77CFD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EA89E-C306-4977-B563-AA17A406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92718-D77F-4566-A530-9B0E8DDE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7C0-3CC5-4E21-A63B-E11F45C4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C9BBD-272F-4A43-96E9-75A4F242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B4ED3-BDDC-4AF0-A6E1-22BAD265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2C9DD-BD8F-4FA7-98CC-2FC13580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58200-F05F-46A0-A0F9-D7AB0C75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FA6B1-5D4E-4330-9241-D586E982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D79C6-CCF8-4D33-AA59-70F6AA97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34512-3E3C-4840-B637-FBE05C60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FCADA-2E64-4E7F-B723-B154B6ED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5EA08-29F3-4DFB-8624-8796033E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4642-CD33-415D-AAA4-168F5C13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E5FB-7589-4DF9-86C7-0301F523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C1F-E07F-4FE4-A398-3369BC3E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069-2309-41D7-86DC-A5713C6E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915-2AD2-4631-BE78-D0801622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1E02-64BA-4544-98AC-B352A2BB4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楷体_GB2312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4C6E-84A8-4D13-B928-87CDE425BBF9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A51D-4E43-4834-968C-AA1E9B49E4A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3CB3-09A7-42D7-B77F-4CE2A19A9A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388C-BB09-4501-A4F0-047F5184F872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84,3,&#24187;&#28783;&#29255; 3" TargetMode="External"/><Relationship Id="rId2" Type="http://schemas.openxmlformats.org/officeDocument/2006/relationships/hyperlink" Target="283,2,z&#363;n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C7%C3%C9+%26%238226%3B+%B9%FE&#300;&amp;in=17716&amp;cl=2&amp;cm=1&amp;sc=0&amp;lm=-1&amp;pn=0&amp;rn=1&amp;di=4424668380&amp;ln=10&amp;fr=&amp;ic=0&amp;s=0" TargetMode="External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call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8"/>
          <p:cNvSpPr/>
          <p:nvPr/>
        </p:nvSpPr>
        <p:spPr>
          <a:xfrm>
            <a:off x="1619280" y="528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630252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6844680" y="333360"/>
            <a:ext cx="1399320" cy="511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尊严语文</a:t>
            </a:r>
            <a:r>
              <a:rPr b="1" lang="en-US" sz="4000" spc="-1" strike="noStrike">
                <a:solidFill>
                  <a:srgbClr val="cc0066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课件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文本框 6155"/>
          <p:cNvSpPr/>
          <p:nvPr/>
        </p:nvSpPr>
        <p:spPr>
          <a:xfrm>
            <a:off x="108000" y="63086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826920" y="26028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南加州沃尔逊小镇上来了一群逃难的人，他们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面呈菜色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疲惫不堪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　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这些逃难的人，显然很久没有吃到这么好的食物了，他们连一句感谢的话也顾不上说，就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狼吞虎咽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地吃起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971640" y="4437000"/>
            <a:ext cx="720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只有一个人例外，这是一个脸色苍白、骨瘦如柴的年轻人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4437000"/>
            <a:ext cx="720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只有一个人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例外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这是一个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脸色苍白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骨瘦如柴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的年轻人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042920" y="765000"/>
            <a:ext cx="7292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只有一个人例外，这是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脸色苍白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骨瘦如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年轻人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324000" y="386064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这句话是对年轻人的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————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描写，从这里我们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知道这是一个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————————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的年轻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4284720" y="3500280"/>
            <a:ext cx="1316160" cy="9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外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543120" y="4724280"/>
            <a:ext cx="14000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非常疲惫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非常饥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1403280" y="2421000"/>
            <a:ext cx="2448000" cy="1152360"/>
          </a:xfrm>
          <a:prstGeom prst="wedgeRectCallout">
            <a:avLst>
              <a:gd name="adj1" fmla="val 58106"/>
              <a:gd name="adj2" fmla="val -8994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些是对人物的什么描写？从中你体会到什么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4000" y="836280"/>
            <a:ext cx="818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从以上的描写我们可以看出年轻人是一无所有的，可他百分之百是个富翁，因为他有尊严。从哪些描写看出他有尊严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539640" y="189000"/>
            <a:ext cx="8066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他仰起头问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先生，吃您这么多东西，您有什么活儿需要我做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这个年轻人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目光顿时灰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，他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喉结上下动了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先生，我不能吃您的东西，我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能不劳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就得到这些食物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我现在就做，等做完了您的活儿，我再吃这些东西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39640" y="479736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尽管饥饿折磨着年轻人，可他（                                     ），因为他有（         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2106360" y="479736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黑体"/>
              </a:rPr>
              <a:t>语言、神态、动作描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732720" y="1268280"/>
            <a:ext cx="2411280" cy="1656000"/>
          </a:xfrm>
          <a:prstGeom prst="wedgeRoundRectCallout">
            <a:avLst>
              <a:gd name="adj1" fmla="val -129393"/>
              <a:gd name="adj2" fmla="val -36384"/>
              <a:gd name="adj3" fmla="val 16667"/>
            </a:avLst>
          </a:prstGeom>
          <a:gradFill rotWithShape="0">
            <a:gsLst>
              <a:gs pos="0">
                <a:srgbClr val="ccecff">
                  <a:alpha val="82352"/>
                </a:srgbClr>
              </a:gs>
              <a:gs pos="100000">
                <a:srgbClr val="daf1ff">
                  <a:alpha val="86274"/>
                </a:srgbClr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这些属于对人物的什么描写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2627280" y="522936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坚持通过劳动获得食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835280" y="5805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尊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6"/>
          <p:cNvSpPr/>
          <p:nvPr/>
        </p:nvSpPr>
        <p:spPr>
          <a:xfrm>
            <a:off x="468360" y="1125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个年轻人的　　　　　　了，他的　　　          ，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说：“先生，那我不能吃您的东西，我不能不劳动，就得到这些食物！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611280" y="3213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个年轻人说：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“先生，那我不能吃您的东西，我不能不劳动，就得到这些食物！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2" name="TextBox 12" descr=""/>
          <p:cNvPicPr/>
          <p:nvPr/>
        </p:nvPicPr>
        <p:blipFill>
          <a:blip r:embed="rId1"/>
          <a:stretch/>
        </p:blipFill>
        <p:spPr>
          <a:xfrm>
            <a:off x="179280" y="344520"/>
            <a:ext cx="4445280" cy="708120"/>
          </a:xfrm>
          <a:prstGeom prst="rect">
            <a:avLst/>
          </a:prstGeom>
          <a:ln w="0">
            <a:noFill/>
          </a:ln>
        </p:spPr>
      </p:pic>
      <p:sp>
        <p:nvSpPr>
          <p:cNvPr id="243" name="矩形 13"/>
          <p:cNvSpPr/>
          <p:nvPr/>
        </p:nvSpPr>
        <p:spPr>
          <a:xfrm>
            <a:off x="4269240" y="1125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目光顿时灰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矩形 15"/>
          <p:cNvSpPr/>
          <p:nvPr/>
        </p:nvSpPr>
        <p:spPr>
          <a:xfrm>
            <a:off x="1627920" y="162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喉结上下动了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468360" y="4724280"/>
            <a:ext cx="820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“年轻人的目光顿时灰暗”了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他坚持通过劳动获取食物，没有什么可做的就代表着他将继续挨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6"/>
          <p:cNvSpPr/>
          <p:nvPr/>
        </p:nvSpPr>
        <p:spPr>
          <a:xfrm>
            <a:off x="539640" y="1197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先生，那我不能吃您的东西，我　　　劳动，　得到这些食物　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直接连接符 8"/>
          <p:cNvSpPr/>
          <p:nvPr/>
        </p:nvSpPr>
        <p:spPr>
          <a:xfrm>
            <a:off x="250920" y="2565360"/>
            <a:ext cx="8497800" cy="0"/>
          </a:xfrm>
          <a:prstGeom prst="line">
            <a:avLst/>
          </a:prstGeom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TextBox 9"/>
          <p:cNvSpPr/>
          <p:nvPr/>
        </p:nvSpPr>
        <p:spPr>
          <a:xfrm>
            <a:off x="539640" y="2708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先生，那我不能吃您的东西，我要用劳动，来得到这些食物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9" name="TextBox 12" descr=""/>
          <p:cNvPicPr/>
          <p:nvPr/>
        </p:nvPicPr>
        <p:blipFill>
          <a:blip r:embed="rId1"/>
          <a:stretch/>
        </p:blipFill>
        <p:spPr>
          <a:xfrm>
            <a:off x="179280" y="344520"/>
            <a:ext cx="4445280" cy="708120"/>
          </a:xfrm>
          <a:prstGeom prst="rect">
            <a:avLst/>
          </a:prstGeom>
          <a:ln w="0">
            <a:noFill/>
          </a:ln>
        </p:spPr>
      </p:pic>
      <p:sp>
        <p:nvSpPr>
          <p:cNvPr id="250" name="矩形 5"/>
          <p:cNvSpPr/>
          <p:nvPr/>
        </p:nvSpPr>
        <p:spPr>
          <a:xfrm>
            <a:off x="7864200" y="1197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能不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矩形 7"/>
          <p:cNvSpPr/>
          <p:nvPr/>
        </p:nvSpPr>
        <p:spPr>
          <a:xfrm>
            <a:off x="185688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就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矩形 10"/>
          <p:cNvSpPr/>
          <p:nvPr/>
        </p:nvSpPr>
        <p:spPr>
          <a:xfrm>
            <a:off x="521604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4859280" y="333360"/>
            <a:ext cx="2160720" cy="576360"/>
          </a:xfrm>
          <a:prstGeom prst="wedgeRectCallout">
            <a:avLst>
              <a:gd name="adj1" fmla="val 111648"/>
              <a:gd name="adj2" fmla="val 11997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双重否定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AutoShape 10"/>
          <p:cNvSpPr/>
          <p:nvPr/>
        </p:nvSpPr>
        <p:spPr>
          <a:xfrm>
            <a:off x="5219640" y="3500280"/>
            <a:ext cx="2160720" cy="576360"/>
          </a:xfrm>
          <a:prstGeom prst="wedgeRectCallout">
            <a:avLst>
              <a:gd name="adj1" fmla="val 48532"/>
              <a:gd name="adj2" fmla="val -10537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肯定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87280" y="1412640"/>
            <a:ext cx="655344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572"/>
                </a:solidFill>
                <a:latin typeface="Arial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007572"/>
                </a:solidFill>
                <a:latin typeface="Arial"/>
                <a:ea typeface="黑体"/>
              </a:rPr>
              <a:t>请找出年轻人和杰克逊大叔对话读一读。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684360" y="476280"/>
            <a:ext cx="655164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先生，吃您这么多东西，您有什么活儿需要我做吗？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84360" y="2205000"/>
            <a:ext cx="6769080" cy="9471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先生，那我不能吃您的东西，我不能不劳动，就得到这些食物！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684360" y="4581360"/>
            <a:ext cx="698472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不，我现在就做，等做完了您的活儿，我再吃这些东西！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900000" y="1557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，我没有什么活儿需要您做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84360" y="3141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想起来了，我家确实有一些活儿需要您帮忙。不过，等您吃过饭，我再给您派活儿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684360" y="57340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伙子，您愿意为我捶捶背吗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AutoShape 11"/>
          <p:cNvSpPr/>
          <p:nvPr/>
        </p:nvSpPr>
        <p:spPr>
          <a:xfrm>
            <a:off x="7308720" y="260280"/>
            <a:ext cx="1656000" cy="1081080"/>
          </a:xfrm>
          <a:prstGeom prst="wedgeRectCallout">
            <a:avLst>
              <a:gd name="adj1" fmla="val -75694"/>
              <a:gd name="adj2" fmla="val 9669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从这些对话中你体会到什么？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>
            <a:off x="7667640" y="1989000"/>
            <a:ext cx="1297080" cy="4464360"/>
          </a:xfrm>
          <a:prstGeom prst="wedgeRectCallout">
            <a:avLst>
              <a:gd name="adj1" fmla="val -111689"/>
              <a:gd name="adj2" fmla="val 606"/>
            </a:avLst>
          </a:prstGeom>
          <a:gradFill rotWithShape="0">
            <a:gsLst>
              <a:gs pos="0">
                <a:srgbClr val="f8f81c"/>
              </a:gs>
              <a:gs pos="100000">
                <a:srgbClr val="fbfb8a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体会杰克逊的善良和哈默不肯接受施舍的坚决态度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468360" y="476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齐读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826920" y="1628640"/>
            <a:ext cx="7850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这些逃难的人，显然很久没有吃到这么好的食物了，他们连一句感谢的话也顾不上说，就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狼吞虎咽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地吃起来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年轻人在为杰克逊大叔捶背后，立刻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狼吞虎咽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地吃起来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826920" y="26028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同是狼吞虎咽，年轻人和这些逃难的人有什么不同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68360" y="62064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逃难人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十分饥饿，因此一句感谢的话都顾不上说，狼吞虎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年轻人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狼吞虎咽这一动作表现了哈默饥饿的程度，更让我们感受到哈默之前不肯接受食物的精神之可贵，即使到了饥饿极点的时候，也要坚持先干活再吃饭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这正是他尊严之体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3640" y="1197000"/>
            <a:ext cx="871380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尊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严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沃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尔逊    面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呈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菜色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疲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惫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不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堪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善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良    朴实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款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1"/>
              </a:rPr>
              <a:t>狼吞虎咽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例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外    骨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瘦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如柴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杰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克逊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喉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结    赞赏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捶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背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僵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硬    许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配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2"/>
              </a:rPr>
              <a:t>逃难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542880" y="620280"/>
            <a:ext cx="13651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zūn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266920" y="620640"/>
            <a:ext cx="13669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wò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5219640" y="620640"/>
            <a:ext cx="194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chéng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82560" y="1773360"/>
            <a:ext cx="13669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bèi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835280" y="1773360"/>
            <a:ext cx="1366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kā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278160" y="1773360"/>
            <a:ext cx="15811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shà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7381800" y="1859040"/>
            <a:ext cx="13669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ku</a:t>
            </a:r>
            <a:r>
              <a:rPr b="1" lang="zh-CN" sz="4000" spc="-1" strike="noStrike">
                <a:solidFill>
                  <a:srgbClr val="007572"/>
                </a:solidFill>
                <a:latin typeface="宋体"/>
              </a:rPr>
              <a:t>ǎ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3276720" y="3011400"/>
            <a:ext cx="13651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lì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5797440" y="3068640"/>
            <a:ext cx="15829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shòu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395280" y="4235400"/>
            <a:ext cx="13669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jié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2843280" y="4235400"/>
            <a:ext cx="13669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hóu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6877080" y="4235400"/>
            <a:ext cx="13651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chuí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395280" y="5445000"/>
            <a:ext cx="13669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jiāng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2771640" y="5459400"/>
            <a:ext cx="1365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pèi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7572"/>
                </a:solidFill>
                <a:latin typeface="Arial"/>
              </a:rPr>
              <a:t>对比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目的：强调年轻人的与众不同，因为他拥有可贵的尊严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611280" y="333360"/>
            <a:ext cx="7772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杰克逊对女儿说：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别看他现在什么都没有，可他百分之百是个富翁，因为他有尊严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5003640" y="1557360"/>
            <a:ext cx="3961080" cy="576360"/>
          </a:xfrm>
          <a:prstGeom prst="wedgeRoundRectCallout">
            <a:avLst>
              <a:gd name="adj1" fmla="val -65990"/>
              <a:gd name="adj2" fmla="val -30439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怎么理解杰克逊的话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24000" y="206856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什么都没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说明哈默目前是个难民，是个一无所有的穷人，可是说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分之百是个富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里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富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并不是指拥有大批财产和亿万金钱的人，而是指拥有尊贵的人格的人。哈默不因穷困潦倒而自悲、向他人乞哀告怜，而是靠自己的双手去换取应得的酬劳，只有这样，才觉得舒心、踏实。杰克逊正是看中了这一点，觉得这个年轻人有骨气，目前的穷困是暂时的，凭他的骨气和毅力，能创造出财富。在杰克逊眼里，一个懂得尊严的人就等于拥有了一笔巨大的财富。同时也说明了杰克逊是一位懂得什么是尊严的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468360" y="1125360"/>
            <a:ext cx="8136000" cy="192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别看他现在没有（　   ），没有（       ），也没有（       ），可他百分之百是个富翁，因为他拥有（       ），以及别人对他的（       ）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5580000" y="112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金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547640" y="17733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地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5651640" y="1773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权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1116000" y="2997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尊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1042920" y="3716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尊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88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为了表现哈默的高尚品质，作者通过对人物进行了以下几方面的描写。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3640" y="2420640"/>
            <a:ext cx="4103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外貌描写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语言描写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动作描写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神态描写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5148360" y="270828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你找出相关的词语读一读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572"/>
                </a:solidFill>
                <a:latin typeface="Arial"/>
              </a:rPr>
              <a:t>外貌描写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脸色苍白、骨瘦如柴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神态描写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目光灰暗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动作描写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仰起头  问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喉结上下动了动   站起来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蹲下了  捶背  吃起来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语言描写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85360" y="2420640"/>
            <a:ext cx="8558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先生，吃您这么多东西，您有什么活儿需要我做吗？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先生，那我不能吃您的东西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就得到这些食物！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不，我现在就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899640" y="3141360"/>
            <a:ext cx="7776000" cy="3024360"/>
            <a:chOff x="899640" y="3141360"/>
            <a:chExt cx="7776000" cy="3024360"/>
          </a:xfrm>
        </p:grpSpPr>
        <p:grpSp>
          <p:nvGrpSpPr>
            <p:cNvPr id="292" name=""/>
            <p:cNvGrpSpPr/>
            <p:nvPr/>
          </p:nvGrpSpPr>
          <p:grpSpPr>
            <a:xfrm>
              <a:off x="1115640" y="3141360"/>
              <a:ext cx="7560000" cy="360"/>
              <a:chOff x="1115640" y="3141360"/>
              <a:chExt cx="7560000" cy="360"/>
            </a:xfrm>
          </p:grpSpPr>
          <p:sp>
            <p:nvSpPr>
              <p:cNvPr id="293" name="Line 5"/>
              <p:cNvSpPr/>
              <p:nvPr/>
            </p:nvSpPr>
            <p:spPr>
              <a:xfrm>
                <a:off x="1116000" y="3141720"/>
                <a:ext cx="755964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 rot="10800000">
                <a:off x="1115640" y="3141000"/>
                <a:ext cx="755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042560" y="3860280"/>
              <a:ext cx="7560000" cy="360"/>
              <a:chOff x="1042560" y="3860280"/>
              <a:chExt cx="7560000" cy="360"/>
            </a:xfrm>
          </p:grpSpPr>
          <p:sp>
            <p:nvSpPr>
              <p:cNvPr id="296" name="Line 6"/>
              <p:cNvSpPr/>
              <p:nvPr/>
            </p:nvSpPr>
            <p:spPr>
              <a:xfrm>
                <a:off x="1042920" y="3860640"/>
                <a:ext cx="755964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 rot="10800000">
                <a:off x="1042560" y="3859920"/>
                <a:ext cx="755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1042560" y="4581000"/>
              <a:ext cx="7560000" cy="360"/>
              <a:chOff x="1042560" y="4581000"/>
              <a:chExt cx="7560000" cy="360"/>
            </a:xfrm>
          </p:grpSpPr>
          <p:sp>
            <p:nvSpPr>
              <p:cNvPr id="299" name="Line 7"/>
              <p:cNvSpPr/>
              <p:nvPr/>
            </p:nvSpPr>
            <p:spPr>
              <a:xfrm>
                <a:off x="1042920" y="4581360"/>
                <a:ext cx="755964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 rot="10800000">
                <a:off x="1042560" y="4580640"/>
                <a:ext cx="755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971280" y="5300280"/>
              <a:ext cx="7560000" cy="360"/>
              <a:chOff x="971280" y="5300280"/>
              <a:chExt cx="7560000" cy="360"/>
            </a:xfrm>
          </p:grpSpPr>
          <p:sp>
            <p:nvSpPr>
              <p:cNvPr id="302" name="Line 8"/>
              <p:cNvSpPr/>
              <p:nvPr/>
            </p:nvSpPr>
            <p:spPr>
              <a:xfrm>
                <a:off x="971640" y="5300640"/>
                <a:ext cx="755964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 txBox="1"/>
              <p:nvPr/>
            </p:nvSpPr>
            <p:spPr>
              <a:xfrm rot="10800000">
                <a:off x="971280" y="5299920"/>
                <a:ext cx="755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899640" y="6165360"/>
              <a:ext cx="7560000" cy="360"/>
              <a:chOff x="899640" y="6165360"/>
              <a:chExt cx="7560000" cy="360"/>
            </a:xfrm>
          </p:grpSpPr>
          <p:sp>
            <p:nvSpPr>
              <p:cNvPr id="305" name="Line 9"/>
              <p:cNvSpPr/>
              <p:nvPr/>
            </p:nvSpPr>
            <p:spPr>
              <a:xfrm>
                <a:off x="900000" y="6165720"/>
                <a:ext cx="755964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 rot="10800000">
                <a:off x="899640" y="6165360"/>
                <a:ext cx="755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</p:spTree>
  </p:cSld>
  <p:transition>
    <p:blinds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从这些描写我们体会到哈默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个怎样的人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2491920"/>
            <a:ext cx="9145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饥寒交迫不失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人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是一个  面对施舍不失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人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面对施舍牢记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人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2556000" y="2492280"/>
            <a:ext cx="358560" cy="2449440"/>
          </a:xfrm>
          <a:custGeom>
            <a:avLst/>
            <a:gdLst>
              <a:gd name="textAreaLeft" fmla="*/ 228960 w 358560"/>
              <a:gd name="textAreaRight" fmla="*/ 358560 w 35856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372360" y="242100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尊严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6372360" y="328464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尊严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6443640" y="422100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劳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395280" y="907920"/>
            <a:ext cx="47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亚蒙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•</a:t>
            </a:r>
            <a:r>
              <a:rPr b="1" lang="en-US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哈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189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生于美国纽约市，美国西方石油公司的董事长，是一位颇具传奇色彩的人物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西方，他被称为点石成金的万能富豪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哈默用他在商战中积累的财富，投资濒临破产的西方石油公司，并建立了一个石油王国。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他的石油公司已排名世界第八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14" name="Picture 3" descr="u=163533513,4107888144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125360"/>
            <a:ext cx="3382920" cy="4032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684360" y="765000"/>
            <a:ext cx="82087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n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à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n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ná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逃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难   难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过     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难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li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á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nɡ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liànɡ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思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量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重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量     </a:t>
            </a: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量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yān     y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è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y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à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咽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喉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呜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咽  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狼吞虎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咽    </a:t>
            </a: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咽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WordArt 3"/>
          <p:cNvSpPr txBox="1"/>
          <p:nvPr/>
        </p:nvSpPr>
        <p:spPr>
          <a:xfrm>
            <a:off x="4788000" y="333360"/>
            <a:ext cx="259056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多音字</a:t>
            </a:r>
            <a:endParaRPr b="0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7740720" y="6021360"/>
            <a:ext cx="647640" cy="287280"/>
          </a:xfrm>
          <a:prstGeom prst="leftArrow">
            <a:avLst>
              <a:gd name="adj1" fmla="val 50000"/>
              <a:gd name="adj2" fmla="val 56339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356000" y="1916280"/>
            <a:ext cx="1008000" cy="360"/>
            <a:chOff x="4356000" y="1916280"/>
            <a:chExt cx="1008000" cy="360"/>
          </a:xfrm>
        </p:grpSpPr>
        <p:sp>
          <p:nvSpPr>
            <p:cNvPr id="190" name="Line 6"/>
            <p:cNvSpPr/>
            <p:nvPr/>
          </p:nvSpPr>
          <p:spPr>
            <a:xfrm>
              <a:off x="4356000" y="1916280"/>
              <a:ext cx="100800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4356000" y="1916280"/>
              <a:ext cx="10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500720" y="3789360"/>
            <a:ext cx="1008000" cy="360"/>
            <a:chOff x="4500720" y="3789360"/>
            <a:chExt cx="1008000" cy="360"/>
          </a:xfrm>
        </p:grpSpPr>
        <p:sp>
          <p:nvSpPr>
            <p:cNvPr id="193" name="Line 7"/>
            <p:cNvSpPr/>
            <p:nvPr/>
          </p:nvSpPr>
          <p:spPr>
            <a:xfrm>
              <a:off x="4500720" y="3789360"/>
              <a:ext cx="100800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4500720" y="3789360"/>
              <a:ext cx="10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020000" y="5661000"/>
            <a:ext cx="1008000" cy="360"/>
            <a:chOff x="7020000" y="5661000"/>
            <a:chExt cx="1008000" cy="360"/>
          </a:xfrm>
        </p:grpSpPr>
        <p:sp>
          <p:nvSpPr>
            <p:cNvPr id="196" name="Line 8"/>
            <p:cNvSpPr/>
            <p:nvPr/>
          </p:nvSpPr>
          <p:spPr>
            <a:xfrm>
              <a:off x="7020000" y="5661000"/>
              <a:ext cx="100800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7020000" y="5661000"/>
              <a:ext cx="10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p092-08"/>
          <p:cNvPicPr/>
          <p:nvPr/>
        </p:nvPicPr>
        <p:blipFill>
          <a:blip r:embed="rId1"/>
          <a:stretch/>
        </p:blipFill>
        <p:spPr>
          <a:xfrm>
            <a:off x="4643280" y="1413000"/>
            <a:ext cx="3961080" cy="36813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826920" y="1341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468360" y="1052640"/>
            <a:ext cx="3960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应</a:t>
            </a: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邓小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邀请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的哈默成为第一个乘私人飞机访问中国的西方企业家，被邓小平称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勇敢的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此后，西方石油公司与中国签订了一系列经济合作的协议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他向中国少年儿童基金会捐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美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4495680" y="2971800"/>
            <a:ext cx="3276720" cy="306720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3"/>
          <p:cNvSpPr/>
          <p:nvPr/>
        </p:nvSpPr>
        <p:spPr>
          <a:xfrm>
            <a:off x="250920" y="765000"/>
            <a:ext cx="6191280" cy="3062520"/>
          </a:xfrm>
          <a:prstGeom prst="cloudCallout">
            <a:avLst>
              <a:gd name="adj1" fmla="val 38717"/>
              <a:gd name="adj2" fmla="val 67884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042920" y="1125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杰克逊大叔同样是一个值得我们赞颂的人，找出描写他的句子读一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5"/>
          <p:cNvSpPr/>
          <p:nvPr/>
        </p:nvSpPr>
        <p:spPr>
          <a:xfrm>
            <a:off x="574560" y="2637000"/>
            <a:ext cx="83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杰克逊大叔想了想，说“我想起来了，我家确实有一些活儿需要您帮忙。不过，等您吃过饭，我再给您派活儿。”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611280" y="1446120"/>
            <a:ext cx="8208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杰克逊大叔心想，给逃难的人一顿饭吃，每个善良的人都会这么做。于是他回答：“不，我没有什么活儿需要您做。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539640" y="3860640"/>
            <a:ext cx="7848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杰克逊大叔十分赞赏地望着这位年轻人，他知道如果不让他干活儿，他是不会吃东西的。思量片刻后，杰克逊大说：”小伙子，您愿意为我捶捶背吗？说着就蹲在这个年轻人跟前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539640" y="5951880"/>
            <a:ext cx="83534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杰克逊大叔微笑地注视着这个年轻人，说：“小伙子，我的庄园需要人手，如果您愿意留下来的话，我太高兴了。”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直接连接符 5"/>
          <p:cNvSpPr/>
          <p:nvPr/>
        </p:nvSpPr>
        <p:spPr>
          <a:xfrm>
            <a:off x="539640" y="2492280"/>
            <a:ext cx="7993080" cy="73080"/>
          </a:xfrm>
          <a:prstGeom prst="line">
            <a:avLst/>
          </a:prstGeom>
          <a:ln w="381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直接连接符 6"/>
          <p:cNvSpPr/>
          <p:nvPr/>
        </p:nvSpPr>
        <p:spPr>
          <a:xfrm>
            <a:off x="539640" y="3716280"/>
            <a:ext cx="7993080" cy="73080"/>
          </a:xfrm>
          <a:prstGeom prst="line">
            <a:avLst/>
          </a:prstGeom>
          <a:ln w="381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直接连接符 7"/>
          <p:cNvSpPr/>
          <p:nvPr/>
        </p:nvSpPr>
        <p:spPr>
          <a:xfrm>
            <a:off x="539640" y="5589720"/>
            <a:ext cx="7993080" cy="71280"/>
          </a:xfrm>
          <a:prstGeom prst="line">
            <a:avLst/>
          </a:prstGeom>
          <a:ln w="381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8" name="TextBox 11" descr=""/>
          <p:cNvPicPr/>
          <p:nvPr/>
        </p:nvPicPr>
        <p:blipFill>
          <a:blip r:embed="rId1"/>
          <a:stretch/>
        </p:blipFill>
        <p:spPr>
          <a:xfrm>
            <a:off x="971640" y="331920"/>
            <a:ext cx="4319640" cy="707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863640" cy="127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"/>
          <p:cNvPicPr/>
          <p:nvPr/>
        </p:nvPicPr>
        <p:blipFill>
          <a:blip r:embed="rId1"/>
          <a:stretch/>
        </p:blipFill>
        <p:spPr>
          <a:xfrm>
            <a:off x="4495680" y="2971800"/>
            <a:ext cx="3276720" cy="306720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5"/>
          <p:cNvSpPr/>
          <p:nvPr/>
        </p:nvSpPr>
        <p:spPr>
          <a:xfrm>
            <a:off x="250920" y="765000"/>
            <a:ext cx="6191280" cy="3062520"/>
          </a:xfrm>
          <a:prstGeom prst="cloudCallout">
            <a:avLst>
              <a:gd name="adj1" fmla="val 38717"/>
              <a:gd name="adj2" fmla="val 67884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042920" y="1341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在杰克逊大叔身上又有什么值得我们学习的呢？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539640" y="48412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尊重他人、看重人品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长者风范 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0" y="1842480"/>
            <a:ext cx="9144000" cy="2466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w Cen MT"/>
                <a:ea typeface="楷体_GB2312"/>
              </a:rPr>
              <a:t>7  </a:t>
            </a:r>
            <a:r>
              <a:rPr b="1" lang="zh-CN" sz="2800" spc="-1" strike="noStrike">
                <a:solidFill>
                  <a:srgbClr val="0033cc"/>
                </a:solidFill>
                <a:latin typeface="Tw Cen MT"/>
                <a:ea typeface="楷体_GB2312"/>
              </a:rPr>
              <a:t>尊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w Cen MT"/>
                <a:ea typeface="楷体_GB2312"/>
              </a:rPr>
              <a:t>哈默       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w Cen MT"/>
                <a:ea typeface="楷体_GB2312"/>
              </a:rPr>
              <a:t>自尊 自爱 自强 </a:t>
            </a:r>
            <a:r>
              <a:rPr b="1" lang="zh-CN" sz="2800" spc="-1" strike="noStrike">
                <a:solidFill>
                  <a:srgbClr val="0033cc"/>
                </a:solidFill>
                <a:latin typeface="Tw Cen MT"/>
                <a:ea typeface="楷体_GB2312"/>
              </a:rPr>
              <a:t>   时刻维护自己的尊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w Cen MT"/>
                <a:ea typeface="楷体_GB2312"/>
              </a:rPr>
              <a:t>杰克逊大叔   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w Cen MT"/>
                <a:ea typeface="楷体_GB2312"/>
              </a:rPr>
              <a:t> 善良 真诚  </a:t>
            </a:r>
            <a:r>
              <a:rPr b="1" lang="zh-CN" sz="2800" spc="-1" strike="noStrike">
                <a:solidFill>
                  <a:srgbClr val="0033cc"/>
                </a:solidFill>
                <a:latin typeface="Tw Cen MT"/>
                <a:ea typeface="楷体_GB2312"/>
              </a:rPr>
              <a:t>      用心爱护别人的尊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5" name="TextBox 3" descr=""/>
          <p:cNvPicPr/>
          <p:nvPr/>
        </p:nvPicPr>
        <p:blipFill>
          <a:blip r:embed="rId1"/>
          <a:stretch/>
        </p:blipFill>
        <p:spPr>
          <a:xfrm>
            <a:off x="179280" y="344520"/>
            <a:ext cx="4319640" cy="70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"/>
          <p:cNvSpPr/>
          <p:nvPr/>
        </p:nvSpPr>
        <p:spPr>
          <a:xfrm>
            <a:off x="3780000" y="2801160"/>
            <a:ext cx="4636800" cy="1922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w Cen MT"/>
                <a:ea typeface="楷体_GB2312"/>
              </a:rPr>
              <a:t>　课文的题目为什么叫做</a:t>
            </a:r>
            <a:r>
              <a:rPr b="1" lang="en-US" sz="4000" spc="-1" strike="noStrike">
                <a:solidFill>
                  <a:srgbClr val="0033cc"/>
                </a:solidFill>
                <a:latin typeface="Tw Cen MT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33cc"/>
                </a:solidFill>
                <a:latin typeface="Tw Cen MT"/>
                <a:ea typeface="楷体_GB2312"/>
              </a:rPr>
              <a:t>尊严</a:t>
            </a:r>
            <a:r>
              <a:rPr b="1" lang="en-US" sz="4000" spc="-1" strike="noStrike">
                <a:solidFill>
                  <a:srgbClr val="0033cc"/>
                </a:solidFill>
                <a:latin typeface="Tw Cen MT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33cc"/>
                </a:solidFill>
                <a:latin typeface="Tw Cen MT"/>
                <a:ea typeface="楷体_GB2312"/>
              </a:rPr>
              <a:t>？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7" name="TextBox 3" descr=""/>
          <p:cNvPicPr/>
          <p:nvPr/>
        </p:nvPicPr>
        <p:blipFill>
          <a:blip r:embed="rId1"/>
          <a:stretch/>
        </p:blipFill>
        <p:spPr>
          <a:xfrm>
            <a:off x="179280" y="344520"/>
            <a:ext cx="4319640" cy="7081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100320" cy="489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250560" y="549360"/>
            <a:ext cx="835164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尊严就是用劳动去换取幸福，去劳动，去争取，才会有美好的未来。故事以“尊严”为题，含义深刻。一方面概括了哈默的品格，说明人是要有精神的，要自爱、自强、自尊；另一方面也反映了杰克逊尊重他人、看重人品的长者风范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请用以下词语造句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01120" y="980640"/>
            <a:ext cx="8642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疲惫不堪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这两天我们一直忙着赶路，大家都疲惫不堪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狼吞虎咽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他饿极了，见到桌上的美食，马上狼吞虎咽地吃起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骨瘦如柴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他有好些日子没有吃东西了，饿得骨瘦如柴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4"/>
          <p:cNvSpPr/>
          <p:nvPr/>
        </p:nvSpPr>
        <p:spPr>
          <a:xfrm>
            <a:off x="0" y="831600"/>
            <a:ext cx="8964720" cy="51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读下面描写年轻人神态、动作或语言的句子，注意带点的词语，写出你自己的理解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例：这个年轻人的目光顿时灰暗了，他的喉结上下动了动，说：“先生，那我不能吃您的东西，我不能不劳动，就得到这些食物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答：听到没有活干，很失望，虽然他很饿，但是坚持要用劳动换取食物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１、这是一个脸色苍白、骨瘦如柴的年轻人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２、“不，我现在就做，等做完了您的活儿，我再吃这些东西！”年轻人站起来说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、年轻人也蹲下来，轻轻地给杰克逊大叔捶背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 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1068840"/>
            <a:ext cx="896472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读下面描写年轻人神态、动作或语言的句子，注意带点的词语，写出你自己的理解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例：这个年轻人的目光顿时灰暗了，他的喉结上下动了动，说：“先生，那我不能吃您的东西，我不能不劳动，就得到这些食物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答：听到没有活干，很失望，虽然他很饿，但是坚持要用劳动换取食物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１、这是一个脸色苍白、骨瘦如柴的年轻人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答：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</a:rPr>
              <a:t>说明他已经挨饿很久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２、“不，我现在就做，等做完了您的活儿，我再吃这些东西！”年轻人站起来说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答：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</a:rPr>
              <a:t>坚持劳动后才获得食物，一听到有活干，就立刻动手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　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、年轻人也蹲下来，轻轻地给杰克逊大叔捶背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答：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</a:rPr>
              <a:t>对杰克逊大叔十分尊重，很有礼貌。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04920" y="685800"/>
            <a:ext cx="289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疲惫不堪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04920" y="1812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惬意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04920" y="2955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羡慕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04920" y="4098960"/>
            <a:ext cx="30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狼吞虎咽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2" name="Picture 6" descr="Xing2"/>
          <p:cNvPicPr/>
          <p:nvPr/>
        </p:nvPicPr>
        <p:blipFill>
          <a:blip r:embed="rId1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Xing2"/>
          <p:cNvPicPr/>
          <p:nvPr/>
        </p:nvPicPr>
        <p:blipFill>
          <a:blip r:embed="rId2"/>
          <a:stretch/>
        </p:blipFill>
        <p:spPr>
          <a:xfrm>
            <a:off x="5943600" y="762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Xing2"/>
          <p:cNvPicPr/>
          <p:nvPr/>
        </p:nvPicPr>
        <p:blipFill>
          <a:blip r:embed="rId3"/>
          <a:stretch/>
        </p:blipFill>
        <p:spPr>
          <a:xfrm>
            <a:off x="3657600" y="990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Xing2"/>
          <p:cNvPicPr/>
          <p:nvPr/>
        </p:nvPicPr>
        <p:blipFill>
          <a:blip r:embed="rId4"/>
          <a:stretch/>
        </p:blipFill>
        <p:spPr>
          <a:xfrm>
            <a:off x="281952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Xing2"/>
          <p:cNvPicPr/>
          <p:nvPr/>
        </p:nvPicPr>
        <p:blipFill>
          <a:blip r:embed="rId5"/>
          <a:stretch/>
        </p:blipFill>
        <p:spPr>
          <a:xfrm>
            <a:off x="4800600" y="3429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59280" y="-360"/>
            <a:ext cx="518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做一做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765000"/>
            <a:ext cx="8964720" cy="38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、下列词语中有四对反义词，请你把他们抄写在下面的括号中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批评   巨大   身强力壮  狼吞虎咽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微小   赞赏    细嚼慢咽  骨瘦如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      ）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      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      ）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      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      ）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      ）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      ）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      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332000" y="3933720"/>
            <a:ext cx="604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批 评            赞  赏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巨  大           微  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116000" y="2565360"/>
            <a:ext cx="604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身强力壮         骨瘦如柴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狼吞虎咽         细嚼慢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文本框 8200"/>
          <p:cNvSpPr/>
          <p:nvPr/>
        </p:nvSpPr>
        <p:spPr>
          <a:xfrm>
            <a:off x="1332000" y="6021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horz"/>
    <p:sndAc>
      <p:stSnd>
        <p:snd r:embed="rId2" name="call.wav"/>
      </p:stSnd>
    </p:sndAc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0" y="322560"/>
            <a:ext cx="11825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选词填空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竟然　显然　果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、他（　）是累极了，一沾床就睡着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、爸爸本身就是天气预报，昨天他喊腰酸，今天（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下雨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、这样宏伟的建筑，（    ）只用十个月的时间就完成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欣赏　观赏　赞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４、杰克逊大叔十分（　）地望着这位年轻人，知道他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有尊严的人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５、老师很（　）我的绘画作品，还鼓励我要继续加油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６、昆明花博会展出的奇花异草吸引国内外众多游客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（　   ）。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4"/>
          <p:cNvSpPr/>
          <p:nvPr/>
        </p:nvSpPr>
        <p:spPr>
          <a:xfrm>
            <a:off x="250920" y="1495440"/>
            <a:ext cx="828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阅读答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列宁读书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列宁读书的时候，十分认真。他常常向自己提出许多问题。例如：这本书是什么时候写的，为什么要这样写，中心思想是什么等等，都要弄个一清二楚，才肯放手。他读过的书还要写出自己的意见。他的意见总是很中肯的。列宁对课外书籍的选择也是很严格的。他从来不读没有价值的书。在列宁的房间里，无聊消闲的书籍一本也找不出来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１、按“读书认真”和“选书严格”这两个意思把这段话分成两层，用“／”标在文中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２、用“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﹏﹏”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画出每一层的中心句。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79E6-2A49-4563-B519-53FCB4E4CA81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50920" y="2044800"/>
            <a:ext cx="8497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阅读答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列宁读书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列宁读书的时候，十分认真。他常常向自己提出许多问题。例如：这本书是什么时候写的，为什么要这样写，中心思想是什么等等，都要弄个一清二楚，才肯放手。他读过的书还要写出自己的意见。他的意见总是很中肯的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／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列宁对课外书籍的选择也是很严格的。他从来不读没有价值的书。在列宁的房间里，无聊消闲的书籍一本也找不出来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／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187280" y="1773360"/>
            <a:ext cx="4753080" cy="360"/>
            <a:chOff x="1187280" y="1773360"/>
            <a:chExt cx="4753080" cy="360"/>
          </a:xfrm>
        </p:grpSpPr>
        <p:sp>
          <p:nvSpPr>
            <p:cNvPr id="357" name="Line 4"/>
            <p:cNvSpPr/>
            <p:nvPr/>
          </p:nvSpPr>
          <p:spPr>
            <a:xfrm>
              <a:off x="1187280" y="1773360"/>
              <a:ext cx="47530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1187280" y="1773360"/>
              <a:ext cx="475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900000" y="4149720"/>
            <a:ext cx="6408720" cy="360"/>
            <a:chOff x="900000" y="4149720"/>
            <a:chExt cx="6408720" cy="360"/>
          </a:xfrm>
        </p:grpSpPr>
        <p:sp>
          <p:nvSpPr>
            <p:cNvPr id="360" name="Line 6"/>
            <p:cNvSpPr/>
            <p:nvPr/>
          </p:nvSpPr>
          <p:spPr>
            <a:xfrm>
              <a:off x="900000" y="4149720"/>
              <a:ext cx="64087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900000" y="4149720"/>
              <a:ext cx="640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627280" y="6922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非常疲乏，不能忍受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676520" y="181296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满意，称心，舒服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04920" y="295596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看见别人有某种长处、好处或有利条件而希望自己也有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28600" y="4632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像狼、虎吞咽食物一样。形容迅速而大口地吞吃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1" name="Picture 6" descr="Xing2"/>
          <p:cNvPicPr/>
          <p:nvPr/>
        </p:nvPicPr>
        <p:blipFill>
          <a:blip r:embed="rId1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Xing2"/>
          <p:cNvPicPr/>
          <p:nvPr/>
        </p:nvPicPr>
        <p:blipFill>
          <a:blip r:embed="rId2"/>
          <a:stretch/>
        </p:blipFill>
        <p:spPr>
          <a:xfrm>
            <a:off x="5943600" y="762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Xing2"/>
          <p:cNvPicPr/>
          <p:nvPr/>
        </p:nvPicPr>
        <p:blipFill>
          <a:blip r:embed="rId3"/>
          <a:stretch/>
        </p:blipFill>
        <p:spPr>
          <a:xfrm>
            <a:off x="3657600" y="990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Xing2"/>
          <p:cNvPicPr/>
          <p:nvPr/>
        </p:nvPicPr>
        <p:blipFill>
          <a:blip r:embed="rId4"/>
          <a:stretch/>
        </p:blipFill>
        <p:spPr>
          <a:xfrm>
            <a:off x="281952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Xing2"/>
          <p:cNvPicPr/>
          <p:nvPr/>
        </p:nvPicPr>
        <p:blipFill>
          <a:blip r:embed="rId5"/>
          <a:stretch/>
        </p:blipFill>
        <p:spPr>
          <a:xfrm>
            <a:off x="4800600" y="3429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2"/>
          <p:cNvSpPr/>
          <p:nvPr/>
        </p:nvSpPr>
        <p:spPr>
          <a:xfrm>
            <a:off x="304920" y="685800"/>
            <a:ext cx="282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疲惫不堪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304920" y="1812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惬意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04920" y="2955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羡慕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304920" y="4616280"/>
            <a:ext cx="275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狼吞虎咽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0" y="1052640"/>
            <a:ext cx="9144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自读课文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读：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读准字音，读通课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　　　　难读的句子多读几遍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　　想：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课文讲了哈默的一件什么事？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539640" y="620640"/>
            <a:ext cx="80647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主要内容</a:t>
            </a:r>
            <a:r>
              <a:rPr b="1" lang="en-US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短文主要写一个逃难的年轻人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饥肠辘辘的情况下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接受人们送给他的食物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是执意用自己的劳动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换取了食物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赢得了做人的尊严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84360" y="1844640"/>
            <a:ext cx="777708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楷体_GB2312"/>
              </a:rPr>
              <a:t>（齐读） 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别看他现在什么都没有，可他百分之百是个富翁，因为他有尊严！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5"/>
          <p:cNvSpPr/>
          <p:nvPr/>
        </p:nvSpPr>
        <p:spPr>
          <a:xfrm>
            <a:off x="971640" y="2637000"/>
            <a:ext cx="70578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默读课文，从哪些词句看出哈默是个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一无所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人？用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横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划出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词句看出哈默是个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有尊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人？用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波浪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划出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11280" y="476280"/>
            <a:ext cx="82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楷体_GB2312"/>
              </a:rPr>
              <a:t>（齐读）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别看他现在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黑体"/>
              </a:rPr>
              <a:t>什么都没有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，可他百分之百是个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黑体"/>
              </a:rPr>
              <a:t>富翁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，因为他有尊严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09:0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57Z</dcterms:modified>
  <cp:revision>5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