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7F4-5952-4784-9ECB-017621F4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3DE-9BDE-4DA0-B0AD-F4432505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5663-D34A-4E9C-B6A5-6D6949F1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62F-F019-46C6-AFCA-D7F4DD42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C345-3D57-4247-BDB0-71BB699A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4877-7BB6-4A07-9054-61284176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6C70-A83A-4DF8-A5F3-5C7A50BA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38C2-A0FD-4EA9-B3C7-BF01F38A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F1F8-75FF-4D49-9885-3996FB52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28FA-07BD-4B3F-9576-A372AADF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6EA0-3BA0-4020-9095-B2F770CE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467-253C-42BA-B531-B87E9B21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7932-F18A-4D26-A2B7-3827A6FE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476E-6962-4C53-93F7-0D782AAD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7FFD-DD22-478F-AB28-0BFB12D1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6D2D-E9A1-4CC8-8FC0-CF2FFBB5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9982-AF7A-41A6-B1B3-7B619541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DCF-F7D0-4A46-B63E-EEAB63B5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EB1D-025B-4D93-82AA-91D8DCE6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7BFA-0948-4BED-BC17-EAC4971D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12C-73F5-483E-8733-13B89315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818-CC92-438B-9541-B347175D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E6F-E662-4298-9003-EC4E14A3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A18-860F-419E-9797-8C60EE35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B591-3C7B-4C91-9E04-1E632E40D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D464-774F-4B93-B301-1BEB0DD0290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CF92-3388-4015-8CDE-6A54B99AAF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D:\资源库\五年级\第七单元\25.珍珠鸟\《珍珠鸟》插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1258920" y="549360"/>
            <a:ext cx="702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珍珠鸟语文课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771840" y="272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是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形容词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049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657800" y="9586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事物的形状、性质、状态等的词叫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形容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356200" y="1873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找出下列句子中的形容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189960" y="2505240"/>
            <a:ext cx="301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这样，它完全放心了，索性用那涂了蜡似的、角质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红嘴，“嗒嗒”啄着我颤动的笔尖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79080" y="372420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 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45600" y="4387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请找出第七自然段的所有形容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E:\图象 1 in 珍珠鸟 副本.jpg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4749840"/>
          </a:xfrm>
          <a:prstGeom prst="rect">
            <a:avLst/>
          </a:prstGeom>
          <a:ln w="0">
            <a:noFill/>
          </a:ln>
        </p:spPr>
      </p:pic>
      <p:sp>
        <p:nvSpPr>
          <p:cNvPr id="87" name="WordArt 3"/>
          <p:cNvSpPr txBox="1"/>
          <p:nvPr/>
        </p:nvSpPr>
        <p:spPr>
          <a:xfrm>
            <a:off x="3048120" y="533520"/>
            <a:ext cx="3124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cap="sq" w="12600">
                  <a:solidFill>
                    <a:srgbClr val="000080"/>
                  </a:solidFill>
                  <a:round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珍珠鸟</a:t>
            </a:r>
            <a:endParaRPr b="1" lang="en-US" sz="2800" spc="1" strike="noStrike">
              <a:ln cap="sq" w="12600">
                <a:solidFill>
                  <a:srgbClr val="000080"/>
                </a:solidFill>
                <a:round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04000" y="92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3399"/>
                </a:solidFill>
                <a:latin typeface="Times New Roman"/>
              </a:rPr>
              <a:t>问题研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202480" y="2971800"/>
            <a:ext cx="492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为什么文章在开始部分用单独一段强调珍珠鸟“是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怕人的鸟”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890000" y="1143000"/>
            <a:ext cx="559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朗读课文，画出文中交代“我”的举动的语句。说说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”的努力下，“我”和珍珠鸟之间的信赖关系是怎样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步建立起来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039920" y="4410000"/>
            <a:ext cx="123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作者在对小鸟神态、动作的描写之中融入了自己的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爱之情。请从文章中选择一两个例子，加以分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85800" y="18572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珍珠鸟在“我”的照料与呵护下发生了哪些变化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85800" y="3533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作者写这篇文章想告诉我们什么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62120" y="5335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读后想一想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8" descr="C:\Program Files\Common Files\Microsoft Shared\Clipart\themes1\Lines\BD21427_.GIF"/>
          <p:cNvPicPr/>
          <p:nvPr/>
        </p:nvPicPr>
        <p:blipFill>
          <a:blip r:embed="rId1"/>
          <a:stretch/>
        </p:blipFill>
        <p:spPr>
          <a:xfrm>
            <a:off x="990720" y="5291280"/>
            <a:ext cx="7391160" cy="82224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8197"/>
          <p:cNvSpPr/>
          <p:nvPr/>
        </p:nvSpPr>
        <p:spPr>
          <a:xfrm>
            <a:off x="755640" y="2854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9"/>
          <p:cNvSpPr txBox="1"/>
          <p:nvPr/>
        </p:nvSpPr>
        <p:spPr>
          <a:xfrm>
            <a:off x="762120" y="3284640"/>
            <a:ext cx="2314440" cy="12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信赖</a:t>
            </a:r>
            <a:endParaRPr b="1" lang="en-US" sz="6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98" name="Picture 4" descr="D:\资源库\五年级\第七单元\25.珍珠鸟\金山珍珠.gif"/>
          <p:cNvPicPr/>
          <p:nvPr/>
        </p:nvPicPr>
        <p:blipFill>
          <a:blip r:embed="rId3"/>
          <a:stretch/>
        </p:blipFill>
        <p:spPr>
          <a:xfrm>
            <a:off x="2805120" y="0"/>
            <a:ext cx="6338880" cy="449280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685800" y="1531800"/>
            <a:ext cx="231444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信赖</a:t>
            </a:r>
            <a:endParaRPr b="1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838080" y="4884840"/>
            <a:ext cx="8001000" cy="12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往往创造出美好的境界</a:t>
            </a:r>
            <a:endParaRPr b="1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685800" y="2446200"/>
            <a:ext cx="231444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信赖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1676520"/>
            <a:ext cx="888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“信赖，往往创造出美好的境界。”在你看来，为了在人与自然、人与人之间创造这种境界，我们应该做些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12760" y="32076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3399"/>
                </a:solidFill>
                <a:latin typeface="Times New Roman"/>
              </a:rPr>
              <a:t>课外扩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808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286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586960" y="3038400"/>
            <a:ext cx="407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作者将自己对珍珠鸟的喜爱之情融注在对珍珠鸟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描写之中，把 人的灵性赋予无知的小鸟。请仿照这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式写一个状物的片段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702000" y="-141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3399"/>
                </a:solidFill>
                <a:latin typeface="Times New Roman"/>
                <a:ea typeface="隶书"/>
              </a:rPr>
              <a:t>汉语知识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46560" y="609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是名词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94000" y="1219320"/>
            <a:ext cx="2820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人或事物（包括具体事物、抽象事物、时间、处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位等）的名称的词叫名词。如人、书本、语文、数学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表示具体事物；科学、理想、见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表示抽象事物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天、星期日、早上、去年等是表示时间的，外面、里头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前方、上面等是表示处所的，东、西、前、后、中间等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方位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135440" y="38862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找出下列句子中的名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591560" y="4495680"/>
            <a:ext cx="5351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真好！朋友送我一对珍珠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三个月后，那一团越发茂盛的绿蔓里边，发出一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尖细又娇嫩的鸣叫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333080" y="5715000"/>
            <a:ext cx="58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名词：朋友    你   里边   珍珠鸟     月    绿蔓     鸣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507760" y="6172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找出第三自然段的所有名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文本框 8197"/>
          <p:cNvSpPr/>
          <p:nvPr/>
        </p:nvSpPr>
        <p:spPr>
          <a:xfrm>
            <a:off x="2484360" y="6922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50520" y="196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是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978560" y="958680"/>
            <a:ext cx="530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动作行为、发展变化、心理活动、可能意愿等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词叫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086840" y="2178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找出下列句子里的动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205160" y="2809800"/>
            <a:ext cx="78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我很少扒开叶蔓瞧它们，它们便渐渐敢伸出小脑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瞅瞅我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渐渐它胆子大了，就落在我的书桌上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046160" y="448632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动词：扒开     瞧     伸出    瞅瞅   敢   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184040" y="51498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请找出第八自然段所有动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1F67-949F-4653-A0D8-458098599F1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09:20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47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