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chimes.wav" ContentType="audio/x-wav"/>
  <Override PartName="/ppt/media/image7.png" ContentType="image/png"/>
  <Override PartName="/ppt/media/projctor.wav" ContentType="audio/x-wav"/>
  <Override PartName="/ppt/media/drumroll.wav" ContentType="audio/x-wav"/>
  <Override PartName="/ppt/media/applause.wav" ContentType="audio/x-wav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58F-9DB4-4E9B-B2E8-3A01A79E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4EE-1A0C-49AF-92B9-67D5FA76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42F59-EB27-4BE7-BA9D-76137EDA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BDB49-B877-40B7-8B43-80AB846E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7A73F-FAC4-4A83-894D-5C1406F7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8BE68-B97E-49DD-A6A1-218CB818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1DDA4-F1F3-4114-8589-865E1ED4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826F3-15F6-44C8-B69A-C07239ED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2B77B-842F-4200-99E4-9409FD5F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64499-95B5-4AC4-A651-46543DAE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DCF30-B574-4CF8-AFF2-F9B3EEA4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A9078-A2F4-4F0E-8034-3491A7AB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E1C-7DC7-4358-B410-0E4207A0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20B9E-E50D-4338-B8FA-D09ECAA5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20BFC-B2A6-493D-9044-24031BD1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3F7E1-4BA9-4439-B513-A227C638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14898-7C0A-4638-AA17-A7F94C14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6D264-2AD5-4696-BC43-6A926F47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708E7-F9B4-4456-82FC-147A63F1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17DFB-9D33-4EA7-880D-C7A2D94C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355EB-2CA8-4311-B70A-03BB9EB1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38CC3-23EF-4EC8-A54D-152AE083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E3A8C-7BF5-485A-AFBF-FDC841B1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24F-D698-423D-B6DC-B6799062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11084-002B-4B99-BF00-1883AA4D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CA76F-644D-4572-AC63-738BC034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007E2-3F19-4F0C-9265-A9A23646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8CBEA-BD93-4F46-862D-5BD9B74B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76982-6F2D-47E9-B0FF-C4A077EE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4F1C2-BA18-48C3-99CE-A196C744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1E509-2642-43B7-8B5A-09B93BF6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BF3AE-E398-45AF-A497-1A49553C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0B9C4-50FD-45AD-BFC3-BE2A5FF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62126-50E0-42BC-838A-0131B6EB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94AA-0CA1-4593-AF5C-83F5580D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2B145-C9D1-499B-B9E2-D64C9E1D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09FD6-63F4-4BF5-A744-B6F26DE9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CE2BB-B5D0-40D1-98E8-8D5133F8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2C220-3565-4983-A84D-3F2DBF6D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36472-107E-4432-A319-D77633E4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60B34-E641-40FC-A3ED-83845A08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DCB7B-C5AF-430A-A7DC-E9F9DE0B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294DD-8020-41B5-9936-F9D53F60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C2A21-AE92-411D-8167-5D52FF10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E27B2-9672-4D4B-9443-F841C7B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A449-98AC-4A84-8C3B-3929CA21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C15BF-D148-4F26-A810-BB66D017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6C47E-4AF2-4816-B027-3606912A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52C6B-5A99-40FF-A5B5-DF9C4DFE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7E234-DDA1-46D1-8178-DEFD04F0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115C2-01DA-47E3-88FA-0582645D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521FF-BA72-4CEF-B7AF-4D828D7C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2D6A5-5F73-4138-9B0E-E0F4F102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38588-FFEF-42CA-8872-ABA83B26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1A590-3556-4621-90F0-95C1BC56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3FBAA-EC87-4ECC-AAC0-D3127FC7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2A6D-A33C-46DF-8961-EB6E612F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6A76D-B49C-41F9-88C6-03DE9342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B0741-E92C-48D4-8B07-510361A3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0016F-1367-421A-9A2C-78F82CF0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C611E-6FDB-4F3C-B2A7-9922FA9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9DC26-F7DC-467E-9183-90E657DC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93F57-7938-4B6C-8208-A108F7E8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65CD9-BB7A-4F3E-AE64-32144C99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CB3C-0996-462C-9A39-847AF263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DD29-BB64-4D1E-8A23-DF127224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DF5E-6583-471A-93EC-DB3F1DED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8A78-7D63-4B26-A765-E29E134D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9CE-2B3F-4DBD-A192-718D63DB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1B65-7C4B-41C6-83EB-45D1D34F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88F2-29FB-41B1-9FEE-2D1DCA3F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3472-F5E0-4E30-986A-DA059681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D536-686B-47D0-ABE3-FA205E49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E8DB-7417-4C44-8BCF-285F8656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68D4-41C0-4821-AA9B-672096BA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674F1-5DC9-4A26-8D46-7DEC51B2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436B7-9838-4CE4-9BDD-D70AB28E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2DCA-BD10-45DC-AEA4-C244953E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6CA41-732F-49B5-ABDC-639460F2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CB7-F308-42C3-AB6C-4C651F81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1195-498E-42B3-8A9D-48E08DA6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1DBA-1C86-40D6-AAD7-57A630E1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EC64-5A82-4F89-84BE-CEA8F7C2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47B1-967B-48D0-94E7-6FFE42DC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6A8C-AF08-409A-8D7D-72B86CA8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AABF9-6F5D-43E6-9788-F2E1AFED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48D3-6E30-4FFD-B417-2F0823D3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B6CB-7B9D-4D23-9455-0545836F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5339-C57F-48DC-8BF1-78781E41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E15D-7186-428F-9348-79FDF8A4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713-0273-463C-A314-974E3645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68964-5C48-4C7E-9CBF-B746DC90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7E031-2134-4B09-B13A-D3C43422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E9A8-D87D-42F1-9A10-EB592E18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1CB0-74EB-46C9-9AD2-D217CB73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DE28-A70D-4F07-A75B-FF3ABA3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263C8-5D0D-4806-8BAF-B7D78610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A390-D399-47E6-89C4-E651C794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A658-F467-4B63-B2DB-F377C907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99C1-75F5-4102-8B29-CE44BB9C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71F88-3078-4C1E-994F-361D6EB1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283-B942-45FC-AC2F-52FA459F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4F934-2713-48A0-81E4-6CB4E028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E82D1-54A1-45F2-966E-5449BD47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A3A55-6D07-409A-950A-53E22ED4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F2CC-58EE-41FD-BC9E-432769D8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C9DEE-DB5C-4E97-B5B0-05581DC2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35A42-18CA-41CF-B9C0-0C6B2D6B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CE11B-4A9D-431E-BBE8-7D20467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492BA-1A90-48BF-8888-FE3D37F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EBEF5-C235-4448-8B10-6D0A8A6E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F559C-8A52-40DE-A785-71819236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462-5287-403E-976B-68B79C7F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95F4D-2581-40FC-A034-F89E26B3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E5644-F69F-4376-B46C-8F9F79F9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50AAB-438E-420E-A1B1-98B6FA50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AD2F2-C500-458B-BC3A-A2B501AC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5C2C-2EE1-4384-99ED-4DD93554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8CEB3-8301-4407-9FB8-00F8FD21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5B7FD-85FB-4739-A3CC-F0DDA98F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453F6-E5B1-4695-85BE-2B7BCE89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82426-1BDF-481A-829E-FD3C852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AADB8-ED83-461F-B771-B9FD6C62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365-56CC-4316-97A1-2047F358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3A679-F683-414D-A62E-9BDE596A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E7BE-18A4-40BF-B2F1-1D1B7D62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78F4-A823-4FEB-96FC-481FEF5A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8A02E-DE4F-40C0-9BE8-B9A05BBD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B3F20-F28B-49C0-8DBF-6263BA10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66DF3-072E-4E24-9AB4-B8FE930E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12016-15ED-447E-87A9-0843252D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6CBCF-520A-4C1B-B1D0-DD860B92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D6FE7-C08A-4A88-AC70-6381A340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5C989-76A7-4F68-9402-96C2C974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5DC-1747-4EF5-8AD2-5D81973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52C17-5520-4194-A7F3-413BFD59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683C7-09CD-4E2E-A8D9-C117AE6B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E7B23-8A2B-42DF-8924-0D6EC90C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54778-A828-4D01-83B6-CB883FA7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BB62D-0023-4A03-9570-2F52251A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576D5-8104-4E46-838E-A553262E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C654F-1579-4E4F-99EF-EDDCF8CD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0DD48-304A-4CB4-A97F-18270056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4D2E7-77D9-4C09-950B-A359B105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81F5E-CCF2-4340-B967-94BBB185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5F2-E125-447F-857D-1B314118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EAE75-6A5C-4581-B264-5271F502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F3E72-5280-4C6E-9C9F-265B050B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0507D-D836-4964-AC94-EE0353F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B6A59-627C-4BD0-9036-CB645E18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C4655-E4F9-40A9-A803-C7B1C31C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6E40C-1525-47A2-B11F-877F461E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A1361-7560-409D-BBAE-79B7F627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FF237-2A00-47E5-B979-5C4AFFE2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71135-C5E6-46C6-881C-0BBE3CDD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17B1E-1825-4EA7-A2E3-A9479BDC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1A0A-0DA5-40F3-A094-EDFC40FBA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E542-CDF9-433D-B145-BD5918C02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20F3-4C55-4714-BC90-6F543AA89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8F69-AD8B-4982-B669-6F5B76609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7C81-93D6-4865-AD85-420716C9F53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6ADE-5A36-4BE3-B7A9-F86F56575FB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8075-55EF-49BD-8B91-E9BAB72FF7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10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32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33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FAB8-6AFE-4ECA-AD71-7063ACD7D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F746-8102-48C1-B47D-F08C6F87C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117D-EDD8-46A4-8B5B-8AA84C6F1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8607-7E26-4352-8A98-289EFD338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45D9-E60D-4C53-BE3E-8B982598C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3253-6449-456A-9577-A88C13260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85B3-7342-4D3F-B594-BC2983846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WordArt 7"/>
          <p:cNvSpPr txBox="1"/>
          <p:nvPr/>
        </p:nvSpPr>
        <p:spPr>
          <a:xfrm>
            <a:off x="1763640" y="1496880"/>
            <a:ext cx="57913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ff0000"/>
                </a:solidFill>
                <a:latin typeface="宋体"/>
              </a:rPr>
              <a:t>珍珠泉</a:t>
            </a:r>
            <a:r>
              <a:rPr b="0" lang="en-US" sz="40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ff0000"/>
                </a:solidFill>
                <a:latin typeface="宋体"/>
              </a:rPr>
              <a:t>PPT</a:t>
            </a:r>
            <a:r>
              <a:rPr b="0" lang="zh-CN" sz="40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ff0000"/>
                </a:solidFill>
                <a:latin typeface="宋体"/>
              </a:rPr>
              <a:t>课件模板下载</a:t>
            </a:r>
            <a:endParaRPr b="0" lang="en-US" sz="4000" spc="1" strike="noStrike">
              <a:ln w="9360">
                <a:solidFill>
                  <a:srgbClr val="ff6600"/>
                </a:solidFill>
                <a:prstDash val="sysDot"/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45472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545472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3"/>
          <p:cNvSpPr/>
          <p:nvPr/>
        </p:nvSpPr>
        <p:spPr>
          <a:xfrm>
            <a:off x="76320" y="609480"/>
            <a:ext cx="906768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一、初读课文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自由朗读课文，要求读准字音，遇到生字拼读两遍，读通句子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93600" y="2590920"/>
            <a:ext cx="8839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二、细读课文，了解叙述顺序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默读课文，想想课文先讲什么，再讲什么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最后讲什么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380880" y="4746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作者描述的泉水是什么样子的？先在小组上说一说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4"/>
          <p:cNvSpPr/>
          <p:nvPr/>
        </p:nvSpPr>
        <p:spPr>
          <a:xfrm>
            <a:off x="2484360" y="28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93" name="Object 3" descr=""/>
          <p:cNvPicPr/>
          <p:nvPr/>
        </p:nvPicPr>
        <p:blipFill>
          <a:blip r:embed="rId1"/>
          <a:stretch/>
        </p:blipFill>
        <p:spPr>
          <a:xfrm>
            <a:off x="826920" y="963720"/>
            <a:ext cx="6553440" cy="461952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4"/>
          <p:cNvSpPr/>
          <p:nvPr/>
        </p:nvSpPr>
        <p:spPr>
          <a:xfrm>
            <a:off x="7299000" y="380880"/>
            <a:ext cx="15210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珍珠泉</a:t>
            </a:r>
            <a:endParaRPr b="0" lang="en-US" sz="8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5" name="文本框 8200"/>
          <p:cNvSpPr/>
          <p:nvPr/>
        </p:nvSpPr>
        <p:spPr>
          <a:xfrm>
            <a:off x="1979640" y="580536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45472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-228600" y="10587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533520" y="914400"/>
            <a:ext cx="8076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三、精读课文，理解课文内容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小组合作选择学习自己喜欢的段落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采用自己喜欢的方式读课文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在小组上交流自己读懂了什么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不懂的地方提出来讨论，合作解决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0" y="2895480"/>
            <a:ext cx="937260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362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533520" y="1600200"/>
            <a:ext cx="777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</a:rPr>
              <a:t>、珍珠泉水有什么特点？你是从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5472"/>
                </a:solidFill>
                <a:latin typeface="Times New Roman"/>
              </a:rPr>
              <a:t>那句话中看出来的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533520" y="3657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</a:rPr>
              <a:t>、泉水是怎样从潭底冒出来的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304920" y="3808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45472"/>
                </a:solidFill>
                <a:latin typeface="Times New Roman"/>
              </a:rPr>
              <a:t>讨论：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09480" y="4724280"/>
            <a:ext cx="7467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</a:rPr>
              <a:t>、这泉水为什么叫“珍珠泉”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文本框 8200"/>
          <p:cNvSpPr/>
          <p:nvPr/>
        </p:nvSpPr>
        <p:spPr>
          <a:xfrm>
            <a:off x="2266920" y="558972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45472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0" y="838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这就是美丽的珍珠，这就是我们村的珍珠泉！”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0" y="3505320"/>
            <a:ext cx="82296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、这句话在文中起什么作用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、表达了作者怎样的感情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0" y="685800"/>
            <a:ext cx="91440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巩固练习：填空，读一读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这是一潭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的泉水。水是那样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，绿得像是被周围的绿树、绿草染过的。水是那样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，又是那样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，清清得能看见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的清褐色的石头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水泡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的，射出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光，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光，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光，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光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多像一串一串彩色的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啊！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2971800" y="1371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深绿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7391520" y="1523880"/>
            <a:ext cx="761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7391520" y="13716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7467480" y="1447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绿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822960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深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1828800" y="2438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228600" y="33447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220968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闪亮闪亮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5715000" y="4038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5867280" y="3581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红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7924680" y="3581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黄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0" name="Text Box 20"/>
          <p:cNvSpPr/>
          <p:nvPr/>
        </p:nvSpPr>
        <p:spPr>
          <a:xfrm>
            <a:off x="1066680" y="4114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绿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1" name="Text Box 21"/>
          <p:cNvSpPr/>
          <p:nvPr/>
        </p:nvSpPr>
        <p:spPr>
          <a:xfrm>
            <a:off x="3124080" y="41148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紫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2" name="Text Box 22"/>
          <p:cNvSpPr/>
          <p:nvPr/>
        </p:nvSpPr>
        <p:spPr>
          <a:xfrm>
            <a:off x="609480" y="4572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珍珠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3" name="Text Box 23"/>
          <p:cNvSpPr/>
          <p:nvPr/>
        </p:nvSpPr>
        <p:spPr>
          <a:xfrm>
            <a:off x="5410080" y="2438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潭底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FD1A-0391-4B76-90ED-1A90E2C200EC}" type="slidenum">
              <a:rPr b="0" lang="zh-CN" sz="1400" spc="-1" strike="noStrike">
                <a:solidFill>
                  <a:srgbClr val="545472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0d0d11"/>
                </a:solidFill>
                <a:latin typeface="Tahoma"/>
              </a:rPr>
              <a:t>（九）课堂延伸：建议阅读</a:t>
            </a:r>
            <a:r>
              <a:rPr b="1" lang="en-US" sz="4400" spc="-1" strike="noStrike">
                <a:solidFill>
                  <a:srgbClr val="0d0d11"/>
                </a:solidFill>
                <a:latin typeface="Tahoma"/>
              </a:rPr>
              <a:t>《</a:t>
            </a:r>
            <a:r>
              <a:rPr b="1" lang="zh-CN" sz="4400" spc="-1" strike="noStrike">
                <a:solidFill>
                  <a:srgbClr val="0d0d11"/>
                </a:solidFill>
                <a:latin typeface="Tahoma"/>
              </a:rPr>
              <a:t>当代中国游记一百篇</a:t>
            </a:r>
            <a:r>
              <a:rPr b="1" lang="en-US" sz="4400" spc="-1" strike="noStrike">
                <a:solidFill>
                  <a:srgbClr val="0d0d11"/>
                </a:solidFill>
                <a:latin typeface="Tahoma"/>
              </a:rPr>
              <a:t>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380880" y="380988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45472"/>
                </a:solidFill>
                <a:latin typeface="Times New Roman"/>
                <a:ea typeface="方正舒体"/>
              </a:rPr>
              <a:t>    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方正舒体"/>
              </a:rPr>
              <a:t>谢谢各位家长的支持、合作！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2:53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46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