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</p:sldMasterIdLst>
  <p:sldIdLst>
    <p:sldId id="256" r:id="rId51"/>
    <p:sldId id="257" r:id="rId52"/>
    <p:sldId id="258" r:id="rId53"/>
    <p:sldId id="259" r:id="rId54"/>
    <p:sldId id="260" r:id="rId55"/>
    <p:sldId id="261" r:id="rId56"/>
    <p:sldId id="262" r:id="rId57"/>
    <p:sldId id="263" r:id="rId58"/>
    <p:sldId id="264" r:id="rId59"/>
    <p:sldId id="265" r:id="rId60"/>
    <p:sldId id="266" r:id="rId61"/>
    <p:sldId id="267" r:id="rId62"/>
    <p:sldId id="268" r:id="rId63"/>
    <p:sldId id="269" r:id="rId64"/>
    <p:sldId id="270" r:id="rId65"/>
    <p:sldId id="271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" Target="slides/slide1.xml"/><Relationship Id="rId52" Type="http://schemas.openxmlformats.org/officeDocument/2006/relationships/slide" Target="slides/slide2.xml"/><Relationship Id="rId53" Type="http://schemas.openxmlformats.org/officeDocument/2006/relationships/slide" Target="slides/slide3.xml"/><Relationship Id="rId54" Type="http://schemas.openxmlformats.org/officeDocument/2006/relationships/slide" Target="slides/slide4.xml"/><Relationship Id="rId55" Type="http://schemas.openxmlformats.org/officeDocument/2006/relationships/slide" Target="slides/slide5.xml"/><Relationship Id="rId56" Type="http://schemas.openxmlformats.org/officeDocument/2006/relationships/slide" Target="slides/slide6.xml"/><Relationship Id="rId57" Type="http://schemas.openxmlformats.org/officeDocument/2006/relationships/slide" Target="slides/slide7.xml"/><Relationship Id="rId58" Type="http://schemas.openxmlformats.org/officeDocument/2006/relationships/slide" Target="slides/slide8.xml"/><Relationship Id="rId59" Type="http://schemas.openxmlformats.org/officeDocument/2006/relationships/slide" Target="slides/slide9.xml"/><Relationship Id="rId60" Type="http://schemas.openxmlformats.org/officeDocument/2006/relationships/slide" Target="slides/slide10.xml"/><Relationship Id="rId61" Type="http://schemas.openxmlformats.org/officeDocument/2006/relationships/slide" Target="slides/slide11.xml"/><Relationship Id="rId62" Type="http://schemas.openxmlformats.org/officeDocument/2006/relationships/slide" Target="slides/slide12.xml"/><Relationship Id="rId63" Type="http://schemas.openxmlformats.org/officeDocument/2006/relationships/slide" Target="slides/slide13.xml"/><Relationship Id="rId64" Type="http://schemas.openxmlformats.org/officeDocument/2006/relationships/slide" Target="slides/slide14.xml"/><Relationship Id="rId65" Type="http://schemas.openxmlformats.org/officeDocument/2006/relationships/slide" Target="slides/slide15.xml"/><Relationship Id="rId66" Type="http://schemas.openxmlformats.org/officeDocument/2006/relationships/slide" Target="slides/slide16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A6B8-778B-4464-AAF7-58F44757A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597C-D72C-4F82-93B9-7F34D37D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19F06-E7B4-4753-8C43-604A13FB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7EEDD3-BA44-4324-8428-4C967E69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52F182-96A0-429B-A56F-BD0359B5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389491-B070-4D04-A499-6DFDBF9A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85EA5F-31F5-490A-83AE-09E03F0B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80556A-5F71-4F68-B7F1-84A02551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15C481-5354-47DD-A279-1D51E5B9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13A18D-F456-4E4D-80D8-987D29A37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220674-D674-4309-9F8C-A581BC543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449F16-5865-419F-A1B1-83914A004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2385-4434-4D4F-811B-1DDF03331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08527A-1C97-4875-B17E-2348B8A1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3C48AD-3AB9-4A92-9811-32CA4546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7826C4-CB66-4C31-8F7C-52C0F2D9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9A942F-5BBF-484F-959E-59926163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F75D04-634B-4740-AB63-64203D28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9B7511-8252-45D8-AFCF-8005C9E2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8E43AF-1167-4687-B076-59B410A7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C9A6DD-E249-46BC-AACD-DE4623F9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01B570-6547-4224-BA00-FB27F127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346ADA-69BE-467F-ABB7-04C465062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C668-A380-4F11-999B-7356D9F80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32C6B4-616A-422F-A927-CE7C567F7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1201D-765A-4707-BA7B-49C0981EE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09530-2ADC-42D0-B0DE-90FCABD2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AAD002-0257-4E3E-BE3E-3F780D7A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C04E47-32F3-48D5-80F4-402B3E29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95814-B860-4BC3-82BB-77AF95BB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1F3EB-214E-46DC-8F15-0CDA2575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2BF39-402B-45F9-8730-A813C38E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A2D704-2422-4AE6-B7F5-8FF56BB5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D6CB02-F61B-40A4-9392-1E544213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A096-B7FD-43DE-B441-7D2F45484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14CB6-B28D-4C43-93DE-D9EF8763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3161AC-3671-4255-AC2F-9231AC03F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E4DAC-AB06-4852-901D-74F660CE4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22A67B-3C6C-4C9D-BD56-177055F3E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AFD9F1-D9B3-412A-AF79-38C778554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108DE7-B6D1-4C89-AFED-6AF95738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8B0D6F-EECD-4BDD-8E60-D8B62EBB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F7E635-F8DE-43D2-8075-49B9BAEA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31954F-38C0-4F39-AB42-8999D510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4F2615-0CBB-4720-974A-77D86FE2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576D-2CBE-4FE9-9EDB-6A6A8A478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08F08D-6E27-4EEB-B351-796BC2CC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E673C9-E6C7-4FEA-8E27-742E70F4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09B51D-F602-4941-B178-56E62457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EA0498-940F-42A0-A53B-3047114B0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E8DDD2-A6B9-4ABF-8EB1-DDE853651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867927-C982-4B23-BB95-4B2628A58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799916-1E70-4053-8109-B4F67E3D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B62100-E242-423E-B6B5-8B2A7860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80E4E2-8FC5-43D3-846F-19D7950D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D450D2-6974-408C-A12F-E01973C7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9489-D571-41C6-8543-599B9427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1474B7-CC13-41C1-AB0C-33CAAC6B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8F09FD-0796-43FB-A2C9-D6663A91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5D25B4-B489-4ACE-97E2-70D97FDD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E7A880-34CC-4C8D-9683-A8BBED99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290FF3-DD8C-473C-8DE9-0AB033B3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03EF81-547A-4D04-A258-AAC434CF2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68E15D-451B-4D3D-8D55-B883A4D5D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702A75-57F2-4B88-8297-655B90E44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9ED91D-A13C-465E-A2E4-7E5D34F5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D21FFC-06BB-4750-BC05-059E163F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03D0-E849-4085-918F-615C1396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38CAA8-4F4B-4B1A-B182-90D4F463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C2AB38-6E8B-44AE-9BF8-808C373E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D12ABF-0A26-4667-98D6-BEE28C21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28CD38-5F7A-4C52-A985-AEAFD240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AF0915-E437-45D0-AB84-D2407A00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FF7494-932D-4554-93D8-03DC4289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334C67-7464-49D0-9001-BA81E362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9C2E15-651D-403F-994C-E7451F361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E0BE00-DD90-411A-9FD5-083F3BCE1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55B572-04ED-4801-A14B-ECF8BB0E5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897B-C395-4809-AF7A-37BB7C70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F8ABB2-6B9E-4BB7-B1F9-4957AC07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9E94F5-B52D-4B4E-9282-61D9AE53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5E2118-EBE8-4E72-86D7-D4DA1C83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8E5F10-4079-4305-AE2F-AEA2F5BF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F71B3E-6FF6-428B-9A2A-B4F4271C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449980-2648-4109-8435-B7E9DC3A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B459A6-E9D8-4F2E-A0E3-80758A46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CA8233-E250-4ABC-B628-1F1314B6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7C65E6-D700-4F50-ABD1-2C43728F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3DCA5A-D2A1-4678-BF9C-962FB3A11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253C-274C-4F44-B37B-443B161A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5CFC6E-9110-4E9B-8D10-5BD9EF2D7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E23B03-FDC8-4D1A-9D6B-7BBA56AC8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3702C3-848A-4434-A3CE-6B00A026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E2403F-A94E-496C-9C23-4DC956FB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6BB358-2498-4CF0-A7FB-E02DB67D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6BC888-1658-4948-8D25-C38526E4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30CE42-D151-4BB0-B68F-8ED2FBF4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60DB90-8BC5-4016-A3E8-BEA14A0E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7BCE03-67B6-4197-B823-D9D8B015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CD4A19-6D77-4198-8B95-AFA04164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A548-8028-414F-AE70-E9AD5994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A72533-DCF3-42B9-9D43-BD17E360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8EB33F-CA5A-4F3E-846E-878BECD7B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69AB52-F54C-4233-8B39-05D0BF116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050EDB-565F-43DC-9113-764677D0A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EEA7AB-CF11-49DE-8171-8CA9FB56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8A35C7-CB5A-4F24-AF17-1801FC4C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D9FF50-5740-40A5-8441-59B587AE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967965-543C-424A-B556-68768955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D7CDCB-82D4-4C3E-AB6B-3DE0CFD1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ED42B5-9C37-491F-8E15-2AC4CD1F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7048-1956-4B26-A831-39FAAD91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9E1D-81F2-4E4B-BC41-BB45DB05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5C6633-DAB6-4491-9466-607FCC62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31E131-F6CD-4F30-84CF-BD701D19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95EAF9-77A0-4546-9F8D-32C6FFBD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0C4339-A133-4EEC-A3C5-4B371F48F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095FE2-235D-4A6C-9263-4F1D06565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ABFDE6-F4F5-4C13-BDFE-D5E157BD1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2E0D6D-50AC-4425-A456-2A3FCBF6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D15A17-015B-42BC-9C4A-B405E804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5A5DE8-869E-4E93-88B4-EE1DE5B0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398345-AB27-48D6-A586-4795F530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0111-D1A7-4046-BDF4-65EABDBD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ABF5A1-2E90-47C5-8509-2A632CD1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9A5BCC-3612-455C-8350-80F7142C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643895-E4DC-45E7-9F28-28CA8097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5AFFF4-DFB0-48B6-A77A-187ED003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01B5FC-5504-4558-B1A5-97FEFD26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14E8FE-DC79-4B65-A9C8-923FE99E7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1E770F-31B1-49AB-9F1C-7DD5914CA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9FEF5B-263E-43A2-A619-774ABA1C7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347138-7776-40E3-86A8-42AB5EB8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9C906D-2E47-442F-85A3-52A9D02D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6C52-4181-4C6E-9554-99557414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4D3C7D-CA2E-4C08-BC69-D4C7D127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D11192-A1D9-46B5-B2CF-98E742F9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6175D8-BF66-47E2-873B-B0BB2981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1088B5-081F-4713-8EAB-6CADA3A8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08DD4E-57B6-4FF1-ABCD-CE79D0B3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2E4966-DB37-435F-A810-8FD13AA0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6D3FCB-37DF-4607-BE64-9B17F66D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6719A2-19F8-4DE6-AD3D-4D98AD29A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A6DE87-3F6C-48BE-8FA9-A2DA8FB40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C1A4C7-FDBC-4AC3-9672-D6609EED1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04C0-0169-42EC-93E6-CDB5DFB12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36F2F9-B354-48F4-BD0F-02F605D2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342C91-889F-4400-8BE6-E96418D4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D645B9-BE9A-41AD-9A84-A03C928E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1A6FFA-249F-4298-9472-1EA6FA8F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D7FC59-1D0A-45AD-ABE3-7B6985F6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FE230F-7697-4CAE-B9A8-0D09523B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60B799-B76F-4AF6-BAAD-99C20F6D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6AD3F2-5B25-4219-ABDA-A37C458B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C26A9D-99E4-424E-80C8-4E14F5E6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9144B5-13E7-4B97-9BA2-F603F44D2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4D56-59A9-44A9-8381-D12ECB9CE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C5AAE3-77A6-4016-A0D2-1721E3BC7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FCB98A-1C0B-472D-ADE1-95A2C483F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AE25C7-BC3A-43FF-8111-9F026678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DA8A0D-4575-471F-A3F4-46EEF33A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DBEF23-284D-4303-8C29-C79E1D4E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C70E01-3A1E-4694-95F1-FC466110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FF2DC4-F2E0-4AB6-AADC-627A8B85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E98B50-DCD4-4C40-A0E6-5BCE7175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10C30D-B9F6-44DB-95C4-1F7F6BD9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74ED4D-48B3-40F6-B016-2C2FDCD9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6FF19-5603-4C70-A73D-6F6BA063E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AA917F-2B02-45DB-8C2C-49727D61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7E8AD4-E0F3-4C85-8C7C-2F89199E7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91C1A1-EC16-417C-9356-3B6D6E0A4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B4E1F7-D974-4660-9832-5E1B2DEB6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D0C1CC-7D4F-4F42-8106-3523E9A4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EC43C7-5D31-4BA5-A378-3E79EF8D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9B859E-8122-4A5C-A7BC-D02B6453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9F8643-05AD-438D-A7DB-4A787ED5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95CDF7-743B-4028-9262-3E0A315C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543B8F-6E25-4CF5-97BB-6A791E28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CA3DD-F89E-4A6F-A213-73229082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7688C4-2BEC-4286-9BA7-C65AC4CB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FAC39A-499A-4238-AE30-2946C17A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132623-8099-4569-ABE8-5793250E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878DB4-3021-48D1-BB31-E9B9C35D7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7F4C9D-AD1D-403D-9B7F-C6F714F6E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267657-0665-4E7C-A247-66E29EF4E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DBB583-54EF-4512-B411-EA3415B9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55B086-07C9-4A0A-B4D8-8B32B1DD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584EEF-F663-4484-93F6-3BDB478B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B1247D-A56F-43EE-81C8-810C5D8D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7B4C1-EF85-459D-BB5E-36ED89A4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E3D0DC-F0D4-4671-B539-963FFDA2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69AF63-0AC8-4F21-9627-011440C7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D6FA6E-E67E-4185-8A6E-7983C758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1C6C01-7866-445D-B6B0-5FEBA031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49F8E5-772F-4420-AFAC-B436F403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FEF481-E4DA-4407-86FE-4001D0403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CF6B36-9E2B-42F5-8185-877DB65CC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01883B-28A4-424E-BB90-2909E092B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C14F578-A20E-4EA1-93D7-769974D1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3D6F27-BB86-4582-8B50-500D1F36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08A4C-9E32-4BB3-A2C9-66B783BE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E29613-16F3-43B5-82C4-38AAC811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22AEB9-1A68-4076-BFF9-3ABA53DC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F90896-31C3-4C23-B72C-DCFAB377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499303D-06E3-4D84-B925-086244FF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B12B6D-D0C8-4FE9-81A6-C6808265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7CC9CE-FDEC-4ECD-83BF-FCCF9177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74CCAB-99B6-49D1-BEAB-FF839F36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A8E642-6F8E-4B36-9D58-BF0AE9910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599AD9-B405-42C4-ACE8-1BBE21C52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077A5F7-9899-45FE-A7BC-28C0C59B7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D0843-81D6-4C25-8D6F-48DC67E6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7EFF878-DFB3-4A6B-A8F6-D6C78A4A5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857F4D2-6356-4711-8037-1D60319A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6989351-28AF-4C20-9D9B-0F42780D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93D4200-F805-4481-BBF6-7202A24C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59F8377-2BCA-4CDB-8D21-7665B967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6DB0B22-0DD7-4C1D-9058-AD16DD38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630F48F-9390-4317-93B8-5C0B0BE2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CB8AAA3-48A0-46D1-A39E-B4BDCDE5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28E6E9D-AB8C-4438-9DE5-64F00009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6F48AB4-D14C-47E3-A2E1-EBAA69A60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2585-21E0-48E3-9273-7D8F9B2A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A3620-74BB-436F-B148-49FA81C9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E990D81-9F96-4824-8420-2D20A7F49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A459F05-2659-4323-A8B7-0117EBE54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1024F01-3FEA-44DC-8993-FF11A3B0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5C50E95-2BC3-465E-97F2-82DA7A4F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172FC2B-D858-4CCA-B12C-422F1EB5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D5DB8D9-A226-428D-8C88-DBCC47AB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254C77D-AA21-4218-9D84-F4BA6F9B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AB715E9-F47B-4033-B836-3251447B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DAEADA4-98E3-4257-8658-18B754F8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CF1A29F-380A-429D-90D4-B1B4E61B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E81EA-AD70-435B-9732-3A60E807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496FE82-1B93-4E9C-AA78-4D61710B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60B4F65-5898-426A-910A-F89A5B275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AD825F2-08B3-47D7-8244-227A05FED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B5B4228-F89B-4805-8D6D-09CE06D38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D770106-2965-4FC3-B8BA-C785D4ED0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1E265C5-68DA-420A-99A6-2633C28A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887CE07-899D-490C-9477-59D691E0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C34895D-B54F-4E83-AF9D-3E0B6130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E615A00-CC39-4146-99C9-8567FE50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FDF049B-25D7-4C25-A3C9-A0DEA674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E90A3-1576-4A0B-A8F8-E049382A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3EB8B3D-173B-482B-BBC3-CFA8ED79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4F65DB8-B2C9-48E4-AA3C-4A2D0179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26400F6-538F-48C0-9349-47001AE2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3047FE1-0E1D-4FBA-AD0B-0C09CBD6C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C344559-B262-4EFA-A0AF-218A9F996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F5C386D-CA2F-4545-84FC-C1CAF4E29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0B118D7-0795-46CC-873F-BB0807AA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C0E2846-FB82-48DD-95D6-B75003DA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46A2EEF-F262-4ADE-8B95-B84DEF7E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AA01EE1-2185-48A7-B3BF-E9D3A75E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DAFFA-9F6F-4D92-BABA-DB6E1646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B4F078A-A63A-495C-BCCB-F98B34C5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D085AD5-CDAB-4510-B905-3C74FE65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A4CDA63-2C80-48C3-8A03-9C46F4A1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10D8BB5-DB64-4C7B-B044-8D2091B9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CDF6354-5D7E-4F5C-9F4C-EFBEBDAF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B534712-1504-4570-BFF4-BC8C4671E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5A451C2-89D4-4CDA-B7BD-4DC777CD4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78309F9-0527-4267-B323-CA2E95E14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13CADBE-49F9-4316-9B89-0DB61CAD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406FF51-C6CA-4528-8D29-8A55317C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B1EB8-394D-4B31-A2CF-30665FF2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2B8255B-D1F5-4D5E-9740-35F65551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552097E-BB78-443B-98FF-B81F4D37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F81AD35-4B05-4FF6-B0F2-03B2AED3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A268E6B-CBA9-4BD4-A36C-8B4ACFE0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00E1AA6-0C64-469A-AE64-F4F656FF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8C51A7C-C175-4984-BF35-0872B08D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12F0AAA-C00B-4101-A890-7C8397EF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4ACAB2A-D45A-47C4-B0E4-B31B33078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7188345-A0CB-4B70-9D03-5BBF9007F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8747020-FAEF-4048-9A9F-AD4E327EC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FC8C3-AFC1-42B0-9363-41AD9758C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967936A-462B-4505-ABF5-E28D5143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02F562A-748F-4A96-9F23-0AC07B22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B9CF503-8C6E-48E4-8138-0B470D67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46244AD-5B5F-4DE1-B8A8-9728C1EF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B4D1E11-3E22-4876-9B04-5347B82B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2EE20B7-3471-4F2A-B9C3-8A8719BB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0431492-F77B-4F33-8FA7-A48D8A7F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6433A96-2DCA-4285-8D63-F0AA38CC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C762666-673E-46C4-8768-182B2BD0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E3BC220-142B-46F2-94C4-CA72FBDBC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8452F-64F2-43DC-99C4-B25E12FC8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05DC018-FE11-4EB0-A88A-0DB0F9D88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A9D5929-6FA1-4A44-AE1D-87F39A21B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CE67AE7-5C28-44BB-9FE8-D7BCC590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3B22313-3164-486A-9BEF-AA06F790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22741EB-4AA4-4034-BEC9-84B1B19B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3248405-1895-4B94-81F2-C8EDB2CE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49DE200-5D84-41BC-9F7B-6A90A05D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117F237-3D43-4563-AB81-28E43759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CE52C41-8FAB-4DA3-959B-3D7160AD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A785C8C-C15D-4A2E-8040-F62DB067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CFAC3-14AC-4185-B9ED-7A16669D6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FC93EA0-017A-4E6B-AFFF-C6EB2B48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C2A2311-6EDF-44FC-A11B-F3E01AF98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341F5D3-44C9-4A3D-BAA6-9F84047D6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506E7C9-DC10-4959-BC14-DFA1F7062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9C60DA4-A9A3-4106-81DB-29AF5CF1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F38EE08-DE28-4BE2-ABCB-106DF4CC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4AB520E-FF4B-4E65-96D0-8742835D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E0B2F72-1FCC-4F25-B071-F3C680E4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B9C82D2-8D1E-4A86-B947-E4FFA5E4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ADFDC9C-70B8-4D26-8664-7436E910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36BDF-B41C-42DF-86FB-79AA6862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D2933F1-4DC1-46DD-970F-5D249873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369F151-561D-46DD-8917-D47DEB3D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5F8BBC3-524C-4CD8-A606-9C44866D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8550045-0C92-4FB8-9993-4D2AEF77D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CE9A73E-4975-449D-9C45-AD8A76F89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D5494D4-FBEE-47E0-8D70-6D5898001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E18414B-8BEE-4F38-B91A-116902C3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A3E6017-7F67-4596-A77B-B4F6A886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D44642E-40EF-40CD-8224-E06AF28A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44DA7E3-3EC3-4EDE-B5CA-833A7661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7170E-1D5D-4576-977C-FCF480E3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E66A9DD-C3E2-4F31-9319-D80CD12F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33CFE98-0A38-42C4-A8ED-D341A54C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43DA275-7D65-43F3-80C1-E7463CE7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E53C915-1170-47E3-A185-DE878210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2B43A89-72F9-4F52-9D3D-2E01BA67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C6108C3-1FAA-4135-A52F-6DF91F3CC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E0E4F0B-F2D7-4C6A-9842-F633FA665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63C6176-7F3C-464B-9801-3E4FEC1C5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D1DB7EB-423E-45D1-880B-86EAB8E2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E02094E-DCBC-4578-B203-9FDA2CE1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DEB5-707A-4F3A-97C4-D71F8009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BD7D3-BF02-42A8-A2C9-52BBB883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B29D216-F66D-4413-81DC-BB009F5B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1B7B10B-4802-4199-AE3B-1AED7C4C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72A45A1-DE08-44B4-BDE6-92BD4762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023E1F2-A8BE-4B64-ADBC-51A62B26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2F97662-63AA-43A6-AC3C-5CAC5FE2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90745BA-EA66-4801-84AF-9D2F4D6E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C15CDFB-4994-44D0-AD72-D89F45FA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2EC0D15-F921-463E-A7BF-9B95173D8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18D53CB-68DD-4FAF-B321-70CEB29B4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9A6A324-25DE-40C7-9300-62A0A947C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F7CBE-DD46-46D4-B2BD-736A30C6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51AF7E3-7C25-463D-95E7-A1209F73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0097B0D-9CC4-4FDC-910E-A24EAD91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56DB8CD-4B06-42AA-8788-10B12E36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B0C893D-06E5-4F39-AA00-733A91D5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501F0EB-5B93-4E32-9904-8625EED5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3183125-1896-41FD-B9F9-08341642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8A144C4-51FD-485D-B8FB-2EC0E7A2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6C08C72-EA23-4AF8-966F-46BA0723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5810466-AC1D-4BAD-85D1-B3E7BAE6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AE9C6A2-31A4-40D9-B55F-367DEC561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DD3F0-7E94-46B6-9F6B-08C832CF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9B45261-3F78-4086-81CA-999D9E390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02C97A8-94B8-4E53-BD55-87F973F73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5C5EC08-1935-4DCD-9B32-9DB37E42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0115BAE-43CA-436B-A522-8577E843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3614FC5-10C5-4027-8D88-AAACB267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0D185F3-AC01-453E-AB31-944823D4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9530C1F-F57B-4E20-BBA7-90FAB0DF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8703725-8866-4F3B-856D-463340A6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83CD323-1826-4F66-81CB-FF768442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120F2E0-C668-42E9-BDC1-0DB2F0D2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28479-3578-4C77-8BE7-C4B113A1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2827720-E622-437E-B259-57A557E9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CB4D02A-22D9-434F-8B01-1F693CAF0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DD6ABE5-6A5F-4191-BE29-475046349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03CC46E-BCB6-4993-9B1B-651939E7B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0A240F7-C8D7-4850-A272-0E0A6264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697BF3C-6FEA-4AB7-A970-10EEFC8B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326F8A3-CE8D-4D01-B1DF-9962B842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FE783E0-D882-4ACE-9C57-AEBCBE61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173D693-0770-4755-AE81-ABF8E168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6A2A67E-5189-412C-BA08-558A7282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6399A-D998-4AB5-8755-C3D16D97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DC7E289-357C-4812-AC46-720DDA80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4AA8BEA-B7E5-4B82-BD91-969A1477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E830337-94DA-41C6-A400-61D4993A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8598C80-345F-4C2D-8612-815FF0605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2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32244CF-9299-406D-AEB8-974A83622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8E924D4-CD53-47E4-A639-2092C1318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25EA5CE-4CE9-4863-9FE7-35D3A83B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9B2BE4E-5810-4BB5-9E45-A7EFF025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E39DD61-1136-432C-B91A-E1B197DB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61ED0A3-152A-4097-A695-13BCA9F5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75196-9CF1-40BB-8279-07212A5B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FC32BB4-0465-407E-86FE-4E09DB3E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CEDD6E8-53A6-4D47-8857-4060FCA4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CAF3720-BC5A-4DF7-896B-60A176F4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D9E4EE7-F337-492F-B21B-91D37257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477D9B8-9E01-4597-82E7-7C280259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6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21F644C-3490-49DA-A044-8A34F75F7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521503B-3609-4741-8F5C-441514A25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0931143-F18F-4741-A0DD-BE0606DD5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A072BD6-559F-4EB3-BAD8-2A862432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18CF115-30E2-44E1-ABE1-F7C7F9BA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F8EFD-D63A-41A7-A33D-DDFBF407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6A1A6F8-8BFD-4019-94E1-16F07BA5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40157A1-D8A5-4755-A70A-A21C6C98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53686D3-A2E8-4B67-B375-01000FA7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63687A2-A995-4E88-B7F1-243A061E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A38F776-01C2-4CAA-AEF2-C251D078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0EBC266-8F6F-44BA-AF9F-7B178965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8A6EC2F-F8FD-4488-A33A-1649E1D0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7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EE5B903-C3F6-4378-986F-550FE319F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1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3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0199174-18DC-4FA4-853D-579C8632D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6B0CB49-711F-4420-BA61-D7F43FBED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D5D43-6F33-4672-9AB6-758C3F9B8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A16073C-81FA-4E57-B367-44DFBCD4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AD28E63-593B-4C9A-A2D6-2AA6FE2B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C11EE48-7A66-4063-938C-C18DAED1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05EADBB-67ED-4319-900B-FF747A30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FDE016B-BBA6-4518-8E41-33541EB5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A3337D1-93B7-431F-8552-57333843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F2345F5-CE20-4149-8F24-D717474F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E904AA8-36F5-4D3D-B7F4-E5E207AD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325081C-2C6C-412E-8691-D480FE8F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8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E31047B-ACD6-4ECF-B5C4-C57E3E10A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12DB1-D18F-4A5C-B7A2-AC1350DFE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B0ABFD8-FDD7-475C-841A-F5C64F3EB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5506EA5-3EEB-46CC-B597-946B5E458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9BE29CD-4631-4109-9A95-3EBB4419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7AA5C55-E992-440F-A392-1F15F0D0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4E6E3B9-8FD5-4077-BB1E-8833E59B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D47D59A-EFA1-4F2E-8FC0-170F6CFE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9C7B5B9-55A7-439F-9FA7-D1E38E05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F4BFA65-D7FF-4A22-AF2A-B3754FC2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410DE9F-4908-46E9-931B-8804767B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8A91A55-4D08-413A-A187-89517F37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18EB5-91C1-4513-8612-02D3026C9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C6F6255-7AA5-4471-8579-E01BFA57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EB8C3D2-3F51-46F1-A241-671936056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AF57DAD-B3F5-480A-88E7-C12E3B158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FD049A5-205D-4151-B8EE-A945A61D5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623E086-81F3-48F2-AE49-C5A316B7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81BC949-EE56-407E-8E8F-3D5DCB43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731E4DA-705E-4354-8EAD-EF7188D4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8A2A888-BFE0-4BE9-9DBA-D629342A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EC283BC-C4D6-4CB4-8A64-A8369883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BE8349A-B5DD-48D7-BDED-E567DC1F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F349-536B-47D9-9AAF-AF20DCF7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62F9A-02CC-4A8C-9277-209C474C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FF23B92-2937-436D-82C1-C3FD87BB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1E5AB15-8AD4-41DA-AFBE-C99C5A2B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F5CEAC4-6F6F-4065-991F-767B1714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B0C9C7F-221E-4077-B77C-56E4799C4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7828FCE-DA3E-4F48-AF61-86A41912B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6C3F285-63E5-4111-9A2D-A35382850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E38ED3A-DB95-46E3-9439-FA9484A9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F974692-372F-4BBD-B6F9-14CF7CA9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156FF43-7B35-4E7C-8819-01F02A4E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055E113-A234-4E49-B60E-DA4A474F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39165-1650-47B4-B185-A65E5FE4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299F690-6232-4B1E-B9A2-581A4ACF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2FB0E06-33E9-4FF2-9B9E-7D4851E1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4E85497-DD7F-4110-9EE4-6B5798A0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956341D-B00B-40CF-8D12-2CF11B61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E7F85BA-E39F-4AD6-BE9D-9F0A2781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E7CEA52-1680-4B44-ACDC-C02E08A1D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8A2A4E4-707A-41F6-94FA-40D342350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A8F74B1-61AD-4AD4-8E55-96061C023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CB9E000-F739-40DD-8CC9-7EF97B11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0B901BA-0D0B-4867-827A-EE5318E0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0012F-3468-4233-94B2-2BDB91FE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6FFAA8A-F1C4-4CBB-89FA-0DC416B2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B9CF500-83E8-409B-B4CA-66EB8EDD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D91F084-DA2E-4BBB-8D25-10702372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D967BC2-23DC-4F84-8065-1E835F74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064B0D2-A13F-476C-A0AB-AB9811F3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37FB6CE-08B9-4D37-B494-0B64B34F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56283EB-538F-46B4-B67C-38EDB688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8D27C82-6F2E-4A06-9F47-6EC125A28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E1E7CA2-B33A-4FFA-96AF-05D3344C8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1D4F50E-C1D5-4DC9-844E-2F0CF9407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87E08-3B85-4C60-ACBC-11CF8C43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9B9690A-D4C1-4C24-8878-C219CA0C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713F878-DC11-4D4F-B10C-A24DCA5E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41B0D94-D922-47BF-8578-E42A61D8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9EAEEBB-B420-4133-B68F-480FC852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E1CC234-6BC1-4BA1-958B-F7C9B1BB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D42690C-A0F3-45D5-B4AD-B15FF311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5DB588F-72DB-4D7A-9485-F28EB3C4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7D830EE-E0FF-43B0-B0A7-F7367300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637001D-77A1-44EA-9364-0DA50D77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6975C84-BA11-4F23-88FE-AEA5A37D4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B4F11-3C35-4B30-A49E-8D118076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6471DC0-70F8-4A8C-8592-B8F2E1EA9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A524283-47FF-4270-B609-9F698D0FB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BC6DB53-9584-41EC-B7BB-AA2CE7B5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5073B9E-8EED-4357-940A-91B65215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A264A6A-B7BC-4E7E-A51E-E736391D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BEE839C-2A84-41FB-89F1-32140B4D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0930717-71C6-41B7-8432-E3496957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6C817D0-DFDC-429F-985F-37C1313A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368E984-DC20-4B0F-A84A-885BF877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6C79716-F769-4372-91BE-726DF34A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1E240-E753-467D-BD36-04B9A616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451961F-A26E-44B7-BF39-DEB7E563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4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BECE1D8-2796-4FB3-B471-A612F648B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1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46BC437-A494-4A23-9FB4-1C9945F3A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447BDE0-0F95-4C2D-85D7-5F2389BEA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DE6AF98-2614-4164-ABCF-E8BDB663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7AA377B-A0BA-4C33-86CF-8AC61DAE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9EB4F59-640D-4596-A1FB-6F9C8D00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B2ED513-08B2-4582-83EE-FCCEC18C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27BE5A7-81A1-48E5-8A0F-4CB49CEF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8879A71-1AC4-4C77-885F-8E662489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240EC-97DD-4516-BAF9-9D323FD0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DFEBD55-33BC-4F5C-8ACC-0CC6876B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86D495B-A343-44AC-B619-A99F11DC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0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18B48DB-54CF-4E62-B515-6AD9C92F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5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CFB8BF4-0D57-4CFF-A2AF-EFD1B6B18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2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E95207E-7DE9-4516-BD4A-FA414FF77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D7D14E9-D358-436A-8AF6-EB81F019E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A3ACA8C-6D00-4442-AF68-46189ABF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D9156BF-4DDA-4D25-ADD4-C17B24C1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101F40A-024A-4F46-8FD7-AAA864C1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C5AF87A-C259-40AB-8238-F75CF448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B897A-959C-4E41-BA3A-8AE05DE7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E5E0C59-1D8A-466D-B038-EBFAA1F1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0D6B5F1-92E8-43F5-8CFC-388DAFF3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77B48CC-39D7-4685-B30B-64B9D488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DB898DE-058F-45D3-B5CF-AFF8F429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513CCD7-B994-4DE9-BC3A-87C75E2F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6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500822A-35C8-4B80-B5DE-50530F96C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0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1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2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0AE450F-D2CB-4C2C-81DA-438F64B36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F315D4A-C4AC-4E65-B206-93DE8C8B9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FA5B37A-20C6-4802-A2C5-1F0E348F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EDB4A41-8DAA-4C63-842B-9A205252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F4365-6E90-4E89-81D1-006C5234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5C00CD3-1D60-41C5-80FB-D0B12FA9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21F4D51-8321-4740-AE2E-7D117F1B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797E394-2E48-4C15-9563-2B2988A3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53C987B-9CD2-42A2-9840-B1B08D99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4FABA5D-2CB3-4452-BBDA-D9891A0F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DB4DF5A-4649-48FF-A8DC-A4232676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3A01210-8AE5-416E-BE1C-59B92B0A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7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0AB409C-4695-4E24-828F-567C80B0F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1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2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3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4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73A1A7C-9CA7-4B28-A7B0-F9F1798E8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69467-2930-4FCC-8674-8A01A90E7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8A82-984F-40DD-842D-711D380C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473FD-C002-4BBF-BA70-2C258E149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93097-2AF0-433E-A9D1-B047BF486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B146F-12E4-4151-9672-694A9647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51B24-5852-435A-BB55-CA16D558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14191-F856-4210-81B5-22C1BA2C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145BA-37F9-469D-A1A3-04134DA7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5878C-EAC2-4C9D-99E7-DD15C4FC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5811D-36E8-4123-8F01-5DD7E225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F03E5-4D18-4693-9D05-07D361B0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9695B-5E59-48BB-8087-E0E1DE45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014D-C94E-4DBD-B2D8-4154405E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5B1E6-CE32-4C7F-80CB-4A98AC767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DEA62-729A-47CE-9E92-E36D2188B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9D378-6605-46CA-8839-C6F1A61F6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617A6-CAEA-48A6-893C-147586288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47F05-3E0C-457A-ABFA-0170B945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A745D-9088-4B47-8587-73C1FC47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DCB9D-5ECB-46DB-9FFB-942BCBE9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1A928-2B7D-4E6F-B39E-BE20A09A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F78A2-4A5B-4A1B-AEA6-52513D70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58753-E16A-431E-8C33-87D83BB8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0F34-D6F4-49BF-8361-6D61010C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D49D8-CBFE-4BBA-87B2-B24DB964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A25A2-22FE-4ABE-B908-BDECEF29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7876A-6D6F-41DF-9980-CBA8CE3D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4807D-5B0A-478E-8683-79597E9C4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63342-8C7C-4C43-9934-9FB300186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F9D1E-A177-48F1-ABEC-920FC7A32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18AE3-F762-480B-BC21-D5752FF1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BB940-B1D6-4BE0-90B4-D5E6D2BC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C2106-566C-439C-9067-DC7411D2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69EA0-8A12-4110-867A-17386031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B5EF-5438-4F1A-AEED-2C35DC6A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05938-069F-4A22-A97D-E5232B8A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46D98-403B-4CF4-BC95-0902824D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3F097-F7C5-4B92-B481-6724B4A8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3298A-55A7-4F9F-8D2D-9BE0162A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334A3-EAE8-4742-8600-9FE3FE57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BB2CA-B9FA-4158-ACB5-28FFBDEB6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09148-355F-41CA-88C0-6DA74EB96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3C0262-5C36-498D-B3E4-A63E14F84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04935A-7003-44BF-9BEB-E36E29C6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76A76-B0B6-4873-9ABA-ADD852AD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E6B7-5306-41A7-8FA2-0C0BE946D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8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6FD4-92EA-4C65-AF1C-B8F13DE9C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3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7A4E-514F-4840-95F7-817D01A9F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D44C-A86B-49F0-B3CC-6129CD475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EB66-6EC7-42B6-933C-279BD6F63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4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2AC2-1F25-4238-A3C4-FBCAC8B35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4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EC6E-735A-4776-968B-F4E9636DB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46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9D29-8BAC-451F-8946-6E24002DB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4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665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650bb7"/>
                </a:gs>
                <a:gs pos="50000">
                  <a:srgbClr val="4d4d4d"/>
                </a:gs>
                <a:gs pos="100000">
                  <a:srgbClr val="650b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4d4d4d"/>
                </a:gs>
                <a:gs pos="50000">
                  <a:srgbClr val="650bb7"/>
                </a:gs>
                <a:gs pos="100000">
                  <a:srgbClr val="4d4d4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650bb7"/>
                </a:gs>
                <a:gs pos="50000">
                  <a:srgbClr val="4d4d4d"/>
                </a:gs>
                <a:gs pos="100000">
                  <a:srgbClr val="650b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50bb7"/>
                </a:gs>
                <a:gs pos="50000">
                  <a:srgbClr val="4d4d4d"/>
                </a:gs>
                <a:gs pos="100000">
                  <a:srgbClr val="650b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4d4d4d"/>
                </a:gs>
                <a:gs pos="100000">
                  <a:srgbClr val="650b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4d4d4d"/>
                </a:gs>
                <a:gs pos="100000">
                  <a:srgbClr val="650b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4d4d4d"/>
                </a:gs>
                <a:gs pos="100000">
                  <a:srgbClr val="650b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9145-3BD9-44AD-8ABE-44A0ADD85E7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6BD1-2D82-44DD-9D2E-E610B15179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8A2C-819E-48E7-BB6F-8C636D28E0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650bb7"/>
                </a:gs>
                <a:gs pos="50000">
                  <a:srgbClr val="4d4d4d"/>
                </a:gs>
                <a:gs pos="100000">
                  <a:srgbClr val="650b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4d4d4d"/>
                </a:gs>
                <a:gs pos="50000">
                  <a:srgbClr val="650bb7"/>
                </a:gs>
                <a:gs pos="100000">
                  <a:srgbClr val="4d4d4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650bb7"/>
                </a:gs>
                <a:gs pos="50000">
                  <a:srgbClr val="4d4d4d"/>
                </a:gs>
                <a:gs pos="100000">
                  <a:srgbClr val="650b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50bb7"/>
                </a:gs>
                <a:gs pos="50000">
                  <a:srgbClr val="4d4d4d"/>
                </a:gs>
                <a:gs pos="100000">
                  <a:srgbClr val="650b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4d4d4d"/>
                </a:gs>
                <a:gs pos="100000">
                  <a:srgbClr val="650b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4d4d4d"/>
                </a:gs>
                <a:gs pos="100000">
                  <a:srgbClr val="650b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4d4d4d"/>
                </a:gs>
                <a:gs pos="100000">
                  <a:srgbClr val="650b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2DB2-74ED-4A00-9E4E-D12535D163A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91D5-E9AA-4C09-B875-A73EE570F1A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DA85-E5C3-4EF1-AAED-1248B08FBF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EA43-958F-4DB5-8374-70AF6DB2638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784C-7E58-4430-905F-7C522231C56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D8EB-C36B-44C9-9845-D4D67A084D5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4B20-8573-4673-97FF-07EF95CE7CD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7658-4FB5-4766-872D-4C60FBC0AE7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128F-2FFE-46F5-AEA0-B95ECDC9A40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 type="dt" idx="8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D95E-E667-4BAE-80F0-66E1193FA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 type="dt" idx="85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 type="ftr" idx="86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 type="sldNum" idx="87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95F9-9636-4374-AA6D-ACAE1FB93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BB71-0C0C-46AF-9039-7F0DA3C83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 type="dt" idx="88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 type="ftr" idx="89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 type="sldNum" idx="90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0C13-0F93-4DF5-AAE6-C0FF7996D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 type="dt" idx="91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 type="ftr" idx="92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 type="sldNum" idx="93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F874-899F-48E4-BB98-0F0FD43F9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 type="dt" idx="94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 type="ftr" idx="95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PlaceHolder 5"/>
          <p:cNvSpPr>
            <a:spLocks noGrp="1"/>
          </p:cNvSpPr>
          <p:nvPr>
            <p:ph type="sldNum" idx="96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902C-A21F-4433-90B4-5D1BE819B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97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98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9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DB1E-F2DE-4A6C-9AEC-915536DE9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 type="dt" idx="100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 type="ftr" idx="101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3A30-5FB6-4A4D-8E99-DE14DD35F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 type="dt" idx="103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 type="ftr" idx="104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PlaceHolder 5"/>
          <p:cNvSpPr>
            <a:spLocks noGrp="1"/>
          </p:cNvSpPr>
          <p:nvPr>
            <p:ph type="sldNum" idx="105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0072-3515-4C06-B138-1399F2EA4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 type="dt" idx="106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 type="ftr" idx="107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 type="sldNum" idx="108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C08A-2FB4-48B0-90AA-260839ADA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 type="dt" idx="109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 type="ftr" idx="110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 type="sldNum" idx="111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798F-E525-439E-B4FC-B2A25A920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 type="dt" idx="112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 type="ftr" idx="113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7" name="PlaceHolder 5"/>
          <p:cNvSpPr>
            <a:spLocks noGrp="1"/>
          </p:cNvSpPr>
          <p:nvPr>
            <p:ph type="sldNum" idx="114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1680-CBA1-44B2-8C0D-703F2CF42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9e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9e9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 type="dt" idx="11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 type="ftr" idx="1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8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D543-1570-4EB5-8517-53AFB3E3F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9e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9e9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B6F8-0091-48F0-8D50-C251A4941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9e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9e9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 type="dt" idx="118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 type="ftr" idx="119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9" name="PlaceHolder 5"/>
          <p:cNvSpPr>
            <a:spLocks noGrp="1"/>
          </p:cNvSpPr>
          <p:nvPr>
            <p:ph type="sldNum" idx="120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0689-3909-4CFD-9C5F-88C0EA08D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9e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9e9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 type="dt" idx="12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 type="ftr" idx="12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0" name="PlaceHolder 5"/>
          <p:cNvSpPr>
            <a:spLocks noGrp="1"/>
          </p:cNvSpPr>
          <p:nvPr>
            <p:ph type="sldNum" idx="12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E5CC-A162-45A4-A255-0A5E3FE56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9e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9e9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 type="dt" idx="12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 type="ftr" idx="12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1" name="PlaceHolder 5"/>
          <p:cNvSpPr>
            <a:spLocks noGrp="1"/>
          </p:cNvSpPr>
          <p:nvPr>
            <p:ph type="sldNum" idx="12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2948-BFBF-4DB9-BE18-3A59C3FB2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9e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9e9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 type="dt" idx="127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 type="ftr" idx="128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2" name="PlaceHolder 5"/>
          <p:cNvSpPr>
            <a:spLocks noGrp="1"/>
          </p:cNvSpPr>
          <p:nvPr>
            <p:ph type="sldNum" idx="129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7924-64A3-49CE-9A80-D98E1694E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9e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9e9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 type="dt" idx="130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 type="ftr" idx="131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3" name="PlaceHolder 5"/>
          <p:cNvSpPr>
            <a:spLocks noGrp="1"/>
          </p:cNvSpPr>
          <p:nvPr>
            <p:ph type="sldNum" idx="132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D5FC-AB2F-48D1-9ACC-A95722BA7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9e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9e9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 type="dt" idx="133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 type="ftr" idx="134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4" name="PlaceHolder 5"/>
          <p:cNvSpPr>
            <a:spLocks noGrp="1"/>
          </p:cNvSpPr>
          <p:nvPr>
            <p:ph type="sldNum" idx="135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DEB7-6DF3-417A-930D-9CEBD553E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9e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9e9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 type="dt" idx="136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4" name="PlaceHolder 4"/>
          <p:cNvSpPr>
            <a:spLocks noGrp="1"/>
          </p:cNvSpPr>
          <p:nvPr>
            <p:ph type="ftr" idx="137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5" name="PlaceHolder 5"/>
          <p:cNvSpPr>
            <a:spLocks noGrp="1"/>
          </p:cNvSpPr>
          <p:nvPr>
            <p:ph type="sldNum" idx="138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F36D-EE19-4FE7-A58B-1FB38BEAD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9e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9e9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 type="dt" idx="139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5" name="PlaceHolder 4"/>
          <p:cNvSpPr>
            <a:spLocks noGrp="1"/>
          </p:cNvSpPr>
          <p:nvPr>
            <p:ph type="ftr" idx="140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6" name="PlaceHolder 5"/>
          <p:cNvSpPr>
            <a:spLocks noGrp="1"/>
          </p:cNvSpPr>
          <p:nvPr>
            <p:ph type="sldNum" idx="141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D449-F551-470A-B6FE-C2D828BD4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9e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9e9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 type="dt" idx="142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6" name="PlaceHolder 4"/>
          <p:cNvSpPr>
            <a:spLocks noGrp="1"/>
          </p:cNvSpPr>
          <p:nvPr>
            <p:ph type="ftr" idx="143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7" name="PlaceHolder 5"/>
          <p:cNvSpPr>
            <a:spLocks noGrp="1"/>
          </p:cNvSpPr>
          <p:nvPr>
            <p:ph type="sldNum" idx="144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2332-AB94-4DC4-B7C7-E8249519F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9e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9e9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 type="dt" idx="145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 type="ftr" idx="146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8" name="PlaceHolder 5"/>
          <p:cNvSpPr>
            <a:spLocks noGrp="1"/>
          </p:cNvSpPr>
          <p:nvPr>
            <p:ph type="sldNum" idx="147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10E0-7439-4DB1-B524-5E6EF32117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920E-5128-4416-A160-2222CC5DAA8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05A5-D701-48F4-86F4-EC571A6D8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BE40-ACED-48AE-ABDB-0CA2B4E58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3E92-CA2E-458D-8B63-04B64A1FD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7B55-46C6-4DEF-9DAD-B535E180C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5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tarcoo.com/AI/Aridi13_Certificates_Awards_Frames/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275,8,&#24187;&#28783;&#29255; 8" TargetMode="External"/><Relationship Id="rId3" Type="http://schemas.openxmlformats.org/officeDocument/2006/relationships/hyperlink" Target="269,10,&#24187;&#28783;&#29255; 10" TargetMode="External"/><Relationship Id="rId4" Type="http://schemas.openxmlformats.org/officeDocument/2006/relationships/slideLayout" Target="../slideLayouts/slideLayout5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6" name="Picture 7" descr="109789378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358920" y="2133360"/>
            <a:ext cx="84261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半截蜡烛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语文</a:t>
            </a:r>
            <a:r>
              <a:rPr b="0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课件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99"/>
                                        <p:tgtEl>
                                          <p:spTgt spid="20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799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99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99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4" name="Picture 2" descr=""/>
          <p:cNvPicPr/>
          <p:nvPr/>
        </p:nvPicPr>
        <p:blipFill>
          <a:blip r:embed="rId1"/>
          <a:srcRect l="1990" t="0" r="0" b="0"/>
          <a:stretch/>
        </p:blipFill>
        <p:spPr>
          <a:xfrm>
            <a:off x="5867280" y="4343400"/>
            <a:ext cx="2743200" cy="2514600"/>
          </a:xfrm>
          <a:prstGeom prst="rect">
            <a:avLst/>
          </a:prstGeom>
          <a:ln w="0">
            <a:noFill/>
          </a:ln>
        </p:spPr>
      </p:pic>
      <p:sp>
        <p:nvSpPr>
          <p:cNvPr id="2055" name="Text Box 3"/>
          <p:cNvSpPr/>
          <p:nvPr/>
        </p:nvSpPr>
        <p:spPr>
          <a:xfrm>
            <a:off x="2284560" y="685800"/>
            <a:ext cx="458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6" name="Text Box 4"/>
          <p:cNvSpPr/>
          <p:nvPr/>
        </p:nvSpPr>
        <p:spPr>
          <a:xfrm>
            <a:off x="990720" y="838080"/>
            <a:ext cx="71625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0bb7"/>
                </a:solidFill>
                <a:latin typeface="Arial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她看着两个脸色苍白的孩子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急忙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从厨房取出一盏油灯放在桌上。“瞧，先生们，这盏灯亮些。”说着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轻轻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把蜡烛吹灭。一场危机似乎过去了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8" name="Picture 2" descr=""/>
          <p:cNvPicPr/>
          <p:nvPr/>
        </p:nvPicPr>
        <p:blipFill>
          <a:blip r:embed="rId1"/>
          <a:srcRect l="1990" t="0" r="0" b="0"/>
          <a:stretch/>
        </p:blipFill>
        <p:spPr>
          <a:xfrm>
            <a:off x="5867280" y="4343400"/>
            <a:ext cx="2743200" cy="2514600"/>
          </a:xfrm>
          <a:prstGeom prst="rect">
            <a:avLst/>
          </a:prstGeom>
          <a:ln w="0">
            <a:noFill/>
          </a:ln>
        </p:spPr>
      </p:pic>
      <p:sp>
        <p:nvSpPr>
          <p:cNvPr id="2059" name="Text Box 3"/>
          <p:cNvSpPr/>
          <p:nvPr/>
        </p:nvSpPr>
        <p:spPr>
          <a:xfrm>
            <a:off x="2284560" y="685800"/>
            <a:ext cx="458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0" name="Text Box 4"/>
          <p:cNvSpPr/>
          <p:nvPr/>
        </p:nvSpPr>
        <p:spPr>
          <a:xfrm>
            <a:off x="380880" y="228600"/>
            <a:ext cx="6705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这时候，大儿子杰克慢慢地站起来，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天真冷。我到柴房去搬些柴来生个火吧。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说着伸手端起烛台朝门口走去，屋子顿时暗了许多。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”</a:t>
            </a:r>
            <a:r>
              <a:rPr b="0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1" name="Text Box 5"/>
          <p:cNvSpPr/>
          <p:nvPr/>
        </p:nvSpPr>
        <p:spPr>
          <a:xfrm>
            <a:off x="380880" y="35053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0bb7"/>
                </a:solidFill>
                <a:latin typeface="Arial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孩子是懂事的，他知道，厄运即将到来了。在斗争的最后时刻，他从容地搬回一捆木柴，生了火，默默地坐待着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3" name="Picture 2" descr=""/>
          <p:cNvPicPr/>
          <p:nvPr/>
        </p:nvPicPr>
        <p:blipFill>
          <a:blip r:embed="rId1"/>
          <a:srcRect l="1990" t="0" r="0" b="0"/>
          <a:stretch/>
        </p:blipFill>
        <p:spPr>
          <a:xfrm>
            <a:off x="5867280" y="4343400"/>
            <a:ext cx="2743200" cy="2514600"/>
          </a:xfrm>
          <a:prstGeom prst="rect">
            <a:avLst/>
          </a:prstGeom>
          <a:ln w="0">
            <a:noFill/>
          </a:ln>
        </p:spPr>
      </p:pic>
      <p:sp>
        <p:nvSpPr>
          <p:cNvPr id="2064" name="Text Box 3"/>
          <p:cNvSpPr/>
          <p:nvPr/>
        </p:nvSpPr>
        <p:spPr>
          <a:xfrm>
            <a:off x="2284560" y="685800"/>
            <a:ext cx="458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5" name="Text Box 4"/>
          <p:cNvSpPr/>
          <p:nvPr/>
        </p:nvSpPr>
        <p:spPr>
          <a:xfrm>
            <a:off x="380880" y="228600"/>
            <a:ext cx="6705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这时候，大儿子杰克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慢慢地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站起来，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天真冷。我到柴房去搬些柴来生个火吧。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说着伸手端起烛台朝门口走去，屋子顿时暗了许多。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”</a:t>
            </a:r>
            <a:r>
              <a:rPr b="0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6" name="Text Box 5"/>
          <p:cNvSpPr/>
          <p:nvPr/>
        </p:nvSpPr>
        <p:spPr>
          <a:xfrm>
            <a:off x="380880" y="35053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0bb7"/>
                </a:solidFill>
                <a:latin typeface="Arial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孩子是懂事的，他知道，厄运即将到来了。在斗争的最后时刻，他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从容地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搬回一捆木柴，生了火，默默地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坐待着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7" name="AutoShape 6"/>
          <p:cNvSpPr/>
          <p:nvPr/>
        </p:nvSpPr>
        <p:spPr>
          <a:xfrm>
            <a:off x="99072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8" name="文本框 8199"/>
          <p:cNvSpPr/>
          <p:nvPr/>
        </p:nvSpPr>
        <p:spPr>
          <a:xfrm>
            <a:off x="5003640" y="6381720"/>
            <a:ext cx="3937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9e9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e9e9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0" name="Picture 2" descr=""/>
          <p:cNvPicPr/>
          <p:nvPr/>
        </p:nvPicPr>
        <p:blipFill>
          <a:blip r:embed="rId1"/>
          <a:srcRect l="1990" t="0" r="0" b="0"/>
          <a:stretch/>
        </p:blipFill>
        <p:spPr>
          <a:xfrm>
            <a:off x="5867280" y="4343400"/>
            <a:ext cx="2743200" cy="2514600"/>
          </a:xfrm>
          <a:prstGeom prst="rect">
            <a:avLst/>
          </a:prstGeom>
          <a:ln w="0">
            <a:noFill/>
          </a:ln>
        </p:spPr>
      </p:pic>
      <p:sp>
        <p:nvSpPr>
          <p:cNvPr id="2071" name="Text Box 3"/>
          <p:cNvSpPr/>
          <p:nvPr/>
        </p:nvSpPr>
        <p:spPr>
          <a:xfrm>
            <a:off x="2284560" y="685800"/>
            <a:ext cx="458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2" name="Text Box 4"/>
          <p:cNvSpPr/>
          <p:nvPr/>
        </p:nvSpPr>
        <p:spPr>
          <a:xfrm>
            <a:off x="914400" y="457200"/>
            <a:ext cx="7696080" cy="22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突然，小女儿杰奎琳娇声地对德国人说道：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司令官先生，天晚了，楼上黑，我可以拿一盏等上楼睡觉吗？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少校瞧了瞧这位可爱的小姑娘，说：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当然可以。我家也有一个你这么大的小女儿。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  杰奎琳镇定地把烛台端起来，向几位军官道过晚安，上楼去了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650b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4" name="Picture 2" descr=""/>
          <p:cNvPicPr/>
          <p:nvPr/>
        </p:nvPicPr>
        <p:blipFill>
          <a:blip r:embed="rId1"/>
          <a:srcRect l="1990" t="0" r="0" b="0"/>
          <a:stretch/>
        </p:blipFill>
        <p:spPr>
          <a:xfrm>
            <a:off x="5867280" y="4343400"/>
            <a:ext cx="2743200" cy="2514600"/>
          </a:xfrm>
          <a:prstGeom prst="rect">
            <a:avLst/>
          </a:prstGeom>
          <a:ln w="0">
            <a:noFill/>
          </a:ln>
        </p:spPr>
      </p:pic>
      <p:sp>
        <p:nvSpPr>
          <p:cNvPr id="2075" name="Text Box 3"/>
          <p:cNvSpPr/>
          <p:nvPr/>
        </p:nvSpPr>
        <p:spPr>
          <a:xfrm>
            <a:off x="2284560" y="685800"/>
            <a:ext cx="458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6" name="Text Box 4"/>
          <p:cNvSpPr/>
          <p:nvPr/>
        </p:nvSpPr>
        <p:spPr>
          <a:xfrm>
            <a:off x="914400" y="457200"/>
            <a:ext cx="7696080" cy="22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突然，小女儿杰奎琳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娇声地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对德国人说道：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司令官先生，天晚了，楼上黑，我可以拿一盏等上楼睡觉吗？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少校瞧了瞧这位可爱的小姑娘，说：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当然可以。我家也有一个你这么大的小女儿。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  杰奎琳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镇定地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把烛台端起来，向几位军官道过晚安，上楼去了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650b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7" name="AutoShape 5"/>
          <p:cNvSpPr/>
          <p:nvPr/>
        </p:nvSpPr>
        <p:spPr>
          <a:xfrm>
            <a:off x="1143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EE1A-D879-4025-B9DC-C0FC46259FDE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2" name="Picture 2" descr=""/>
          <p:cNvPicPr/>
          <p:nvPr/>
        </p:nvPicPr>
        <p:blipFill>
          <a:blip r:embed="rId1"/>
          <a:srcRect l="1990" t="0" r="0" b="0"/>
          <a:stretch/>
        </p:blipFill>
        <p:spPr>
          <a:xfrm>
            <a:off x="5867280" y="4343400"/>
            <a:ext cx="2743200" cy="2514600"/>
          </a:xfrm>
          <a:prstGeom prst="rect">
            <a:avLst/>
          </a:prstGeom>
          <a:ln w="0">
            <a:noFill/>
          </a:ln>
        </p:spPr>
      </p:pic>
      <p:sp>
        <p:nvSpPr>
          <p:cNvPr id="2083" name="Text Box 3"/>
          <p:cNvSpPr/>
          <p:nvPr/>
        </p:nvSpPr>
        <p:spPr>
          <a:xfrm>
            <a:off x="2284560" y="685800"/>
            <a:ext cx="458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4" name="Picture 4" descr="Borders_080BOR-C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466560"/>
            <a:ext cx="5410440" cy="4029120"/>
          </a:xfrm>
          <a:prstGeom prst="rect">
            <a:avLst/>
          </a:prstGeom>
          <a:ln w="0">
            <a:noFill/>
          </a:ln>
        </p:spPr>
      </p:pic>
      <p:sp>
        <p:nvSpPr>
          <p:cNvPr id="2085" name="Text Box 5"/>
          <p:cNvSpPr/>
          <p:nvPr/>
        </p:nvSpPr>
        <p:spPr>
          <a:xfrm>
            <a:off x="1454040" y="847800"/>
            <a:ext cx="304812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0bb7"/>
                </a:solidFill>
                <a:latin typeface="Arial"/>
                <a:ea typeface="隶书"/>
              </a:rPr>
              <a:t>   </a:t>
            </a:r>
            <a:r>
              <a:rPr b="0" lang="zh-CN" sz="4400" spc="-1" strike="noStrike">
                <a:solidFill>
                  <a:srgbClr val="650bb7"/>
                </a:solidFill>
                <a:latin typeface="Arial"/>
                <a:ea typeface="隶书"/>
              </a:rPr>
              <a:t>荣誉奖状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50bb7"/>
                </a:solidFill>
                <a:latin typeface="Arial"/>
                <a:ea typeface="隶书"/>
              </a:rPr>
              <a:t>    </a:t>
            </a:r>
            <a:r>
              <a:rPr b="0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鉴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特授予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ff00"/>
                </a:solidFill>
                <a:latin typeface="Arial"/>
                <a:ea typeface="华文彩云"/>
              </a:rPr>
              <a:t>生字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0" name=""/>
          <p:cNvSpPr txBox="1"/>
          <p:nvPr/>
        </p:nvSpPr>
        <p:spPr>
          <a:xfrm>
            <a:off x="3240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650bb7"/>
                </a:solidFill>
                <a:latin typeface="Arial"/>
              </a:rPr>
              <a:t>烛  诺  熄  遭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650bb7"/>
                </a:solidFill>
                <a:latin typeface="Arial"/>
              </a:rPr>
              <a:t>厄  盯  琳  梯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50bb7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ff00"/>
                </a:solidFill>
                <a:latin typeface="Arial"/>
                <a:ea typeface="华文彩云"/>
              </a:rPr>
              <a:t>生词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3" name=""/>
          <p:cNvSpPr txBox="1"/>
          <p:nvPr/>
        </p:nvSpPr>
        <p:spPr>
          <a:xfrm>
            <a:off x="11160" y="2276280"/>
            <a:ext cx="91440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0bb7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650bb7"/>
                </a:solidFill>
                <a:latin typeface="楷体_GB2312"/>
                <a:ea typeface="楷体_GB2312"/>
              </a:rPr>
              <a:t>蜡烛   强盗   秘密   厄运   点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50bb7"/>
                </a:solidFill>
                <a:latin typeface="楷体_GB2312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650bb7"/>
                </a:solidFill>
                <a:latin typeface="楷体_GB2312"/>
                <a:ea typeface="楷体_GB2312"/>
              </a:rPr>
              <a:t>绝妙   微弱   绝密   镇定   熄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603360" y="2276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50bb7"/>
                </a:solidFill>
                <a:latin typeface="Arial"/>
              </a:rPr>
              <a:t>烛（   ） 熄（   ） 镇（   ） 梯（   ） </a:t>
            </a:r>
            <a:br>
              <a:rPr sz="4000"/>
            </a:br>
            <a:r>
              <a:rPr b="0" lang="zh-CN" sz="4000" spc="-1" strike="noStrike">
                <a:solidFill>
                  <a:srgbClr val="650bb7"/>
                </a:solidFill>
                <a:latin typeface="Arial"/>
              </a:rPr>
              <a:t>浊（   ） 息（   ） 慎（   ） 递（   ）</a:t>
            </a:r>
            <a:br>
              <a:rPr sz="4000"/>
            </a:br>
            <a:r>
              <a:rPr b="0" lang="zh-CN" sz="4000" spc="-1" strike="noStrike">
                <a:solidFill>
                  <a:srgbClr val="650bb7"/>
                </a:solidFill>
                <a:latin typeface="Arial"/>
              </a:rPr>
              <a:t>盯（   ） 钉（   ） 琳（   ） 淋（   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50bb7"/>
                </a:solidFill>
                <a:latin typeface="Arial"/>
              </a:rPr>
              <a:t>（    ）的情报         一（  ）油灯</a:t>
            </a:r>
            <a:br>
              <a:rPr sz="4000"/>
            </a:br>
            <a:r>
              <a:rPr b="0" lang="zh-CN" sz="4000" spc="-1" strike="noStrike">
                <a:solidFill>
                  <a:srgbClr val="650bb7"/>
                </a:solidFill>
                <a:latin typeface="Arial"/>
              </a:rPr>
              <a:t>（    ）的主意         一（  ）危机</a:t>
            </a:r>
            <a:br>
              <a:rPr sz="4000"/>
            </a:br>
            <a:r>
              <a:rPr b="0" lang="zh-CN" sz="4000" spc="-1" strike="noStrike">
                <a:solidFill>
                  <a:srgbClr val="650bb7"/>
                </a:solidFill>
                <a:latin typeface="Arial"/>
              </a:rPr>
              <a:t>（    ）的心情         一（  ）烛台</a:t>
            </a:r>
            <a:br>
              <a:rPr sz="4000"/>
            </a:br>
            <a:r>
              <a:rPr b="0" lang="zh-CN" sz="4000" spc="-1" strike="noStrike">
                <a:solidFill>
                  <a:srgbClr val="650bb7"/>
                </a:solidFill>
                <a:latin typeface="Arial"/>
              </a:rPr>
              <a:t>（    ）的姑娘         一（  ）晚上</a:t>
            </a:r>
            <a:br>
              <a:rPr sz="4000"/>
            </a:br>
            <a:r>
              <a:rPr b="0" lang="zh-CN" sz="4000" spc="-1" strike="noStrike">
                <a:solidFill>
                  <a:srgbClr val="650bb7"/>
                </a:solidFill>
                <a:latin typeface="Arial"/>
              </a:rPr>
              <a:t>（    ）的东西         一（  ）木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页脚占位符 4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50bb7"/>
                </a:solidFill>
                <a:latin typeface="Arial"/>
              </a:rPr>
              <a:t>问答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0" name=""/>
          <p:cNvSpPr txBox="1"/>
          <p:nvPr/>
        </p:nvSpPr>
        <p:spPr>
          <a:xfrm>
            <a:off x="539280" y="1196640"/>
            <a:ext cx="80773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e9e9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0bb7"/>
                </a:solidFill>
                <a:latin typeface="Arial"/>
              </a:rPr>
              <a:t>            </a:t>
            </a:r>
            <a:r>
              <a:rPr b="0" lang="zh-CN" sz="5400" spc="-1" strike="noStrike">
                <a:solidFill>
                  <a:srgbClr val="650bb7"/>
                </a:solidFill>
                <a:latin typeface="Arial"/>
              </a:rPr>
              <a:t>说说伯诺德夫人一家在危急关头是怎样与德军周旋的？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页脚占位符 4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问答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3" name=""/>
          <p:cNvSpPr txBox="1"/>
          <p:nvPr/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默读课文，圈出描写伯诺德夫人全家人的动作、神情、语言及心理活动的有关词句先读一读，再和小组同学合作将故事编成课本剧演一演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5" name="Picture 2" descr=""/>
          <p:cNvPicPr/>
          <p:nvPr/>
        </p:nvPicPr>
        <p:blipFill>
          <a:blip r:embed="rId1"/>
          <a:srcRect l="1990" t="0" r="0" b="0"/>
          <a:stretch/>
        </p:blipFill>
        <p:spPr>
          <a:xfrm>
            <a:off x="5867280" y="4343400"/>
            <a:ext cx="2743200" cy="2514600"/>
          </a:xfrm>
          <a:prstGeom prst="rect">
            <a:avLst/>
          </a:prstGeom>
          <a:ln w="0">
            <a:noFill/>
          </a:ln>
        </p:spPr>
      </p:pic>
      <p:sp>
        <p:nvSpPr>
          <p:cNvPr id="2046" name="Text Box 3"/>
          <p:cNvSpPr/>
          <p:nvPr/>
        </p:nvSpPr>
        <p:spPr>
          <a:xfrm>
            <a:off x="2284560" y="685800"/>
            <a:ext cx="458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7" name="Text Box 4"/>
          <p:cNvSpPr/>
          <p:nvPr/>
        </p:nvSpPr>
        <p:spPr>
          <a:xfrm>
            <a:off x="1676520" y="1219320"/>
            <a:ext cx="586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8" name="Rectangle 5"/>
          <p:cNvSpPr/>
          <p:nvPr/>
        </p:nvSpPr>
        <p:spPr>
          <a:xfrm>
            <a:off x="380880" y="762120"/>
            <a:ext cx="8534520" cy="35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当 </a:t>
            </a:r>
            <a:r>
              <a:rPr b="1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_____ 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时，伯诺德夫人 </a:t>
            </a:r>
            <a:r>
              <a:rPr b="1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_____ (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怎么做</a:t>
            </a:r>
            <a:r>
              <a:rPr b="1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) _____ (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结果怎样</a:t>
            </a:r>
            <a:r>
              <a:rPr b="1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当 </a:t>
            </a:r>
            <a:r>
              <a:rPr b="1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_____ 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时，</a:t>
            </a:r>
            <a:r>
              <a:rPr b="0" lang="zh-CN" sz="3600" spc="-1" strike="noStrike" u="sng">
                <a:solidFill>
                  <a:srgbClr val="e9e9ff"/>
                </a:solidFill>
                <a:uFillTx/>
                <a:latin typeface="隶书"/>
                <a:ea typeface="隶书"/>
                <a:hlinkClick r:id="rId2"/>
              </a:rPr>
              <a:t>杰克 </a:t>
            </a:r>
            <a:r>
              <a:rPr b="1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_____ (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怎么做</a:t>
            </a:r>
            <a:r>
              <a:rPr b="1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) _____ (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结果怎样</a:t>
            </a:r>
            <a:r>
              <a:rPr b="1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当 </a:t>
            </a:r>
            <a:r>
              <a:rPr b="1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_____ 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时，</a:t>
            </a:r>
            <a:r>
              <a:rPr b="0" lang="zh-CN" sz="3600" spc="-1" strike="noStrike" u="sng">
                <a:solidFill>
                  <a:srgbClr val="e9e9ff"/>
                </a:solidFill>
                <a:uFillTx/>
                <a:latin typeface="隶书"/>
                <a:ea typeface="隶书"/>
                <a:hlinkClick r:id="rId3"/>
              </a:rPr>
              <a:t>杰奎琳 </a:t>
            </a:r>
            <a:r>
              <a:rPr b="1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_____ (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怎么做</a:t>
            </a:r>
            <a:r>
              <a:rPr b="1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) _____(</a:t>
            </a:r>
            <a:r>
              <a:rPr b="1" lang="zh-CN" sz="3600" spc="-1" strike="noStrike">
                <a:solidFill>
                  <a:srgbClr val="650bb7"/>
                </a:solidFill>
                <a:latin typeface="隶书"/>
                <a:ea typeface="隶书"/>
              </a:rPr>
              <a:t>结果怎样</a:t>
            </a:r>
            <a:r>
              <a:rPr b="1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)</a:t>
            </a:r>
            <a:r>
              <a:rPr b="0" lang="en-US" sz="3600" spc="-1" strike="noStrike">
                <a:solidFill>
                  <a:srgbClr val="650bb7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0" name="Picture 2" descr=""/>
          <p:cNvPicPr/>
          <p:nvPr/>
        </p:nvPicPr>
        <p:blipFill>
          <a:blip r:embed="rId1"/>
          <a:srcRect l="1990" t="0" r="0" b="0"/>
          <a:stretch/>
        </p:blipFill>
        <p:spPr>
          <a:xfrm>
            <a:off x="5867280" y="4343400"/>
            <a:ext cx="2743200" cy="2514600"/>
          </a:xfrm>
          <a:prstGeom prst="rect">
            <a:avLst/>
          </a:prstGeom>
          <a:ln w="0">
            <a:noFill/>
          </a:ln>
        </p:spPr>
      </p:pic>
      <p:sp>
        <p:nvSpPr>
          <p:cNvPr id="2051" name="Text Box 3"/>
          <p:cNvSpPr/>
          <p:nvPr/>
        </p:nvSpPr>
        <p:spPr>
          <a:xfrm>
            <a:off x="2284560" y="685800"/>
            <a:ext cx="458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2" name="Text Box 4"/>
          <p:cNvSpPr/>
          <p:nvPr/>
        </p:nvSpPr>
        <p:spPr>
          <a:xfrm>
            <a:off x="990720" y="838080"/>
            <a:ext cx="71625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0bb7"/>
                </a:solidFill>
                <a:latin typeface="Arial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650bb7"/>
                </a:solidFill>
                <a:latin typeface="Arial"/>
                <a:ea typeface="隶书"/>
              </a:rPr>
              <a:t>她看着两个脸色苍白的孩子，急忙从厨房取出一盏油灯放在桌上。“瞧，先生们，这盏灯亮些。”说着，轻轻把蜡烛吹灭。一场危机似乎过去了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12:2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6:04Z</dcterms:modified>
  <cp:revision>1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