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3.jpeg" ContentType="image/jpeg"/>
  <Override PartName="/ppt/media/image12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1F2-AD5C-4EB2-9FC6-FA306BC5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FD2-02D1-4D97-83D5-368D5981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BAC-59B1-44CF-A1F1-C8C9FC0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4BB-7747-47B5-87F4-D161F51B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393-00A0-41F7-AC06-1501CFE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D41-29C2-422C-B2C0-AD171543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362-E3D3-4747-9C23-52483C0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C5D-912B-4F0C-AD06-ED6D840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70B-DF13-4867-B0FC-AC8DA1D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530-0DDB-4628-8584-D324693E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95B-3C0D-4C65-9A9E-EA1220F2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C01-81E3-4CA1-ADE6-9F48D43E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C48-C4FD-476F-B147-7BD94EC5D7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1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8542-7D72-47BC-BE70-F529879408C7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545200" y="153036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比热容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770720" y="766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e163e"/>
                </a:solidFill>
                <a:latin typeface="Arial"/>
              </a:rPr>
              <a:t>第十三章 内能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e163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e163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4"/>
          <p:cNvSpPr/>
          <p:nvPr/>
        </p:nvSpPr>
        <p:spPr>
          <a:xfrm>
            <a:off x="768240" y="2160720"/>
            <a:ext cx="76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吸收热量的多少除了与物体的质量、物体升高的温度有关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还可能与其他的什么因素有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同物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它们质量相同、让它们升高相同的温度时，它们吸收的热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32" name="Group 22"/>
          <p:cNvGrpSpPr/>
          <p:nvPr/>
        </p:nvGrpSpPr>
        <p:grpSpPr>
          <a:xfrm>
            <a:off x="3197160" y="971640"/>
            <a:ext cx="2867040" cy="974160"/>
            <a:chOff x="3197160" y="971640"/>
            <a:chExt cx="2867040" cy="974160"/>
          </a:xfrm>
        </p:grpSpPr>
        <p:grpSp>
          <p:nvGrpSpPr>
            <p:cNvPr id="133" name="Group 23"/>
            <p:cNvGrpSpPr/>
            <p:nvPr/>
          </p:nvGrpSpPr>
          <p:grpSpPr>
            <a:xfrm>
              <a:off x="3197160" y="1220760"/>
              <a:ext cx="2867040" cy="725040"/>
              <a:chOff x="3197160" y="1220760"/>
              <a:chExt cx="2867040" cy="725040"/>
            </a:xfrm>
          </p:grpSpPr>
          <p:pic>
            <p:nvPicPr>
              <p:cNvPr id="134" name="Picture 24" descr="2"/>
              <p:cNvPicPr/>
              <p:nvPr/>
            </p:nvPicPr>
            <p:blipFill>
              <a:blip r:embed="rId1"/>
              <a:stretch/>
            </p:blipFill>
            <p:spPr>
              <a:xfrm>
                <a:off x="3197160" y="1220760"/>
                <a:ext cx="286704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25"/>
              <p:cNvSpPr/>
              <p:nvPr/>
            </p:nvSpPr>
            <p:spPr>
              <a:xfrm>
                <a:off x="3865680" y="1258560"/>
                <a:ext cx="1979640" cy="4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36" name="Text Box 26"/>
            <p:cNvSpPr/>
            <p:nvPr/>
          </p:nvSpPr>
          <p:spPr>
            <a:xfrm>
              <a:off x="4545000" y="97164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猜一猜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5"/>
          <p:cNvSpPr/>
          <p:nvPr/>
        </p:nvSpPr>
        <p:spPr>
          <a:xfrm>
            <a:off x="576360" y="2398680"/>
            <a:ext cx="79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怎么验证你的想法？利用提供的器材说一说你的设计思路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38" name="Group 46"/>
          <p:cNvGrpSpPr/>
          <p:nvPr/>
        </p:nvGrpSpPr>
        <p:grpSpPr>
          <a:xfrm>
            <a:off x="3197160" y="971640"/>
            <a:ext cx="2867040" cy="974160"/>
            <a:chOff x="3197160" y="971640"/>
            <a:chExt cx="2867040" cy="974160"/>
          </a:xfrm>
        </p:grpSpPr>
        <p:grpSp>
          <p:nvGrpSpPr>
            <p:cNvPr id="139" name="Group 47"/>
            <p:cNvGrpSpPr/>
            <p:nvPr/>
          </p:nvGrpSpPr>
          <p:grpSpPr>
            <a:xfrm>
              <a:off x="3197160" y="1220760"/>
              <a:ext cx="2867040" cy="725040"/>
              <a:chOff x="3197160" y="1220760"/>
              <a:chExt cx="2867040" cy="725040"/>
            </a:xfrm>
          </p:grpSpPr>
          <p:pic>
            <p:nvPicPr>
              <p:cNvPr id="140" name="Picture 48" descr="2"/>
              <p:cNvPicPr/>
              <p:nvPr/>
            </p:nvPicPr>
            <p:blipFill>
              <a:blip r:embed="rId1"/>
              <a:stretch/>
            </p:blipFill>
            <p:spPr>
              <a:xfrm>
                <a:off x="3197160" y="1220760"/>
                <a:ext cx="286704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Rectangle 49"/>
              <p:cNvSpPr/>
              <p:nvPr/>
            </p:nvSpPr>
            <p:spPr>
              <a:xfrm>
                <a:off x="3865680" y="1258560"/>
                <a:ext cx="1979640" cy="4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42" name="Text Box 50"/>
            <p:cNvSpPr/>
            <p:nvPr/>
          </p:nvSpPr>
          <p:spPr>
            <a:xfrm>
              <a:off x="4226400" y="971640"/>
              <a:ext cx="127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实验设计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pic>
        <p:nvPicPr>
          <p:cNvPr id="143" name="Picture 52" descr="2004121511115859383"/>
          <p:cNvPicPr/>
          <p:nvPr/>
        </p:nvPicPr>
        <p:blipFill>
          <a:blip r:embed="rId2"/>
          <a:stretch/>
        </p:blipFill>
        <p:spPr>
          <a:xfrm>
            <a:off x="920880" y="4076640"/>
            <a:ext cx="745812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738360" y="1828800"/>
            <a:ext cx="7619760" cy="32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66ffff"/>
            </a:solidFill>
            <a:round/>
          </a:ln>
          <a:effectLst>
            <a:outerShdw dist="52300" dir="4563564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03320" y="1986120"/>
            <a:ext cx="7088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、要研究这个问题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必须保持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______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相同， 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同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03320" y="3278160"/>
            <a:ext cx="6973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取两个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烧杯盛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相同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两种液体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水和煤油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),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两个电热器给它们加热使它们升高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同的温度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看它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用时间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长短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12440" y="208764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质量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172200" y="207792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升高的温度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340000" y="257652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物质种类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516040" y="327816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相同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400560" y="390672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相同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176480" y="1930320"/>
          <a:ext cx="6697440" cy="1806480"/>
        </p:xfrm>
        <a:graphic>
          <a:graphicData uri="http://schemas.openxmlformats.org/drawingml/2006/table">
            <a:tbl>
              <a:tblPr/>
              <a:tblGrid>
                <a:gridCol w="801360"/>
                <a:gridCol w="857160"/>
                <a:gridCol w="1005120"/>
                <a:gridCol w="1000080"/>
                <a:gridCol w="1601640"/>
                <a:gridCol w="1432080"/>
              </a:tblGrid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液体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质量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g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初温  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℃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末温  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℃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升高的温度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-</a:t>
                      </a: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)/℃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热时间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min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50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煤油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50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endParaRPr b="0" lang="en-US" sz="22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44"/>
          <p:cNvSpPr/>
          <p:nvPr/>
        </p:nvSpPr>
        <p:spPr>
          <a:xfrm>
            <a:off x="4146480" y="33210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4124160" y="2865600"/>
            <a:ext cx="5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5364000" y="33256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5364000" y="288288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6848640" y="333684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6848640" y="286056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988920" y="3882960"/>
            <a:ext cx="7488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27d6"/>
                </a:solidFill>
                <a:latin typeface="楷体_GB2312"/>
                <a:ea typeface="楷体_GB2312"/>
              </a:rPr>
              <a:t>结论</a:t>
            </a:r>
            <a:r>
              <a:rPr b="1" lang="en-US" sz="2400" spc="-1" strike="noStrike">
                <a:solidFill>
                  <a:srgbClr val="e327d6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吸收相同的热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煤油升高的温度比水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升高相同的温度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吸收的热量不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吸收的热量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60" name="Group 52"/>
          <p:cNvGrpSpPr/>
          <p:nvPr/>
        </p:nvGrpSpPr>
        <p:grpSpPr>
          <a:xfrm>
            <a:off x="2968560" y="415800"/>
            <a:ext cx="2867040" cy="974880"/>
            <a:chOff x="2968560" y="415800"/>
            <a:chExt cx="2867040" cy="974880"/>
          </a:xfrm>
        </p:grpSpPr>
        <p:grpSp>
          <p:nvGrpSpPr>
            <p:cNvPr id="161" name="Group 53"/>
            <p:cNvGrpSpPr/>
            <p:nvPr/>
          </p:nvGrpSpPr>
          <p:grpSpPr>
            <a:xfrm>
              <a:off x="2968560" y="665280"/>
              <a:ext cx="2867040" cy="725400"/>
              <a:chOff x="2968560" y="665280"/>
              <a:chExt cx="2867040" cy="725400"/>
            </a:xfrm>
          </p:grpSpPr>
          <p:pic>
            <p:nvPicPr>
              <p:cNvPr id="162" name="Picture 54" descr="2"/>
              <p:cNvPicPr/>
              <p:nvPr/>
            </p:nvPicPr>
            <p:blipFill>
              <a:blip r:embed="rId1"/>
              <a:stretch/>
            </p:blipFill>
            <p:spPr>
              <a:xfrm>
                <a:off x="2968560" y="665280"/>
                <a:ext cx="2867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Rectangle 55"/>
              <p:cNvSpPr/>
              <p:nvPr/>
            </p:nvSpPr>
            <p:spPr>
              <a:xfrm>
                <a:off x="3637080" y="703440"/>
                <a:ext cx="1979640" cy="4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64" name="Text Box 56"/>
            <p:cNvSpPr/>
            <p:nvPr/>
          </p:nvSpPr>
          <p:spPr>
            <a:xfrm>
              <a:off x="3997800" y="415800"/>
              <a:ext cx="127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处理数据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731880" y="2006640"/>
            <a:ext cx="28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实验后的思考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76200" y="2549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水和煤油谁的吸热能力强？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276200" y="3103560"/>
            <a:ext cx="59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如何科学地比较不同物质的这种特性？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06320" y="4954680"/>
            <a:ext cx="7196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实验后的思考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往往比实验本身更重要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牛顿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11280" y="3676680"/>
            <a:ext cx="79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实很简单，就是采用比较单位质量、升高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水和煤油吸热的多少来比较它们的吸热能力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3002040" y="644400"/>
            <a:ext cx="2867040" cy="974880"/>
            <a:chOff x="3002040" y="644400"/>
            <a:chExt cx="2867040" cy="974880"/>
          </a:xfrm>
        </p:grpSpPr>
        <p:grpSp>
          <p:nvGrpSpPr>
            <p:cNvPr id="171" name="Group 15"/>
            <p:cNvGrpSpPr/>
            <p:nvPr/>
          </p:nvGrpSpPr>
          <p:grpSpPr>
            <a:xfrm>
              <a:off x="3002040" y="893880"/>
              <a:ext cx="2867040" cy="725400"/>
              <a:chOff x="3002040" y="893880"/>
              <a:chExt cx="2867040" cy="725400"/>
            </a:xfrm>
          </p:grpSpPr>
          <p:pic>
            <p:nvPicPr>
              <p:cNvPr id="172" name="Picture 16" descr="2"/>
              <p:cNvPicPr/>
              <p:nvPr/>
            </p:nvPicPr>
            <p:blipFill>
              <a:blip r:embed="rId1"/>
              <a:stretch/>
            </p:blipFill>
            <p:spPr>
              <a:xfrm>
                <a:off x="3002040" y="893880"/>
                <a:ext cx="2867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Rectangle 17"/>
              <p:cNvSpPr/>
              <p:nvPr/>
            </p:nvSpPr>
            <p:spPr>
              <a:xfrm>
                <a:off x="3670560" y="932040"/>
                <a:ext cx="1979640" cy="4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74" name="Text Box 18"/>
            <p:cNvSpPr/>
            <p:nvPr/>
          </p:nvSpPr>
          <p:spPr>
            <a:xfrm>
              <a:off x="4031280" y="644400"/>
              <a:ext cx="127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探究活动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68360" y="692280"/>
            <a:ext cx="80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实验结论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同物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在质量相等、升高（或降低）相同的温度时，吸收（或放出）的热量是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不相等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14400" y="4495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物质吸收（或放出）的热量除了与物质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质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升高（或降低）的温度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有关外，还与物质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有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80880" y="2666880"/>
            <a:ext cx="3429000" cy="1828800"/>
            <a:chOff x="380880" y="2666880"/>
            <a:chExt cx="3429000" cy="1828800"/>
          </a:xfrm>
        </p:grpSpPr>
        <p:sp>
          <p:nvSpPr>
            <p:cNvPr id="178" name="Text Box 6"/>
            <p:cNvSpPr/>
            <p:nvPr/>
          </p:nvSpPr>
          <p:spPr>
            <a:xfrm>
              <a:off x="1600200" y="35049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结论表明：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  <p:pic>
          <p:nvPicPr>
            <p:cNvPr id="179" name="Picture 7" descr="PE01753_"/>
            <p:cNvPicPr/>
            <p:nvPr/>
          </p:nvPicPr>
          <p:blipFill>
            <a:blip r:embed="rId1"/>
            <a:stretch/>
          </p:blipFill>
          <p:spPr>
            <a:xfrm>
              <a:off x="380880" y="2666880"/>
              <a:ext cx="14079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10"/>
          <p:cNvSpPr/>
          <p:nvPr/>
        </p:nvSpPr>
        <p:spPr>
          <a:xfrm>
            <a:off x="43434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某种特性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95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为了说明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质量相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不同物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升高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或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降低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相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温度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或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放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的热量是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不相等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这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性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我们需要引入一个新的物理量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079800" y="2863800"/>
            <a:ext cx="28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Times New Roman"/>
                <a:ea typeface="仿宋_GB2312"/>
              </a:rPr>
              <a:t>比热容</a:t>
            </a:r>
            <a:endParaRPr b="0" lang="en-US" sz="6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0" y="6429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比热容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85880" y="18572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单位质量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某种物质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温度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升高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降低）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℃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所吸收（放出）的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热量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叫做这种物质的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比热容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         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0" y="1357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定义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0" y="3500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表示符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071880" y="3492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用符号 </a:t>
            </a:r>
            <a:r>
              <a:rPr b="1" lang="zh-CN" sz="3200" spc="-1" strike="noStrike">
                <a:solidFill>
                  <a:srgbClr val="cc0066"/>
                </a:solidFill>
                <a:latin typeface="方正舒体"/>
                <a:ea typeface="方正舒体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方正舒体"/>
                <a:ea typeface="方正舒体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表示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0" y="428616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.</a:t>
            </a:r>
            <a:r>
              <a:rPr b="1" lang="zh-CN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单位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：    焦每千克摄氏度    </a:t>
            </a:r>
            <a:r>
              <a:rPr b="1" lang="en-US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J/(Kg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仿宋_GB2312"/>
              </a:rPr>
              <a:t>·</a:t>
            </a:r>
            <a:r>
              <a:rPr b="1" lang="en-US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℃</a:t>
            </a:r>
            <a:r>
              <a:rPr b="1" lang="zh-CN" sz="3200" spc="-1" strike="noStrike">
                <a:solidFill>
                  <a:srgbClr val="cc0066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714240" y="571500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含义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质量为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Kg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的水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温度升高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 ℃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所吸收的热量为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.2×10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J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0" y="500076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水的比热容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4.2×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J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／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(kg·℃)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6"/>
          <p:cNvSpPr/>
          <p:nvPr/>
        </p:nvSpPr>
        <p:spPr>
          <a:xfrm>
            <a:off x="770040" y="1747800"/>
            <a:ext cx="7547040" cy="43052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ffccff">
                  <a:alpha val="51372"/>
                </a:srgbClr>
              </a:gs>
              <a:gs pos="50000">
                <a:srgbClr val="ffffff"/>
              </a:gs>
              <a:gs pos="100000">
                <a:srgbClr val="ffccff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789120" y="833400"/>
            <a:ext cx="2604600" cy="720720"/>
            <a:chOff x="789120" y="833400"/>
            <a:chExt cx="2604600" cy="720720"/>
          </a:xfrm>
        </p:grpSpPr>
        <p:grpSp>
          <p:nvGrpSpPr>
            <p:cNvPr id="193" name="Group 4"/>
            <p:cNvGrpSpPr/>
            <p:nvPr/>
          </p:nvGrpSpPr>
          <p:grpSpPr>
            <a:xfrm>
              <a:off x="954720" y="833400"/>
              <a:ext cx="2311200" cy="720720"/>
              <a:chOff x="954720" y="833400"/>
              <a:chExt cx="2311200" cy="720720"/>
            </a:xfrm>
          </p:grpSpPr>
          <p:sp>
            <p:nvSpPr>
              <p:cNvPr id="194" name="AutoShape 5"/>
              <p:cNvSpPr/>
              <p:nvPr/>
            </p:nvSpPr>
            <p:spPr>
              <a:xfrm>
                <a:off x="954720" y="833400"/>
                <a:ext cx="23112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9360">
                <a:solidFill>
                  <a:srgbClr val="0033cc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5" name="AutoShape 6"/>
              <p:cNvSpPr/>
              <p:nvPr/>
            </p:nvSpPr>
            <p:spPr>
              <a:xfrm>
                <a:off x="955440" y="834840"/>
                <a:ext cx="22626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33cc33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6" name="AutoShape 7"/>
              <p:cNvSpPr/>
              <p:nvPr/>
            </p:nvSpPr>
            <p:spPr>
              <a:xfrm rot="10800000">
                <a:off x="955080" y="1194840"/>
                <a:ext cx="226260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>
                <a:off x="955440" y="834840"/>
                <a:ext cx="226260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98" name="Rectangle 9"/>
            <p:cNvSpPr/>
            <p:nvPr/>
          </p:nvSpPr>
          <p:spPr>
            <a:xfrm>
              <a:off x="789120" y="893880"/>
              <a:ext cx="26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关于比热容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99" name="Text Box 10"/>
          <p:cNvSpPr/>
          <p:nvPr/>
        </p:nvSpPr>
        <p:spPr>
          <a:xfrm>
            <a:off x="971640" y="1684440"/>
            <a:ext cx="7129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物质的比热容跟密度相似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也是物质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特性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一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对某种确定的物质来讲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比热容是一个确定的数值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跟物体质量的大小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温度改变的多少，物体的形状、体积、位置等无关，它仅与物质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类和状态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关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可以用比热容来鉴别物质的种类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187280" y="907920"/>
          <a:ext cx="6553080" cy="3635280"/>
        </p:xfrm>
        <a:graphic>
          <a:graphicData uri="http://schemas.openxmlformats.org/drawingml/2006/table">
            <a:tbl>
              <a:tblPr/>
              <a:tblGrid>
                <a:gridCol w="1600200"/>
                <a:gridCol w="1676520"/>
                <a:gridCol w="1638360"/>
                <a:gridCol w="1638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比热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比热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铝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酒精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干泥土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84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煤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铁、钢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46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冰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铜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蓖麻油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d7da9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水银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14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砂石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92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铅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.13</a:t>
                      </a:r>
                      <a:endParaRPr b="0" lang="en-US" sz="2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Group 44"/>
          <p:cNvGrpSpPr/>
          <p:nvPr/>
        </p:nvGrpSpPr>
        <p:grpSpPr>
          <a:xfrm>
            <a:off x="611280" y="260280"/>
            <a:ext cx="6933600" cy="581400"/>
            <a:chOff x="611280" y="260280"/>
            <a:chExt cx="6933600" cy="581400"/>
          </a:xfrm>
        </p:grpSpPr>
        <p:sp>
          <p:nvSpPr>
            <p:cNvPr id="202" name="Text Box 2"/>
            <p:cNvSpPr/>
            <p:nvPr/>
          </p:nvSpPr>
          <p:spPr>
            <a:xfrm>
              <a:off x="611280" y="260280"/>
              <a:ext cx="39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二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比热容表</a:t>
              </a:r>
              <a:endParaRPr b="0" lang="en-US" sz="32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3" name="Text Box 223"/>
            <p:cNvSpPr/>
            <p:nvPr/>
          </p:nvSpPr>
          <p:spPr>
            <a:xfrm>
              <a:off x="4192200" y="336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×10</a:t>
              </a:r>
              <a:r>
                <a:rPr b="1" lang="en-US" sz="2400" spc="-1" strike="noStrike" baseline="30000">
                  <a:solidFill>
                    <a:srgbClr val="cc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cc0066"/>
                  </a:solidFill>
                  <a:latin typeface="Times New Roman"/>
                </a:rPr>
                <a:t>焦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cc0066"/>
                  </a:solidFill>
                  <a:latin typeface="Times New Roman"/>
                </a:rPr>
                <a:t>（千克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·℃</a:t>
              </a:r>
              <a:r>
                <a:rPr b="1" lang="zh-CN" sz="2400" spc="-1" strike="noStrike">
                  <a:solidFill>
                    <a:srgbClr val="cc0066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204" name="Text Box 224"/>
          <p:cNvSpPr/>
          <p:nvPr/>
        </p:nvSpPr>
        <p:spPr>
          <a:xfrm>
            <a:off x="250920" y="4941720"/>
            <a:ext cx="8532720" cy="132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的比热容最大：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2 × 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千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液体的比热容较大，固体、金属的比热容较小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0430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复习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7F1C-31B9-4F84-BAAA-03EBB340F520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787560" y="13572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什么是热量？热量的单位是什么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258640" y="200016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热传递过程中，传递内能的多少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热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单位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136600" y="2857680"/>
            <a:ext cx="549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热量总是由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体传向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体，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直到温度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止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816720" y="285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温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791760" y="285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低温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71980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832480" y="45720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改变物体内能的方法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0" name="左大括号 10"/>
          <p:cNvSpPr/>
          <p:nvPr/>
        </p:nvSpPr>
        <p:spPr>
          <a:xfrm>
            <a:off x="5429160" y="4071960"/>
            <a:ext cx="428760" cy="17143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1714320"/>
              <a:gd name="textAreaBottom" fmla="*/ 170352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4"/>
                  <a:pt x="10800" y="447"/>
                </a:cubicBezTo>
                <a:lnTo>
                  <a:pt x="10800" y="10054"/>
                </a:lnTo>
                <a:cubicBezTo>
                  <a:pt x="10800" y="10278"/>
                  <a:pt x="5400" y="10501"/>
                  <a:pt x="0" y="10501"/>
                </a:cubicBezTo>
                <a:cubicBezTo>
                  <a:pt x="5400" y="10501"/>
                  <a:pt x="10800" y="10725"/>
                  <a:pt x="10800" y="10948"/>
                </a:cubicBezTo>
                <a:lnTo>
                  <a:pt x="10800" y="21153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6252480" y="385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传递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311880" y="5429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做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43000" y="838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比热容的物理意义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50920" y="1916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例如：水的比热容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2 ×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千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·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68360" y="25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它表示质量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千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水，温度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升高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或降低）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 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或放出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热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4.2 × 1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焦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4005360"/>
            <a:ext cx="944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练习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煤油的比热容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1 × 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千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，       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它表示：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87280" y="47242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质量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千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煤油，温度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升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或降低）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 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或放出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热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 .1× 1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焦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4560840" y="2131920"/>
            <a:ext cx="3970440" cy="3673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44440" y="901800"/>
            <a:ext cx="1670040" cy="720720"/>
            <a:chOff x="1144440" y="901800"/>
            <a:chExt cx="1670040" cy="720720"/>
          </a:xfrm>
        </p:grpSpPr>
        <p:grpSp>
          <p:nvGrpSpPr>
            <p:cNvPr id="212" name="Group 4"/>
            <p:cNvGrpSpPr/>
            <p:nvPr/>
          </p:nvGrpSpPr>
          <p:grpSpPr>
            <a:xfrm>
              <a:off x="1250280" y="901800"/>
              <a:ext cx="1482120" cy="720720"/>
              <a:chOff x="1250280" y="901800"/>
              <a:chExt cx="1482120" cy="720720"/>
            </a:xfrm>
          </p:grpSpPr>
          <p:sp>
            <p:nvSpPr>
              <p:cNvPr id="213" name="AutoShape 5"/>
              <p:cNvSpPr/>
              <p:nvPr/>
            </p:nvSpPr>
            <p:spPr>
              <a:xfrm>
                <a:off x="1250640" y="901800"/>
                <a:ext cx="148176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9360">
                <a:solidFill>
                  <a:srgbClr val="0033cc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14" name="AutoShape 6"/>
              <p:cNvSpPr/>
              <p:nvPr/>
            </p:nvSpPr>
            <p:spPr>
              <a:xfrm>
                <a:off x="1250640" y="903240"/>
                <a:ext cx="1451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33cc33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15" name="AutoShape 7"/>
              <p:cNvSpPr/>
              <p:nvPr/>
            </p:nvSpPr>
            <p:spPr>
              <a:xfrm rot="10800000">
                <a:off x="1250280" y="1263600"/>
                <a:ext cx="145188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16" name="AutoShape 8"/>
              <p:cNvSpPr/>
              <p:nvPr/>
            </p:nvSpPr>
            <p:spPr>
              <a:xfrm>
                <a:off x="1250640" y="903240"/>
                <a:ext cx="145188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17" name="Rectangle 9"/>
            <p:cNvSpPr/>
            <p:nvPr/>
          </p:nvSpPr>
          <p:spPr>
            <a:xfrm>
              <a:off x="1144440" y="962280"/>
              <a:ext cx="16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想一想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pic>
        <p:nvPicPr>
          <p:cNvPr id="218" name="Picture 10" descr="沙漠1"/>
          <p:cNvPicPr/>
          <p:nvPr/>
        </p:nvPicPr>
        <p:blipFill>
          <a:blip r:embed="rId2"/>
          <a:stretch/>
        </p:blipFill>
        <p:spPr>
          <a:xfrm>
            <a:off x="1176480" y="1833480"/>
            <a:ext cx="3157560" cy="43164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4789440" y="2386080"/>
            <a:ext cx="3527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新疆有句谚语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早穿皮袄午穿纱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围着火炉吃西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能说出它的道理吗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770040" y="1397160"/>
            <a:ext cx="7547040" cy="40622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ffccff">
                  <a:alpha val="51372"/>
                </a:srgbClr>
              </a:gs>
              <a:gs pos="50000">
                <a:srgbClr val="ffffff"/>
              </a:gs>
              <a:gs pos="100000">
                <a:srgbClr val="ffccff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16000" y="3429000"/>
            <a:ext cx="669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e163e"/>
                </a:solidFill>
                <a:latin typeface="Arial"/>
                <a:ea typeface="楷体_GB2312"/>
              </a:rPr>
              <a:t>答：这是因为在同样受热和冷却，即吸热或放热相同时，水的比热容大，温度变化小；砂石的比热容小，温度变化大。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16000" y="1655640"/>
            <a:ext cx="684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沿海地区及我国东南部白天和晚上的气温变化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,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而在沙漠地区及我国西北部昼夜气温变化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____.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为什么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82520" y="22446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不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093680" y="2743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较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5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3"/>
          <p:cNvSpPr/>
          <p:nvPr/>
        </p:nvSpPr>
        <p:spPr>
          <a:xfrm>
            <a:off x="878040" y="2522520"/>
            <a:ext cx="7677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水的比热容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2</a:t>
            </a:r>
            <a:r>
              <a:rPr b="1" lang="el-GR" sz="2400" spc="-1" strike="noStrike">
                <a:solidFill>
                  <a:srgbClr val="0000ff"/>
                </a:solidFill>
                <a:latin typeface="宋体"/>
                <a:ea typeface="Arial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Arial"/>
              </a:rPr>
              <a:t>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Arial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J/(Kg·℃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它表示的物理含义是什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960480" y="3897360"/>
            <a:ext cx="7323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为１千克的水在温度升高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降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时吸收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放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热量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×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098880" y="1149480"/>
            <a:ext cx="2867040" cy="974160"/>
            <a:chOff x="3098880" y="1149480"/>
            <a:chExt cx="2867040" cy="974160"/>
          </a:xfrm>
        </p:grpSpPr>
        <p:grpSp>
          <p:nvGrpSpPr>
            <p:cNvPr id="229" name="Group 21"/>
            <p:cNvGrpSpPr/>
            <p:nvPr/>
          </p:nvGrpSpPr>
          <p:grpSpPr>
            <a:xfrm>
              <a:off x="3098880" y="1398600"/>
              <a:ext cx="2867040" cy="725040"/>
              <a:chOff x="3098880" y="1398600"/>
              <a:chExt cx="2867040" cy="725040"/>
            </a:xfrm>
          </p:grpSpPr>
          <p:pic>
            <p:nvPicPr>
              <p:cNvPr id="230" name="Picture 22" descr="2"/>
              <p:cNvPicPr/>
              <p:nvPr/>
            </p:nvPicPr>
            <p:blipFill>
              <a:blip r:embed="rId1"/>
              <a:stretch/>
            </p:blipFill>
            <p:spPr>
              <a:xfrm>
                <a:off x="3098880" y="1398600"/>
                <a:ext cx="286704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Rectangle 23"/>
              <p:cNvSpPr/>
              <p:nvPr/>
            </p:nvSpPr>
            <p:spPr>
              <a:xfrm>
                <a:off x="3767400" y="1436400"/>
                <a:ext cx="1979640" cy="47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32" name="Text Box 24"/>
            <p:cNvSpPr/>
            <p:nvPr/>
          </p:nvSpPr>
          <p:spPr>
            <a:xfrm>
              <a:off x="4446720" y="114948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算一算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"/>
          <p:cNvSpPr/>
          <p:nvPr/>
        </p:nvSpPr>
        <p:spPr>
          <a:xfrm>
            <a:off x="1324080" y="4710240"/>
            <a:ext cx="589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吸热计算公式：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cc00cc"/>
                </a:solidFill>
                <a:latin typeface="楷体_GB2312"/>
                <a:ea typeface="楷体_GB2312"/>
              </a:rPr>
              <a:t>吸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cc00cc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665280" y="1357200"/>
            <a:ext cx="785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升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吸收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升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吸收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922320" y="23590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839880" y="39988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5"/>
          <p:cNvSpPr/>
          <p:nvPr/>
        </p:nvSpPr>
        <p:spPr>
          <a:xfrm>
            <a:off x="714240" y="1262160"/>
            <a:ext cx="74739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质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k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水的温度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5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升高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5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水吸收了多少热量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846000" y="2754360"/>
            <a:ext cx="7588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解析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吸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8e163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/(kg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℃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k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℃-25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吸收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热量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5"/>
          <p:cNvSpPr/>
          <p:nvPr/>
        </p:nvSpPr>
        <p:spPr>
          <a:xfrm>
            <a:off x="598320" y="1455840"/>
            <a:ext cx="794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克的水在温度降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摄氏度时所放出的热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焦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695680" y="5435640"/>
            <a:ext cx="568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热的计算公式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793800" y="31780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793800" y="531648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793800" y="422280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793800" y="213516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3119400" y="384120"/>
            <a:ext cx="2867040" cy="974880"/>
            <a:chOff x="3119400" y="384120"/>
            <a:chExt cx="2867040" cy="974880"/>
          </a:xfrm>
        </p:grpSpPr>
        <p:grpSp>
          <p:nvGrpSpPr>
            <p:cNvPr id="246" name="Group 20"/>
            <p:cNvGrpSpPr/>
            <p:nvPr/>
          </p:nvGrpSpPr>
          <p:grpSpPr>
            <a:xfrm>
              <a:off x="3119400" y="633600"/>
              <a:ext cx="2867040" cy="725400"/>
              <a:chOff x="3119400" y="633600"/>
              <a:chExt cx="2867040" cy="725400"/>
            </a:xfrm>
          </p:grpSpPr>
          <p:pic>
            <p:nvPicPr>
              <p:cNvPr id="247" name="Picture 21" descr="2"/>
              <p:cNvPicPr/>
              <p:nvPr/>
            </p:nvPicPr>
            <p:blipFill>
              <a:blip r:embed="rId1"/>
              <a:stretch/>
            </p:blipFill>
            <p:spPr>
              <a:xfrm>
                <a:off x="3119400" y="633600"/>
                <a:ext cx="2867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Rectangle 22"/>
              <p:cNvSpPr/>
              <p:nvPr/>
            </p:nvSpPr>
            <p:spPr>
              <a:xfrm>
                <a:off x="3787920" y="671760"/>
                <a:ext cx="1979640" cy="4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49" name="Text Box 23"/>
            <p:cNvSpPr/>
            <p:nvPr/>
          </p:nvSpPr>
          <p:spPr>
            <a:xfrm>
              <a:off x="4467240" y="38412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算一算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674640" y="1438200"/>
            <a:ext cx="7772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质量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沸水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0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，温度降低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水放出了多少热量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853920" y="2819520"/>
            <a:ext cx="718200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解析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8e163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/(k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℃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k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℃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0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放出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0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热量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3"/>
          <p:cNvSpPr/>
          <p:nvPr/>
        </p:nvSpPr>
        <p:spPr>
          <a:xfrm>
            <a:off x="6553080" y="6353280"/>
            <a:ext cx="2133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365-4306-4156-9354-35723A29FE3F}" type="slidenum">
              <a:rPr b="0" lang="en-US" sz="1400" spc="-1" strike="noStrike">
                <a:solidFill>
                  <a:srgbClr val="0033cc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073240" y="152280"/>
            <a:ext cx="693432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66280" y="2520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热量的计算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2860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如果，某种物质的比热容为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，质量为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，温度的变化为∆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，则它吸收或放出的热量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Q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的计算方法为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2286000" y="2286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公式：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=Cm∆t </a:t>
            </a: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2286000" y="3006720"/>
            <a:ext cx="6477120" cy="2241720"/>
            <a:chOff x="2286000" y="3006720"/>
            <a:chExt cx="6477120" cy="2241720"/>
          </a:xfrm>
        </p:grpSpPr>
        <p:sp>
          <p:nvSpPr>
            <p:cNvPr id="258" name="Text Box 8"/>
            <p:cNvSpPr/>
            <p:nvPr/>
          </p:nvSpPr>
          <p:spPr>
            <a:xfrm>
              <a:off x="2286000" y="3006720"/>
              <a:ext cx="647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②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如果物体的初温为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t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2800" spc="-1" strike="noStrike" baseline="-25000">
                  <a:solidFill>
                    <a:srgbClr val="0033cc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末温为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t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，此公式可分解为：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2835720" y="4167000"/>
              <a:ext cx="380880" cy="9147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3760 h 914760"/>
                <a:gd name="textAreaBottom" fmla="*/ 891000 h 9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3276360" y="3983040"/>
              <a:ext cx="4039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Q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吸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=Cm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t-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0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)  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3276360" y="4668840"/>
              <a:ext cx="4039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Q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放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=Cm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微软雅黑"/>
                  <a:ea typeface="微软雅黑"/>
                </a:rPr>
                <a:t>0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-t)  </a:t>
              </a:r>
              <a:r>
                <a:rPr b="1" lang="en-US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262" name="Text Box 12"/>
          <p:cNvSpPr/>
          <p:nvPr/>
        </p:nvSpPr>
        <p:spPr>
          <a:xfrm>
            <a:off x="2286000" y="5410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注意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统一单位。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88840" y="1935000"/>
            <a:ext cx="792648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于比热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说法正确的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比热容跟温度有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比热容跟物体吸收和放出的热量有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比热容是物质本身的一种特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的质量越大它的比热容越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681880" y="216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65" name="Picture 49" descr="课堂练习"/>
          <p:cNvPicPr/>
          <p:nvPr/>
        </p:nvPicPr>
        <p:blipFill>
          <a:blip r:embed="rId1"/>
          <a:stretch/>
        </p:blipFill>
        <p:spPr>
          <a:xfrm>
            <a:off x="2397240" y="803160"/>
            <a:ext cx="4195800" cy="9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F2D9-C8F4-45A0-937E-425EF12BE008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94" name="Picture 4" descr="r_DSC03412"/>
          <p:cNvPicPr/>
          <p:nvPr/>
        </p:nvPicPr>
        <p:blipFill>
          <a:blip r:embed="rId1"/>
          <a:stretch/>
        </p:blipFill>
        <p:spPr>
          <a:xfrm>
            <a:off x="533520" y="110484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6705720" y="5791320"/>
            <a:ext cx="1066680" cy="685800"/>
          </a:xfrm>
          <a:prstGeom prst="wedgeEllipseCallout">
            <a:avLst>
              <a:gd name="adj1" fmla="val -44643"/>
              <a:gd name="adj2" fmla="val 567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热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752480" y="4800600"/>
            <a:ext cx="1219320" cy="609480"/>
          </a:xfrm>
          <a:prstGeom prst="wedgeRoundRectCallout">
            <a:avLst>
              <a:gd name="adj1" fmla="val -44921"/>
              <a:gd name="adj2" fmla="val 70050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凉快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09480" y="228600"/>
            <a:ext cx="68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情境引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1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白天在游泳池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2"/>
          <p:cNvSpPr/>
          <p:nvPr/>
        </p:nvSpPr>
        <p:spPr>
          <a:xfrm>
            <a:off x="676440" y="1266840"/>
            <a:ext cx="784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说法正确的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)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杯煤油用去一半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它的比热容减为原来的二分之一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吸收热量多的物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比热容一定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高温物体放出的热量一定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质量相等的水和煤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吸收了相同的热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煤油升高的温度大于水升高的温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706920" y="159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2"/>
          <p:cNvSpPr/>
          <p:nvPr/>
        </p:nvSpPr>
        <p:spPr>
          <a:xfrm>
            <a:off x="971640" y="1973160"/>
            <a:ext cx="7129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农业生产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了保护秧苗夜间不致受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傍晚时要向秧田里多灌些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是因为水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密度大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比热容大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温度高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热膨胀大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307200" y="296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1219320" y="533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87280" y="1197000"/>
            <a:ext cx="7467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在相同的日光照射下，沙地比水田的温度升高的快， 主要是因为（   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沙地吸收的热量多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水田不容易吸收热量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水的比热容大，在吸收相等的热量 后，升高的温度比沙地小，所以水田的温度升高得慢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沙地和水田的质量不一样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948360" y="1773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38080" y="380880"/>
            <a:ext cx="79250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关于比热容的说法中，正确的是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0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水比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水的比热容大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克的水比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克的水的比热容大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由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=Q/m·Δ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可知，比热容与热量成 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比，与质量、温度的变化量成反比；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铁块被压成铁饼，其比热容不变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772400" y="380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84360" y="501336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物质的比热容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物质的特性之一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，  与物质的 质量、温度变化、吸收或放出热量以及体积和形状无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2112120" y="332280"/>
            <a:ext cx="52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沙漠地区为什么会有早穿皮袄午穿纱的奇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现象？沿海地区可能出现这种现象吗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1978920"/>
            <a:ext cx="971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[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答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沙漠地区多砂石，砂石比热小，夜间砂石散热，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温度降低较多，因而出现早晨气温较低。午间在阳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光照射下，砂石吸热后温度升高较快，气温迅速上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升，因而出现早、午气温差别较大的奇特现象。沿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海地区多水，水的比热较大，夜间海洋与沙漠地区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同样散热，海洋的温度降低不多，早晨气温就不太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低；同理，白天气温也不会升高得太快，所以沿海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地区不会出现早穿棉袄午穿纱的现象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14200" y="1533960"/>
            <a:ext cx="8591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判断下列说法中正确的是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[    ]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物质吸收的热量越多，它的比热就越大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物质的温度变化越小，它的比热就越大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把一个铁块分开，用其中一块测铁的比热，因为质量小了，所以测得的比热值就大了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 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．单位质量的某种物质温度升高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℃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吸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收的热量越少，比热就越小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5929200" y="1522440"/>
            <a:ext cx="214560" cy="5205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26920" y="1413000"/>
            <a:ext cx="749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81" name="Picture 3" descr="6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826920" y="981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af65"/>
                </a:solidFill>
                <a:latin typeface="Arial"/>
              </a:rPr>
              <a:t>为什么海水和沙子在同一时刻的温度不一样？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24000" y="2637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为海水与沙子受光照的时间完全相同，所以它们吸收的热量相同，但是海水的比热比沙子的比热大，所以海水升温比沙子慢；没有日照时，海水降温比沙子慢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395280" y="0"/>
            <a:ext cx="172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文本框 8199"/>
          <p:cNvSpPr/>
          <p:nvPr/>
        </p:nvSpPr>
        <p:spPr>
          <a:xfrm>
            <a:off x="1619280" y="229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6-4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838080" y="9144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水稻是喜温作物，在每年三四月份育秧时，为了防止霜冻，傍晚常常在秧田里灌一些水过夜，第二天太阳升起后，再把秧田里的水放掉，你能解释原因吗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395280" y="0"/>
            <a:ext cx="172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914400" y="304920"/>
            <a:ext cx="3871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6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、问题与思考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85800" y="1066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163e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e163e"/>
                </a:solidFill>
                <a:latin typeface="Times New Roman"/>
              </a:rPr>
              <a:t>地球表面大部分为海水所覆盖，海洋对地球环境的影响至关重要，请依据相关的一些知识，考虑以下的问题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44640" y="2614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3e2a"/>
                </a:solidFill>
                <a:latin typeface="Times New Roman"/>
              </a:rPr>
              <a:t>(1)</a:t>
            </a:r>
            <a:r>
              <a:rPr b="1" lang="en-US" sz="2800" spc="-1" strike="noStrike">
                <a:solidFill>
                  <a:srgbClr val="f83e2a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83e2a"/>
                </a:solidFill>
                <a:latin typeface="Times New Roman"/>
              </a:rPr>
              <a:t>、内陆型气候与沿海型气候有很大差异的主要原因是什么？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25400" y="38656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、设想如果水的比热容较小，那么在地球上将会有什么后果？水具有很大的比热容对地球的生态环境有什么样的重大意义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431000" y="53802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163e"/>
                </a:solidFill>
                <a:latin typeface="Arial"/>
              </a:rPr>
              <a:t>(3).</a:t>
            </a:r>
            <a:r>
              <a:rPr b="1" lang="zh-CN" sz="2800" spc="-1" strike="noStrike">
                <a:solidFill>
                  <a:srgbClr val="8e163e"/>
                </a:solidFill>
                <a:latin typeface="Arial"/>
              </a:rPr>
              <a:t>阅读：</a:t>
            </a:r>
            <a:r>
              <a:rPr b="1" lang="en-US" sz="2800" spc="-1" strike="noStrike">
                <a:solidFill>
                  <a:srgbClr val="8e163e"/>
                </a:solidFill>
                <a:latin typeface="Arial"/>
              </a:rPr>
              <a:t>P:133 </a:t>
            </a:r>
            <a:r>
              <a:rPr b="1" lang="zh-CN" sz="2800" spc="-1" strike="noStrike">
                <a:solidFill>
                  <a:srgbClr val="8e163e"/>
                </a:solidFill>
                <a:latin typeface="Arial"/>
              </a:rPr>
              <a:t>气候与热污染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e163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F2A7-A309-4E4C-B992-0484712E7A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D86-1278-41EE-A504-928DEEB4D50B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99" name="Picture 4" descr="2004827233028179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6629400" y="5105520"/>
            <a:ext cx="1219320" cy="609480"/>
          </a:xfrm>
          <a:prstGeom prst="wedgeRoundRectCallout">
            <a:avLst>
              <a:gd name="adj1" fmla="val -44921"/>
              <a:gd name="adj2" fmla="val 70050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凉快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5791320" y="3962520"/>
            <a:ext cx="1066680" cy="685800"/>
          </a:xfrm>
          <a:prstGeom prst="wedgeEllipseCallout">
            <a:avLst>
              <a:gd name="adj1" fmla="val -44643"/>
              <a:gd name="adj2" fmla="val 567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热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71600" y="2286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晚上到游泳池</a:t>
            </a:r>
            <a:endParaRPr b="0" lang="en-US" sz="4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099800" y="47628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小结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100520" y="1197000"/>
            <a:ext cx="16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一</a:t>
            </a:r>
            <a:r>
              <a:rPr b="1" lang="zh-CN" sz="1800" spc="-1" strike="noStrike">
                <a:solidFill>
                  <a:srgbClr val="ff33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比热容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11280" y="1700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单位质量的某种物质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温度升高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℃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所吸收的热量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1784160" y="2708280"/>
            <a:ext cx="57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单位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焦每千克摄氏度       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J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／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(kg·℃)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314520" y="328464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、比热容是物质的一种属性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2308320" y="386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二、热量的计算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1051920" y="4508640"/>
            <a:ext cx="12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吸热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411280" y="4365720"/>
            <a:ext cx="4772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Q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Calibri"/>
              </a:rPr>
              <a:t>吸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=cm△t=cm(t-t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051920" y="5157720"/>
            <a:ext cx="12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放热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2467080" y="5084640"/>
            <a:ext cx="435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Q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Calibri"/>
              </a:rPr>
              <a:t>放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=cm△t=cm(t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-t) 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1A43-D13E-451F-9210-3970F160F76A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6920" y="1413000"/>
            <a:ext cx="749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05" name="Picture 5" descr="6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26920" y="765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af65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午，沙子很烫</a:t>
            </a:r>
            <a:r>
              <a:rPr b="1" lang="zh-CN" sz="4000" spc="-1" strike="noStrike">
                <a:solidFill>
                  <a:srgbClr val="72f69e"/>
                </a:solidFill>
                <a:latin typeface="Arial"/>
              </a:rPr>
              <a:t>而海水很凉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94A-0A08-4F38-BD13-B482CA7A74D5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08" name="Picture 5" descr="6-4-8"/>
          <p:cNvPicPr/>
          <p:nvPr/>
        </p:nvPicPr>
        <p:blipFill>
          <a:blip r:embed="rId1"/>
          <a:stretch/>
        </p:blipFill>
        <p:spPr>
          <a:xfrm>
            <a:off x="0" y="0"/>
            <a:ext cx="5408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7417440" y="549360"/>
            <a:ext cx="7898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傍晚，沙子变凉了而海水却还很温暖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3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9BC2-CF25-49D0-8A2D-4A641092748B}" type="slidenum">
              <a:rPr b="0" lang="en-US" sz="18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6920" y="1413000"/>
            <a:ext cx="749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12" name="Picture 3" descr="6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26920" y="765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2f69e"/>
                </a:solidFill>
                <a:latin typeface="Arial"/>
              </a:rPr>
              <a:t>为什么海水和沙子在同一时刻的温度不一样？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26920" y="3336840"/>
            <a:ext cx="72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猜想： 可能是沙子吸热升温或放热降温都比水快的缘故。</a:t>
            </a:r>
            <a:endParaRPr b="0" lang="en-US" sz="4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590400" y="1822320"/>
            <a:ext cx="7940880" cy="426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00000" y="1701720"/>
            <a:ext cx="74170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吸收热量的多少跟哪些因素有关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用同样的炉火分别烧一大锅水和一小杯水，加热到相同的温度，谁吸热的时间长？谁吸收的热量多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把一壶水烧热和烧开，哪种情况需要吸收更多的热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说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体吸收的热量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质量、温度变化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关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3360600" y="693720"/>
            <a:ext cx="2797200" cy="1015920"/>
            <a:chOff x="3360600" y="693720"/>
            <a:chExt cx="2797200" cy="1015920"/>
          </a:xfrm>
        </p:grpSpPr>
        <p:grpSp>
          <p:nvGrpSpPr>
            <p:cNvPr id="118" name="Group 15"/>
            <p:cNvGrpSpPr/>
            <p:nvPr/>
          </p:nvGrpSpPr>
          <p:grpSpPr>
            <a:xfrm>
              <a:off x="3360600" y="1001520"/>
              <a:ext cx="2797200" cy="708120"/>
              <a:chOff x="3360600" y="1001520"/>
              <a:chExt cx="2797200" cy="708120"/>
            </a:xfrm>
          </p:grpSpPr>
          <p:pic>
            <p:nvPicPr>
              <p:cNvPr id="119" name="Picture 16" descr="1"/>
              <p:cNvPicPr/>
              <p:nvPr/>
            </p:nvPicPr>
            <p:blipFill>
              <a:blip r:embed="rId1"/>
              <a:stretch/>
            </p:blipFill>
            <p:spPr>
              <a:xfrm>
                <a:off x="3360600" y="1001520"/>
                <a:ext cx="279720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Rectangle 17"/>
              <p:cNvSpPr/>
              <p:nvPr/>
            </p:nvSpPr>
            <p:spPr>
              <a:xfrm>
                <a:off x="4060800" y="1060200"/>
                <a:ext cx="1898640" cy="40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121" name="Text Box 18"/>
            <p:cNvSpPr/>
            <p:nvPr/>
          </p:nvSpPr>
          <p:spPr>
            <a:xfrm>
              <a:off x="4489200" y="6937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讨 论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问题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思考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6206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163e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。质量分别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克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克的两杯水，温度    都升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0℃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，吸收的热量相同吗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4000" y="3068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163e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。质量都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克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的两杯水，温度分别升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℃</a:t>
            </a:r>
            <a:r>
              <a:rPr b="1" lang="en-US" sz="3200" spc="-1" strike="noStrike">
                <a:solidFill>
                  <a:srgbClr val="8e163e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8e163e"/>
                </a:solidFill>
                <a:latin typeface="宋体"/>
              </a:rPr>
              <a:t>，吸收的热量相同吗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292720" y="2349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质量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076720" y="4724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升高的温度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39640" y="4221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这种情况下吸收的热量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，结果表明物质吸收的热量与物质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39640" y="184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这种情况下吸收的热量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，结果表明物质吸收的热量与物质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716360" y="177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不相同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643280" y="4292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不相同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04:59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8Z</dcterms:modified>
  <cp:revision>7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be15000000000001024120</vt:lpwstr>
  </property>
</Properties>
</file>