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315-4B0E-4678-94CD-CCD58648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29B-B9BE-427C-98BF-A7BE1F4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440-5AC2-4172-8993-0B8FBB7A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1E1-E10A-4BD2-878B-749686D5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E131-DD62-4FD3-8318-A424BAAA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5EE6-38F5-4807-BE0C-0334CDA0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0EA0-18A7-4004-AB63-66F21CCA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C8BB-0EA1-4FE6-9440-157B3FEF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23FC-73AC-4CD2-B64D-B9B7F83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3714-CCFA-4F07-836F-026D16C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7E2E-A055-4684-82DD-8F54EF54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10E-B1DC-423B-8740-699BBAA4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0D69-628B-4E12-B691-0ECE361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2090-C2F1-46BB-ABE4-9E0BABF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F6AC-0112-46C0-8E77-F2A9B92E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2F91-E640-427F-825B-1AA91327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AC33-12DD-47E0-B573-2EA03E15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A43-EF8F-4D10-B0D1-EDEA3F46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D1A-214D-4D4C-B006-666BA6BC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B72-576D-41F2-9A24-111A62E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D99-F8E7-4F8C-8127-59635458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E72-3B6C-43D2-B7FE-1C7424E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6AB-6210-479F-A3A6-78554C2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168-E598-4A73-90AD-8BDC69F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2DD2-9022-4706-A8EC-A26D1C37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70B-46BC-4E5C-8D95-AD9CC9057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57120" y="3333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教版品德与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95280" y="91296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年级   第二单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79320" y="183348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不一样的你我他免费</a:t>
            </a:r>
            <a:r>
              <a:rPr b="1" i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矩形 9" descr=""/>
          <p:cNvPicPr/>
          <p:nvPr/>
        </p:nvPicPr>
        <p:blipFill>
          <a:blip r:embed="rId2"/>
          <a:stretch/>
        </p:blipFill>
        <p:spPr>
          <a:xfrm>
            <a:off x="2327400" y="6165720"/>
            <a:ext cx="4522680" cy="4064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抓小鸡"/>
          <p:cNvPicPr/>
          <p:nvPr/>
        </p:nvPicPr>
        <p:blipFill>
          <a:blip r:embed="rId1"/>
          <a:stretch/>
        </p:blipFill>
        <p:spPr>
          <a:xfrm>
            <a:off x="0" y="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5300640"/>
            <a:ext cx="8820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一样的爱好和想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一样的国家和文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640" y="51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在一片蓝天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我们手拉手，心连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吹泡泡"/>
          <p:cNvPicPr/>
          <p:nvPr/>
        </p:nvPicPr>
        <p:blipFill>
          <a:blip r:embed="rId1"/>
          <a:stretch/>
        </p:blipFill>
        <p:spPr>
          <a:xfrm>
            <a:off x="250920" y="47520"/>
            <a:ext cx="85690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FE00-2C11-4C73-91DD-52EF2F3EE8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奔跑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4916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35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来理解我，我去尊重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样的你我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彩的生活美如画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D:\My Documents\My Pictures\洋洋集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3419640" y="2349360"/>
            <a:ext cx="2438280" cy="2438640"/>
          </a:xfrm>
          <a:prstGeom prst="flowChartConnector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画一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8"/>
          <p:cNvSpPr/>
          <p:nvPr/>
        </p:nvSpPr>
        <p:spPr>
          <a:xfrm>
            <a:off x="0" y="1676520"/>
            <a:ext cx="1828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981080" y="3733920"/>
            <a:ext cx="1828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410080" y="2362320"/>
            <a:ext cx="79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438280" y="1066680"/>
            <a:ext cx="79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57200" y="3886200"/>
            <a:ext cx="7333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038480" y="76212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7" descr="各种各样的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新疆"/>
          <p:cNvPicPr/>
          <p:nvPr/>
        </p:nvPicPr>
        <p:blipFill>
          <a:blip r:embed="rId1"/>
          <a:stretch/>
        </p:blipFill>
        <p:spPr>
          <a:xfrm>
            <a:off x="0" y="0"/>
            <a:ext cx="48816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傣族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各种肤色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xingxing"/>
          <p:cNvPicPr/>
          <p:nvPr/>
        </p:nvPicPr>
        <p:blipFill>
          <a:blip r:embed="rId1"/>
          <a:stretch/>
        </p:blipFill>
        <p:spPr>
          <a:xfrm>
            <a:off x="-380880" y="-458640"/>
            <a:ext cx="9524880" cy="7775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7524720" y="189000"/>
            <a:ext cx="1371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480320" y="1563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画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407600" y="843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舞蹈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971640" y="306864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书法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861720" y="544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助人为乐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071960" y="4587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劳动明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5700600" y="1773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体育之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104292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乐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5076720" y="105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习标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0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送你一首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不一样的你我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农村孩子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39640" y="5373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千世界，不一样的你我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样的眼睛和嘴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5:13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34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