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2.jpeg" ContentType="image/jpeg"/>
  <Override PartName="/ppt/media/image35.png" ContentType="image/png"/>
  <Override PartName="/ppt/media/image43.jpeg" ContentType="image/jpeg"/>
  <Override PartName="/ppt/media/image42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46.png" ContentType="image/png"/>
  <Override PartName="/ppt/media/image5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5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F90-BCC5-4275-B666-780A1C9A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C66-4513-464B-B3F0-69BA82E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5C4-CA11-4247-9369-8D996120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985-C378-48CB-9D5C-25272E83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4634-D597-4C86-AE02-8015919F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CE5-D82E-4E73-8371-20F6890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BF3D-B84C-4571-BF41-3D085AE2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4E91-FAE9-4BF7-9CF2-AB73873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D840-A1B2-4014-9A67-DC84BCCB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5CB-62F3-4BA1-B394-86C5FB2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F73-97E6-4782-9C2C-216566E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058-2446-4BDF-BA84-7B43A9A9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993-AFA0-493D-B399-1AE3C71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4500-B124-43FE-AEA3-E911F556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F9C0-01F5-4827-AF5A-D6B88538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1684-57D2-461C-B160-261352C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C65-6FAD-4A69-BC89-B1C3B06E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71C-AB22-46B4-BAB2-905FA2E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610-550A-4636-893B-9D2E3B9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CAC-4FBE-465E-88DF-CF23B40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401-EECC-4C52-AFAA-B8967E9D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4A3-91AC-40B8-8EFD-36245D6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747-7E73-4941-B5DE-CE79AA2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3D9-C6FB-40D5-9F35-8EA94CE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3A2-E956-430E-AF39-40576926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193-E142-4EAE-96A9-0E2FCC3B11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61891.htm" TargetMode="External"/><Relationship Id="rId2" Type="http://schemas.openxmlformats.org/officeDocument/2006/relationships/hyperlink" Target="http://baike.baidu.com/view/958344.htm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2314508_20111210145855"/>
          <p:cNvPicPr/>
          <p:nvPr/>
        </p:nvPicPr>
        <p:blipFill>
          <a:blip r:embed="rId2"/>
          <a:stretch/>
        </p:blipFill>
        <p:spPr>
          <a:xfrm>
            <a:off x="4410000" y="565776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2314508_20111210145855"/>
          <p:cNvPicPr/>
          <p:nvPr/>
        </p:nvPicPr>
        <p:blipFill>
          <a:blip r:embed="rId3"/>
          <a:stretch/>
        </p:blipFill>
        <p:spPr>
          <a:xfrm>
            <a:off x="2133720" y="5506920"/>
            <a:ext cx="146664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2314508_20111210145855"/>
          <p:cNvPicPr/>
          <p:nvPr/>
        </p:nvPicPr>
        <p:blipFill>
          <a:blip r:embed="rId4"/>
          <a:stretch/>
        </p:blipFill>
        <p:spPr>
          <a:xfrm>
            <a:off x="0" y="531648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2314508_20111210145855"/>
          <p:cNvPicPr/>
          <p:nvPr/>
        </p:nvPicPr>
        <p:blipFill>
          <a:blip r:embed="rId5"/>
          <a:stretch/>
        </p:blipFill>
        <p:spPr>
          <a:xfrm>
            <a:off x="0" y="3552840"/>
            <a:ext cx="1600200" cy="140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2314508_20111210145855"/>
          <p:cNvPicPr/>
          <p:nvPr/>
        </p:nvPicPr>
        <p:blipFill>
          <a:blip r:embed="rId6"/>
          <a:stretch/>
        </p:blipFill>
        <p:spPr>
          <a:xfrm>
            <a:off x="0" y="202896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2314508_20111210145855"/>
          <p:cNvPicPr/>
          <p:nvPr/>
        </p:nvPicPr>
        <p:blipFill>
          <a:blip r:embed="rId7"/>
          <a:stretch/>
        </p:blipFill>
        <p:spPr>
          <a:xfrm>
            <a:off x="0" y="514440"/>
            <a:ext cx="1533600" cy="1466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15"/>
          <p:cNvSpPr txBox="1"/>
          <p:nvPr/>
        </p:nvSpPr>
        <p:spPr>
          <a:xfrm>
            <a:off x="1752480" y="2133720"/>
            <a:ext cx="586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蚕变了新模样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9" name="WordArt 17"/>
          <p:cNvSpPr txBox="1"/>
          <p:nvPr/>
        </p:nvSpPr>
        <p:spPr>
          <a:xfrm>
            <a:off x="1905120" y="800280"/>
            <a:ext cx="3886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科版三年级科学下册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60020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的外形和蚕有什么不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819520" cy="181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819520" cy="2100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352680" y="4343400"/>
            <a:ext cx="5562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蛹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体形粗短，纺锤形，为深褐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头、胸、腹三部分，头部很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352680" y="2209680"/>
            <a:ext cx="5562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f0f"/>
                </a:solidFill>
                <a:latin typeface="宋体"/>
              </a:rPr>
              <a:t>蚕</a:t>
            </a:r>
            <a:r>
              <a:rPr b="1" lang="zh-CN" sz="2400" spc="-1" strike="noStrike">
                <a:solidFill>
                  <a:srgbClr val="fb0f0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体形为长圆筒形，身体青白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头、胸、腹三部分，头部很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943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30"/>
          <p:cNvSpPr/>
          <p:nvPr/>
        </p:nvSpPr>
        <p:spPr>
          <a:xfrm>
            <a:off x="3276720" y="1461960"/>
            <a:ext cx="2743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3300"/>
                </a:solidFill>
                <a:latin typeface="宋体"/>
              </a:rPr>
              <a:t>体形不同，颜色不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51627792"/>
          <p:cNvPicPr/>
          <p:nvPr/>
        </p:nvPicPr>
        <p:blipFill>
          <a:blip r:embed="rId1"/>
          <a:stretch/>
        </p:blipFill>
        <p:spPr>
          <a:xfrm>
            <a:off x="0" y="836640"/>
            <a:ext cx="3059280" cy="2300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79280" y="3852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蚕蛹的正面身体一样是一节一节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4516277921"/>
          <p:cNvPicPr/>
          <p:nvPr/>
        </p:nvPicPr>
        <p:blipFill>
          <a:blip r:embed="rId2"/>
          <a:stretch/>
        </p:blipFill>
        <p:spPr>
          <a:xfrm>
            <a:off x="3132000" y="3357720"/>
            <a:ext cx="3024360" cy="2253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132000" y="60134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蚕蛹的腹部面，可以隐 约看到翅膀的纹路和触须及三对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45162779211"/>
          <p:cNvPicPr/>
          <p:nvPr/>
        </p:nvPicPr>
        <p:blipFill>
          <a:blip r:embed="rId3"/>
          <a:stretch/>
        </p:blipFill>
        <p:spPr>
          <a:xfrm>
            <a:off x="5940360" y="765000"/>
            <a:ext cx="3203640" cy="24084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662292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蛹的侧面也有一个一个的气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895480" y="184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不同角度观察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4572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能看到眼睛和足吗？还发现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5845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3200400" y="1828800"/>
            <a:ext cx="4267080" cy="581400"/>
            <a:chOff x="3200400" y="1828800"/>
            <a:chExt cx="4267080" cy="581400"/>
          </a:xfrm>
        </p:grpSpPr>
        <p:grpSp>
          <p:nvGrpSpPr>
            <p:cNvPr id="174" name=""/>
            <p:cNvGrpSpPr/>
            <p:nvPr/>
          </p:nvGrpSpPr>
          <p:grpSpPr>
            <a:xfrm>
              <a:off x="3200400" y="2133360"/>
              <a:ext cx="2362320" cy="29880"/>
              <a:chOff x="3200400" y="2133360"/>
              <a:chExt cx="2362320" cy="29880"/>
            </a:xfrm>
          </p:grpSpPr>
          <p:sp>
            <p:nvSpPr>
              <p:cNvPr id="175" name="Line 5"/>
              <p:cNvSpPr/>
              <p:nvPr/>
            </p:nvSpPr>
            <p:spPr>
              <a:xfrm flipV="1">
                <a:off x="3200400" y="2133360"/>
                <a:ext cx="2362320" cy="29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 rot="10800000">
                <a:off x="3200400" y="2133360"/>
                <a:ext cx="236232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6"/>
            <p:cNvSpPr/>
            <p:nvPr/>
          </p:nvSpPr>
          <p:spPr>
            <a:xfrm>
              <a:off x="5715000" y="18288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复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438280" y="4038480"/>
            <a:ext cx="3200400" cy="533520"/>
            <a:chOff x="2438280" y="4038480"/>
            <a:chExt cx="3200400" cy="533520"/>
          </a:xfrm>
        </p:grpSpPr>
        <p:sp>
          <p:nvSpPr>
            <p:cNvPr id="179" name="Line 10"/>
            <p:cNvSpPr/>
            <p:nvPr/>
          </p:nvSpPr>
          <p:spPr>
            <a:xfrm flipV="1">
              <a:off x="2438280" y="4038480"/>
              <a:ext cx="3200400" cy="5335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10800000">
              <a:off x="2438280" y="403848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124080" y="3657600"/>
            <a:ext cx="2514600" cy="228600"/>
            <a:chOff x="3124080" y="3657600"/>
            <a:chExt cx="2514600" cy="228600"/>
          </a:xfrm>
        </p:grpSpPr>
        <p:sp>
          <p:nvSpPr>
            <p:cNvPr id="182" name="Line 11"/>
            <p:cNvSpPr/>
            <p:nvPr/>
          </p:nvSpPr>
          <p:spPr>
            <a:xfrm>
              <a:off x="3124080" y="3657600"/>
              <a:ext cx="2514600" cy="2286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124080" y="3657600"/>
              <a:ext cx="2514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123720" y="3962160"/>
            <a:ext cx="2591280" cy="228600"/>
            <a:chOff x="3123720" y="3962160"/>
            <a:chExt cx="2591280" cy="228600"/>
          </a:xfrm>
        </p:grpSpPr>
        <p:sp>
          <p:nvSpPr>
            <p:cNvPr id="185" name="Line 12"/>
            <p:cNvSpPr/>
            <p:nvPr/>
          </p:nvSpPr>
          <p:spPr>
            <a:xfrm flipV="1">
              <a:off x="3124080" y="3962160"/>
              <a:ext cx="2590920" cy="2286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3123720" y="3962160"/>
              <a:ext cx="2590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3"/>
          <p:cNvSpPr/>
          <p:nvPr/>
        </p:nvSpPr>
        <p:spPr>
          <a:xfrm>
            <a:off x="5638680" y="3657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胸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6"/>
          <p:cNvGrpSpPr/>
          <p:nvPr/>
        </p:nvGrpSpPr>
        <p:grpSpPr>
          <a:xfrm>
            <a:off x="2971800" y="2514600"/>
            <a:ext cx="5638680" cy="581400"/>
            <a:chOff x="2971800" y="2514600"/>
            <a:chExt cx="5638680" cy="581400"/>
          </a:xfrm>
        </p:grpSpPr>
        <p:grpSp>
          <p:nvGrpSpPr>
            <p:cNvPr id="189" name=""/>
            <p:cNvGrpSpPr/>
            <p:nvPr/>
          </p:nvGrpSpPr>
          <p:grpSpPr>
            <a:xfrm>
              <a:off x="2971800" y="2819520"/>
              <a:ext cx="2514600" cy="360"/>
              <a:chOff x="2971800" y="2819520"/>
              <a:chExt cx="2514600" cy="360"/>
            </a:xfrm>
          </p:grpSpPr>
          <p:sp>
            <p:nvSpPr>
              <p:cNvPr id="190" name="Line 17"/>
              <p:cNvSpPr/>
              <p:nvPr/>
            </p:nvSpPr>
            <p:spPr>
              <a:xfrm>
                <a:off x="2971800" y="28195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2971800" y="281952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18"/>
            <p:cNvSpPr/>
            <p:nvPr/>
          </p:nvSpPr>
          <p:spPr>
            <a:xfrm>
              <a:off x="5638680" y="25146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触角的原始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457200" y="533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上的环节还在吗？你还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73356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7"/>
          <p:cNvGrpSpPr/>
          <p:nvPr/>
        </p:nvGrpSpPr>
        <p:grpSpPr>
          <a:xfrm>
            <a:off x="2743200" y="2514600"/>
            <a:ext cx="5638680" cy="581400"/>
            <a:chOff x="2743200" y="2514600"/>
            <a:chExt cx="5638680" cy="581400"/>
          </a:xfrm>
        </p:grpSpPr>
        <p:grpSp>
          <p:nvGrpSpPr>
            <p:cNvPr id="196" name=""/>
            <p:cNvGrpSpPr/>
            <p:nvPr/>
          </p:nvGrpSpPr>
          <p:grpSpPr>
            <a:xfrm>
              <a:off x="2743200" y="2819520"/>
              <a:ext cx="2514600" cy="360"/>
              <a:chOff x="2743200" y="2819520"/>
              <a:chExt cx="2514600" cy="360"/>
            </a:xfrm>
          </p:grpSpPr>
          <p:sp>
            <p:nvSpPr>
              <p:cNvPr id="197" name="Line 18"/>
              <p:cNvSpPr/>
              <p:nvPr/>
            </p:nvSpPr>
            <p:spPr>
              <a:xfrm>
                <a:off x="2743200" y="28195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743200" y="281952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9"/>
            <p:cNvSpPr/>
            <p:nvPr/>
          </p:nvSpPr>
          <p:spPr>
            <a:xfrm>
              <a:off x="5410080" y="25146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身上还有环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0"/>
          <p:cNvGrpSpPr/>
          <p:nvPr/>
        </p:nvGrpSpPr>
        <p:grpSpPr>
          <a:xfrm>
            <a:off x="2438280" y="4267080"/>
            <a:ext cx="5638680" cy="1323000"/>
            <a:chOff x="2438280" y="4267080"/>
            <a:chExt cx="5638680" cy="1323000"/>
          </a:xfrm>
        </p:grpSpPr>
        <p:grpSp>
          <p:nvGrpSpPr>
            <p:cNvPr id="201" name=""/>
            <p:cNvGrpSpPr/>
            <p:nvPr/>
          </p:nvGrpSpPr>
          <p:grpSpPr>
            <a:xfrm>
              <a:off x="2438280" y="4572000"/>
              <a:ext cx="2514600" cy="360"/>
              <a:chOff x="2438280" y="4572000"/>
              <a:chExt cx="2514600" cy="360"/>
            </a:xfrm>
          </p:grpSpPr>
          <p:sp>
            <p:nvSpPr>
              <p:cNvPr id="202" name="Line 21"/>
              <p:cNvSpPr/>
              <p:nvPr/>
            </p:nvSpPr>
            <p:spPr>
              <a:xfrm>
                <a:off x="2438280" y="45720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2438280" y="457200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 Box 22"/>
            <p:cNvSpPr/>
            <p:nvPr/>
          </p:nvSpPr>
          <p:spPr>
            <a:xfrm>
              <a:off x="5105160" y="4267080"/>
              <a:ext cx="2971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气门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但数目减少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6943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Text Box 30"/>
          <p:cNvSpPr/>
          <p:nvPr/>
        </p:nvSpPr>
        <p:spPr>
          <a:xfrm>
            <a:off x="3276720" y="1461960"/>
            <a:ext cx="2743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3300"/>
                </a:solidFill>
                <a:latin typeface="宋体"/>
              </a:rPr>
              <a:t>体形不同，颜色不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3276720" y="22096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能找到眼睛和足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身上还有环节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2438280"/>
            <a:ext cx="3300480" cy="4419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5867280" cy="211320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4571640" y="3962520"/>
            <a:ext cx="152280" cy="914400"/>
            <a:chOff x="4571640" y="3962520"/>
            <a:chExt cx="152280" cy="914400"/>
          </a:xfrm>
        </p:grpSpPr>
        <p:sp>
          <p:nvSpPr>
            <p:cNvPr id="212" name="Line 6"/>
            <p:cNvSpPr/>
            <p:nvPr/>
          </p:nvSpPr>
          <p:spPr>
            <a:xfrm flipH="1" flipV="1">
              <a:off x="4571640" y="3962520"/>
              <a:ext cx="152280" cy="9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4571640" y="3962520"/>
              <a:ext cx="1522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819520" y="3962520"/>
            <a:ext cx="1752480" cy="914400"/>
            <a:chOff x="2819520" y="3962520"/>
            <a:chExt cx="1752480" cy="914400"/>
          </a:xfrm>
        </p:grpSpPr>
        <p:sp>
          <p:nvSpPr>
            <p:cNvPr id="215" name="Line 7"/>
            <p:cNvSpPr/>
            <p:nvPr/>
          </p:nvSpPr>
          <p:spPr>
            <a:xfrm flipV="1">
              <a:off x="2819520" y="3962520"/>
              <a:ext cx="1752480" cy="9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10800000">
              <a:off x="2819520" y="3962520"/>
              <a:ext cx="17524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8"/>
          <p:cNvSpPr/>
          <p:nvPr/>
        </p:nvSpPr>
        <p:spPr>
          <a:xfrm>
            <a:off x="4191120" y="3276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盾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80880" y="8380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会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2971800" y="457200"/>
            <a:ext cx="4800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当用手轻轻的触摸它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用手电筒照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发出声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334120" y="3276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盾片生出翅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248520" y="1371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刺激才会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276720" y="2438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身上长出了什么东西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36943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Text Box 30"/>
          <p:cNvSpPr/>
          <p:nvPr/>
        </p:nvSpPr>
        <p:spPr>
          <a:xfrm>
            <a:off x="3276720" y="1461960"/>
            <a:ext cx="2743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3300"/>
                </a:solidFill>
                <a:latin typeface="宋体"/>
              </a:rPr>
              <a:t>体形不同，颜色不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3276720" y="22096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能找到眼睛和足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身上还有环节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276720" y="3124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外界刺激才动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盾片，从盾片长出翅膀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33520" y="792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剪开的茧里还发现了什么，它可能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4952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一层皮，它是蚕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蜕的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 rot="16200000">
            <a:off x="3200400" y="1371240"/>
            <a:ext cx="2514600" cy="38862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886200"/>
              <a:gd name="textAreaBottom" fmla="*/ 3763440 h 3886200"/>
            </a:gdLst>
            <a:ahLst/>
            <a:rect l="textAreaLeft" t="textAreaTop" r="textAreaRight" b="textAreaBottom"/>
            <a:pathLst>
              <a:path w="21600" h="33380">
                <a:moveTo>
                  <a:pt x="3600" y="0"/>
                </a:moveTo>
                <a:arcTo wR="3600" hR="3600" stAng="16200000" swAng="-5400000"/>
                <a:lnTo>
                  <a:pt x="0" y="29780"/>
                </a:lnTo>
                <a:arcTo wR="3600" hR="3600" stAng="10800000" swAng="-5400000"/>
                <a:lnTo>
                  <a:pt x="18000" y="333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5105520" y="2666880"/>
            <a:ext cx="990360" cy="990720"/>
          </a:xfrm>
          <a:prstGeom prst="ellips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6943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Text Box 30"/>
          <p:cNvSpPr/>
          <p:nvPr/>
        </p:nvSpPr>
        <p:spPr>
          <a:xfrm>
            <a:off x="3276720" y="1461960"/>
            <a:ext cx="2743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3300"/>
                </a:solidFill>
                <a:latin typeface="宋体"/>
              </a:rPr>
              <a:t>体形不同，颜色不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3276720" y="22096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能找到眼睛和足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身上还有环节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3276720" y="3124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外界刺激才动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盾片，从盾片长出翅膀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3276720" y="4098960"/>
            <a:ext cx="281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还有一层皮，它是蚕第五次蜕的皮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8" descr="u=3941866888,2837819199&amp;fm=21&amp;gp=0"/>
          <p:cNvPicPr/>
          <p:nvPr/>
        </p:nvPicPr>
        <p:blipFill>
          <a:blip r:embed="rId1"/>
          <a:stretch/>
        </p:blipFill>
        <p:spPr>
          <a:xfrm>
            <a:off x="257040" y="3371760"/>
            <a:ext cx="2409840" cy="1809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12800" y="2209680"/>
            <a:ext cx="195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紫黑色蚕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孵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L007"/>
          <p:cNvPicPr/>
          <p:nvPr/>
        </p:nvPicPr>
        <p:blipFill>
          <a:blip r:embed="rId2"/>
          <a:stretch/>
        </p:blipFill>
        <p:spPr>
          <a:xfrm>
            <a:off x="324000" y="333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L012[1]"/>
          <p:cNvPicPr/>
          <p:nvPr/>
        </p:nvPicPr>
        <p:blipFill>
          <a:blip r:embed="rId3"/>
          <a:stretch/>
        </p:blipFill>
        <p:spPr>
          <a:xfrm>
            <a:off x="3201840" y="304920"/>
            <a:ext cx="266544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3429000" y="2286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像蚂蚁的幼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称为蚁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00360" y="1341360"/>
            <a:ext cx="647640" cy="360"/>
            <a:chOff x="2700360" y="1341360"/>
            <a:chExt cx="647640" cy="360"/>
          </a:xfrm>
        </p:grpSpPr>
        <p:sp>
          <p:nvSpPr>
            <p:cNvPr id="97" name="Line 14"/>
            <p:cNvSpPr/>
            <p:nvPr/>
          </p:nvSpPr>
          <p:spPr>
            <a:xfrm>
              <a:off x="2700360" y="1341360"/>
              <a:ext cx="64764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700360" y="1341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829480" y="1413000"/>
            <a:ext cx="647640" cy="360"/>
            <a:chOff x="5829480" y="1413000"/>
            <a:chExt cx="647640" cy="360"/>
          </a:xfrm>
        </p:grpSpPr>
        <p:sp>
          <p:nvSpPr>
            <p:cNvPr id="100" name="Line 15"/>
            <p:cNvSpPr/>
            <p:nvPr/>
          </p:nvSpPr>
          <p:spPr>
            <a:xfrm>
              <a:off x="5829480" y="1413000"/>
              <a:ext cx="64764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829480" y="141300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628720" y="4419720"/>
            <a:ext cx="648000" cy="360"/>
            <a:chOff x="2628720" y="4419720"/>
            <a:chExt cx="648000" cy="360"/>
          </a:xfrm>
        </p:grpSpPr>
        <p:sp>
          <p:nvSpPr>
            <p:cNvPr id="103" name="Line 16"/>
            <p:cNvSpPr/>
            <p:nvPr/>
          </p:nvSpPr>
          <p:spPr>
            <a:xfrm flipH="1">
              <a:off x="2628720" y="4419720"/>
              <a:ext cx="64764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629080" y="441972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705720" y="2209680"/>
            <a:ext cx="360" cy="1067040"/>
            <a:chOff x="6705720" y="2209680"/>
            <a:chExt cx="360" cy="1067040"/>
          </a:xfrm>
        </p:grpSpPr>
        <p:sp>
          <p:nvSpPr>
            <p:cNvPr id="106" name="Line 17"/>
            <p:cNvSpPr/>
            <p:nvPr/>
          </p:nvSpPr>
          <p:spPr>
            <a:xfrm>
              <a:off x="6705720" y="2209680"/>
              <a:ext cx="0" cy="106704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6705720" y="22096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824080" y="4191120"/>
            <a:ext cx="576720" cy="360"/>
            <a:chOff x="5824080" y="4191120"/>
            <a:chExt cx="576720" cy="360"/>
          </a:xfrm>
        </p:grpSpPr>
        <p:sp>
          <p:nvSpPr>
            <p:cNvPr id="109" name="Line 18"/>
            <p:cNvSpPr/>
            <p:nvPr/>
          </p:nvSpPr>
          <p:spPr>
            <a:xfrm flipH="1">
              <a:off x="5824080" y="4191120"/>
              <a:ext cx="576360" cy="0"/>
            </a:xfrm>
            <a:prstGeom prst="line">
              <a:avLst/>
            </a:prstGeom>
            <a:ln w="66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824440" y="419112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2" descr="u=792213899,802641586&amp;fm=23&amp;gp=0"/>
          <p:cNvPicPr/>
          <p:nvPr/>
        </p:nvPicPr>
        <p:blipFill>
          <a:blip r:embed="rId4"/>
          <a:stretch/>
        </p:blipFill>
        <p:spPr>
          <a:xfrm>
            <a:off x="6477120" y="304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u=1857990221,1620008389&amp;fm=23&amp;gp=0"/>
          <p:cNvPicPr/>
          <p:nvPr/>
        </p:nvPicPr>
        <p:blipFill>
          <a:blip r:embed="rId5"/>
          <a:stretch/>
        </p:blipFill>
        <p:spPr>
          <a:xfrm>
            <a:off x="6400800" y="3352680"/>
            <a:ext cx="2438280" cy="1876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u=4041282350,1755739282&amp;fm=23&amp;gp=0"/>
          <p:cNvPicPr/>
          <p:nvPr/>
        </p:nvPicPr>
        <p:blipFill>
          <a:blip r:embed="rId6"/>
          <a:stretch/>
        </p:blipFill>
        <p:spPr>
          <a:xfrm>
            <a:off x="3257640" y="3352680"/>
            <a:ext cx="2609640" cy="1868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9"/>
          <p:cNvSpPr/>
          <p:nvPr/>
        </p:nvSpPr>
        <p:spPr>
          <a:xfrm>
            <a:off x="6719760" y="2209680"/>
            <a:ext cx="22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蚁蚕大量进食迅速增长，颜色变成青白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6781680" y="524196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长到一定程度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始蜕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四次蜕皮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变成五龄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3733920" y="54100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五龄蚕末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变成熟蚕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准备吐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457200" y="5486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始吐丝结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0" y="716040"/>
            <a:ext cx="4114800" cy="324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4114800" y="716040"/>
            <a:ext cx="5029200" cy="32464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80880" y="4297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测：蛹还会变化吗？它会变成什么模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199"/>
          <p:cNvSpPr/>
          <p:nvPr/>
        </p:nvSpPr>
        <p:spPr>
          <a:xfrm>
            <a:off x="1093680" y="291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6943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30"/>
          <p:cNvSpPr/>
          <p:nvPr/>
        </p:nvSpPr>
        <p:spPr>
          <a:xfrm>
            <a:off x="3276720" y="1461960"/>
            <a:ext cx="2743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3300"/>
                </a:solidFill>
                <a:latin typeface="宋体"/>
              </a:rPr>
              <a:t>体形不同，颜色不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3276720" y="22096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能找到眼睛和足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身上还有环节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3276720" y="3124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外界刺激才动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盾片，从盾片长出翅膀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3276720" y="6033960"/>
            <a:ext cx="312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蛹还会变化，会变成蚕蛾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3276720" y="4098960"/>
            <a:ext cx="281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还有一层皮，它是蚕第五次蜕的皮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6943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2" name="AutoShape 29"/>
          <p:cNvSpPr/>
          <p:nvPr/>
        </p:nvSpPr>
        <p:spPr>
          <a:xfrm>
            <a:off x="6858000" y="2743200"/>
            <a:ext cx="1676520" cy="281952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2819520"/>
              <a:gd name="textAreaBottom" fmla="*/ 2737800 h 2819520"/>
            </a:gdLst>
            <a:ahLst/>
            <a:rect l="textAreaLeft" t="textAreaTop" r="textAreaRight" b="textAreaBottom"/>
            <a:pathLst>
              <a:path w="21600" h="36323">
                <a:moveTo>
                  <a:pt x="3600" y="0"/>
                </a:moveTo>
                <a:arcTo wR="3600" hR="3600" stAng="16200000" swAng="-5400000"/>
                <a:lnTo>
                  <a:pt x="0" y="32723"/>
                </a:lnTo>
                <a:arcTo wR="3600" hR="3600" stAng="10800000" swAng="-5400000"/>
                <a:lnTo>
                  <a:pt x="18000" y="36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3276720" y="1461960"/>
            <a:ext cx="2743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3300"/>
                </a:solidFill>
                <a:latin typeface="宋体"/>
              </a:rPr>
              <a:t>体形不同，颜色不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3276720" y="22096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能找到眼睛和足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身上还有环节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3276720" y="3124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外界刺激才动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盾片，从盾片长出翅膀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76720" y="6033960"/>
            <a:ext cx="312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蛹还会变化，会变成蚕蛾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3276720" y="4098960"/>
            <a:ext cx="281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还有一层皮，它是蚕第五次蜕的皮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3276720" y="5105520"/>
            <a:ext cx="2590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蚕蛹有触角、气门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04920" y="4347720"/>
            <a:ext cx="44956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蚕变成蛹后所蜕下的皮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451627789"/>
          <p:cNvPicPr/>
          <p:nvPr/>
        </p:nvPicPr>
        <p:blipFill>
          <a:blip r:embed="rId1"/>
          <a:stretch/>
        </p:blipFill>
        <p:spPr>
          <a:xfrm>
            <a:off x="654120" y="1566720"/>
            <a:ext cx="3384360" cy="2517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451627791"/>
          <p:cNvPicPr/>
          <p:nvPr/>
        </p:nvPicPr>
        <p:blipFill>
          <a:blip r:embed="rId2"/>
          <a:stretch/>
        </p:blipFill>
        <p:spPr>
          <a:xfrm>
            <a:off x="4932360" y="1557360"/>
            <a:ext cx="3240000" cy="2451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4800600" y="43131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体质不良的蚕无法蜕皮变成蛹，全身发黑死在茧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676520" y="6858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所有蚕都能成功变成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蚕蛹的价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据资料显示：蚕蛹有着比较高的价值，我国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年前就已经开始有将蚕蛹蒸煮食用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蚕蛹含有丰富的蛋白质和多种氨基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体弱、病后、老人及妇女产后的高级营养补品。蚕蛹能产生具有药理学活性的物质，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效提高人体内白细胞水平，从而提高人体免疫功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延缓人体机能衰老，蚕蛹油可以降血脂、降胆固醇、对治疗高胆固醇血症和改善肝功能有显著作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蚕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据考古发现，约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7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前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中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利用蚕丝制做丝线、编织丝带和简单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丝织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蚕丝质轻而细长，织物光泽好，穿着舒适，手感滑爽丰满，导热差，吸湿透气，用于织制各种绸缎和针织品，并用于工业、国防和医药等领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1371600" y="1295280"/>
            <a:ext cx="6858000" cy="26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蚕丝如何抽取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514980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蚕结茧后六、七天进行抽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514600" y="228600"/>
            <a:ext cx="312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00"/>
                </a:solidFill>
                <a:latin typeface="Times New Roman"/>
              </a:rPr>
              <a:t>第一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191120" y="43434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把蚕茧放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开水中浸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191120" y="19051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把蚕茧表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的乱丝摘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1219320" y="1316160"/>
            <a:ext cx="2943000" cy="2338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2"/>
          <a:stretch/>
        </p:blipFill>
        <p:spPr>
          <a:xfrm>
            <a:off x="1219320" y="4035600"/>
            <a:ext cx="297180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14400" y="30492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Times New Roman"/>
              </a:rPr>
              <a:t>第二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066680" y="152388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用毛刷搅动，找到蚕丝的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2387520" y="2362320"/>
            <a:ext cx="347976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14400" y="152280"/>
            <a:ext cx="6324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imes New Roman"/>
              </a:rPr>
              <a:t>第三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开始抽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200552515913930"/>
          <p:cNvPicPr/>
          <p:nvPr/>
        </p:nvPicPr>
        <p:blipFill>
          <a:blip r:embed="rId1"/>
          <a:stretch/>
        </p:blipFill>
        <p:spPr>
          <a:xfrm>
            <a:off x="0" y="2438280"/>
            <a:ext cx="4495680" cy="2652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2005525151034325"/>
          <p:cNvPicPr/>
          <p:nvPr/>
        </p:nvPicPr>
        <p:blipFill>
          <a:blip r:embed="rId2"/>
          <a:stretch/>
        </p:blipFill>
        <p:spPr>
          <a:xfrm>
            <a:off x="4495680" y="2438280"/>
            <a:ext cx="4648320" cy="26593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4267080" y="51814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缠线板抽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859440" cy="1828800"/>
          </a:xfrm>
          <a:prstGeom prst="rect">
            <a:avLst/>
          </a:prstGeom>
          <a:noFill/>
          <a:ln w="9360">
            <a:solidFill>
              <a:srgbClr val="03030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蚕宝宝长大成熟，最后一次蜕完皮后，开始盖房子，蜕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吐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丝２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184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丝１"/>
          <p:cNvPicPr/>
          <p:nvPr/>
        </p:nvPicPr>
        <p:blipFill>
          <a:blip r:embed="rId2"/>
          <a:stretch/>
        </p:blipFill>
        <p:spPr>
          <a:xfrm>
            <a:off x="4724280" y="21337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丝"/>
          <p:cNvPicPr/>
          <p:nvPr/>
        </p:nvPicPr>
        <p:blipFill>
          <a:blip r:embed="rId3"/>
          <a:stretch/>
        </p:blipFill>
        <p:spPr>
          <a:xfrm>
            <a:off x="1143000" y="4464000"/>
            <a:ext cx="2655720" cy="1860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蚕茧"/>
          <p:cNvPicPr/>
          <p:nvPr/>
        </p:nvPicPr>
        <p:blipFill>
          <a:blip r:embed="rId4"/>
          <a:stretch/>
        </p:blipFill>
        <p:spPr>
          <a:xfrm>
            <a:off x="4572000" y="4530600"/>
            <a:ext cx="2438280" cy="1762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边3"/>
          <p:cNvPicPr/>
          <p:nvPr/>
        </p:nvPicPr>
        <p:blipFill>
          <a:blip r:embed="rId5"/>
          <a:stretch/>
        </p:blipFill>
        <p:spPr>
          <a:xfrm>
            <a:off x="0" y="403848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030"/>
          <p:cNvPicPr/>
          <p:nvPr/>
        </p:nvPicPr>
        <p:blipFill>
          <a:blip r:embed="rId6"/>
          <a:stretch/>
        </p:blipFill>
        <p:spPr>
          <a:xfrm>
            <a:off x="1295280" y="152280"/>
            <a:ext cx="4876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4227120" y="12193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一个蚕茧的蚕丝有多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838080" y="2514600"/>
            <a:ext cx="76201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蚕茧是丝状物组成的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一个蚕茧的蚕丝，一般春茧茧丝长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900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～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1500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米，夏秋茧茧丝长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700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～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1200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W020081024500431555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5"/>
          <p:cNvSpPr/>
          <p:nvPr/>
        </p:nvSpPr>
        <p:spPr>
          <a:xfrm>
            <a:off x="2987640" y="4653000"/>
            <a:ext cx="6156360" cy="1944720"/>
          </a:xfrm>
          <a:prstGeom prst="cloudCallout">
            <a:avLst>
              <a:gd name="adj1" fmla="val -49898"/>
              <a:gd name="adj2" fmla="val 6477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古代，只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桑、养蚕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丝织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国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丝绸衣服，是谁打开了丝绸之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wb040719007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474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6662880" y="150480"/>
            <a:ext cx="100332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张 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 rot="397200">
            <a:off x="6119640" y="1906560"/>
            <a:ext cx="345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74840" y="4327560"/>
            <a:ext cx="851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多年前，我国西汉的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张骞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正是用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丝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打开了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中国通往西域各国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的贸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通道，使得中国与西方的物质和文化交流成为现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7276680" y="1295280"/>
            <a:ext cx="16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qiā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丝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丝织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2" descr=""/>
          <p:cNvPicPr/>
          <p:nvPr/>
        </p:nvPicPr>
        <p:blipFill>
          <a:blip r:embed="rId1"/>
          <a:stretch/>
        </p:blipFill>
        <p:spPr>
          <a:xfrm>
            <a:off x="466560" y="167652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20081221353264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8199"/>
          <p:cNvSpPr/>
          <p:nvPr/>
        </p:nvSpPr>
        <p:spPr>
          <a:xfrm>
            <a:off x="1058760" y="58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20091011154224543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0520" y="1218960"/>
            <a:ext cx="8548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蛹前的蚕是蚕生长发育过程中的幼虫，蛹是蚕生长发育过程的另一个形态。蛹的外形和幼虫区别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蛹被茧包裹，茧能起到保护蛹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茧是由一根丝组成的，蚕丝可以织成丝绸或被加工成各种丝织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617920" y="4495680"/>
            <a:ext cx="3733560" cy="2286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804120" y="3049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总 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7BA-ABF6-4AAB-AE20-E4BD47830E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477800" y="137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观察蚕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320" y="3070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看看蚕茧的形状、大小和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3809880"/>
          <a:ext cx="8381880" cy="1968480"/>
        </p:xfrm>
        <a:graphic>
          <a:graphicData uri="http://schemas.openxmlformats.org/drawingml/2006/table">
            <a:tbl>
              <a:tblPr/>
              <a:tblGrid>
                <a:gridCol w="1905120"/>
                <a:gridCol w="533160"/>
                <a:gridCol w="1981440"/>
                <a:gridCol w="2057400"/>
                <a:gridCol w="1904760"/>
              </a:tblGrid>
              <a:tr h="137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蚕茧的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蚕茧的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蚕茧的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蚕茧的轻或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4"/>
          <p:cNvSpPr/>
          <p:nvPr/>
        </p:nvSpPr>
        <p:spPr>
          <a:xfrm>
            <a:off x="2819520" y="396252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en-US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7</a:t>
            </a: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en-US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1</a:t>
            </a: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15200" y="41148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2819520" y="510552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椭圆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7391520" y="5105520"/>
            <a:ext cx="761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9"/>
          <p:cNvSpPr/>
          <p:nvPr/>
        </p:nvSpPr>
        <p:spPr>
          <a:xfrm>
            <a:off x="4724280" y="1012680"/>
            <a:ext cx="3886200" cy="1905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33160" y="2286000"/>
            <a:ext cx="823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回家搜集蚕蛹的资料，更好地了解蚕蛹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预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蛹变成了什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777840" y="685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蚕宝宝在蚕茧里面练什么功夫呢？用剪刀将一粒茧从直的方向小心的剪开来。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438280" y="763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蚕蛹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yǒng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形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ttp://163.25.52.168/bigbug/images/a03101.jpg"/>
          <p:cNvPicPr/>
          <p:nvPr/>
        </p:nvPicPr>
        <p:blipFill>
          <a:blip r:embed="rId1"/>
          <a:stretch/>
        </p:blipFill>
        <p:spPr>
          <a:xfrm>
            <a:off x="6094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://163.25.52.168/bigbug/images/a03102.jpg"/>
          <p:cNvPicPr/>
          <p:nvPr/>
        </p:nvPicPr>
        <p:blipFill>
          <a:blip r:embed="rId2"/>
          <a:stretch/>
        </p:blipFill>
        <p:spPr>
          <a:xfrm>
            <a:off x="2133720" y="3733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163.25.52.168/bigbug/images/a03103.jpg"/>
          <p:cNvPicPr/>
          <p:nvPr/>
        </p:nvPicPr>
        <p:blipFill>
          <a:blip r:embed="rId3"/>
          <a:stretch/>
        </p:blipFill>
        <p:spPr>
          <a:xfrm>
            <a:off x="3657600" y="3733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163.25.52.168/bigbug/images/a03104.jpg"/>
          <p:cNvPicPr/>
          <p:nvPr/>
        </p:nvPicPr>
        <p:blipFill>
          <a:blip r:embed="rId4"/>
          <a:stretch/>
        </p:blipFill>
        <p:spPr>
          <a:xfrm>
            <a:off x="51814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163.25.52.168/bigbug/images/a03105.jpg"/>
          <p:cNvPicPr/>
          <p:nvPr/>
        </p:nvPicPr>
        <p:blipFill>
          <a:blip r:embed="rId5"/>
          <a:stretch/>
        </p:blipFill>
        <p:spPr>
          <a:xfrm>
            <a:off x="6705720" y="373392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01480" y="5134680"/>
            <a:ext cx="83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前蛹          开始脱皮        脱完皮         变成蛹      完全变形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762120" y="1447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哇！蚕宝宝已经变成蛹了，茧内还有一套外皮，那是蚕儿蜕皮化蛹时，所蜕下来的外衣呢。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刚开始，蛹是白色且柔软的，不久就徐徐变色，最后呈褐色且变硬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般可能认为蚕正在蛹里休息，其实蛹的身体里正在发生身体结构的大变化，一方面破坏幼虫时期的身体，一方面又要创造蛾的身体。奇妙的是，它们都是同一时间进行。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5867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蛹是蚕生长发育过程中的另一种形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4516277911"/>
          <p:cNvPicPr/>
          <p:nvPr/>
        </p:nvPicPr>
        <p:blipFill>
          <a:blip r:embed="rId1"/>
          <a:stretch/>
        </p:blipFill>
        <p:spPr>
          <a:xfrm>
            <a:off x="2268360" y="549360"/>
            <a:ext cx="4105440" cy="310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87280" y="4149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蚕茧的大小和蚕蛹有关， 一般来说公的蚕宝宝它的茧和蛹会比较小。图中上方就是公的蛹，下方母的蚕宝宝它的蛹就明显比较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657600" cy="6324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533520" y="59364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蚕为什么要做个茧把自己包起来呢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3352680" y="2400480"/>
            <a:ext cx="1943280" cy="2781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41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为蛹不会动，没反抗能力，如果没把自己包住，会被鸟之类的东西吃掉，或者被雨淋死。把自己包住，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保护自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74120" y="380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蛹的观察记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2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1143000"/>
          <a:ext cx="8534520" cy="5513400"/>
        </p:xfrm>
        <a:graphic>
          <a:graphicData uri="http://schemas.openxmlformats.org/drawingml/2006/table">
            <a:tbl>
              <a:tblPr/>
              <a:tblGrid>
                <a:gridCol w="2844720"/>
                <a:gridCol w="3175200"/>
                <a:gridCol w="2514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的外形和蚕有什么不同 ？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画一个蚕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还能找到眼睛和足吗？身上的环节还在吗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蛹会动吗？它的身上长出了什么东西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剪开的茧里还发现了什么？它可能是什么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发现 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测：蛹还会变化吗？它会变成什么模样呢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3581280" cy="2303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1295280" y="12952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蚕和蛹的不同与相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3048120" cy="227016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8199"/>
          <p:cNvSpPr/>
          <p:nvPr/>
        </p:nvSpPr>
        <p:spPr>
          <a:xfrm>
            <a:off x="1295280" y="61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2Z</dcterms:modified>
  <cp:revision>1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c03000000000001024120</vt:lpwstr>
  </property>
  <property fmtid="{D5CDD505-2E9C-101B-9397-08002B2CF9AE}" pid="4" name="Version">
    <vt:r8>1</vt:r8>
  </property>
</Properties>
</file>