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819-524D-4563-9707-E87AC7D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970-9F44-4F72-9850-A14551C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124-A634-4F39-9F58-628177C8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DE9-21E7-4F53-8E8A-A68E2C1B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0EFF-C2C6-4605-A410-F683B7DE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7F7-FEFD-4ECF-9BF7-E0243268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CE0B-340F-4A0F-8EC4-4113AC0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C19-09C0-4B74-A858-527528C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0847-A7E6-46B2-8BED-EE8984B6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CE68-DE10-4D81-BFAA-8378190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D624-2B5E-4077-8CE8-C44ECAD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EF2-85E1-4DA7-B25F-8CF0A1DD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BFC5-621F-48C7-BB57-3F5E9C13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C882-4992-450C-8C47-716000E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7BD8-DC19-4EAE-ADF4-3AF92CF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29A7-03C7-4061-B066-9E14C5AD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9B1-0D65-436C-B344-69839A8E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20C-2CAF-4A2A-8FC6-8E79FD8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778-90D5-4AF9-8C87-5063C0D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583-4065-44CA-B063-517BFAC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1A8-63FE-4055-9D2B-091227F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6B6-7E1A-4E8F-A80A-714C65FE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56D-9592-48FF-9D42-7210408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7CB-391F-4CA5-9ECC-239BAB3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F4C-699A-4A55-B25D-06B5EB0E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0280-8ECE-4132-8822-4028554137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_large_ulhN_3eff00000e952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财产留给谁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3125160" y="9907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七课   拥有财产的权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042920" y="2708280"/>
            <a:ext cx="3889440" cy="252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835280" y="3141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定继承人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916360" y="1700280"/>
            <a:ext cx="3527280" cy="360"/>
            <a:chOff x="2916360" y="1700280"/>
            <a:chExt cx="3527280" cy="360"/>
          </a:xfrm>
        </p:grpSpPr>
        <p:sp>
          <p:nvSpPr>
            <p:cNvPr id="116" name="Line 4"/>
            <p:cNvSpPr/>
            <p:nvPr/>
          </p:nvSpPr>
          <p:spPr>
            <a:xfrm>
              <a:off x="2916360" y="1700280"/>
              <a:ext cx="3527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916360" y="1700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Oval 5"/>
          <p:cNvSpPr/>
          <p:nvPr/>
        </p:nvSpPr>
        <p:spPr>
          <a:xfrm>
            <a:off x="5219640" y="2852640"/>
            <a:ext cx="287964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64000" y="33577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定继承人以外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835280" y="692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 产 处 理 方 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79640" y="3645000"/>
            <a:ext cx="1800360" cy="360"/>
            <a:chOff x="1979640" y="3645000"/>
            <a:chExt cx="1800360" cy="360"/>
          </a:xfrm>
        </p:grpSpPr>
        <p:sp>
          <p:nvSpPr>
            <p:cNvPr id="122" name="Line 8"/>
            <p:cNvSpPr/>
            <p:nvPr/>
          </p:nvSpPr>
          <p:spPr>
            <a:xfrm>
              <a:off x="1979640" y="3645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979640" y="364500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9"/>
          <p:cNvSpPr/>
          <p:nvPr/>
        </p:nvSpPr>
        <p:spPr>
          <a:xfrm>
            <a:off x="2916360" y="1700280"/>
            <a:ext cx="71280" cy="1081080"/>
          </a:xfrm>
          <a:prstGeom prst="downArrow">
            <a:avLst>
              <a:gd name="adj1" fmla="val 50000"/>
              <a:gd name="adj2" fmla="val 378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6443640" y="1700280"/>
            <a:ext cx="73080" cy="1152360"/>
          </a:xfrm>
          <a:prstGeom prst="downArrow">
            <a:avLst>
              <a:gd name="adj1" fmla="val 50000"/>
              <a:gd name="adj2" fmla="val 3939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79640" y="3645000"/>
            <a:ext cx="360" cy="504720"/>
            <a:chOff x="1979640" y="3645000"/>
            <a:chExt cx="360" cy="504720"/>
          </a:xfrm>
        </p:grpSpPr>
        <p:sp>
          <p:nvSpPr>
            <p:cNvPr id="127" name="Line 11"/>
            <p:cNvSpPr/>
            <p:nvPr/>
          </p:nvSpPr>
          <p:spPr>
            <a:xfrm>
              <a:off x="1979640" y="3645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1979640" y="364500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780000" y="3645000"/>
            <a:ext cx="360" cy="431640"/>
            <a:chOff x="3780000" y="3645000"/>
            <a:chExt cx="360" cy="431640"/>
          </a:xfrm>
        </p:grpSpPr>
        <p:sp>
          <p:nvSpPr>
            <p:cNvPr id="130" name="Line 12"/>
            <p:cNvSpPr/>
            <p:nvPr/>
          </p:nvSpPr>
          <p:spPr>
            <a:xfrm>
              <a:off x="378000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0000" y="3645000"/>
              <a:ext cx="36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3"/>
          <p:cNvSpPr/>
          <p:nvPr/>
        </p:nvSpPr>
        <p:spPr>
          <a:xfrm>
            <a:off x="1403280" y="422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547640" y="422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法定继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132000" y="422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遗嘱继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0072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遗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43280" y="3500280"/>
            <a:ext cx="360" cy="144720"/>
            <a:chOff x="2843280" y="3500280"/>
            <a:chExt cx="360" cy="144720"/>
          </a:xfrm>
        </p:grpSpPr>
        <p:sp>
          <p:nvSpPr>
            <p:cNvPr id="137" name="Line 17"/>
            <p:cNvSpPr/>
            <p:nvPr/>
          </p:nvSpPr>
          <p:spPr>
            <a:xfrm>
              <a:off x="2843280" y="350028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843280" y="35002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659640" y="3789360"/>
            <a:ext cx="360" cy="144360"/>
            <a:chOff x="6659640" y="3789360"/>
            <a:chExt cx="360" cy="144360"/>
          </a:xfrm>
        </p:grpSpPr>
        <p:sp>
          <p:nvSpPr>
            <p:cNvPr id="140" name="Line 18"/>
            <p:cNvSpPr/>
            <p:nvPr/>
          </p:nvSpPr>
          <p:spPr>
            <a:xfrm>
              <a:off x="6659640" y="3789360"/>
              <a:ext cx="0" cy="14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659640" y="378936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9640" y="3716280"/>
            <a:ext cx="360" cy="289080"/>
            <a:chOff x="6659640" y="3716280"/>
            <a:chExt cx="360" cy="289080"/>
          </a:xfrm>
        </p:grpSpPr>
        <p:sp>
          <p:nvSpPr>
            <p:cNvPr id="143" name="Line 19"/>
            <p:cNvSpPr/>
            <p:nvPr/>
          </p:nvSpPr>
          <p:spPr>
            <a:xfrm>
              <a:off x="6659640" y="3716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659640" y="3716280"/>
              <a:ext cx="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8194"/>
          <p:cNvSpPr/>
          <p:nvPr/>
        </p:nvSpPr>
        <p:spPr>
          <a:xfrm>
            <a:off x="1908000" y="58165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本节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193680" y="2438280"/>
            <a:ext cx="10335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财产留给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55640" y="170028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200 h 3744720"/>
              <a:gd name="textAreaBottom" fmla="*/ 364752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5892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享有财产继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419640" y="1052640"/>
            <a:ext cx="360360" cy="194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924360" y="620640"/>
            <a:ext cx="52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继承人的含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遗产的含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708360" y="1628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承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承权的含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定继承人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995640" y="270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遗产继承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187280" y="5300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继承权发生争议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16000" y="357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继承权的实现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4211640" y="335772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7640" y="3213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法定继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500720" y="37162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遗嘱继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1403280" y="494172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032440" y="5084640"/>
            <a:ext cx="458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5435640" y="515772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796000" y="5229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7303680" y="51577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情重义、互谅互让、积极协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572436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运用法律的武器维护自己的正当利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498492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5187960" y="4221000"/>
            <a:ext cx="223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受遗赠人依据遗赠人（立遗嘱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的遗赠取得财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遗赠和遗嘱继承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0136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什么是遗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指公民用遗嘱将个人财产的一部分或全部赠给国家、集体或者法定继承人以外的人，而于遗嘱人死后生效的单方法律行为。遗赠是遗嘱人以遗嘱处分其遗产的方法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771200"/>
            <a:ext cx="4038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二者相同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是通过遗嘱的方式，都是必须由立遗嘱人亲自进行意思的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二者的不同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遗嘱继承人只能是法定继承人，而受遗赠人却是法定继承人以外的人 或者国家、集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3505320" y="5943600"/>
            <a:ext cx="208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记住哟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641-8116-40D7-A371-22FCE91505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457200" y="274680"/>
            <a:ext cx="329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相关链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3772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继承人有下列行为之一的，丧失继承权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故意杀害被继承人的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争夺遗产而杀害其他继承人的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遗弃被继承人的，或者虐待被继承人情节严重的 ；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伪造、篡改或销毁遗嘱，情节严重的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uio087"/>
          <p:cNvPicPr/>
          <p:nvPr/>
        </p:nvPicPr>
        <p:blipFill>
          <a:blip r:embed="rId1"/>
          <a:stretch/>
        </p:blipFill>
        <p:spPr>
          <a:xfrm>
            <a:off x="7451640" y="5229360"/>
            <a:ext cx="130500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关继承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法律上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遗留财产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死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继承死者合法财产的所有人（受遗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定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在法律上依法继承死者遗产的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也就是法定继承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权：继承人依法取得被继承人遗产的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权的取得依据：根据血缘关系、婚姻关系和抚养关系确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遗产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被继承人遗留的个人合法财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990720"/>
            <a:ext cx="89154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家庭是个典型的联合家庭，全家共六口人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、妈妈、爷爷、叔叔、姑姑和自己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其父所有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财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稿酬存款、图书字画、宝石古玩等，此外，他们家还有公共财产：五间私房、彩电、冰箱等。因晓军父亲病情恶化，晓军的母亲、爷爷、叔叔、姑姑都在谈论财产继承问题。爷爷认为，晓军父亲的财产都能讲明来源，即便来源不明，人过世了，财产自然归家人所有。对此，晓军也觉得似乎有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问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晓军父亲尚未辞世，财产能继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否所有的财产都可以继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何为遗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我们享有财产继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4876920"/>
            <a:ext cx="914400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死亡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留的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个人所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合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867280" y="5105520"/>
            <a:ext cx="76320" cy="1295280"/>
          </a:xfrm>
          <a:custGeom>
            <a:avLst/>
            <a:gdLst>
              <a:gd name="textAreaLeft" fmla="*/ 0 w 76320"/>
              <a:gd name="textAreaRight" fmla="*/ 2736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4360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产具备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活动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久，晓军的父亲因病去世，晓军的家人召开了家庭会议，准备继承遗产，可是在谁能继承，继承多少这些问题上争执不下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叔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觉得：晓军的爷爷、妈妈、姑姑、晓军和自己都是晓军爸爸的亲人，都应该继承爸爸的遗产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姑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说：晓军是小孩子，没有继承权。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妈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：姑姑迟早是要嫁出去的，不能继承父亲的遗产。对此，晓军感到很困惑，究竟谁说的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你根据课本的知识帮晓军对家人的观点进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判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567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继承法第二章规定：被继承人的配偶、子女、父母、兄弟姐妹、祖父母、外祖父母为法定继承人，享有继承权。因此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本案中晓军的爷爷、妈妈、叔叔、姑姑和晓军都有继承权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4"/>
          <p:cNvSpPr/>
          <p:nvPr/>
        </p:nvSpPr>
        <p:spPr>
          <a:xfrm>
            <a:off x="1908000" y="8082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定继承人范围、确立依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继承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法定继承人范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继承法第二章规定：被继承人的配偶、子女、父母、兄弟姐妹、祖父母、外祖父母为法定继承人，享有继承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确立依据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缘关系、婚姻关系和抚养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继承顺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第一顺序：配偶、子女、父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顺序：兄弟姐妹、祖父母、外祖父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注：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我国继承法规定，继承开始后，第一顺序继承人继承，第二顺序继承人不继承，如果没有第一顺序继承人或第一顺序继承人放弃继承权的，由第二顺序继承人继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95480" y="4114800"/>
            <a:ext cx="360" cy="380880"/>
            <a:chOff x="2895480" y="4114800"/>
            <a:chExt cx="360" cy="380880"/>
          </a:xfrm>
        </p:grpSpPr>
        <p:sp>
          <p:nvSpPr>
            <p:cNvPr id="100" name="Line 5"/>
            <p:cNvSpPr/>
            <p:nvPr/>
          </p:nvSpPr>
          <p:spPr>
            <a:xfrm>
              <a:off x="289548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2895480" y="41148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学生阅读教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，了解遗产分配原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遗产分配原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819520" y="762120"/>
            <a:ext cx="75960" cy="213336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124080" y="838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9"/>
                </a:solidFill>
                <a:latin typeface="Arial"/>
              </a:rPr>
              <a:t>均等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48120" y="1600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9"/>
                </a:solidFill>
                <a:latin typeface="Arial"/>
              </a:rPr>
              <a:t>特殊情况下，继承人协商同意的，也可不均等（未成年人、老人、失去劳动能力的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425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案中晓军父亲遗留的遗产有稿酬、图书字画、宝石古玩和其他财产中属于他的那份，他的法定继承人有爷爷、妈妈、叔叔、姑姑和晓军五人，其中属于第一顺序的有爷爷、妈妈和晓军，遗产应该由他们来继承，而作为第二顺序的叔叔和姑姑则不能继承一般来说爷爷、妈妈和晓军应该平均分配遗产份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参照课本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想一想，晓军家依据的这种继承方式是什么继承方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继承权的实现方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我国，公民的遗产继承方式有两种，一种是法定继承，一种是遗嘱继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三：律师到我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当晓军的家人准备分割遗产的时候，晓军父亲的律师来到晓军家，拿出了晓军父亲生前的遗嘱，遗嘱中提到：晓军是未成年人，要把遗产的二分之一留给晓军，父亲年老体弱，四分之一留给父亲，另外四分只一给晓军的母亲。晓军继承的份额暂时由爷爷和母亲共同管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：晓军父亲立遗嘱确定继承人的继承方式叫什么？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遗嘱继承：继承人依照被继承人所立遗嘱，继承被继承人遗产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遗嘱继承最大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优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于被继承人能够充分按照自己的意愿处分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嘱有效的必备条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遗嘱人必须有遗嘱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遗嘱人的意思表示必须真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容和形式都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承人必须是法定继承的范围内的一人或数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注：遗嘱继承优先于法定继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四：家庭纷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年后，晓军的叔叔结婚后分出去过了，对爷爷的生活不闻不问，姑姑也远嫁他乡，很少回来。晓军母亲一个女人家既要抚养教育晓军，又要照顾年迈的爷爷，生活十分的艰辛，好在邻居阿山一家心地好，经常帮衬着，才能够正常的生活。又过了一年，爷爷去世了，临终前，爷爷立下遗嘱并办理了公证：死后，存款由晓军继承，房产送给照顾他们的邻居阿山。晓军的叔叔和姑姑知道父亲去世，都回家要求继承遗产，要求晓军交出爷爷奶奶的存款，，并要把邻居的房产收回。几个人为了多继承遗产闹得不可开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0" y="14608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探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现在这个阿山不是晓军爷爷的法定继承人，这个遗嘱还有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效。这是叫遗赠，公民可以将自己的财产待死后不留给亲属，而赠给法定继承人外的人，这是法律允许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叔叔和姑姑的做法正确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面对叔叔和姑姑，假如你是晓军，你会怎么做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阅读教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7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例子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当继承权发生争议时 ，应采取的正确态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们应尽量本着互谅互让的精神，积极协商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当自己的合法继承权受到侵害时，要勇敢拿起法律武器维护自己的继承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4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