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40.jpeg" ContentType="image/jpeg"/>
  <Override PartName="/ppt/media/image45.png" ContentType="image/png"/>
  <Override PartName="/ppt/media/image44.jpeg" ContentType="image/jpeg"/>
  <Override PartName="/ppt/media/image28.png" ContentType="image/png"/>
  <Override PartName="/ppt/media/image38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29.jpeg" ContentType="image/jpeg"/>
  <Override PartName="/ppt/media/image10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applause.wav" ContentType="audio/x-wav"/>
  <Override PartName="/ppt/media/image43.jpeg" ContentType="image/jpeg"/>
  <Override PartName="/ppt/media/image8.jpeg" ContentType="image/jpeg"/>
  <Override PartName="/ppt/media/image3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6EE-615B-4C55-ABFD-DC522DDF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255-3FC1-4E53-8428-0DC6DBB2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E42-CB53-4FAE-9A07-B81E2A30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864-9E8C-4E94-BFA7-76953E79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402B-60AA-424F-9FCB-AB99061D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BB2F-06CA-4D78-BCAA-F589260E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9AD9-5B85-478F-9ED6-A1EFD0AD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51A3-E419-4A3D-96D2-7A3F2A9C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50C8-2820-4885-A911-7091B7FF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422F-F137-4AAE-8737-B5C0F980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60BF-3F6C-4A3B-AD57-BE17F037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3E7-0083-469A-86C2-9DF2E8CF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4E2D-D1A2-458D-A9C8-99B44EA1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7606-6F06-40FA-BD71-5F4F0D42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9BAE-0DBA-44ED-935F-B3687164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6143-BEBD-4FCC-8A5A-8D31606B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717B-165F-4AA9-A329-7B1D75C7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E99-4BA5-4B7C-9F09-BDF648AF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9E6-F4A5-4E75-804E-FAC242BA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9B3-B45F-4F57-94F4-9BF62B15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47C-1FD6-4B46-8621-5D4DF2F2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BC8-2BF2-4E45-8577-517748B2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30A-F9D6-4CE9-AFB5-929154AF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043-AE5D-4F0A-ADC8-2B0FB925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246F-7CC1-4F4F-8A65-0E2C5C0F8F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2B8A-2DB8-421E-89A9-57BDBAB975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1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2"/>
          <a:stretch/>
        </p:blipFill>
        <p:spPr>
          <a:xfrm>
            <a:off x="3187800" y="3338640"/>
            <a:ext cx="3213000" cy="21654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1365120" y="1052640"/>
            <a:ext cx="663120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吃穿用哪里来</a:t>
            </a:r>
            <a:r>
              <a:rPr b="1" lang="en-US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件打包下载</a:t>
            </a:r>
            <a:endParaRPr b="1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3"/>
          <a:stretch/>
        </p:blipFill>
        <p:spPr>
          <a:xfrm>
            <a:off x="17640" y="2859120"/>
            <a:ext cx="3574800" cy="27255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3" descr=""/>
          <p:cNvPicPr/>
          <p:nvPr/>
        </p:nvPicPr>
        <p:blipFill>
          <a:blip r:embed="rId4"/>
          <a:stretch/>
        </p:blipFill>
        <p:spPr>
          <a:xfrm>
            <a:off x="6300720" y="3213000"/>
            <a:ext cx="2578320" cy="187488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179280" y="26028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468360" y="692280"/>
            <a:ext cx="6006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同的农产品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590920" y="6004080"/>
            <a:ext cx="3809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渔民在捕鱼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01360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0" y="549360"/>
            <a:ext cx="6006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同的农产品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590920" y="6004080"/>
            <a:ext cx="3809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牧民在放牧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491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0" y="333360"/>
            <a:ext cx="6006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同的农产品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590920" y="6004080"/>
            <a:ext cx="3809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茶农在采茶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964720" cy="52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0" y="476280"/>
            <a:ext cx="6006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同的农产品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590920" y="6004080"/>
            <a:ext cx="3809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果农在采摘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8196"/>
          <p:cNvSpPr/>
          <p:nvPr/>
        </p:nvSpPr>
        <p:spPr>
          <a:xfrm>
            <a:off x="2855880" y="7174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9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348000" y="6453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林业工人造林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26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27"/>
          <p:cNvSpPr/>
          <p:nvPr/>
        </p:nvSpPr>
        <p:spPr>
          <a:xfrm>
            <a:off x="0" y="333360"/>
            <a:ext cx="6006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不同的农产品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Text Box 1028"/>
          <p:cNvSpPr/>
          <p:nvPr/>
        </p:nvSpPr>
        <p:spPr>
          <a:xfrm>
            <a:off x="2590920" y="6004080"/>
            <a:ext cx="3809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菜农在种菜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4" name="Picture 1029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23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农产品来自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2843280" y="692280"/>
            <a:ext cx="504720" cy="4392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114120 h 4392360"/>
              <a:gd name="textAreaBottom" fmla="*/ 4278240 h 43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564000" y="692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农业（种植业）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419640" y="4221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林业（植树造林）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276720" y="306864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牧业（养殖业）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916360" y="4724280"/>
            <a:ext cx="575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203640" y="191628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渔业（水产养殖）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0" y="189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971640" y="1954080"/>
            <a:ext cx="7200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看看我们当地农村主要生产哪些农产品？我们餐桌上的食品，哪些是本地产的，哪些是外地产的？再了解家乡的一种农作物，在什么季节播种，什么季节收获？ 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-181080" y="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0" y="260280"/>
            <a:ext cx="6006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二、水稻种植过程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752480" y="5334120"/>
            <a:ext cx="5639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育秧：农民利用保温的塑料地膜，精心培育和护理秧苗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0" y="404640"/>
            <a:ext cx="5975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752480" y="5334120"/>
            <a:ext cx="5639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犁地：春天，农民把土地犁得疏松，以便播种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1187280" y="404640"/>
            <a:ext cx="2665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童谣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258920" y="1628640"/>
            <a:ext cx="691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大饼哪里来？面粉做出来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面粉哪里来？小麦磨出来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小麦哪里来？农民伯伯种出来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0" name="STH70040.WAV" descr=""/>
          <p:cNvPicPr/>
          <p:nvPr/>
        </p:nvPicPr>
        <p:blipFill>
          <a:blip r:embed="rId2"/>
          <a:stretch/>
        </p:blipFill>
        <p:spPr>
          <a:xfrm>
            <a:off x="7812000" y="5516640"/>
            <a:ext cx="649440" cy="64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5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-181080" y="549360"/>
            <a:ext cx="6007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752480" y="5334120"/>
            <a:ext cx="62755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插秧：秧田里长出了绿油油的秧苗，农民忙着把秧苗插到水田里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0" y="476280"/>
            <a:ext cx="6006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258920" y="5229360"/>
            <a:ext cx="66229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田间管理：农民为了让水稻茁壮成长，还需要喷药、施肥、排水、灌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0" y="549360"/>
            <a:ext cx="6006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692360" y="5300640"/>
            <a:ext cx="63482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收割：沉甸甸的稻穗低着头，收获的季节到了。农民开始起早贪黑地忙着收割。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17672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8196"/>
          <p:cNvSpPr/>
          <p:nvPr/>
        </p:nvSpPr>
        <p:spPr>
          <a:xfrm>
            <a:off x="1419120" y="9334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u=2515839533,3115804859&amp;fm=51&amp;gp=0"/>
          <p:cNvPicPr/>
          <p:nvPr/>
        </p:nvPicPr>
        <p:blipFill>
          <a:blip r:embed="rId1"/>
          <a:stretch/>
        </p:blipFill>
        <p:spPr>
          <a:xfrm>
            <a:off x="4500720" y="328464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u=2243025141,1797779548&amp;fm=52&amp;gp=0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u=2913385439,2970708341&amp;fm=52&amp;gp=0"/>
          <p:cNvPicPr/>
          <p:nvPr/>
        </p:nvPicPr>
        <p:blipFill>
          <a:blip r:embed="rId3"/>
          <a:stretch/>
        </p:blipFill>
        <p:spPr>
          <a:xfrm>
            <a:off x="0" y="3284640"/>
            <a:ext cx="4427640" cy="3573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4500720" cy="3284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2771640" y="2222640"/>
            <a:ext cx="3841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的生产过程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5013360"/>
            <a:ext cx="9144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耕地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播种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田间管理（锄草、浇水、灭虫、施肥）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收割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脱粒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晾晒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619280" y="836640"/>
            <a:ext cx="518472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悯    农</a:t>
            </a: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唐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·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李绅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锄 禾 日 当 午，</a:t>
            </a:r>
            <a:br>
              <a:rPr sz="4800"/>
            </a:b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汗 滴 禾 下 土。</a:t>
            </a:r>
            <a:br>
              <a:rPr sz="4800"/>
            </a:b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谁 知 盘 中 餐，</a:t>
            </a:r>
            <a:br>
              <a:rPr sz="4800"/>
            </a:b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粒 粒 皆 辛 苦。 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7F09-0A47-432B-832E-EF16477AE8E4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F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A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铁矿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0040" y="2859120"/>
            <a:ext cx="23209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冶炼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1763640" y="5805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锻造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5364000" y="59500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品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饮食方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2665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蔬菜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3" name="Picture 4" descr="1111"/>
          <p:cNvPicPr/>
          <p:nvPr/>
        </p:nvPicPr>
        <p:blipFill>
          <a:blip r:embed="rId1"/>
          <a:stretch/>
        </p:blipFill>
        <p:spPr>
          <a:xfrm>
            <a:off x="4716360" y="1052640"/>
            <a:ext cx="3598920" cy="2305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2222"/>
          <p:cNvPicPr/>
          <p:nvPr/>
        </p:nvPicPr>
        <p:blipFill>
          <a:blip r:embed="rId2"/>
          <a:stretch/>
        </p:blipFill>
        <p:spPr>
          <a:xfrm>
            <a:off x="755640" y="981000"/>
            <a:ext cx="324000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3333"/>
          <p:cNvPicPr/>
          <p:nvPr/>
        </p:nvPicPr>
        <p:blipFill>
          <a:blip r:embed="rId3"/>
          <a:stretch/>
        </p:blipFill>
        <p:spPr>
          <a:xfrm>
            <a:off x="4643280" y="3933720"/>
            <a:ext cx="3888000" cy="230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4444"/>
          <p:cNvPicPr/>
          <p:nvPr/>
        </p:nvPicPr>
        <p:blipFill>
          <a:blip r:embed="rId4"/>
          <a:stretch/>
        </p:blipFill>
        <p:spPr>
          <a:xfrm>
            <a:off x="684360" y="4005360"/>
            <a:ext cx="3311280" cy="2016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 rot="21390600">
            <a:off x="6226200" y="33541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水果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835280" y="6165720"/>
            <a:ext cx="9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肉类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372360" y="62373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粮食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050920" y="260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起　居　方　面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1" name="Picture 3" descr="1111"/>
          <p:cNvPicPr/>
          <p:nvPr/>
        </p:nvPicPr>
        <p:blipFill>
          <a:blip r:embed="rId1"/>
          <a:stretch/>
        </p:blipFill>
        <p:spPr>
          <a:xfrm>
            <a:off x="900000" y="981000"/>
            <a:ext cx="2625840" cy="2011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4444"/>
          <p:cNvPicPr/>
          <p:nvPr/>
        </p:nvPicPr>
        <p:blipFill>
          <a:blip r:embed="rId2"/>
          <a:stretch/>
        </p:blipFill>
        <p:spPr>
          <a:xfrm>
            <a:off x="4859280" y="907920"/>
            <a:ext cx="3075120" cy="230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5555"/>
          <p:cNvPicPr/>
          <p:nvPr/>
        </p:nvPicPr>
        <p:blipFill>
          <a:blip r:embed="rId3"/>
          <a:stretch/>
        </p:blipFill>
        <p:spPr>
          <a:xfrm>
            <a:off x="900000" y="3500280"/>
            <a:ext cx="2664000" cy="261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3333"/>
          <p:cNvPicPr/>
          <p:nvPr/>
        </p:nvPicPr>
        <p:blipFill>
          <a:blip r:embed="rId4"/>
          <a:stretch/>
        </p:blipFill>
        <p:spPr>
          <a:xfrm>
            <a:off x="4788000" y="3500280"/>
            <a:ext cx="30081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348000" y="333360"/>
            <a:ext cx="17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学习方面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6" name="Picture 3" descr="111"/>
          <p:cNvPicPr/>
          <p:nvPr/>
        </p:nvPicPr>
        <p:blipFill>
          <a:blip r:embed="rId1"/>
          <a:stretch/>
        </p:blipFill>
        <p:spPr>
          <a:xfrm>
            <a:off x="4500720" y="907920"/>
            <a:ext cx="3166920" cy="2160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2222"/>
          <p:cNvPicPr/>
          <p:nvPr/>
        </p:nvPicPr>
        <p:blipFill>
          <a:blip r:embed="rId2"/>
          <a:stretch/>
        </p:blipFill>
        <p:spPr>
          <a:xfrm>
            <a:off x="900000" y="1052640"/>
            <a:ext cx="2664000" cy="1998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222"/>
          <p:cNvPicPr/>
          <p:nvPr/>
        </p:nvPicPr>
        <p:blipFill>
          <a:blip r:embed="rId3"/>
          <a:stretch/>
        </p:blipFill>
        <p:spPr>
          <a:xfrm>
            <a:off x="4932360" y="3573360"/>
            <a:ext cx="3095640" cy="244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444"/>
          <p:cNvPicPr/>
          <p:nvPr/>
        </p:nvPicPr>
        <p:blipFill>
          <a:blip r:embed="rId4"/>
          <a:stretch/>
        </p:blipFill>
        <p:spPr>
          <a:xfrm>
            <a:off x="900000" y="3716280"/>
            <a:ext cx="302436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8196"/>
          <p:cNvSpPr/>
          <p:nvPr/>
        </p:nvSpPr>
        <p:spPr>
          <a:xfrm>
            <a:off x="1163520" y="32385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5"/>
              </a:rPr>
              <a:t>ppt模板下载 免费完整版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3780000" y="29988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069080" y="47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出行方面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3" name="Picture 3" descr="00000"/>
          <p:cNvPicPr/>
          <p:nvPr/>
        </p:nvPicPr>
        <p:blipFill>
          <a:blip r:embed="rId1"/>
          <a:stretch/>
        </p:blipFill>
        <p:spPr>
          <a:xfrm>
            <a:off x="5724360" y="981000"/>
            <a:ext cx="2160720" cy="201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0000"/>
          <p:cNvPicPr/>
          <p:nvPr/>
        </p:nvPicPr>
        <p:blipFill>
          <a:blip r:embed="rId2"/>
          <a:stretch/>
        </p:blipFill>
        <p:spPr>
          <a:xfrm>
            <a:off x="5724360" y="3933720"/>
            <a:ext cx="2160720" cy="201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000"/>
          <p:cNvPicPr/>
          <p:nvPr/>
        </p:nvPicPr>
        <p:blipFill>
          <a:blip r:embed="rId3"/>
          <a:stretch/>
        </p:blipFill>
        <p:spPr>
          <a:xfrm>
            <a:off x="1332000" y="981000"/>
            <a:ext cx="1755720" cy="172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0"/>
          <p:cNvPicPr/>
          <p:nvPr/>
        </p:nvPicPr>
        <p:blipFill>
          <a:blip r:embed="rId4"/>
          <a:stretch/>
        </p:blipFill>
        <p:spPr>
          <a:xfrm>
            <a:off x="1042920" y="393372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0"/>
          <p:cNvPicPr/>
          <p:nvPr/>
        </p:nvPicPr>
        <p:blipFill>
          <a:blip r:embed="rId5"/>
          <a:stretch/>
        </p:blipFill>
        <p:spPr>
          <a:xfrm>
            <a:off x="3276720" y="2421000"/>
            <a:ext cx="216036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50CAN5JM18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小蜜蜂"/>
          <p:cNvPicPr/>
          <p:nvPr/>
        </p:nvPicPr>
        <p:blipFill>
          <a:blip r:embed="rId2"/>
          <a:stretch/>
        </p:blipFill>
        <p:spPr>
          <a:xfrm>
            <a:off x="7451640" y="5516640"/>
            <a:ext cx="1457280" cy="1717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971640" y="260280"/>
            <a:ext cx="741672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工业品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：来自工厂，由工人叔叔通过对原材料加工而成的产品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971640" y="278136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农产品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：来自农村，由农民伯伯通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种植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饲养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捕捞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得来的产品。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3"/>
          <p:cNvSpPr txBox="1"/>
          <p:nvPr/>
        </p:nvSpPr>
        <p:spPr>
          <a:xfrm>
            <a:off x="1187280" y="620640"/>
            <a:ext cx="7425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到农村去看看！</a:t>
            </a:r>
            <a:endParaRPr b="1" lang="en-US" sz="5400" spc="-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 advTm="4000">
    <p:split dir="out" orient="vert"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0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179280" y="18900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1"/>
          <p:cNvSpPr/>
          <p:nvPr/>
        </p:nvSpPr>
        <p:spPr>
          <a:xfrm>
            <a:off x="0" y="620640"/>
            <a:ext cx="6006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一、不同的农产品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3203640" y="5950080"/>
            <a:ext cx="3809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农民在田间耕种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9" name="Picture 23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5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8:49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37Z</dcterms:modified>
  <cp:revision>1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fa0e000000000001024120</vt:lpwstr>
  </property>
</Properties>
</file>