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9.gif" ContentType="image/gif"/>
  <Override PartName="/ppt/media/image18.jpeg" ContentType="image/jpeg"/>
  <Override PartName="/ppt/media/image16.jpeg" ContentType="image/jpeg"/>
  <Override PartName="/ppt/media/image10.png" ContentType="image/png"/>
  <Override PartName="/ppt/media/applause.wav" ContentType="audio/x-wav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101-E1FA-434C-A53E-6A0B295E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52F-76A9-40B1-86DD-6EA5F2B8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788-4A3B-417C-ABF1-199C45A0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BBA-8D99-43BE-8F49-C482256D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5BEA-0DAB-4648-AABD-BDF31643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B8E1-0DEF-466C-8A86-B434B3B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2703-8D87-42A0-AC21-78747443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4E20-2A50-499E-AADB-544D4EAE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E395-487F-41A4-B216-1D84225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C7FE-4C4F-4C3D-9A1B-EA9F7078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635D-BEC0-47FF-9B60-ECE5FD8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6AA-5BF7-48C3-91C4-DF41A32D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EF98-C1BD-41E1-B563-0301233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D71E-ACF9-4678-9032-1958D9C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ABA5-EAEC-4AFD-A612-59EEFF1B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F7A0-C3E9-407E-A419-B3EC9E36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A9A0-5BAD-4C12-A1B7-A565A3E3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54CB-7922-495C-9402-CA4EEFDC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E3B7-B548-4092-B0B4-10946D9F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DE2E-D4BB-4B2E-B06B-825D1A4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99C2-4200-48E8-9053-7E9DD99B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F581-A524-4737-95D5-89B2DD96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B3A-0275-40B0-8538-E33391C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CE4F-0B11-4086-B0EC-80351EB6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75C9-CCEF-4901-85EB-DA16FA6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624A-A90C-485A-945C-33BCB67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EBAF-8FCA-412E-8D94-BEDC92BA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436B-DFA8-4B92-A800-9B87547C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182D-53A1-4F28-8249-A673F80B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2B1F-2395-4EBF-BEE0-3BC25637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C0A9-53E7-4C8E-A3D3-2BA549BD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B73DB-8B43-48FC-AF38-959F77E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50EC-E0F8-4D9B-8FA7-C5FA22CB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259-D542-4042-81E4-9F179EE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6CED-0B35-4F6E-8457-A2348C6F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FCB5-5ACF-4C21-A382-D34696AD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ED50-6FD2-41FB-860B-07F6372F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35539-BFC0-4F17-8FE8-713AEE35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3B5F-0D04-453A-A1CD-0BCC090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85BA-875B-48C4-8839-DF9CA6F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F2F7-34E0-4DFA-A032-3A1A165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EC8B-04F5-4B46-93CF-5DC9602D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D1F1-5194-49B1-895A-F3D8B701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78128-ED5A-4843-9440-A2971047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B12-B535-4FC5-BF48-42F746B0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6A2F2-9EC9-483E-B9D3-67DD45D2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C3F1-AE3F-4052-A7A0-A939AD0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F5B7-3632-4DC9-8F85-BFED7B50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7F7A2-1BDB-4702-9C24-3DDE9EFA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3706-150D-4CD3-A3C8-8E4F7C07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7EC3-C6AB-4927-85B4-8CB1D15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A3F8-0009-4140-AF65-E75E0FA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D714-35A5-49E6-9AD6-DD093D8E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5012-D216-4F22-B654-132FAA5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0DD8-25B5-4DF9-A244-025E66BF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FEC-D84D-4E2C-AE50-50FF04D4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2C8C-99E8-4E30-9DD2-80CBD532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5FA1A-8DEA-4135-A543-6649F7F1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A8D7-45A5-423E-816D-39E11CA4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E16C-18CD-4CF1-83CF-F2768E17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6953-C6ED-4824-998A-26417DAA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BA0B8-9C78-4901-BE13-C5C566A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65F4-A901-40D0-B81A-A2922DA0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F78C-6A3B-4342-ADAB-AE34C31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9DFF6-CA8C-4ADC-8BFC-8D1919B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BC3CC-D78D-45F3-A425-B47E59B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49E-CB32-4987-97E8-5D12B3E4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7AEB-CA41-40C1-BA3F-AFD3CAFC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4CAA5-4D16-4DE2-A59A-6C63CD52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B733-E28A-477E-A037-69288B59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245-20EB-426B-BFC6-32C7148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A8C-4919-4ACC-B201-12899FB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DBA8-DF7C-4621-8884-E7FD08F7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5040"/>
                <a:ext cx="1833480" cy="1663920"/>
                <a:chOff x="852840" y="4055040"/>
                <a:chExt cx="183348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4680" y="3943440"/>
                  <a:ext cx="47412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7760" y="4972320"/>
                  <a:ext cx="10872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E13B-5F74-45FC-9731-F0142B07C4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C02-5770-4F64-979E-DFEF11D8A3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206E-BBC6-44CA-8B51-9E16D23EF3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14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15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7"/>
            <p:cNvGrpSpPr/>
            <p:nvPr/>
          </p:nvGrpSpPr>
          <p:grpSpPr>
            <a:xfrm>
              <a:off x="4137480" y="1036080"/>
              <a:ext cx="1017000" cy="1263240"/>
              <a:chOff x="4137480" y="1036080"/>
              <a:chExt cx="1017000" cy="1263240"/>
            </a:xfrm>
          </p:grpSpPr>
          <p:sp>
            <p:nvSpPr>
              <p:cNvPr id="229" name="Freeform 18"/>
              <p:cNvSpPr/>
              <p:nvPr/>
            </p:nvSpPr>
            <p:spPr>
              <a:xfrm rot="3220200">
                <a:off x="4553280" y="10738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"/>
              <p:cNvSpPr/>
              <p:nvPr/>
            </p:nvSpPr>
            <p:spPr>
              <a:xfrm rot="3220200">
                <a:off x="4637880" y="160704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"/>
              <p:cNvSpPr/>
              <p:nvPr/>
            </p:nvSpPr>
            <p:spPr>
              <a:xfrm rot="3220200">
                <a:off x="4097880" y="196560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5642280" y="294840"/>
              <a:ext cx="888120" cy="833760"/>
              <a:chOff x="5642280" y="294840"/>
              <a:chExt cx="888120" cy="833760"/>
            </a:xfrm>
          </p:grpSpPr>
          <p:sp>
            <p:nvSpPr>
              <p:cNvPr id="233" name="Freeform 22"/>
              <p:cNvSpPr/>
              <p:nvPr/>
            </p:nvSpPr>
            <p:spPr>
              <a:xfrm rot="14908200">
                <a:off x="5753520" y="7984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"/>
              <p:cNvSpPr/>
              <p:nvPr/>
            </p:nvSpPr>
            <p:spPr>
              <a:xfrm rot="14908200">
                <a:off x="5702400" y="4780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4"/>
              <p:cNvSpPr/>
              <p:nvPr/>
            </p:nvSpPr>
            <p:spPr>
              <a:xfrm rot="14908200">
                <a:off x="6240600" y="39528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37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9"/>
            <p:cNvGrpSpPr/>
            <p:nvPr/>
          </p:nvGrpSpPr>
          <p:grpSpPr>
            <a:xfrm>
              <a:off x="356400" y="430920"/>
              <a:ext cx="1692720" cy="1147320"/>
              <a:chOff x="356400" y="430920"/>
              <a:chExt cx="1692720" cy="1147320"/>
            </a:xfrm>
          </p:grpSpPr>
          <p:sp>
            <p:nvSpPr>
              <p:cNvPr id="241" name="Freeform 30"/>
              <p:cNvSpPr/>
              <p:nvPr/>
            </p:nvSpPr>
            <p:spPr>
              <a:xfrm flipH="1" rot="4107000">
                <a:off x="1558440" y="10497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1"/>
              <p:cNvSpPr/>
              <p:nvPr/>
            </p:nvSpPr>
            <p:spPr>
              <a:xfrm flipH="1" rot="4107000">
                <a:off x="1004760" y="57420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2"/>
              <p:cNvSpPr/>
              <p:nvPr/>
            </p:nvSpPr>
            <p:spPr>
              <a:xfrm flipH="1" rot="4107000">
                <a:off x="259200" y="10886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5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BF2D-6652-4767-B718-8B2FFB29E3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9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06F-C128-4DC6-924D-3DA19471D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E:\&#20061;&#24180;&#32423;\&#31532;&#20108;&#35838;\&#25215;  &#25285; &#20851; &#29233; &#38598; &#20307; &#30340; &#36131; &#20219;wdj\&#19977;&#20010;&#21644;&#23578;.swf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07j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479520" y="2411280"/>
            <a:ext cx="80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承担关爱集体的责任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"/>
          <p:cNvSpPr/>
          <p:nvPr/>
        </p:nvSpPr>
        <p:spPr>
          <a:xfrm>
            <a:off x="2604240" y="113508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课   在承担责任中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7"/>
          <p:cNvSpPr/>
          <p:nvPr/>
        </p:nvSpPr>
        <p:spPr>
          <a:xfrm>
            <a:off x="1908000" y="5229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FR7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68000" y="1125000"/>
            <a:ext cx="867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集体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是我们每一个人的集体，只有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人人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都主动关心、爱护集体，为集体建设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出力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，集体才会真正成为我们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依恋的家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4" name="Picture 4" descr="xc1"/>
          <p:cNvPicPr/>
          <p:nvPr/>
        </p:nvPicPr>
        <p:blipFill>
          <a:blip r:embed="rId2"/>
          <a:stretch/>
        </p:blipFill>
        <p:spPr>
          <a:xfrm>
            <a:off x="539640" y="4724280"/>
            <a:ext cx="2737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回复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98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4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29"/>
          <p:cNvSpPr txBox="1"/>
          <p:nvPr/>
        </p:nvSpPr>
        <p:spPr>
          <a:xfrm>
            <a:off x="2124000" y="2133720"/>
            <a:ext cx="6408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关爱集体，人人有责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困惑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05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9">
            <a:hlinkClick r:id="rId2"/>
          </p:cNvPr>
          <p:cNvSpPr/>
          <p:nvPr/>
        </p:nvSpPr>
        <p:spPr>
          <a:xfrm>
            <a:off x="8101080" y="573408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301"/>
                </a:moveTo>
                <a:lnTo>
                  <a:pt x="5151" y="7301"/>
                </a:lnTo>
                <a:lnTo>
                  <a:pt x="5534" y="7667"/>
                </a:lnTo>
                <a:lnTo>
                  <a:pt x="14742" y="7667"/>
                </a:lnTo>
                <a:lnTo>
                  <a:pt x="15299" y="8224"/>
                </a:lnTo>
                <a:lnTo>
                  <a:pt x="15299" y="8772"/>
                </a:lnTo>
                <a:lnTo>
                  <a:pt x="17145" y="8772"/>
                </a:lnTo>
                <a:lnTo>
                  <a:pt x="17510" y="8224"/>
                </a:lnTo>
                <a:lnTo>
                  <a:pt x="18250" y="8224"/>
                </a:lnTo>
                <a:lnTo>
                  <a:pt x="18250" y="13376"/>
                </a:lnTo>
                <a:lnTo>
                  <a:pt x="17510" y="13376"/>
                </a:lnTo>
                <a:lnTo>
                  <a:pt x="17145" y="12828"/>
                </a:lnTo>
                <a:lnTo>
                  <a:pt x="15299" y="12828"/>
                </a:lnTo>
                <a:lnTo>
                  <a:pt x="15299" y="14107"/>
                </a:lnTo>
                <a:lnTo>
                  <a:pt x="5717" y="14107"/>
                </a:lnTo>
                <a:lnTo>
                  <a:pt x="5717" y="9877"/>
                </a:lnTo>
                <a:lnTo>
                  <a:pt x="5534" y="9877"/>
                </a:lnTo>
                <a:lnTo>
                  <a:pt x="5151" y="10243"/>
                </a:lnTo>
                <a:lnTo>
                  <a:pt x="4237" y="10243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143000" y="1522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人 多 力 量 一定 大 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80880" y="5029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为什么众人拾柴会火焰高，而三个和尚去没水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419040" y="1125360"/>
            <a:ext cx="8458200" cy="3716280"/>
            <a:chOff x="419040" y="1125360"/>
            <a:chExt cx="8458200" cy="3716280"/>
          </a:xfrm>
        </p:grpSpPr>
        <p:pic>
          <p:nvPicPr>
            <p:cNvPr id="412" name="Picture 5" descr="三个和尚"/>
            <p:cNvPicPr/>
            <p:nvPr/>
          </p:nvPicPr>
          <p:blipFill>
            <a:blip r:embed="rId1"/>
            <a:stretch/>
          </p:blipFill>
          <p:spPr>
            <a:xfrm>
              <a:off x="4838760" y="1782720"/>
              <a:ext cx="3962160" cy="300024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413" name="Text Box 6"/>
            <p:cNvSpPr/>
            <p:nvPr/>
          </p:nvSpPr>
          <p:spPr>
            <a:xfrm>
              <a:off x="876240" y="11253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众人拾柴火焰高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610160" y="12016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一个和尚有水喝，三个和尚没水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8" descr="fire"/>
            <p:cNvPicPr/>
            <p:nvPr/>
          </p:nvPicPr>
          <p:blipFill>
            <a:blip r:embed="rId2"/>
            <a:stretch/>
          </p:blipFill>
          <p:spPr>
            <a:xfrm>
              <a:off x="419040" y="1734840"/>
              <a:ext cx="4038480" cy="310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那么，集体的力量取决于什么？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P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仅仅取决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员数量的多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更取决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员之间的组织和配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心齐，泰山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团结的集体才有凝聚力和战斗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未命名"/>
          <p:cNvPicPr/>
          <p:nvPr/>
        </p:nvPicPr>
        <p:blipFill>
          <a:blip r:embed="rId1"/>
          <a:stretch/>
        </p:blipFill>
        <p:spPr>
          <a:xfrm>
            <a:off x="2286000" y="2971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152280" y="33336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表现为在集体中能求大同存小异，善于团结他人，让集体发挥出更大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200452595250809"/>
          <p:cNvPicPr/>
          <p:nvPr/>
        </p:nvPicPr>
        <p:blipFill>
          <a:blip r:embed="rId1"/>
          <a:stretch/>
        </p:blipFill>
        <p:spPr>
          <a:xfrm>
            <a:off x="324000" y="407664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image067"/>
          <p:cNvPicPr/>
          <p:nvPr/>
        </p:nvPicPr>
        <p:blipFill>
          <a:blip r:embed="rId2"/>
          <a:stretch/>
        </p:blipFill>
        <p:spPr>
          <a:xfrm>
            <a:off x="2700360" y="148428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军训1"/>
          <p:cNvPicPr/>
          <p:nvPr/>
        </p:nvPicPr>
        <p:blipFill>
          <a:blip r:embed="rId3"/>
          <a:stretch/>
        </p:blipFill>
        <p:spPr>
          <a:xfrm>
            <a:off x="5148360" y="1484280"/>
            <a:ext cx="348120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关注生活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8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你班还有关爱集体的例子吗</a:t>
                      </a:r>
                      <a:r>
                        <a:rPr b="1" lang="en-US" sz="8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?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6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900000" y="836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表现为自觉维护集体的荣誉和利益，服从集体的安排，积极主动地为集体建设贡献才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224520" y="510552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校运动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showimg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还表现为发扬集体的好作风，通过自己的努力解决集体遇到的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1905120"/>
            <a:ext cx="8686800" cy="4952880"/>
            <a:chOff x="0" y="1905120"/>
            <a:chExt cx="8686800" cy="4952880"/>
          </a:xfrm>
        </p:grpSpPr>
        <p:grpSp>
          <p:nvGrpSpPr>
            <p:cNvPr id="434" name="Group 4"/>
            <p:cNvGrpSpPr/>
            <p:nvPr/>
          </p:nvGrpSpPr>
          <p:grpSpPr>
            <a:xfrm>
              <a:off x="1098720" y="2766960"/>
              <a:ext cx="6946560" cy="1062000"/>
              <a:chOff x="1098720" y="2766960"/>
              <a:chExt cx="6946560" cy="1062000"/>
            </a:xfrm>
          </p:grpSpPr>
          <p:sp>
            <p:nvSpPr>
              <p:cNvPr id="435" name="Rectangle 5"/>
              <p:cNvSpPr/>
              <p:nvPr/>
            </p:nvSpPr>
            <p:spPr>
              <a:xfrm>
                <a:off x="1098720" y="2766960"/>
                <a:ext cx="69465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Group 6"/>
              <p:cNvGrpSpPr/>
              <p:nvPr/>
            </p:nvGrpSpPr>
            <p:grpSpPr>
              <a:xfrm>
                <a:off x="1098720" y="2766960"/>
                <a:ext cx="5276520" cy="1062000"/>
                <a:chOff x="1098720" y="2766960"/>
                <a:chExt cx="5276520" cy="1062000"/>
              </a:xfrm>
            </p:grpSpPr>
            <p:sp>
              <p:nvSpPr>
                <p:cNvPr id="437" name="Rectangle 7"/>
                <p:cNvSpPr/>
                <p:nvPr/>
              </p:nvSpPr>
              <p:spPr>
                <a:xfrm>
                  <a:off x="1098720" y="2766960"/>
                  <a:ext cx="5276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8"/>
                <p:cNvSpPr/>
                <p:nvPr/>
              </p:nvSpPr>
              <p:spPr>
                <a:xfrm>
                  <a:off x="1098720" y="2766960"/>
                  <a:ext cx="5276520" cy="106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Picture 9" descr="DSC05"/>
            <p:cNvPicPr/>
            <p:nvPr/>
          </p:nvPicPr>
          <p:blipFill>
            <a:blip r:embed="rId1"/>
            <a:stretch/>
          </p:blipFill>
          <p:spPr>
            <a:xfrm>
              <a:off x="5257800" y="1905120"/>
              <a:ext cx="3429000" cy="25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0" descr="05040721205532s"/>
            <p:cNvPicPr/>
            <p:nvPr/>
          </p:nvPicPr>
          <p:blipFill>
            <a:blip r:embed="rId2"/>
            <a:stretch/>
          </p:blipFill>
          <p:spPr>
            <a:xfrm>
              <a:off x="3255840" y="4191120"/>
              <a:ext cx="3241800" cy="26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11"/>
            <p:cNvSpPr/>
            <p:nvPr/>
          </p:nvSpPr>
          <p:spPr>
            <a:xfrm>
              <a:off x="3124080" y="6568920"/>
              <a:ext cx="350532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12" descr="0930wtt01"/>
            <p:cNvPicPr/>
            <p:nvPr/>
          </p:nvPicPr>
          <p:blipFill>
            <a:blip r:embed="rId3"/>
            <a:stretch/>
          </p:blipFill>
          <p:spPr>
            <a:xfrm>
              <a:off x="0" y="2819520"/>
              <a:ext cx="3657600" cy="248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FR7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68000" y="1125000"/>
            <a:ext cx="867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5" name="Picture 4" descr="xc1"/>
          <p:cNvPicPr/>
          <p:nvPr/>
        </p:nvPicPr>
        <p:blipFill>
          <a:blip r:embed="rId2"/>
          <a:stretch/>
        </p:blipFill>
        <p:spPr>
          <a:xfrm>
            <a:off x="539640" y="472428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2441520" y="1871640"/>
            <a:ext cx="558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关爱集体，从自我做起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从小事做起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28600" y="1905120"/>
            <a:ext cx="8534520" cy="4952880"/>
          </a:xfrm>
          <a:prstGeom prst="rect">
            <a:avLst/>
          </a:prstGeom>
          <a:noFill/>
          <a:ln w="127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914400" y="23623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一个温馨的词语，它不能离开个体而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1295280" y="2133720"/>
            <a:ext cx="160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集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51" name="Picture 5" descr="02"/>
          <p:cNvPicPr/>
          <p:nvPr/>
        </p:nvPicPr>
        <p:blipFill>
          <a:blip r:embed="rId1"/>
          <a:stretch/>
        </p:blipFill>
        <p:spPr>
          <a:xfrm>
            <a:off x="457200" y="365760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352" name="WordArt 7" descr=""/>
          <p:cNvPicPr/>
          <p:nvPr/>
        </p:nvPicPr>
        <p:blipFill>
          <a:blip r:embed="rId2"/>
          <a:stretch/>
        </p:blipFill>
        <p:spPr>
          <a:xfrm>
            <a:off x="179280" y="615960"/>
            <a:ext cx="6802560" cy="1044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广播操比赛"/>
          <p:cNvPicPr/>
          <p:nvPr/>
        </p:nvPicPr>
        <p:blipFill>
          <a:blip r:embed="rId3"/>
          <a:stretch/>
        </p:blipFill>
        <p:spPr>
          <a:xfrm>
            <a:off x="4427640" y="3068640"/>
            <a:ext cx="450036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1547640" y="260280"/>
            <a:ext cx="6096240" cy="1067040"/>
            <a:chOff x="1547640" y="260280"/>
            <a:chExt cx="6096240" cy="1067040"/>
          </a:xfrm>
        </p:grpSpPr>
        <p:sp>
          <p:nvSpPr>
            <p:cNvPr id="448" name="Oval 3"/>
            <p:cNvSpPr/>
            <p:nvPr/>
          </p:nvSpPr>
          <p:spPr>
            <a:xfrm>
              <a:off x="1547640" y="260280"/>
              <a:ext cx="6096240" cy="1067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你该怎么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Picture 4" descr="q6"/>
            <p:cNvPicPr/>
            <p:nvPr/>
          </p:nvPicPr>
          <p:blipFill>
            <a:blip r:embed="rId1"/>
            <a:stretch/>
          </p:blipFill>
          <p:spPr>
            <a:xfrm>
              <a:off x="6012000" y="476280"/>
              <a:ext cx="43164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Rectangle 5"/>
          <p:cNvSpPr/>
          <p:nvPr/>
        </p:nvSpPr>
        <p:spPr>
          <a:xfrm>
            <a:off x="250920" y="1484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离校广播操比赛只有三天了，可是你发现自己做操很不到位，如果去参赛，很有可能影响班级的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午修时你正在教室里做作业，这时其他班级的几个同学到你班级来捣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一天早晨，你第一个来到学校，你发现有小偷正在偷学校的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38088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细黑"/>
                <a:ea typeface="华文细黑"/>
              </a:rPr>
              <a:t>承担关爱集体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人与集体相互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是集体的一员               个人利益与集体利益相联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人应该关心和维护集体的利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承担关爱集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责任                                                    关爱集体，建设集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关爱集体  人人有责       自觉维护集体的荣誉和利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扬集体的好作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善于团结他人，让集体发挥更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力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2057400" y="32004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4572000" y="26668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4648320" y="47242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91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华文新魏"/>
              </a:rPr>
              <a:t>课堂练习：</a:t>
            </a:r>
            <a:br>
              <a:rPr sz="48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一．是非判断题（对的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，错的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）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78920" y="22050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心齐，泰山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明了团结的集体才有凝聚力和战斗力的道理。（          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我们每一个人生活在集体中，所以，我们每一个人都应主动关心集体，建设集体。（       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2272680" y="335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3066120" y="5013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250920" y="182520"/>
            <a:ext cx="43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谋划策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24000" y="1484280"/>
            <a:ext cx="864216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66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一个良好的班集体总是会激励着学生主动、健康地成长，使学生能心情愉快，充满激情地投入到学习生活中。你能为如何增强班级凝聚力提一些建议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7268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0000"/>
                </a:solidFill>
                <a:latin typeface="Verdana"/>
                <a:ea typeface="华文新魏"/>
              </a:rPr>
              <a:t>堂上练习：单选</a:t>
            </a:r>
            <a:endParaRPr b="0" lang="en-US" sz="5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Verdana"/>
                <a:ea typeface="华文新魏"/>
              </a:rPr>
              <a:t>      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68360" y="1523880"/>
            <a:ext cx="800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河有水小河满，大河无水小河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整体利益必须服从局部利益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利益与集体利益是相互依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维护集体利益就不能追求个人利益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集体利益要服从个人利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6112080" y="4137120"/>
            <a:ext cx="15994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-360" y="457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学了，可今天轮到小明的小组打扫卫生，因为想着要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赛，于是随便扫了一下地，把垃圾堆在一边就走了。对于小明的行为，你认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不倒垃圾是错误的，我们生活在集体中，就应对集体负责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为了看向往已久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赛，而没倒垃圾这是情理之中的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倒垃圾是每个人的责任，不一定非要小明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我们每个人都不能离开社会而生存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466960" y="4005360"/>
            <a:ext cx="2670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en-US" sz="1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108000" y="1035000"/>
            <a:ext cx="87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问别人能为自己做些什么，而要问自己能为别人做些什么；不要问国家能为我们做些什么，而要问事处我们能为国家做些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表明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人生价值的实现体现在我得到了什么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人人有责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集体利益、他人利益高于个人利益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必须以社会对个人的尊重为满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4011480" y="3914640"/>
            <a:ext cx="1888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156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6CFA-0ADC-4129-8176-AA864B8495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0" y="76176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家科研机构招聘人才时的首项要求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关爱集体的人坚决不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对此，说法不正确的是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应成为衡量现代人才的标准之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才可能为集体贡献才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人人关爱集体，集体才有凝聚力和战斗力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人才招聘应主要看学历，其它无关紧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671280" y="4543560"/>
            <a:ext cx="2492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en-US" sz="1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838080" y="304920"/>
            <a:ext cx="7391520" cy="6553080"/>
          </a:xfrm>
          <a:prstGeom prst="rect">
            <a:avLst/>
          </a:prstGeom>
          <a:noFill/>
          <a:ln w="127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042920" y="5493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只有紧紧地依靠集体，才能有无穷的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187280" y="2637000"/>
            <a:ext cx="6849720" cy="2722320"/>
            <a:chOff x="1187280" y="2637000"/>
            <a:chExt cx="6849720" cy="2722320"/>
          </a:xfrm>
        </p:grpSpPr>
        <p:sp>
          <p:nvSpPr>
            <p:cNvPr id="357" name="Text Box 5"/>
            <p:cNvSpPr/>
            <p:nvPr/>
          </p:nvSpPr>
          <p:spPr>
            <a:xfrm>
              <a:off x="1187280" y="3246480"/>
              <a:ext cx="4554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滴水只有放进大海，才能永不干涸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雷 锋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6" descr="leifeng"/>
            <p:cNvPicPr/>
            <p:nvPr/>
          </p:nvPicPr>
          <p:blipFill>
            <a:blip r:embed="rId1"/>
            <a:stretch/>
          </p:blipFill>
          <p:spPr>
            <a:xfrm>
              <a:off x="5904000" y="2637000"/>
              <a:ext cx="2133000" cy="27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WordArt 7"/>
          <p:cNvSpPr txBox="1"/>
          <p:nvPr/>
        </p:nvSpPr>
        <p:spPr>
          <a:xfrm>
            <a:off x="1295280" y="533520"/>
            <a:ext cx="160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个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难题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龙，你好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刚才我接到几年没见的表哥打来电话，说他明天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左右到达火车站，半小时后就要转乘飞机离开，希望我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能够到火车站见一面。我很想见表哥，但明天我们班要进行暑假社会实践活动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准时从学校出发，小龙，你说我该怎么办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3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4"/>
          <p:cNvSpPr/>
          <p:nvPr/>
        </p:nvSpPr>
        <p:spPr>
          <a:xfrm>
            <a:off x="1908000" y="3213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1763640" y="3716280"/>
            <a:ext cx="676908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你们认为王小明应该怎么办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395280" y="1916280"/>
            <a:ext cx="856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e0d11"/>
                </a:solidFill>
                <a:latin typeface="黑体"/>
                <a:ea typeface="黑体"/>
              </a:rPr>
              <a:t>集体利益与个人利益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互依存</a:t>
            </a:r>
            <a:r>
              <a:rPr b="1" lang="zh-CN" sz="3200" spc="-1" strike="noStrike">
                <a:solidFill>
                  <a:srgbClr val="0e0d11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一旦集体利益受损，个体利益也难以保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；只有维护集体利益，个人利益才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保障个人利益是集体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责任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而集体利益是集体中每个成员努力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WordArt 3"/>
          <p:cNvSpPr txBox="1"/>
          <p:nvPr/>
        </p:nvSpPr>
        <p:spPr>
          <a:xfrm>
            <a:off x="209520" y="620640"/>
            <a:ext cx="86011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2</a:t>
            </a:r>
            <a:r>
              <a:rPr b="0" i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）、集体利益与个人利益的关系：</a:t>
            </a:r>
            <a:endParaRPr b="0" i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971640" y="5229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0" y="54936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  <a:ea typeface="宋体"/>
              </a:rPr>
              <a:t>3)</a:t>
            </a:r>
            <a:r>
              <a:rPr b="1" i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正确处理集体利益与个人利益的原则</a:t>
            </a:r>
            <a:r>
              <a:rPr b="1" i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509760" y="242100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0d11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e0d11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集体应充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尊重和保护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个人利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e0d11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个人更应该积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关心和维护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集体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042920" y="47656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当个人利益与集体利益相冲突时，个人利益要服从集体利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回复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明，你好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你应该去参加班级的暑期社会实践活动。因为这是集体利益，而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见你表哥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则是个人利益，当个人利益与集体利益相冲突时，个人利益要服从集体利益。同时我衷心的希望你在今后的日子里能够多去关爱集体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4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所做所为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龙，我是班级里一名普通学生，大家都叫我“管事大王”。为了美化教室，我动员大家从家里带来花卉；邻班同学来借卫生用具，我记在心里及时要回；我一天往公布成绩的布告栏跑好几趟，然后在第一时间向全班发布本班的参赛成绩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方正舒体"/>
                        </a:rPr>
                        <a:t>……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次，我要求值日马虎的同学重新打扫教室，值日生气呼呼地冲着我大嚷：“你是卫生委员吗？真是多管闲事！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问题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小龙，遇到这种情况，我该怎么办？你遇到到过这种类似的现象吗？假如让这种现象延续下去，我们的班级将会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88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6:28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45Z</dcterms:modified>
  <cp:revision>1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