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28.jpeg" ContentType="image/jpeg"/>
  <Override PartName="/ppt/media/image13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8.png" ContentType="image/png"/>
  <Override PartName="/ppt/media/image39.jpeg" ContentType="image/jpeg"/>
  <Override PartName="/ppt/media/image33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F83-80F6-4320-8622-7A2A9CC1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C94-E6EA-4300-84FF-A760595A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04C-E621-48B8-B8BB-407A47B2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817-6140-4C58-8772-0BF43EA6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449-1FFD-40A2-AA28-F93B00DE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6C85-8159-480C-B8E1-456B87FA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31E-CA30-41A1-977F-0C1210E4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79A-1177-4F54-90B2-95A6D3BA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0E7F-BD0A-48FE-B4D2-0684110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53B-7BD3-468F-9E78-553EDE2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84D-A39A-4DED-AAD6-F08C846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BE1-5362-44DB-868D-4875C63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E4E-3734-480C-9E4B-ACC1A61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598F-B98E-4F56-8C15-826E704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453-799D-4032-A0B0-2A4BB4D4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5A6-BE76-4272-9421-BCEA7E11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C7CF-5849-4341-8E33-1086D434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A155-DEA3-4CFF-942B-A84C0862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7E64-6385-4204-96A3-E0109B2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9C93-650A-4934-B010-9D41237F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B6CF-F693-4C3D-9A0C-06BA4043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F3B7-64E9-4B60-AA8B-80A83C1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942-B91B-4A32-A157-91868E94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AD36-DC08-4EC3-AFA8-9BAE327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9E55-5509-4634-8BF9-CAD0D90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6F8B-44B2-4ECC-95E6-B0F89B8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DB2D-73A1-4EE6-8A6C-1087D740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EB97-C35E-4F70-A616-E611E76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4464-A13C-4317-82BA-55AD30A3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39C0-E695-4071-A252-5A5EBD52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AC8-55EB-41E4-9412-FCA8B889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21C-8452-432C-8425-55A176B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A28-A4BC-4C7C-97BC-5C0EB3A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BF0-E6E7-4B53-9EDB-0F242AB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BE5-81AA-43AA-8400-CD53282D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5AB-B30D-4C65-8BEB-76B77A0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2B4C-2641-47CB-AF9D-B5F4577C0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6133-CEA0-42DB-A87E-39006D41C3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2D6E-BE1A-4880-9035-41D630C46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0,5,&#24187;&#28783;&#29255; 5" TargetMode="External"/><Relationship Id="rId6" Type="http://schemas.openxmlformats.org/officeDocument/2006/relationships/hyperlink" Target="260,5,&#24187;&#28783;&#29255; 5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86,8,&#34453;&#30340;&#22836;&#37096;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60,15,&#24187;&#28783;&#29255; 15" TargetMode="External"/><Relationship Id="rId2" Type="http://schemas.openxmlformats.org/officeDocument/2006/relationships/hyperlink" Target="261,11,&#24187;&#28783;&#29255; 11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5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258,3,&#24187;&#28783;&#29255; 3" TargetMode="External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523880" y="1676520"/>
            <a:ext cx="64008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蚕的生长变化课件</a:t>
            </a:r>
            <a:r>
              <a:rPr b="1" lang="en-US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免费下载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经一日左右，蚕体开始蠕动收缩，并从头部的后面的裂口中爬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2325600" y="1593720"/>
            <a:ext cx="44928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32000" y="692280"/>
            <a:ext cx="59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蜕下来的皮是米黄色的、薄薄的，皱缩成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52908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332000" y="692280"/>
            <a:ext cx="59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蜕皮以后一段时间内，蚕一动不动，直到皮肤硬化以后才开始吃桑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1778040" y="2430360"/>
            <a:ext cx="5607000" cy="411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3049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蚕体是长圆筒形，由头、胸、腹三个明显体段构成 ，青白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301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80880" y="4724280"/>
            <a:ext cx="360" cy="914400"/>
            <a:chOff x="380880" y="4724280"/>
            <a:chExt cx="360" cy="914400"/>
          </a:xfrm>
        </p:grpSpPr>
        <p:sp>
          <p:nvSpPr>
            <p:cNvPr id="172" name="Line 8"/>
            <p:cNvSpPr/>
            <p:nvPr/>
          </p:nvSpPr>
          <p:spPr>
            <a:xfrm>
              <a:off x="380880" y="4724280"/>
              <a:ext cx="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80880" y="47242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9"/>
          <p:cNvSpPr/>
          <p:nvPr/>
        </p:nvSpPr>
        <p:spPr>
          <a:xfrm>
            <a:off x="152280" y="5638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04920" y="2286000"/>
            <a:ext cx="1676160" cy="2819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5029200"/>
            <a:ext cx="360" cy="914400"/>
            <a:chOff x="1371600" y="5029200"/>
            <a:chExt cx="360" cy="914400"/>
          </a:xfrm>
        </p:grpSpPr>
        <p:sp>
          <p:nvSpPr>
            <p:cNvPr id="177" name="Line 11"/>
            <p:cNvSpPr/>
            <p:nvPr/>
          </p:nvSpPr>
          <p:spPr>
            <a:xfrm>
              <a:off x="1371600" y="5029200"/>
              <a:ext cx="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371600" y="502920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2"/>
          <p:cNvSpPr/>
          <p:nvPr/>
        </p:nvSpPr>
        <p:spPr>
          <a:xfrm>
            <a:off x="914400" y="60199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胸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438280" y="1905120"/>
            <a:ext cx="6477120" cy="3429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172200" y="5334120"/>
            <a:ext cx="360" cy="609480"/>
            <a:chOff x="6172200" y="5334120"/>
            <a:chExt cx="360" cy="609480"/>
          </a:xfrm>
        </p:grpSpPr>
        <p:sp>
          <p:nvSpPr>
            <p:cNvPr id="182" name="Line 14"/>
            <p:cNvSpPr/>
            <p:nvPr/>
          </p:nvSpPr>
          <p:spPr>
            <a:xfrm>
              <a:off x="6172200" y="5334120"/>
              <a:ext cx="0" cy="60948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172200" y="53341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5"/>
          <p:cNvSpPr/>
          <p:nvPr/>
        </p:nvSpPr>
        <p:spPr>
          <a:xfrm>
            <a:off x="5791320" y="60199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腹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47920" y="4876920"/>
            <a:ext cx="685800" cy="761760"/>
            <a:chOff x="1447920" y="4876920"/>
            <a:chExt cx="685800" cy="761760"/>
          </a:xfrm>
        </p:grpSpPr>
        <p:sp>
          <p:nvSpPr>
            <p:cNvPr id="186" name="Line 17"/>
            <p:cNvSpPr/>
            <p:nvPr/>
          </p:nvSpPr>
          <p:spPr>
            <a:xfrm>
              <a:off x="1447920" y="4876920"/>
              <a:ext cx="685800" cy="76176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447920" y="4876920"/>
              <a:ext cx="68580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9880" y="4952880"/>
            <a:ext cx="76320" cy="914400"/>
            <a:chOff x="3809880" y="4952880"/>
            <a:chExt cx="76320" cy="914400"/>
          </a:xfrm>
        </p:grpSpPr>
        <p:sp>
          <p:nvSpPr>
            <p:cNvPr id="189" name="Line 18"/>
            <p:cNvSpPr/>
            <p:nvPr/>
          </p:nvSpPr>
          <p:spPr>
            <a:xfrm>
              <a:off x="3809880" y="4952880"/>
              <a:ext cx="76320" cy="9144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809880" y="4952880"/>
              <a:ext cx="76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9"/>
          <p:cNvSpPr/>
          <p:nvPr/>
        </p:nvSpPr>
        <p:spPr>
          <a:xfrm>
            <a:off x="1905120" y="56386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352680" y="571500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腹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458200" y="4648320"/>
            <a:ext cx="360" cy="1447560"/>
            <a:chOff x="8458200" y="4648320"/>
            <a:chExt cx="360" cy="1447560"/>
          </a:xfrm>
        </p:grpSpPr>
        <p:sp>
          <p:nvSpPr>
            <p:cNvPr id="194" name="Line 21"/>
            <p:cNvSpPr/>
            <p:nvPr/>
          </p:nvSpPr>
          <p:spPr>
            <a:xfrm>
              <a:off x="8458200" y="4648320"/>
              <a:ext cx="0" cy="144756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8458200" y="46483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2"/>
          <p:cNvSpPr/>
          <p:nvPr/>
        </p:nvSpPr>
        <p:spPr>
          <a:xfrm>
            <a:off x="7848720" y="60958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尾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5800" y="533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头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较小，位于蚕体的最前方，呈扁圆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580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如何吃桑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09480" y="5105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若蚕的口器和蚊子的口器一样，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332000" y="4581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咀嚼式口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16282036721"/>
          <p:cNvPicPr/>
          <p:nvPr/>
        </p:nvPicPr>
        <p:blipFill>
          <a:blip r:embed="rId1"/>
          <a:stretch/>
        </p:blipFill>
        <p:spPr>
          <a:xfrm>
            <a:off x="4876920" y="2057400"/>
            <a:ext cx="3276360" cy="2168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5410080" y="4343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吸式口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200831422455814758[1]"/>
          <p:cNvPicPr/>
          <p:nvPr/>
        </p:nvPicPr>
        <p:blipFill>
          <a:blip r:embed="rId2"/>
          <a:stretch/>
        </p:blipFill>
        <p:spPr>
          <a:xfrm>
            <a:off x="1116000" y="1773360"/>
            <a:ext cx="2879640" cy="2724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9"/>
          <p:cNvSpPr/>
          <p:nvPr/>
        </p:nvSpPr>
        <p:spPr>
          <a:xfrm>
            <a:off x="7093080" y="6165720"/>
            <a:ext cx="647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3016"/>
          <p:cNvPicPr/>
          <p:nvPr/>
        </p:nvPicPr>
        <p:blipFill>
          <a:blip r:embed="rId1"/>
          <a:stretch/>
        </p:blipFill>
        <p:spPr>
          <a:xfrm>
            <a:off x="4788000" y="321300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6659640" y="602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5640" y="333360"/>
            <a:ext cx="746748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由三个环节组成 。每一胸节的腹面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胸足共三对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胸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557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050920" y="155736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协助口器把持桑叶取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吐丝时用于结茧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对爬行仅起辅助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xiongzu"/>
          <p:cNvPicPr/>
          <p:nvPr/>
        </p:nvPicPr>
        <p:blipFill>
          <a:blip r:embed="rId2"/>
          <a:stretch/>
        </p:blipFill>
        <p:spPr>
          <a:xfrm>
            <a:off x="1332000" y="2852640"/>
            <a:ext cx="3254400" cy="3889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817236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19112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191120" y="1295280"/>
            <a:ext cx="4724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环节组成 ，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各节各生有一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腹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腹足为蚕的运动器官，使身体前行。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有一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尾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用来夹持物体。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足，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背后面生有一个尖形肉质突起，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尾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胸部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和腹部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两侧各生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黑点，这些小黑点有什么作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318924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971640" y="2346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94920" y="2993760"/>
            <a:ext cx="864000" cy="1152360"/>
            <a:chOff x="394920" y="2993760"/>
            <a:chExt cx="864000" cy="1152360"/>
          </a:xfrm>
        </p:grpSpPr>
        <p:sp>
          <p:nvSpPr>
            <p:cNvPr id="217" name="Line 6"/>
            <p:cNvSpPr/>
            <p:nvPr/>
          </p:nvSpPr>
          <p:spPr>
            <a:xfrm flipV="1">
              <a:off x="395280" y="2993760"/>
              <a:ext cx="863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394920" y="2993760"/>
              <a:ext cx="863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42840" y="3065400"/>
            <a:ext cx="173520" cy="1571760"/>
            <a:chOff x="2742840" y="3065400"/>
            <a:chExt cx="173520" cy="1571760"/>
          </a:xfrm>
        </p:grpSpPr>
        <p:sp>
          <p:nvSpPr>
            <p:cNvPr id="220" name="Line 7"/>
            <p:cNvSpPr/>
            <p:nvPr/>
          </p:nvSpPr>
          <p:spPr>
            <a:xfrm flipV="1">
              <a:off x="2743200" y="3065400"/>
              <a:ext cx="173160" cy="157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10800000">
              <a:off x="2742840" y="3065400"/>
              <a:ext cx="173160" cy="15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340000" y="2346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195640" y="6162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03280" y="4867200"/>
            <a:ext cx="720720" cy="1582920"/>
            <a:chOff x="1403280" y="4867200"/>
            <a:chExt cx="720720" cy="1582920"/>
          </a:xfrm>
        </p:grpSpPr>
        <p:sp>
          <p:nvSpPr>
            <p:cNvPr id="225" name="Line 10"/>
            <p:cNvSpPr/>
            <p:nvPr/>
          </p:nvSpPr>
          <p:spPr>
            <a:xfrm>
              <a:off x="1403280" y="4867200"/>
              <a:ext cx="720720" cy="158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403280" y="4867200"/>
              <a:ext cx="720720" cy="158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1"/>
          <p:cNvSpPr/>
          <p:nvPr/>
        </p:nvSpPr>
        <p:spPr>
          <a:xfrm>
            <a:off x="755640" y="6162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5010120"/>
            <a:ext cx="504720" cy="1224000"/>
            <a:chOff x="250920" y="5010120"/>
            <a:chExt cx="504720" cy="1224000"/>
          </a:xfrm>
        </p:grpSpPr>
        <p:sp>
          <p:nvSpPr>
            <p:cNvPr id="229" name="Line 12"/>
            <p:cNvSpPr/>
            <p:nvPr/>
          </p:nvSpPr>
          <p:spPr>
            <a:xfrm>
              <a:off x="250920" y="5010120"/>
              <a:ext cx="504720" cy="1224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50920" y="5010120"/>
              <a:ext cx="5047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3"/>
          <p:cNvSpPr/>
          <p:nvPr/>
        </p:nvSpPr>
        <p:spPr>
          <a:xfrm>
            <a:off x="8172360" y="6237360"/>
            <a:ext cx="64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4"/>
          <p:cNvGrpSpPr/>
          <p:nvPr/>
        </p:nvGrpSpPr>
        <p:grpSpPr>
          <a:xfrm>
            <a:off x="395280" y="0"/>
            <a:ext cx="3239640" cy="2160720"/>
            <a:chOff x="395280" y="0"/>
            <a:chExt cx="3239640" cy="2160720"/>
          </a:xfrm>
        </p:grpSpPr>
        <p:pic>
          <p:nvPicPr>
            <p:cNvPr id="233" name="Picture 15" descr="DSCN0994"/>
            <p:cNvPicPr/>
            <p:nvPr/>
          </p:nvPicPr>
          <p:blipFill>
            <a:blip r:embed="rId2"/>
            <a:stretch/>
          </p:blipFill>
          <p:spPr>
            <a:xfrm>
              <a:off x="400680" y="0"/>
              <a:ext cx="323424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6" descr="BPIC0072"/>
            <p:cNvPicPr/>
            <p:nvPr/>
          </p:nvPicPr>
          <p:blipFill>
            <a:blip r:embed="rId3"/>
            <a:stretch/>
          </p:blipFill>
          <p:spPr>
            <a:xfrm>
              <a:off x="395280" y="965520"/>
              <a:ext cx="318744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7"/>
            <p:cNvSpPr/>
            <p:nvPr/>
          </p:nvSpPr>
          <p:spPr>
            <a:xfrm>
              <a:off x="400680" y="1946520"/>
              <a:ext cx="323424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蚕的腹足及其钩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l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身体两侧共有几对小黑点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在什么部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9840" y="450828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呼吸器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身体两侧的小黑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气门和蚕体内的气管相连，是体内外气体交换的进出口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372360" y="33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51280" y="90792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胸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，腹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14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900000" y="3068640"/>
            <a:ext cx="4176720" cy="936720"/>
            <a:chOff x="900000" y="3068640"/>
            <a:chExt cx="4176720" cy="936720"/>
          </a:xfrm>
        </p:grpSpPr>
        <p:sp>
          <p:nvSpPr>
            <p:cNvPr id="242" name="Line 7"/>
            <p:cNvSpPr/>
            <p:nvPr/>
          </p:nvSpPr>
          <p:spPr>
            <a:xfrm>
              <a:off x="900000" y="3068640"/>
              <a:ext cx="4176720" cy="93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900000" y="3068640"/>
              <a:ext cx="41767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5148360" y="364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82920" y="2637000"/>
            <a:ext cx="1297080" cy="1008000"/>
            <a:chOff x="4282920" y="2637000"/>
            <a:chExt cx="1297080" cy="1008000"/>
          </a:xfrm>
        </p:grpSpPr>
        <p:sp>
          <p:nvSpPr>
            <p:cNvPr id="246" name="Line 9"/>
            <p:cNvSpPr/>
            <p:nvPr/>
          </p:nvSpPr>
          <p:spPr>
            <a:xfrm>
              <a:off x="4282920" y="2637000"/>
              <a:ext cx="129708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282920" y="2637000"/>
              <a:ext cx="129708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0920" y="981000"/>
            <a:ext cx="86421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外形：白色，呈圆筒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较小，呈扁圆形，位于蚕体的最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胸：是头部后面的三个环节，每个环节腹面长有一对足，称为胸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腹：胸部后面的十个环节。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各有一对腹足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腹足因为在尾部，因此也叫尾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4046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科学知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的头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07410214814597"/>
          <p:cNvPicPr/>
          <p:nvPr/>
        </p:nvPicPr>
        <p:blipFill>
          <a:blip r:embed="rId1"/>
          <a:stretch/>
        </p:blipFill>
        <p:spPr>
          <a:xfrm>
            <a:off x="0" y="1125360"/>
            <a:ext cx="867564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☆</a:t>
            </a:r>
            <a:r>
              <a:rPr b="0" lang="zh-TW" sz="3200" spc="-1" strike="noStrike">
                <a:solidFill>
                  <a:srgbClr val="000099"/>
                </a:solidFill>
                <a:latin typeface="PMingLiU"/>
                <a:ea typeface="楷体_GB2312"/>
              </a:rPr>
              <a:t>   </a:t>
            </a:r>
            <a:r>
              <a:rPr b="0" lang="zh-TW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蚕</a:t>
            </a:r>
            <a:r>
              <a:rPr b="0" lang="zh-TW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蛻皮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宝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吃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抬得高高的時候，叫做「眠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蚕「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」后，蚕开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头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尾</a:t>
            </a:r>
            <a:r>
              <a:rPr b="0" lang="zh-TW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「蛻皮」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宝宝时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，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龄蚕总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</a:t>
            </a:r>
            <a:r>
              <a:rPr b="0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蛻皮四次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image006"/>
          <p:cNvPicPr/>
          <p:nvPr/>
        </p:nvPicPr>
        <p:blipFill>
          <a:blip r:embed="rId1"/>
          <a:stretch/>
        </p:blipFill>
        <p:spPr>
          <a:xfrm>
            <a:off x="1908000" y="4129200"/>
            <a:ext cx="2133720" cy="199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image008"/>
          <p:cNvPicPr/>
          <p:nvPr/>
        </p:nvPicPr>
        <p:blipFill>
          <a:blip r:embed="rId2"/>
          <a:stretch/>
        </p:blipFill>
        <p:spPr>
          <a:xfrm>
            <a:off x="5335560" y="4221000"/>
            <a:ext cx="156528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045880" y="60775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中的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</a:t>
            </a: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顏色也改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</a:t>
            </a: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425560" y="60714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蛻下的皮和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头骨</a:t>
            </a: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蚕是怎么吃桑叶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胸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足能够把持桑叶帮助进食，腹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足能够使身体前进，腹部最后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尾足可以和腹足附着在物体上，使身体的前半部分抬起来，进行各种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8199"/>
          <p:cNvSpPr/>
          <p:nvPr/>
        </p:nvSpPr>
        <p:spPr>
          <a:xfrm>
            <a:off x="860400" y="424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_t2-1479-2a272_w200h259"/>
          <p:cNvPicPr/>
          <p:nvPr/>
        </p:nvPicPr>
        <p:blipFill>
          <a:blip r:embed="rId1"/>
          <a:stretch/>
        </p:blipFill>
        <p:spPr>
          <a:xfrm>
            <a:off x="0" y="1773360"/>
            <a:ext cx="2502000" cy="3240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4"/>
          <p:cNvSpPr txBox="1"/>
          <p:nvPr/>
        </p:nvSpPr>
        <p:spPr>
          <a:xfrm>
            <a:off x="2700360" y="2276640"/>
            <a:ext cx="4840200" cy="21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蚕　的　一　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967120" y="4979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708000" y="486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蚕宝宝还会怎么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51230101730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教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关内容</a:t>
            </a:r>
            <a:r>
              <a:rPr b="0" lang="zh-CN" sz="4800" spc="-1" strike="noStrike">
                <a:solidFill>
                  <a:srgbClr val="a50021"/>
                </a:solidFill>
                <a:latin typeface="Arial"/>
              </a:rPr>
              <a:t>猜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520" y="18284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为什么蚕开始不怎么吃叶子了，身体也发黄发亮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990720" y="3657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990720" y="2819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准备吐丝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33520" y="37339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蚕吐丝前，蚕农应该做些什么准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914400" y="44956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蚕吐丝前，应该为它搭个小架子，或用纸做些小格子，以便它在那里结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404640"/>
            <a:ext cx="3745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吐丝结茧了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1300000164151122182206547853[1]"/>
          <p:cNvPicPr/>
          <p:nvPr/>
        </p:nvPicPr>
        <p:blipFill>
          <a:blip r:embed="rId1"/>
          <a:stretch/>
        </p:blipFill>
        <p:spPr>
          <a:xfrm>
            <a:off x="4427640" y="1197000"/>
            <a:ext cx="4392360" cy="3294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1091520" y="112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症状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62080" y="1633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身体变黄变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941480" y="2133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皮肤紧绷、缩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176480" y="263700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不爱吃桑叶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353240" y="32130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排出的粪便由硬变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由墨绿色变成叶绿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884600" y="414972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蚕体头胸部昂起，口吐丝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左右上下摆动寻找营茧场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57200" y="1066680"/>
            <a:ext cx="838836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胸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节组成，最下端有黑褐色钩爪，作用是把持桑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腹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是柔软无节的肉质突起，先端圆盘状，内缘密生黑褐色钩爪，作用是使身体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身体两侧的小黑点：是气门，呼吸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：呈波浪式重复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吐丝前的蚕：不吃桑叶，身体发黄发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吐丝后的蚕：身体变小，藏在茧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吐丝：身体运动，头来回晃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50920" y="4269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科学知识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3014"/>
          <p:cNvPicPr/>
          <p:nvPr/>
        </p:nvPicPr>
        <p:blipFill>
          <a:blip r:embed="rId1"/>
          <a:stretch/>
        </p:blipFill>
        <p:spPr>
          <a:xfrm>
            <a:off x="3962520" y="3124080"/>
            <a:ext cx="2614320" cy="3124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3016"/>
          <p:cNvPicPr/>
          <p:nvPr/>
        </p:nvPicPr>
        <p:blipFill>
          <a:blip r:embed="rId2"/>
          <a:stretch/>
        </p:blipFill>
        <p:spPr>
          <a:xfrm>
            <a:off x="6581880" y="3124080"/>
            <a:ext cx="2562120" cy="31244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5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762120" y="762120"/>
            <a:ext cx="746748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由三个环节组成 。每一胸节的腹面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胸足共三对胸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62120" y="2209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981080" y="2209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助口器把持桑叶取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3124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114800" y="0"/>
            <a:ext cx="5029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环节组成 ，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节各节各生有一对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足。为蚕的运动器官，使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行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有一对尾足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来夹持物体。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腹足，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后面生有尖形肉质突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尾角。在胸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和腹部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两侧各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黑点是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门，是蚕的呼吸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3020"/>
          <p:cNvPicPr/>
          <p:nvPr/>
        </p:nvPicPr>
        <p:blipFill>
          <a:blip r:embed="rId1"/>
          <a:stretch/>
        </p:blipFill>
        <p:spPr>
          <a:xfrm>
            <a:off x="0" y="0"/>
            <a:ext cx="2971800" cy="1790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838080" y="19810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0" y="27432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83808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3520" y="4038480"/>
            <a:ext cx="380880" cy="2057400"/>
            <a:chOff x="533520" y="4038480"/>
            <a:chExt cx="380880" cy="2057400"/>
          </a:xfrm>
        </p:grpSpPr>
        <p:sp>
          <p:nvSpPr>
            <p:cNvPr id="291" name="Line 11"/>
            <p:cNvSpPr/>
            <p:nvPr/>
          </p:nvSpPr>
          <p:spPr>
            <a:xfrm>
              <a:off x="533520" y="4038480"/>
              <a:ext cx="380880" cy="2057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3520" y="4038480"/>
              <a:ext cx="3808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819520" y="4191120"/>
            <a:ext cx="75960" cy="1752480"/>
            <a:chOff x="2819520" y="4191120"/>
            <a:chExt cx="75960" cy="1752480"/>
          </a:xfrm>
        </p:grpSpPr>
        <p:sp>
          <p:nvSpPr>
            <p:cNvPr id="294" name="Line 12"/>
            <p:cNvSpPr/>
            <p:nvPr/>
          </p:nvSpPr>
          <p:spPr>
            <a:xfrm>
              <a:off x="2819520" y="4191120"/>
              <a:ext cx="75960" cy="1752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2819520" y="4191120"/>
              <a:ext cx="7596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3"/>
          <p:cNvSpPr/>
          <p:nvPr/>
        </p:nvSpPr>
        <p:spPr>
          <a:xfrm>
            <a:off x="2209680" y="5943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蚕身体两侧的小黑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蚕的呼吸器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两侧的小黑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气门和蚕体内的气管相连，是体内外气体交换的进出口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685800" y="4952880"/>
            <a:ext cx="9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研究者做过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28600" y="13716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仅把蚕的头部放入水中，身体留在外面，蚕不会死。相反，如果把蚕的身体放入水中，头部留在外面，蚕就会死掉。这样做比较残忍，不提倡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990720" y="1219320"/>
            <a:ext cx="5616000" cy="4680000"/>
            <a:chOff x="990720" y="1219320"/>
            <a:chExt cx="5616000" cy="4680000"/>
          </a:xfrm>
        </p:grpSpPr>
        <p:pic>
          <p:nvPicPr>
            <p:cNvPr id="302" name="Picture 3" descr="DSCN0994"/>
            <p:cNvPicPr/>
            <p:nvPr/>
          </p:nvPicPr>
          <p:blipFill>
            <a:blip r:embed="rId1"/>
            <a:stretch/>
          </p:blipFill>
          <p:spPr>
            <a:xfrm>
              <a:off x="1000440" y="1219320"/>
              <a:ext cx="5606280" cy="205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BPIC0072"/>
            <p:cNvPicPr/>
            <p:nvPr/>
          </p:nvPicPr>
          <p:blipFill>
            <a:blip r:embed="rId2"/>
            <a:stretch/>
          </p:blipFill>
          <p:spPr>
            <a:xfrm>
              <a:off x="990720" y="3310560"/>
              <a:ext cx="552528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5"/>
            <p:cNvSpPr/>
            <p:nvPr/>
          </p:nvSpPr>
          <p:spPr>
            <a:xfrm>
              <a:off x="1000440" y="5435280"/>
              <a:ext cx="560628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蚕的腹足及其钩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6"/>
          <p:cNvSpPr/>
          <p:nvPr/>
        </p:nvSpPr>
        <p:spPr>
          <a:xfrm>
            <a:off x="7328520" y="1557360"/>
            <a:ext cx="11552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的腹足及其钩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4516515661"/>
          <p:cNvPicPr/>
          <p:nvPr/>
        </p:nvPicPr>
        <p:blipFill>
          <a:blip r:embed="rId1"/>
          <a:stretch/>
        </p:blipFill>
        <p:spPr>
          <a:xfrm>
            <a:off x="2209680" y="1351080"/>
            <a:ext cx="4392720" cy="3328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042920" y="508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宝宝每蜕皮一次就会长长一些，长一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228600" y="1143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熟的蚕食欲下降，前部消化器官空虚，胸部呈透明状；继而完全停食，体躯缩短，腹部也趋向透明，蚕体头胸部昂起，口吐丝缕，左右上下摆动寻找营蚕场所。吐丝后，观察到蚕身体变小，潜伏在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438280" cy="2328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2971800" y="3965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宝宝用腹足抓住眠的场所，抬起身体的前半部分静止不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还会长成什么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000" y="332280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蜕皮四次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成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五龄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般经过五到八天，它就会表现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老熟的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食欲减退，胸部呈透明状，随后完全停食，腹部也趋向透明，蚕体头部昂起，口吐丝缕，左右上下摆动寻找结茧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1700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成为五龄蚕后，蚕将很快表现出熟蚕的哪些特征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蚕吐丝结茧做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就要吐丝了，我们应该为它准备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55640" y="328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蚕准备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吐丝的场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用稻草扎小架子、用纸做圆筒或格子房。一旦发现蚕成熟了，就可以把它放在格子房或架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S </a:t>
            </a:r>
            <a:r>
              <a:rPr b="1" lang="zh-TW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型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及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8 </a:t>
            </a:r>
            <a:r>
              <a:rPr b="1" lang="zh-TW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字型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式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丝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bbts"/>
          <p:cNvPicPr/>
          <p:nvPr/>
        </p:nvPicPr>
        <p:blipFill>
          <a:blip r:embed="rId1"/>
          <a:stretch/>
        </p:blipFill>
        <p:spPr>
          <a:xfrm>
            <a:off x="2627280" y="2286000"/>
            <a:ext cx="424836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4516453531"/>
          <p:cNvPicPr/>
          <p:nvPr/>
        </p:nvPicPr>
        <p:blipFill>
          <a:blip r:embed="rId1"/>
          <a:stretch/>
        </p:blipFill>
        <p:spPr>
          <a:xfrm>
            <a:off x="4788000" y="950760"/>
            <a:ext cx="2952720" cy="2237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451645353"/>
          <p:cNvPicPr/>
          <p:nvPr/>
        </p:nvPicPr>
        <p:blipFill>
          <a:blip r:embed="rId2"/>
          <a:stretch/>
        </p:blipFill>
        <p:spPr>
          <a:xfrm>
            <a:off x="1547640" y="879480"/>
            <a:ext cx="3024360" cy="2290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03280" y="3429000"/>
            <a:ext cx="8136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五龄蚕移入纸做成的方格中时， 蚕就开吐丝，大约经两昼夜就完成了。一只蚕所吐的丝，其长度可达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至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15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451645355"/>
          <p:cNvPicPr/>
          <p:nvPr/>
        </p:nvPicPr>
        <p:blipFill>
          <a:blip r:embed="rId1"/>
          <a:stretch/>
        </p:blipFill>
        <p:spPr>
          <a:xfrm>
            <a:off x="4716360" y="162864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451645356"/>
          <p:cNvPicPr/>
          <p:nvPr/>
        </p:nvPicPr>
        <p:blipFill>
          <a:blip r:embed="rId2"/>
          <a:stretch/>
        </p:blipFill>
        <p:spPr>
          <a:xfrm>
            <a:off x="6948360" y="1628640"/>
            <a:ext cx="1871640" cy="1425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451645353"/>
          <p:cNvPicPr/>
          <p:nvPr/>
        </p:nvPicPr>
        <p:blipFill>
          <a:blip r:embed="rId3"/>
          <a:stretch/>
        </p:blipFill>
        <p:spPr>
          <a:xfrm>
            <a:off x="324000" y="1628640"/>
            <a:ext cx="2016000" cy="1527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45164535311"/>
          <p:cNvPicPr/>
          <p:nvPr/>
        </p:nvPicPr>
        <p:blipFill>
          <a:blip r:embed="rId4"/>
          <a:stretch/>
        </p:blipFill>
        <p:spPr>
          <a:xfrm>
            <a:off x="2484360" y="1628640"/>
            <a:ext cx="2016360" cy="15084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324000" y="327672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始吐丝的五龄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吐丝中的蚕宝宝，最初在方格的周围吐丝，以固定茧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蚕宝宝以八字形吐丝，已略具雏形的蚕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形的蚕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33520" y="8380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食欲下降，躯体发黄发亮，变透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身体运动，头来回晃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吐丝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蚕身体变小，潜伏在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90920" cy="2475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3276720" y="405756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蚕用腹足抓住眠的场所，抬起身体的前半部分静止不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600120" y="31622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蚕花较多时间寻找适合做茧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8199"/>
          <p:cNvSpPr/>
          <p:nvPr/>
        </p:nvSpPr>
        <p:spPr>
          <a:xfrm>
            <a:off x="1351080" y="326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目标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生长过程中，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体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颜色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吃食情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排便、活动等方面都在不断地发生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生长到一定的阶段，会长出新皮，换下旧皮，这叫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蜕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蚕的外形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圆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形，身体分为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）三部分；用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口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吃桑叶，用（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腹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爬行，用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呼吸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蚕身体发黄发亮、不吃食时，它将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吐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809880" y="16002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629400" y="1600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752480" y="304812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124080" y="3429000"/>
            <a:ext cx="1067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7010280" y="34290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743200" y="388620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5867280" y="38862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143000" y="441972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114800" y="43434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7086600" y="48006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发现蚕蜕了几次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一次皮用了多少时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皮前蚕有什么反常的情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蜕皮前和蜕皮后的蚕有什么不一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你的蚕还会蜕皮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蚕为什么要蜕皮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1A8F-667C-4272-93B0-1645DB5B7C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581280" y="1676520"/>
            <a:ext cx="1447920" cy="360"/>
            <a:chOff x="3581280" y="1676520"/>
            <a:chExt cx="1447920" cy="360"/>
          </a:xfrm>
        </p:grpSpPr>
        <p:sp>
          <p:nvSpPr>
            <p:cNvPr id="137" name="Line 6"/>
            <p:cNvSpPr/>
            <p:nvPr/>
          </p:nvSpPr>
          <p:spPr>
            <a:xfrm>
              <a:off x="3581280" y="1676520"/>
              <a:ext cx="144792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581280" y="16765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181480" y="3951360"/>
            <a:ext cx="29718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6477120" y="2743200"/>
            <a:ext cx="360" cy="1143000"/>
            <a:chOff x="6477120" y="2743200"/>
            <a:chExt cx="360" cy="1143000"/>
          </a:xfrm>
        </p:grpSpPr>
        <p:sp>
          <p:nvSpPr>
            <p:cNvPr id="141" name="Line 8"/>
            <p:cNvSpPr/>
            <p:nvPr/>
          </p:nvSpPr>
          <p:spPr>
            <a:xfrm>
              <a:off x="6477120" y="2743200"/>
              <a:ext cx="0" cy="114300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6477120" y="274320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609480" y="3975120"/>
            <a:ext cx="28195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428640" y="4723920"/>
            <a:ext cx="1676520" cy="360"/>
            <a:chOff x="3428640" y="4723920"/>
            <a:chExt cx="1676520" cy="360"/>
          </a:xfrm>
        </p:grpSpPr>
        <p:sp>
          <p:nvSpPr>
            <p:cNvPr id="145" name="Line 10"/>
            <p:cNvSpPr/>
            <p:nvPr/>
          </p:nvSpPr>
          <p:spPr>
            <a:xfrm flipH="1">
              <a:off x="3428640" y="4724280"/>
              <a:ext cx="167652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3428640" y="47239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1" descr="L011[1]"/>
          <p:cNvPicPr/>
          <p:nvPr/>
        </p:nvPicPr>
        <p:blipFill>
          <a:blip r:embed="rId4"/>
          <a:stretch/>
        </p:blipFill>
        <p:spPr>
          <a:xfrm>
            <a:off x="5105520" y="457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L010"/>
          <p:cNvPicPr/>
          <p:nvPr/>
        </p:nvPicPr>
        <p:blipFill>
          <a:blip r:embed="rId5"/>
          <a:stretch/>
        </p:blipFill>
        <p:spPr>
          <a:xfrm>
            <a:off x="457200" y="457200"/>
            <a:ext cx="3048120" cy="2271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0"/>
          <a:ext cx="9144000" cy="5867280"/>
        </p:xfrm>
        <a:graphic>
          <a:graphicData uri="http://schemas.openxmlformats.org/drawingml/2006/table">
            <a:tbl>
              <a:tblPr/>
              <a:tblGrid>
                <a:gridCol w="1828800"/>
                <a:gridCol w="1752480"/>
                <a:gridCol w="1905120"/>
                <a:gridCol w="1905120"/>
                <a:gridCol w="1752480"/>
              </a:tblGrid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40"/>
          <p:cNvSpPr/>
          <p:nvPr/>
        </p:nvSpPr>
        <p:spPr>
          <a:xfrm>
            <a:off x="18288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形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50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   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7315200" y="304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    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380880" y="121932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53352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457200" y="373392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304920" y="502920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蚕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0" y="601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共记多少天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190512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椭圆形，紫黑色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3962520" y="1219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943600" y="1219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1752480" y="205740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筒形，有环节，青白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7120" y="1066680"/>
            <a:ext cx="1676880" cy="990720"/>
            <a:chOff x="7467120" y="1066680"/>
            <a:chExt cx="1676880" cy="990720"/>
          </a:xfrm>
        </p:grpSpPr>
        <p:sp>
          <p:nvSpPr>
            <p:cNvPr id="362" name="Line 52"/>
            <p:cNvSpPr/>
            <p:nvPr/>
          </p:nvSpPr>
          <p:spPr>
            <a:xfrm flipV="1">
              <a:off x="7467480" y="1066680"/>
              <a:ext cx="1676520" cy="9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7467120" y="1066320"/>
              <a:ext cx="16765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53"/>
          <p:cNvSpPr/>
          <p:nvPr/>
        </p:nvSpPr>
        <p:spPr>
          <a:xfrm>
            <a:off x="396252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563868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吃桑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754380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167652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纺锤形、褐色、有环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4343400" y="6019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8"/>
          <p:cNvSpPr/>
          <p:nvPr/>
        </p:nvSpPr>
        <p:spPr>
          <a:xfrm>
            <a:off x="586728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9"/>
          <p:cNvSpPr/>
          <p:nvPr/>
        </p:nvSpPr>
        <p:spPr>
          <a:xfrm>
            <a:off x="74674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0"/>
          <p:cNvSpPr/>
          <p:nvPr/>
        </p:nvSpPr>
        <p:spPr>
          <a:xfrm>
            <a:off x="3733920" y="3505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受刺激才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1"/>
          <p:cNvSpPr/>
          <p:nvPr/>
        </p:nvSpPr>
        <p:spPr>
          <a:xfrm>
            <a:off x="3505320" y="4800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会飞，但会振动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2"/>
          <p:cNvSpPr/>
          <p:nvPr/>
        </p:nvSpPr>
        <p:spPr>
          <a:xfrm>
            <a:off x="5867280" y="4952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不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3"/>
          <p:cNvSpPr/>
          <p:nvPr/>
        </p:nvSpPr>
        <p:spPr>
          <a:xfrm>
            <a:off x="769608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5867280"/>
          <a:ext cx="9144000" cy="990720"/>
        </p:xfrm>
        <a:graphic>
          <a:graphicData uri="http://schemas.openxmlformats.org/drawingml/2006/table">
            <a:tbl>
              <a:tblPr/>
              <a:tblGrid>
                <a:gridCol w="1828800"/>
                <a:gridCol w="7315200"/>
              </a:tblGrid>
              <a:tr h="99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72"/>
          <p:cNvSpPr/>
          <p:nvPr/>
        </p:nvSpPr>
        <p:spPr>
          <a:xfrm>
            <a:off x="182880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白色，分头、胸、 腹三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73"/>
          <p:cNvSpPr/>
          <p:nvPr/>
        </p:nvSpPr>
        <p:spPr>
          <a:xfrm>
            <a:off x="3581280" y="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4"/>
          <p:cNvSpPr/>
          <p:nvPr/>
        </p:nvSpPr>
        <p:spPr>
          <a:xfrm>
            <a:off x="38098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    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蚕生长到一定的阶段，会长出新皮，换下旧皮，这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蜕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蚕蜕皮是因为蚕的身体要长大了，表皮限制了身体的生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cd305282e4c4d0f99023d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蚁蚕到吐丝结茧共蜕皮四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蚁蚕摄食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，第一次眠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，依次类推，第四次眠后称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龄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眠期的幼虫不吃不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幼虫发育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龄末期，逐渐停止取食，蚕体收缩，排空消化道，呈透明状，此时叫熟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011[1]"/>
          <p:cNvPicPr/>
          <p:nvPr/>
        </p:nvPicPr>
        <p:blipFill>
          <a:blip r:embed="rId2"/>
          <a:stretch/>
        </p:blipFill>
        <p:spPr>
          <a:xfrm>
            <a:off x="685800" y="1522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37339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7521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在蜕皮过程中，吐出少量的丝，将腹足固定在蚕座上，头胸部昂起，不再运动好象睡着了一样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9"/>
          <p:cNvSpPr/>
          <p:nvPr/>
        </p:nvSpPr>
        <p:spPr>
          <a:xfrm>
            <a:off x="1338120" y="42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new_p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726080" y="4118040"/>
            <a:ext cx="43099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蚕宝宝用腹足抓住眠的场所，抬起身体的前半部分静止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1332000" y="692280"/>
            <a:ext cx="59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经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，在第一胸节上出现灰白色的三角形斑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70160" y="2133720"/>
            <a:ext cx="56167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