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FB9-5596-4F3C-B929-9F522479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65C-4467-4D84-9397-4F396BC0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046-91F2-4FE0-B70F-1F4340CF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E2A-5CCD-444F-818F-558F6527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3F17-3202-4E5E-9898-F004BEAA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F99A-7AB6-4914-8855-E03489B5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2C14-4C1D-448A-8CA6-2275BD5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8B91-F0EA-42D4-877A-BDE4A59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01B9-B2BE-4461-8290-73EC578F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8AD-EA8F-437E-8D86-896E88E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429B-BFDC-493E-A2EA-E2FED22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463-5BF6-4016-8065-676B4A95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A6B2-3C05-4DB6-8148-F835837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151D-C061-444D-80AA-6B19478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687-DCA7-40E3-9731-CA373CA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AA0-4B3C-4026-B20F-3C145A84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21A3-24D5-4C70-B07D-9B6B5D9E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B43-0A09-422A-8E57-12D6320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813-1C1E-4130-BFEB-6331D02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E4E-92C0-4210-B68A-70B540F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B20-EE9E-4B74-A45F-ADA3F7A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2E7-ED27-4113-A0CB-1F4BA30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7C3-101D-4F8B-8361-9E225EC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92F-9618-4A29-BD24-7C9923C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389-C90A-4800-8249-BE4183D5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B2A-C97C-47A4-B674-0D060B9777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38080" y="866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教科版）三年级科学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7"/>
          <p:cNvSpPr txBox="1"/>
          <p:nvPr/>
        </p:nvSpPr>
        <p:spPr>
          <a:xfrm>
            <a:off x="1295280" y="2006640"/>
            <a:ext cx="6934320" cy="19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蚕的生命周期课件</a:t>
            </a:r>
            <a:r>
              <a:rPr b="1" lang="en-US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PPT</a:t>
            </a:r>
            <a:r>
              <a:rPr b="1" lang="zh-CN" sz="1800" spc="-1" strike="noStrike">
                <a:ln w="0">
                  <a:noFill/>
                </a:ln>
                <a:solidFill>
                  <a:srgbClr val="92d050"/>
                </a:solidFill>
                <a:latin typeface="宋体"/>
              </a:rPr>
              <a:t>模板下载</a:t>
            </a:r>
            <a:endParaRPr b="1" lang="en-US" sz="1800" spc="-1" strike="noStrike">
              <a:ln w="0">
                <a:noFill/>
              </a:ln>
              <a:solidFill>
                <a:srgbClr val="92d050"/>
              </a:solidFill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5638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经过一次脱皮后，就是二龄幼虫。她脱一次皮就算增加一岁，共要脱皮四次，成为五龄幼虫才开始吐丝结茧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1749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333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533520" y="586728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dur="indefinite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SC01797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860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时的蚕宝宝快要开始吐丝了，蚕宝宝食欲减退，食桑量下降；蚕体、头、胸部昂起，口吐丝缕，左右上下摆动寻找营茧场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2005629191826341"/>
          <p:cNvPicPr/>
          <p:nvPr/>
        </p:nvPicPr>
        <p:blipFill>
          <a:blip r:embed="rId1"/>
          <a:stretch/>
        </p:blipFill>
        <p:spPr>
          <a:xfrm>
            <a:off x="228600" y="285840"/>
            <a:ext cx="8686800" cy="5352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228600" y="5657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茧衣形成后，茧腔逐渐变小，蚕体前后两端向背方弯曲，成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型，蚕继续吐出茧丝，吐丝方式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形改变成∞形，这就开始了结茧层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56383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蚕上蔟结茧后经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左右，就会变成蛹。蚕蛹的体形像一个纺棰，分头、胸、腹三个体段。 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DSC01829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SC01831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85840" y="5791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哇！这只超级蚕茧，很漂亮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SC01966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蚕蜕的最后一次皮，和蚕蛹变成飞蛾后的蛹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SC01968"/>
          <p:cNvPicPr/>
          <p:nvPr/>
        </p:nvPicPr>
        <p:blipFill>
          <a:blip r:embed="rId1"/>
          <a:stretch/>
        </p:blipFill>
        <p:spPr>
          <a:xfrm>
            <a:off x="484200" y="228600"/>
            <a:ext cx="8534520" cy="5638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84200" y="601992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只蛹壳更漂亮吧，一个非常完整、丝毫未损的蛹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DSC01964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04920" y="5888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两只空茧子，飞蛾破茧而出后留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199"/>
          <p:cNvSpPr/>
          <p:nvPr/>
        </p:nvSpPr>
        <p:spPr>
          <a:xfrm>
            <a:off x="122220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in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蚕宝宝破茧而出约十天后，羽化成为蚕蛾，雌蛾尾部发出一种气味引诱雄蛾来交尾，交尾后雄蛾慢慢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SC01971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IMG_038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79520" y="6316560"/>
            <a:ext cx="706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09480" y="5257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蚕蛾的形状像蝴蝶，全身披着白色鳞毛，但由于两对翅较小，已失去飞翔能力。蚕蛾的头部呈小球状，长有鼓起的复眼和触角；胸部长有一对胸足及两对翅；腹部已无腹足，末端体节演化为外生殖器。雌蛾体大，爬动慢；雄蛾体小，爬动较快，翅膀飞快地振动，寻找着配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0" descr="新建 BMP 图像"/>
          <p:cNvPicPr/>
          <p:nvPr/>
        </p:nvPicPr>
        <p:blipFill>
          <a:blip r:embed="rId1"/>
          <a:stretch/>
        </p:blipFill>
        <p:spPr>
          <a:xfrm>
            <a:off x="547560" y="411120"/>
            <a:ext cx="8034480" cy="6015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5760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蚕的一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533520" y="2270160"/>
            <a:ext cx="2743200" cy="23781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3019320" y="4054320"/>
            <a:ext cx="2828880" cy="23623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5791320" y="2220840"/>
            <a:ext cx="2819160" cy="2367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2971800" y="561960"/>
            <a:ext cx="2816280" cy="2349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715000" y="5486400"/>
            <a:ext cx="31240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蛾→蚕卵→孵蚕→变蛹→化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反复完成新一代的循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就是蚕的生活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84A-7372-4DFA-918F-DBF967CB0C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520" y="6240600"/>
            <a:ext cx="767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92040" y="5562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交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后，雌蛾就可产下受精卵。交尾后雄即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雌蛾约花一个晚上可产下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----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然后也会慢慢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u=3822081310,1077483419&amp;gp=-34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1818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>
            <a:hlinkClick r:id="" action="ppaction://hlinkshowjump?jump=lastslide"/>
          </p:cNvPr>
          <p:cNvSpPr/>
          <p:nvPr/>
        </p:nvSpPr>
        <p:spPr>
          <a:xfrm>
            <a:off x="8389800" y="6400800"/>
            <a:ext cx="754200" cy="457200"/>
          </a:xfrm>
          <a:custGeom>
            <a:avLst/>
            <a:gdLst>
              <a:gd name="textAreaLeft" fmla="*/ 29520 w 754200"/>
              <a:gd name="textAreaRight" fmla="*/ 724680 w 754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620" h="21600">
                <a:moveTo>
                  <a:pt x="0" y="0"/>
                </a:moveTo>
                <a:lnTo>
                  <a:pt x="35620" y="0"/>
                </a:lnTo>
                <a:lnTo>
                  <a:pt x="35620" y="21600"/>
                </a:lnTo>
                <a:lnTo>
                  <a:pt x="0" y="21600"/>
                </a:lnTo>
                <a:close/>
              </a:path>
              <a:path fill="lightenLess" w="35620" h="21600">
                <a:moveTo>
                  <a:pt x="0" y="0"/>
                </a:moveTo>
                <a:lnTo>
                  <a:pt x="35620" y="0"/>
                </a:lnTo>
                <a:lnTo>
                  <a:pt x="34220" y="1400"/>
                </a:lnTo>
                <a:lnTo>
                  <a:pt x="1400" y="1400"/>
                </a:lnTo>
                <a:close/>
              </a:path>
              <a:path fill="darken" w="35620" h="21600">
                <a:moveTo>
                  <a:pt x="35620" y="0"/>
                </a:moveTo>
                <a:lnTo>
                  <a:pt x="35620" y="21600"/>
                </a:lnTo>
                <a:lnTo>
                  <a:pt x="34220" y="20200"/>
                </a:lnTo>
                <a:lnTo>
                  <a:pt x="34220" y="1400"/>
                </a:lnTo>
                <a:close/>
              </a:path>
              <a:path fill="darkenLess" w="35620" h="21600">
                <a:moveTo>
                  <a:pt x="35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20" y="20200"/>
                </a:lnTo>
                <a:close/>
              </a:path>
              <a:path fill="lighten" w="35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20" h="21600">
                <a:moveTo>
                  <a:pt x="21309" y="10800"/>
                </a:moveTo>
                <a:lnTo>
                  <a:pt x="10804" y="17806"/>
                </a:lnTo>
                <a:lnTo>
                  <a:pt x="10804" y="3794"/>
                </a:lnTo>
                <a:close/>
              </a:path>
              <a:path fill="darken" w="35620" h="21600">
                <a:moveTo>
                  <a:pt x="23154" y="3794"/>
                </a:moveTo>
                <a:lnTo>
                  <a:pt x="23154" y="17806"/>
                </a:lnTo>
                <a:lnTo>
                  <a:pt x="24817" y="17806"/>
                </a:lnTo>
                <a:lnTo>
                  <a:pt x="2481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SC01609"/>
          <p:cNvPicPr/>
          <p:nvPr/>
        </p:nvPicPr>
        <p:blipFill>
          <a:blip r:embed="rId1"/>
          <a:stretch/>
        </p:blipFill>
        <p:spPr>
          <a:xfrm>
            <a:off x="453960" y="3049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04920" y="5672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53960" y="5856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蚕卵的颜色，刚产下时为淡黄色或黄色，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变为淡赤豆色、赤豆色，再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后又变为灰绿色或紫色，便不再发生变化，称为固定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8288280" y="6400800"/>
            <a:ext cx="855720" cy="457200"/>
          </a:xfrm>
          <a:custGeom>
            <a:avLst/>
            <a:gdLst>
              <a:gd name="textAreaLeft" fmla="*/ 29520 w 855720"/>
              <a:gd name="textAreaRight" fmla="*/ 826200 w 855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0413" h="21600">
                <a:moveTo>
                  <a:pt x="0" y="0"/>
                </a:moveTo>
                <a:lnTo>
                  <a:pt x="40413" y="0"/>
                </a:lnTo>
                <a:lnTo>
                  <a:pt x="40413" y="21600"/>
                </a:lnTo>
                <a:lnTo>
                  <a:pt x="0" y="21600"/>
                </a:lnTo>
                <a:close/>
              </a:path>
              <a:path fill="lightenLess" w="40413" h="21600">
                <a:moveTo>
                  <a:pt x="0" y="0"/>
                </a:moveTo>
                <a:lnTo>
                  <a:pt x="40413" y="0"/>
                </a:lnTo>
                <a:lnTo>
                  <a:pt x="39013" y="1400"/>
                </a:lnTo>
                <a:lnTo>
                  <a:pt x="1400" y="1400"/>
                </a:lnTo>
                <a:close/>
              </a:path>
              <a:path fill="darken" w="40413" h="21600">
                <a:moveTo>
                  <a:pt x="40413" y="0"/>
                </a:moveTo>
                <a:lnTo>
                  <a:pt x="40413" y="21600"/>
                </a:lnTo>
                <a:lnTo>
                  <a:pt x="39013" y="20200"/>
                </a:lnTo>
                <a:lnTo>
                  <a:pt x="39013" y="1400"/>
                </a:lnTo>
                <a:close/>
              </a:path>
              <a:path fill="darkenLess" w="40413" h="21600">
                <a:moveTo>
                  <a:pt x="40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13" y="20200"/>
                </a:lnTo>
                <a:close/>
              </a:path>
              <a:path fill="lighten" w="40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13" h="21600">
                <a:moveTo>
                  <a:pt x="20206" y="3837"/>
                </a:moveTo>
                <a:lnTo>
                  <a:pt x="22783" y="6448"/>
                </a:ln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lnTo>
                  <a:pt x="27169" y="10800"/>
                </a:lnTo>
                <a:lnTo>
                  <a:pt x="25516" y="10800"/>
                </a:lnTo>
                <a:lnTo>
                  <a:pt x="25516" y="17989"/>
                </a:lnTo>
                <a:lnTo>
                  <a:pt x="14897" y="17989"/>
                </a:lnTo>
                <a:lnTo>
                  <a:pt x="14897" y="10800"/>
                </a:lnTo>
                <a:lnTo>
                  <a:pt x="13243" y="10800"/>
                </a:lnTo>
                <a:close/>
              </a:path>
              <a:path fill="darkenLess" w="40413" h="21600">
                <a:moveTo>
                  <a:pt x="22783" y="6448"/>
                </a:moveTo>
                <a:lnTo>
                  <a:pt x="22783" y="4707"/>
                </a:lnTo>
                <a:lnTo>
                  <a:pt x="24558" y="4707"/>
                </a:lnTo>
                <a:lnTo>
                  <a:pt x="24558" y="8224"/>
                </a:lnTo>
                <a:close/>
              </a:path>
              <a:path fill="darkenLess" w="40413" h="21600">
                <a:moveTo>
                  <a:pt x="19284" y="14299"/>
                </a:moveTo>
                <a:lnTo>
                  <a:pt x="21129" y="14299"/>
                </a:lnTo>
                <a:lnTo>
                  <a:pt x="21129" y="17989"/>
                </a:lnTo>
                <a:lnTo>
                  <a:pt x="25516" y="17989"/>
                </a:lnTo>
                <a:lnTo>
                  <a:pt x="25516" y="10800"/>
                </a:lnTo>
                <a:lnTo>
                  <a:pt x="14897" y="10800"/>
                </a:lnTo>
                <a:lnTo>
                  <a:pt x="14897" y="17989"/>
                </a:lnTo>
                <a:lnTo>
                  <a:pt x="1928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00831522255595975"/>
          <p:cNvPicPr/>
          <p:nvPr/>
        </p:nvPicPr>
        <p:blipFill>
          <a:blip r:embed="rId1"/>
          <a:stretch/>
        </p:blipFill>
        <p:spPr>
          <a:xfrm>
            <a:off x="457200" y="295200"/>
            <a:ext cx="807732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457200" y="5257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蚕从蚕卵中孵化出来时，身体的颜色是褐色或赤褐色的，极细小，且多细毛，样子有点象蚂蚁，所以叫蚁蚕。蚁蚕长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体宽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它从卵壳中爬出来后，经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就会进食桑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u=3411940951,1044232239&amp;gp=-44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4724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SC01648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04920" y="5674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从蚁蚕到第一次蜕皮为一龄；眠起后进入二龄；再次蜕皮后进入三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次蜕皮后进入四龄，第四次蜕皮又称大眠。大眠后就进入五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2760" y="551196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表看似静止不动，体内却进行着脱皮的准备，脱去旧皮之后，蚕的生长就进入到一个新的龄期。这就是蚕蜕的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DSC01637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4840" y="5410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蚕宝宝逐渐体现出老熟的特征：先是排出的粪便由硬变软，由墨绿色变成叶绿色；食欲减退，食桑量下降；前部消化管空虚，胸部呈透明状；继而完全停食，体驱缩短，腹部也趋向透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82016416142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8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蚕宝宝以桑叶为生，不断吃桑叶后身体变成白色，一段时间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们便开始脱皮。脱皮时约一天的时间，如睡眠般的不吃也不动，这叫休眠。 </a:t>
            </a:r>
            <a:br>
              <a:rPr sz="2800"/>
            </a:b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SC01704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>
            <a:hlinkClick r:id="" action="ppaction://hlinkshowjump?jump=previousslide"/>
          </p:cNvPr>
          <p:cNvSpPr/>
          <p:nvPr/>
        </p:nvSpPr>
        <p:spPr>
          <a:xfrm>
            <a:off x="0" y="6400800"/>
            <a:ext cx="696960" cy="457200"/>
          </a:xfrm>
          <a:custGeom>
            <a:avLst/>
            <a:gdLst>
              <a:gd name="textAreaLeft" fmla="*/ 29520 w 696960"/>
              <a:gd name="textAreaRight" fmla="*/ 667440 w 696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918" h="21600">
                <a:moveTo>
                  <a:pt x="0" y="0"/>
                </a:moveTo>
                <a:lnTo>
                  <a:pt x="32918" y="0"/>
                </a:lnTo>
                <a:lnTo>
                  <a:pt x="32918" y="21600"/>
                </a:lnTo>
                <a:lnTo>
                  <a:pt x="0" y="21600"/>
                </a:lnTo>
                <a:close/>
              </a:path>
              <a:path fill="lightenLess" w="32918" h="21600">
                <a:moveTo>
                  <a:pt x="0" y="0"/>
                </a:moveTo>
                <a:lnTo>
                  <a:pt x="32918" y="0"/>
                </a:lnTo>
                <a:lnTo>
                  <a:pt x="31518" y="1400"/>
                </a:lnTo>
                <a:lnTo>
                  <a:pt x="1400" y="1400"/>
                </a:lnTo>
                <a:close/>
              </a:path>
              <a:path fill="darken" w="32918" h="21600">
                <a:moveTo>
                  <a:pt x="32918" y="0"/>
                </a:moveTo>
                <a:lnTo>
                  <a:pt x="32918" y="21600"/>
                </a:lnTo>
                <a:lnTo>
                  <a:pt x="31518" y="20200"/>
                </a:lnTo>
                <a:lnTo>
                  <a:pt x="31518" y="1400"/>
                </a:lnTo>
                <a:close/>
              </a:path>
              <a:path fill="darkenLess" w="32918" h="21600">
                <a:moveTo>
                  <a:pt x="32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18" y="20200"/>
                </a:lnTo>
                <a:close/>
              </a:path>
              <a:path fill="lighten" w="32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18" h="21600">
                <a:moveTo>
                  <a:pt x="9453" y="10800"/>
                </a:moveTo>
                <a:lnTo>
                  <a:pt x="23466" y="3794"/>
                </a:lnTo>
                <a:lnTo>
                  <a:pt x="23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" action="ppaction://hlinkshowjump?jump=nextslide"/>
          </p:cNvPr>
          <p:cNvSpPr/>
          <p:nvPr/>
        </p:nvSpPr>
        <p:spPr>
          <a:xfrm>
            <a:off x="8404200" y="6400800"/>
            <a:ext cx="739800" cy="457200"/>
          </a:xfrm>
          <a:custGeom>
            <a:avLst/>
            <a:gdLst>
              <a:gd name="textAreaLeft" fmla="*/ 29520 w 739800"/>
              <a:gd name="textAreaRight" fmla="*/ 710280 w 73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4941" h="21600">
                <a:moveTo>
                  <a:pt x="0" y="0"/>
                </a:moveTo>
                <a:lnTo>
                  <a:pt x="34941" y="0"/>
                </a:lnTo>
                <a:lnTo>
                  <a:pt x="34941" y="21600"/>
                </a:lnTo>
                <a:lnTo>
                  <a:pt x="0" y="21600"/>
                </a:lnTo>
                <a:close/>
              </a:path>
              <a:path fill="lightenLess" w="34941" h="21600">
                <a:moveTo>
                  <a:pt x="0" y="0"/>
                </a:moveTo>
                <a:lnTo>
                  <a:pt x="34941" y="0"/>
                </a:lnTo>
                <a:lnTo>
                  <a:pt x="33541" y="1400"/>
                </a:lnTo>
                <a:lnTo>
                  <a:pt x="1400" y="1400"/>
                </a:lnTo>
                <a:close/>
              </a:path>
              <a:path fill="darken" w="34941" h="21600">
                <a:moveTo>
                  <a:pt x="34941" y="0"/>
                </a:moveTo>
                <a:lnTo>
                  <a:pt x="34941" y="21600"/>
                </a:lnTo>
                <a:lnTo>
                  <a:pt x="33541" y="20200"/>
                </a:lnTo>
                <a:lnTo>
                  <a:pt x="33541" y="1400"/>
                </a:lnTo>
                <a:close/>
              </a:path>
              <a:path fill="darkenLess" w="34941" h="21600">
                <a:moveTo>
                  <a:pt x="3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1" y="20200"/>
                </a:lnTo>
                <a:close/>
              </a:path>
              <a:path fill="lighten" w="3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1" h="21600">
                <a:moveTo>
                  <a:pt x="10464" y="3794"/>
                </a:moveTo>
                <a:lnTo>
                  <a:pt x="24477" y="10800"/>
                </a:lnTo>
                <a:lnTo>
                  <a:pt x="104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1023840" y="85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4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