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B24-9892-49C5-90F1-230FC63E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4B8-49C2-4DE2-B2C3-DFA9327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AD7-9746-4416-A50C-1A61D0A2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19B-77E2-4664-A6F4-C4AFC346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E90B-7A75-4DDA-A859-CE2AD18A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D526-92CE-40B6-B5F0-D49543A9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6B9D-FCEF-4C09-9B81-556E8315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802-D34F-4EA7-8979-FE74C5B6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68A-E452-4DF9-A98F-23C371D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4B0B-AE41-4C36-AB97-54294B6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6555-AB99-477D-9165-10E883F1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610-9A57-40D3-BD92-FE1F7200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DDA-B6D7-40DD-8D7C-35D9266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2A65-95CD-4A34-8D4B-FF87B66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4045-5F21-4539-9487-672C363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E852-4C9F-4EA2-A6AF-6C0BE5D3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5FD2-1059-4BC4-8706-92F1FD4A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415-1C4A-4ED5-A531-181AE20E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F3A-5238-486C-89AD-6144F75E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651-A0B9-4422-AA6E-DCAEEB3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78E-C091-4432-8EE5-DD58D971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9B0-4CED-4EF6-B146-6EE1469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1F7-6B8F-4116-8B39-FBFE59D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722-EDB1-40AC-A92F-A9B1BFC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FA7-EFA3-4E63-8616-1FCBEAFFEE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9EA-6059-4496-91A7-E7F417F5E4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898560" y="1268280"/>
            <a:ext cx="739152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从烽火台到互联网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696960" y="3068640"/>
            <a:ext cx="3887640" cy="2722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4594320" y="2421000"/>
            <a:ext cx="4379760" cy="3645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5"/>
          <p:cNvSpPr txBox="1"/>
          <p:nvPr/>
        </p:nvSpPr>
        <p:spPr>
          <a:xfrm>
            <a:off x="4140360" y="90792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请选用合适的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24000" y="2205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生病了，明天不能去上学，向老师请假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姑姑远在美国，要过年了，向姑姑问候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爸爸的朋友急需一份文件，需要立即传送给他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假日小队活动，通知队员参加的时间、地点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395280" y="404640"/>
            <a:ext cx="309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组讨论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165040" y="981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2" name="Picture 4" descr="p78_1"/>
          <p:cNvPicPr/>
          <p:nvPr/>
        </p:nvPicPr>
        <p:blipFill>
          <a:blip r:embed="rId1"/>
          <a:stretch/>
        </p:blipFill>
        <p:spPr>
          <a:xfrm>
            <a:off x="1447920" y="2286000"/>
            <a:ext cx="6095880" cy="401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667640" y="2924280"/>
            <a:ext cx="53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烽火台传军情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35" name="精忠报国.mp3" descr=""/>
          <p:cNvPicPr/>
          <p:nvPr/>
        </p:nvPicPr>
        <p:blipFill>
          <a:blip r:embed="rId2"/>
          <a:stretch/>
        </p:blipFill>
        <p:spPr>
          <a:xfrm>
            <a:off x="795672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151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信鸽"/>
          <p:cNvPicPr/>
          <p:nvPr/>
        </p:nvPicPr>
        <p:blipFill>
          <a:blip r:embed="rId1"/>
          <a:stretch/>
        </p:blipFill>
        <p:spPr>
          <a:xfrm>
            <a:off x="1403280" y="1844640"/>
            <a:ext cx="5410440" cy="3776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7093080" y="2997360"/>
            <a:ext cx="53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信鸽传信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307960" y="981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812000" y="2997360"/>
            <a:ext cx="5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鸿雁传书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29" descr="p78_2"/>
          <p:cNvPicPr/>
          <p:nvPr/>
        </p:nvPicPr>
        <p:blipFill>
          <a:blip r:embed="rId1"/>
          <a:stretch/>
        </p:blipFill>
        <p:spPr>
          <a:xfrm>
            <a:off x="1187280" y="1773360"/>
            <a:ext cx="6477120" cy="3590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30"/>
          <p:cNvSpPr/>
          <p:nvPr/>
        </p:nvSpPr>
        <p:spPr>
          <a:xfrm>
            <a:off x="406908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驿使传信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Text Box 1031"/>
          <p:cNvSpPr/>
          <p:nvPr/>
        </p:nvSpPr>
        <p:spPr>
          <a:xfrm>
            <a:off x="2307960" y="1052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WordArt 1033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0"/>
          <p:cNvSpPr/>
          <p:nvPr/>
        </p:nvSpPr>
        <p:spPr>
          <a:xfrm>
            <a:off x="2596680" y="17733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知道古代人们其他传信方式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2395440" y="2565360"/>
            <a:ext cx="4113000" cy="3183840"/>
            <a:chOff x="2395440" y="2565360"/>
            <a:chExt cx="4113000" cy="3183840"/>
          </a:xfrm>
        </p:grpSpPr>
        <p:sp>
          <p:nvSpPr>
            <p:cNvPr id="147" name="Rectangle 12"/>
            <p:cNvSpPr/>
            <p:nvPr/>
          </p:nvSpPr>
          <p:spPr>
            <a:xfrm>
              <a:off x="2395440" y="5228640"/>
              <a:ext cx="41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还有其他记号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摆设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诱敌的记号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2629080" y="2565360"/>
              <a:ext cx="385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作内馅的方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藏在鱼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饼类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子等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2494440" y="3429000"/>
              <a:ext cx="364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特殊声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钟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鼓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鞭炮声等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2422440" y="4292640"/>
              <a:ext cx="33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以灯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火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孔明灯、火堆等 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51" name="WordArt 16"/>
          <p:cNvSpPr txBox="1"/>
          <p:nvPr/>
        </p:nvSpPr>
        <p:spPr>
          <a:xfrm>
            <a:off x="539640" y="260280"/>
            <a:ext cx="1857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历史坊</a:t>
            </a:r>
            <a:endParaRPr b="1" lang="en-US" sz="4800" spc="1" strike="noStrike">
              <a:ln w="9360">
                <a:solidFill>
                  <a:srgbClr val="8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0" y="2491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行业水平会随着社会与科技的进步而提高。 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黑便士（全球第一张邮票）"/>
          <p:cNvPicPr/>
          <p:nvPr/>
        </p:nvPicPr>
        <p:blipFill>
          <a:blip r:embed="rId2"/>
          <a:srcRect l="3049" t="3571" r="2167" b="12508"/>
          <a:stretch/>
        </p:blipFill>
        <p:spPr>
          <a:xfrm>
            <a:off x="2752560" y="2666880"/>
            <a:ext cx="3495960" cy="3733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323040" y="411480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第一张邮票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092120" y="1782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一、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小蜜蜂"/>
          <p:cNvPicPr/>
          <p:nvPr/>
        </p:nvPicPr>
        <p:blipFill>
          <a:blip r:embed="rId2"/>
          <a:stretch/>
        </p:blipFill>
        <p:spPr>
          <a:xfrm>
            <a:off x="5334120" y="3733920"/>
            <a:ext cx="2401920" cy="2514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562840" y="2975040"/>
            <a:ext cx="1887480" cy="947160"/>
          </a:xfrm>
          <a:prstGeom prst="rect">
            <a:avLst/>
          </a:prstGeom>
          <a:solidFill>
            <a:srgbClr val="dc34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你知道第一个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邮筒的故事吗？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090320" y="17445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一、过去的人们是怎样传递信息的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39280" y="76500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488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，葡萄牙一位名叫迪亚士的航海家率领的船队在海上遇险，除他本人乘坐的那只船得以幸免外，其余船只全部覆没，一些船员下落不明。迪亚士返航前命令部下给可能生还的同胞写了一封信，放在一只靴子里，挂在海边一枯树枝上。一年以后，葡萄牙的另一位航海家奥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戴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诺瓦尔途径此地，意外地“收”到了“邮筒”里的那封信。于是，便在当地修建了一座小教堂，纪念遇难同胞。随着时间的推移，小教堂附近兴起了一个村镇，靴子“邮筒”的故事被传为佳话。此后，葡萄牙海员一直沿用这只鞋做的“邮筒”来传递信息，而利用邮筒投寄信件这一形式也被流传下来了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65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法国巴黎的文件上已经记载了邮筒的出现，这是有关邮筒的最早的文字纪录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185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年，英国在泽西岛圣赫利尔设置了首批邮筒，至今仍在使用，可称得上是最古老的邮筒了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3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3020400" y="17064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二、近代信息的发展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64" name="Group 22"/>
          <p:cNvGrpSpPr/>
          <p:nvPr/>
        </p:nvGrpSpPr>
        <p:grpSpPr>
          <a:xfrm>
            <a:off x="914400" y="2362320"/>
            <a:ext cx="7543800" cy="3581280"/>
            <a:chOff x="914400" y="2362320"/>
            <a:chExt cx="7543800" cy="3581280"/>
          </a:xfrm>
        </p:grpSpPr>
        <p:sp>
          <p:nvSpPr>
            <p:cNvPr id="165" name="Rectangle 4"/>
            <p:cNvSpPr/>
            <p:nvPr/>
          </p:nvSpPr>
          <p:spPr>
            <a:xfrm>
              <a:off x="914400" y="236232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信息传递的时期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276720" y="23623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传递方法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4876920" y="236232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从发送到接收的时间间隔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914400" y="281952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75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3276720" y="28195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帆船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4876920" y="281952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6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到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9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个星期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914400" y="327672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84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276720" y="32767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快速帆船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4876920" y="327672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大约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12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天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914400" y="373392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858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3276720" y="3733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第一次横越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大西洋的电报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4876920" y="3733920"/>
              <a:ext cx="35812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数秒内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914400" y="464832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197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3276720" y="4648320"/>
              <a:ext cx="16002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第一个跨海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直拨电话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>
              <a:off x="4876920" y="4648320"/>
              <a:ext cx="35812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即刻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914400" y="5486400"/>
              <a:ext cx="236232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2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世纪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90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</a:rPr>
                <a:t>年代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1" name="Rectangle 20"/>
            <p:cNvSpPr/>
            <p:nvPr/>
          </p:nvSpPr>
          <p:spPr>
            <a:xfrm>
              <a:off x="3276720" y="548640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计算机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4876920" y="5486400"/>
              <a:ext cx="35812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</a:rPr>
                <a:t>即刻，还具有潜力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老师"/>
          <p:cNvPicPr/>
          <p:nvPr/>
        </p:nvPicPr>
        <p:blipFill>
          <a:blip r:embed="rId1"/>
          <a:stretch/>
        </p:blipFill>
        <p:spPr>
          <a:xfrm>
            <a:off x="1143000" y="3505320"/>
            <a:ext cx="2185920" cy="25905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1692360" y="836640"/>
            <a:ext cx="5600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你会采用哪些方法与他联系</a:t>
            </a:r>
            <a:endParaRPr b="1" lang="en-US" sz="2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3852360" y="1844640"/>
            <a:ext cx="2031120" cy="3943440"/>
            <a:chOff x="3852360" y="1844640"/>
            <a:chExt cx="2031120" cy="3943440"/>
          </a:xfrm>
        </p:grpSpPr>
        <p:sp>
          <p:nvSpPr>
            <p:cNvPr id="89" name="Rectangle 5"/>
            <p:cNvSpPr/>
            <p:nvPr/>
          </p:nvSpPr>
          <p:spPr>
            <a:xfrm>
              <a:off x="3893760" y="4580640"/>
              <a:ext cx="198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发</a:t>
              </a: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E-mail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4086360" y="18446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打电话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3986280" y="25639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写信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4008600" y="3213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传真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4187880" y="39337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Times New Roman"/>
                </a:rPr>
                <a:t>手机短信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3852360" y="50846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cc"/>
                  </a:solidFill>
                  <a:latin typeface="Times New Roman"/>
                </a:rPr>
                <a:t>qq</a:t>
              </a:r>
              <a:endParaRPr b="1" lang="en-US" sz="4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2"/>
          <p:cNvPicPr/>
          <p:nvPr/>
        </p:nvPicPr>
        <p:blipFill>
          <a:blip r:embed="rId1"/>
          <a:stretch/>
        </p:blipFill>
        <p:spPr>
          <a:xfrm>
            <a:off x="689040" y="11462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715760" y="1752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的小调查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1523880" y="2438280"/>
            <a:ext cx="6324840" cy="3429000"/>
            <a:chOff x="1523880" y="2438280"/>
            <a:chExt cx="6324840" cy="3429000"/>
          </a:xfrm>
        </p:grpSpPr>
        <p:sp>
          <p:nvSpPr>
            <p:cNvPr id="186" name="Rectangle 4"/>
            <p:cNvSpPr/>
            <p:nvPr/>
          </p:nvSpPr>
          <p:spPr>
            <a:xfrm>
              <a:off x="1523880" y="2438280"/>
              <a:ext cx="160020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时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3124080" y="243828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人们常用的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通信方式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5486400" y="2438280"/>
              <a:ext cx="236232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传递信息所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花费的时间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1523880" y="3352680"/>
              <a:ext cx="160020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30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年前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3124080" y="3352680"/>
              <a:ext cx="236232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电报 书信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5486400" y="3352680"/>
              <a:ext cx="2362320" cy="838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523880" y="4191120"/>
              <a:ext cx="160020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15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年前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3124080" y="419112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寻呼机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486400" y="419112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1523880" y="5029200"/>
              <a:ext cx="160020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</a:rPr>
                <a:t>现在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124080" y="502920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手机 互联网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5486400" y="5029200"/>
              <a:ext cx="236232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687680" y="1859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通信畅想曲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688400" y="2540160"/>
            <a:ext cx="239976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我们来发挥自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己的想像力，畅想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一下未来的通信方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式会是什么样子的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也许，今天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畅想在不久的将来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就能成为现实！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1" name="Picture 12" descr="p81"/>
          <p:cNvPicPr/>
          <p:nvPr/>
        </p:nvPicPr>
        <p:blipFill>
          <a:blip r:embed="rId2"/>
          <a:stretch/>
        </p:blipFill>
        <p:spPr>
          <a:xfrm>
            <a:off x="4643280" y="2514600"/>
            <a:ext cx="38102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F34F-F733-4A8F-97D5-D4EA80D28A8A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9"/>
          <p:cNvGrpSpPr/>
          <p:nvPr/>
        </p:nvGrpSpPr>
        <p:grpSpPr>
          <a:xfrm>
            <a:off x="2133720" y="1905120"/>
            <a:ext cx="5257800" cy="4267080"/>
            <a:chOff x="2133720" y="1905120"/>
            <a:chExt cx="5257800" cy="4267080"/>
          </a:xfrm>
        </p:grpSpPr>
        <p:sp>
          <p:nvSpPr>
            <p:cNvPr id="208" name="AutoShape 6"/>
            <p:cNvSpPr/>
            <p:nvPr/>
          </p:nvSpPr>
          <p:spPr>
            <a:xfrm>
              <a:off x="2133720" y="1905120"/>
              <a:ext cx="5257800" cy="426708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2362320" y="2514600"/>
              <a:ext cx="4800600" cy="312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3786840" y="19350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我 的 畅 想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老师"/>
          <p:cNvPicPr/>
          <p:nvPr/>
        </p:nvPicPr>
        <p:blipFill>
          <a:blip r:embed="rId1"/>
          <a:stretch/>
        </p:blipFill>
        <p:spPr>
          <a:xfrm>
            <a:off x="826920" y="3573360"/>
            <a:ext cx="2186280" cy="25909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3492360" y="1557360"/>
            <a:ext cx="3456000" cy="1800360"/>
          </a:xfrm>
          <a:prstGeom prst="cloudCallout">
            <a:avLst>
              <a:gd name="adj1" fmla="val -62263"/>
              <a:gd name="adj2" fmla="val 12786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357080" y="220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电话是谁发明的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276720" y="530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9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世纪末，美国发明家贝尔发明了电话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你认识它们吗？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1" name="Picture 6" descr="留言电话机"/>
          <p:cNvPicPr/>
          <p:nvPr/>
        </p:nvPicPr>
        <p:blipFill>
          <a:blip r:embed="rId1"/>
          <a:stretch/>
        </p:blipFill>
        <p:spPr>
          <a:xfrm>
            <a:off x="3492360" y="4249800"/>
            <a:ext cx="3383280" cy="260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无绳电话机"/>
          <p:cNvPicPr/>
          <p:nvPr/>
        </p:nvPicPr>
        <p:blipFill>
          <a:blip r:embed="rId2"/>
          <a:stretch/>
        </p:blipFill>
        <p:spPr>
          <a:xfrm>
            <a:off x="0" y="3987720"/>
            <a:ext cx="331308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手摇电话机"/>
          <p:cNvPicPr/>
          <p:nvPr/>
        </p:nvPicPr>
        <p:blipFill>
          <a:blip r:embed="rId3"/>
          <a:stretch/>
        </p:blipFill>
        <p:spPr>
          <a:xfrm>
            <a:off x="0" y="119700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投币电话机"/>
          <p:cNvPicPr/>
          <p:nvPr/>
        </p:nvPicPr>
        <p:blipFill>
          <a:blip r:embed="rId4"/>
          <a:stretch/>
        </p:blipFill>
        <p:spPr>
          <a:xfrm>
            <a:off x="3564000" y="1197000"/>
            <a:ext cx="3311640" cy="287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2"/>
          <p:cNvSpPr/>
          <p:nvPr/>
        </p:nvSpPr>
        <p:spPr>
          <a:xfrm>
            <a:off x="7249680" y="1341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手摇式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7165440" y="256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无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165440" y="384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投币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7178040" y="5157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录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972720" y="126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手摇式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4645800" y="34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投币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5800" y="6338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录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56360" y="4365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无绳电话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417200" y="112536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莫尔斯发出了人类历史上的第一份电报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5" name="Picture 5" descr="电报机工作原理"/>
          <p:cNvPicPr/>
          <p:nvPr/>
        </p:nvPicPr>
        <p:blipFill>
          <a:blip r:embed="rId1"/>
          <a:stretch/>
        </p:blipFill>
        <p:spPr>
          <a:xfrm>
            <a:off x="324000" y="1700280"/>
            <a:ext cx="8820000" cy="468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17" name="Picture 6" descr="传真"/>
          <p:cNvPicPr/>
          <p:nvPr/>
        </p:nvPicPr>
        <p:blipFill>
          <a:blip r:embed="rId1"/>
          <a:stretch/>
        </p:blipFill>
        <p:spPr>
          <a:xfrm>
            <a:off x="1476360" y="1268280"/>
            <a:ext cx="6350040" cy="4762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4812120" y="15573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传真机：传送图表、文件、设计图纸等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87280" y="1413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星卫星：像一个国际信使，收集来自地面的各种“信件”，然后再“投递”到另一个地方的用户手里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1" name="Picture 5" descr="通讯卫星"/>
          <p:cNvPicPr/>
          <p:nvPr/>
        </p:nvPicPr>
        <p:blipFill>
          <a:blip r:embed="rId1"/>
          <a:stretch/>
        </p:blipFill>
        <p:spPr>
          <a:xfrm>
            <a:off x="1908000" y="2852640"/>
            <a:ext cx="5112000" cy="3611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124000" y="1341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邮政快递：实物传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4" name="Picture 5" descr="中国邮政"/>
          <p:cNvPicPr/>
          <p:nvPr/>
        </p:nvPicPr>
        <p:blipFill>
          <a:blip r:embed="rId1"/>
          <a:stretch/>
        </p:blipFill>
        <p:spPr>
          <a:xfrm>
            <a:off x="2340000" y="249228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3059280" y="54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近现代通信方式</a:t>
            </a:r>
            <a:endParaRPr b="1" lang="en-US" sz="2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124000" y="1341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快递公司：实物传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7" name="Picture 5" descr="快递公司"/>
          <p:cNvPicPr/>
          <p:nvPr/>
        </p:nvPicPr>
        <p:blipFill>
          <a:blip r:embed="rId1"/>
          <a:stretch/>
        </p:blipFill>
        <p:spPr>
          <a:xfrm>
            <a:off x="1476360" y="2192400"/>
            <a:ext cx="5413320" cy="466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1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1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