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587-1C36-4838-8ED0-06BC368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3F3-5141-4898-A42C-A5318967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C4-4E28-45B1-99E6-C2112E1E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470-B297-46AE-8D68-8C517D8A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50BE-2870-4D06-A372-D77E3D1E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FE7-B48C-4E58-83A6-8E29CDC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CC83-7735-4719-8167-0E6B9F9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4806-3886-485F-8226-8059CAA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DE5-E8D3-4DC3-A983-1081C910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38D-C74E-4FB8-93E9-E30F3D9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6DFD-49EF-467E-9F29-BAD7507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6A2-E476-426F-A72B-40E80BD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888B-851C-4490-9A40-D48EA60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D3D-1478-489B-82A1-E1D98A6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BD1-89F2-4DEC-8E29-7DE5F38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EE4-6ADA-492F-B72B-1B6F207E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80D-9A2F-4015-B5F2-B82B0F3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B72-7B60-4AC9-83A6-D184389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813-8460-42CE-A5BF-96BF5581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F4B-9E15-4704-9748-38AD4AC1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0EB-B913-426F-B176-FEE28EE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254-0241-4128-BE34-1BBDFB7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DE4-97B4-45DE-9BB9-A009AC2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E3B-9855-49AE-B248-25DDBC5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AC98-1050-46BE-94C3-7A14862D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CCDB-5201-4B3D-ABC5-77539CAC29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187280" y="1844640"/>
            <a:ext cx="698508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沉浮与什么因素有关课件</a:t>
            </a:r>
            <a:r>
              <a:rPr b="0" lang="en-US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模板下载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暴风截屏20100228151723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79280" y="9079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量相同，体积不同的物体沉浮会是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暴风截屏20100228155548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2023920" y="272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量依次由重到轻排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327672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125892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558000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766764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暴风截屏20100228151339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6"/>
          <p:cNvSpPr txBox="1"/>
          <p:nvPr/>
        </p:nvSpPr>
        <p:spPr>
          <a:xfrm>
            <a:off x="4457880" y="32004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234000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5651640" y="3357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WordArt 9"/>
          <p:cNvSpPr txBox="1"/>
          <p:nvPr/>
        </p:nvSpPr>
        <p:spPr>
          <a:xfrm>
            <a:off x="7093080" y="3500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860400" y="1049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暴风截屏20100228151733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ty54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828880" y="685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物体在水中是沉还是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549960" y="19162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物体的沉浮和它的大小、轻重的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21640" y="954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2339280" y="2535120"/>
            <a:ext cx="6395040" cy="1306440"/>
            <a:chOff x="2339280" y="2535120"/>
            <a:chExt cx="6395040" cy="1306440"/>
          </a:xfrm>
        </p:grpSpPr>
        <p:sp>
          <p:nvSpPr>
            <p:cNvPr id="190" name="Text Box 10"/>
            <p:cNvSpPr/>
            <p:nvPr/>
          </p:nvSpPr>
          <p:spPr>
            <a:xfrm>
              <a:off x="3375000" y="2535120"/>
              <a:ext cx="53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体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同      重的易沉    轻的易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4217400" y="3321000"/>
              <a:ext cx="376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重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相同      小的易沉     大的易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2339280" y="293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物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032280" y="2849400"/>
              <a:ext cx="457200" cy="304920"/>
              <a:chOff x="3032280" y="2849400"/>
              <a:chExt cx="457200" cy="304920"/>
            </a:xfrm>
          </p:grpSpPr>
          <p:sp>
            <p:nvSpPr>
              <p:cNvPr id="194" name="Line 13"/>
              <p:cNvSpPr/>
              <p:nvPr/>
            </p:nvSpPr>
            <p:spPr>
              <a:xfrm flipH="1">
                <a:off x="3032280" y="2849400"/>
                <a:ext cx="4572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3032280" y="284940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032280" y="3306600"/>
              <a:ext cx="457200" cy="228600"/>
              <a:chOff x="3032280" y="3306600"/>
              <a:chExt cx="457200" cy="228600"/>
            </a:xfrm>
          </p:grpSpPr>
          <p:sp>
            <p:nvSpPr>
              <p:cNvPr id="197" name="Line 14"/>
              <p:cNvSpPr/>
              <p:nvPr/>
            </p:nvSpPr>
            <p:spPr>
              <a:xfrm>
                <a:off x="3032280" y="3306600"/>
                <a:ext cx="4572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3032280" y="330660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 Box 15"/>
          <p:cNvSpPr/>
          <p:nvPr/>
        </p:nvSpPr>
        <p:spPr>
          <a:xfrm>
            <a:off x="1046520" y="295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同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1710360" y="4653000"/>
            <a:ext cx="33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体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的物体容易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体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、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重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的物体容易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暴风截屏20100228151354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00360" y="1268280"/>
            <a:ext cx="4259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这个活动改变了什么因素，什么因素是没有改变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改变了物体的重量，物体的体积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000"/>
          <p:cNvPicPr/>
          <p:nvPr/>
        </p:nvPicPr>
        <p:blipFill>
          <a:blip r:embed="rId2"/>
          <a:stretch/>
        </p:blipFill>
        <p:spPr>
          <a:xfrm>
            <a:off x="7402680" y="5013360"/>
            <a:ext cx="1584000" cy="184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图片1"/>
          <p:cNvPicPr/>
          <p:nvPr/>
        </p:nvPicPr>
        <p:blipFill>
          <a:blip r:embed="rId3"/>
          <a:stretch/>
        </p:blipFill>
        <p:spPr>
          <a:xfrm>
            <a:off x="0" y="115920"/>
            <a:ext cx="4643280" cy="38894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900000" y="4005360"/>
            <a:ext cx="6551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我们的发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相同体积的物体，重的容易沉，轻的容易浮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202D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395280" y="6381720"/>
            <a:ext cx="842472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403280" y="62784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你知道潜水艇的工作原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900000" y="6354720"/>
            <a:ext cx="360360" cy="503280"/>
          </a:xfrm>
          <a:custGeom>
            <a:avLst/>
            <a:gdLst>
              <a:gd name="textAreaLeft" fmla="*/ 48240 w 360360"/>
              <a:gd name="textAreaRight" fmla="*/ 312120 w 360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443"/>
                <a:lnTo>
                  <a:pt x="14403" y="21168"/>
                </a:lnTo>
                <a:lnTo>
                  <a:pt x="21600" y="17280"/>
                </a:lnTo>
                <a:lnTo>
                  <a:pt x="14403" y="12528"/>
                </a:lnTo>
                <a:lnTo>
                  <a:pt x="14403" y="14688"/>
                </a:lnTo>
                <a:arcTo wR="21600" hR="7560" stAng="8116557" swAng="232600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背景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想想做做"/>
          <p:cNvPicPr/>
          <p:nvPr/>
        </p:nvPicPr>
        <p:blipFill>
          <a:blip r:embed="rId2"/>
          <a:stretch/>
        </p:blipFill>
        <p:spPr>
          <a:xfrm>
            <a:off x="1143000" y="914400"/>
            <a:ext cx="3949560" cy="977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53352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Verdana"/>
              </a:rPr>
              <a:t>　</a:t>
            </a: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潜水艇既能在水面航行，又能在水下航行。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</a:rPr>
              <a:t>是为什么？它是怎样自如地控制沉与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838080" y="3505320"/>
            <a:ext cx="4572000" cy="2516040"/>
            <a:chOff x="838080" y="3505320"/>
            <a:chExt cx="4572000" cy="2516040"/>
          </a:xfrm>
        </p:grpSpPr>
        <p:pic>
          <p:nvPicPr>
            <p:cNvPr id="220" name="Picture 5" descr=""/>
            <p:cNvPicPr/>
            <p:nvPr/>
          </p:nvPicPr>
          <p:blipFill>
            <a:blip r:embed="rId3"/>
            <a:stretch/>
          </p:blipFill>
          <p:spPr>
            <a:xfrm>
              <a:off x="838080" y="3505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4"/>
            <a:stretch/>
          </p:blipFill>
          <p:spPr>
            <a:xfrm>
              <a:off x="3352680" y="4114800"/>
              <a:ext cx="2057400" cy="19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5867280" y="335268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FF3-3A52-4267-A596-65B109C3AB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95280" y="2133720"/>
            <a:ext cx="8424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种材料构成的物体，在水中的沉浮与它们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重量、体积大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没有什么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26920" y="4149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那么，不同材料构成的物体，在水中的沉浮   与它们的重量、体积大小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395280" y="549360"/>
            <a:ext cx="165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思考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暴风截屏20100228151358"/>
          <p:cNvPicPr/>
          <p:nvPr/>
        </p:nvPicPr>
        <p:blipFill>
          <a:blip r:embed="rId2"/>
          <a:stretch/>
        </p:blipFill>
        <p:spPr>
          <a:xfrm>
            <a:off x="0" y="0"/>
            <a:ext cx="5219640" cy="427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暴风截屏20100228151411"/>
          <p:cNvPicPr/>
          <p:nvPr/>
        </p:nvPicPr>
        <p:blipFill>
          <a:blip r:embed="rId3"/>
          <a:stretch/>
        </p:blipFill>
        <p:spPr>
          <a:xfrm>
            <a:off x="3635280" y="2349360"/>
            <a:ext cx="5508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背景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97960" y="13413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物体的沉浮与体积的大小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暴风截屏20100228151113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244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581120" y="2637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体的体积从大到小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暴风截屏20100228151155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644364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067280" y="5805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1332000" y="220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3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2843280" y="609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1908000" y="4076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宋体"/>
              </a:rPr>
              <a:t>5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" name="WordArt 12"/>
          <p:cNvSpPr txBox="1"/>
          <p:nvPr/>
        </p:nvSpPr>
        <p:spPr>
          <a:xfrm>
            <a:off x="507672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5219640" y="530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宋体"/>
              </a:rPr>
              <a:t>7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924280" y="1484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物体的沉浮与重量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暴风截屏20100228152840"/>
          <p:cNvPicPr/>
          <p:nvPr/>
        </p:nvPicPr>
        <p:blipFill>
          <a:blip r:embed="rId2"/>
          <a:stretch/>
        </p:blipFill>
        <p:spPr>
          <a:xfrm>
            <a:off x="0" y="3429000"/>
            <a:ext cx="14731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暴风截屏20100228152843"/>
          <p:cNvPicPr/>
          <p:nvPr/>
        </p:nvPicPr>
        <p:blipFill>
          <a:blip r:embed="rId3"/>
          <a:stretch/>
        </p:blipFill>
        <p:spPr>
          <a:xfrm>
            <a:off x="1332000" y="3429000"/>
            <a:ext cx="162540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暴风截屏20100228152844"/>
          <p:cNvPicPr/>
          <p:nvPr/>
        </p:nvPicPr>
        <p:blipFill>
          <a:blip r:embed="rId4"/>
          <a:stretch/>
        </p:blipFill>
        <p:spPr>
          <a:xfrm>
            <a:off x="2843280" y="3429000"/>
            <a:ext cx="1244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暴风截屏20100228152846"/>
          <p:cNvPicPr/>
          <p:nvPr/>
        </p:nvPicPr>
        <p:blipFill>
          <a:blip r:embed="rId5"/>
          <a:stretch/>
        </p:blipFill>
        <p:spPr>
          <a:xfrm>
            <a:off x="3995640" y="3429000"/>
            <a:ext cx="125748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暴风截屏20100228152847"/>
          <p:cNvPicPr/>
          <p:nvPr/>
        </p:nvPicPr>
        <p:blipFill>
          <a:blip r:embed="rId6"/>
          <a:stretch/>
        </p:blipFill>
        <p:spPr>
          <a:xfrm>
            <a:off x="5219640" y="3429000"/>
            <a:ext cx="148608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暴风截屏20100228152849"/>
          <p:cNvPicPr/>
          <p:nvPr/>
        </p:nvPicPr>
        <p:blipFill>
          <a:blip r:embed="rId7"/>
          <a:stretch/>
        </p:blipFill>
        <p:spPr>
          <a:xfrm>
            <a:off x="6659640" y="3429000"/>
            <a:ext cx="2484360" cy="1800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1244880" y="285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体由重到轻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暴风截屏20100228151155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3995640" y="59500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6588000" y="1989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1908000" y="4076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3</a:t>
            </a:r>
            <a:endParaRPr b="0" lang="en-US" sz="18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2843280" y="5157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5148360" y="2852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宋体"/>
              </a:rPr>
              <a:t>5</a:t>
            </a:r>
            <a:endParaRPr b="0" lang="en-US" sz="1800" spc="-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1332000" y="2060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5219640" y="5373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宋体"/>
              </a:rPr>
              <a:t>7</a:t>
            </a:r>
            <a:endParaRPr b="0" lang="en-US" sz="1800" spc="-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985760" y="25653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物体的沉浮与物体的重量和体积都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背景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68360" y="98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体积相同，重量不同的物体沉浮会是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暴风截屏20100228155540"/>
          <p:cNvPicPr/>
          <p:nvPr/>
        </p:nvPicPr>
        <p:blipFill>
          <a:blip r:embed="rId2"/>
          <a:stretch/>
        </p:blipFill>
        <p:spPr>
          <a:xfrm>
            <a:off x="6959520" y="328464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暴风截屏20100228155524"/>
          <p:cNvPicPr/>
          <p:nvPr/>
        </p:nvPicPr>
        <p:blipFill>
          <a:blip r:embed="rId3"/>
          <a:stretch/>
        </p:blipFill>
        <p:spPr>
          <a:xfrm>
            <a:off x="431640" y="328464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暴风截屏20100228155530"/>
          <p:cNvPicPr/>
          <p:nvPr/>
        </p:nvPicPr>
        <p:blipFill>
          <a:blip r:embed="rId4"/>
          <a:stretch/>
        </p:blipFill>
        <p:spPr>
          <a:xfrm>
            <a:off x="2751120" y="3284640"/>
            <a:ext cx="2181240" cy="2305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暴风截屏20100228155536"/>
          <p:cNvPicPr/>
          <p:nvPr/>
        </p:nvPicPr>
        <p:blipFill>
          <a:blip r:embed="rId5"/>
          <a:stretch/>
        </p:blipFill>
        <p:spPr>
          <a:xfrm>
            <a:off x="4881600" y="3284640"/>
            <a:ext cx="2138400" cy="223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1981440" y="2781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积相同的圆球由重到轻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7"/>
          <p:cNvSpPr txBox="1"/>
          <p:nvPr/>
        </p:nvSpPr>
        <p:spPr>
          <a:xfrm>
            <a:off x="1258920" y="3284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18"/>
          <p:cNvSpPr txBox="1"/>
          <p:nvPr/>
        </p:nvSpPr>
        <p:spPr>
          <a:xfrm>
            <a:off x="3635280" y="321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19"/>
          <p:cNvSpPr txBox="1"/>
          <p:nvPr/>
        </p:nvSpPr>
        <p:spPr>
          <a:xfrm>
            <a:off x="5724360" y="306864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766764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109656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697920" y="5203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555880" y="5203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757692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暴风截屏20100228151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2700360" y="4581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3348000" y="2492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4356000" y="220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6012000" y="31417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5:56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46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