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DC4-6348-4077-8CBA-29F4E352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4FA-DA6C-47BC-8B40-0E62136B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AC6-6A0F-42B5-97A4-ED4227E0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E65-3B56-42C0-8DCC-ABE62BA0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0422-D58D-4CEE-9284-A1CAAE90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6020-D35F-4427-B4CA-72036D28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7CE0-C438-4C4F-ACF3-787FF6F3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1942-E9B3-4DBA-BBC5-2BEC9535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C8E7-7892-40A7-BF9D-A4E18D3A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216B-2A4E-4B23-8969-0D4A16E2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0FD8-C646-45DF-B9AB-56CE30CD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0E7-778F-41B7-A1CC-2755C140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F08F-079E-41E5-8BA1-0599D35D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377F-746B-4D77-9670-DF6CF8D1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0113-EA30-46A7-ACDE-44217B07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D775-BB03-4B12-B2AA-DDEF1AF3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4E4C-DC04-48E1-BD10-BEFA48CC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5E6D9-CDD2-499A-86F8-9409FB30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AF74-3B21-471D-956C-334CED8C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0B25C-3D45-4DBA-9CA3-5946F61C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C3DC-1EB2-4C47-8B23-1EDD7595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4D34-AED6-4A1E-B552-5A981CED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2E6-1C02-4D1A-9BF8-BB26878E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0BF8-B29E-47B8-A5F1-411EFD88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3DA5B-116D-406D-AD9C-0F3FE43F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9A9C-880E-46AF-BC6C-BB7AA2B3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636AA-6AC4-4B2E-AC27-30C49AF2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6EFE-99E5-4EC5-B57C-AEC6188E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42D5C-B1C4-4D84-B992-6BE6634D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032E3-C704-4E37-85B2-895A5BA8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170-60F2-4398-B13C-C89B2A30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A53-DEDC-4D80-A965-16D40DCA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256-4FC9-4D24-B55C-C07AA97B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E95-6C3F-403A-ADDE-B9A77D5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9D1-594F-48D7-801B-874E83A8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39C-464A-4D62-9FBC-176F2D1E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0E6F-AC64-4CAC-A984-3497F34DD0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24C5-FDF0-435C-95B1-B9B8AB0C89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0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164" name="Group 41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1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Group 43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167" name="Freeform 44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45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6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7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9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0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51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176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0" name="Freeform 19"/>
            <p:cNvSpPr/>
            <p:nvPr/>
          </p:nvSpPr>
          <p:spPr>
            <a:xfrm rot="7320000">
              <a:off x="7789680" y="46573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4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5"/>
              <p:cNvSpPr/>
              <p:nvPr/>
            </p:nvSpPr>
            <p:spPr>
              <a:xfrm rot="7320000">
                <a:off x="8039160" y="4761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6"/>
              <p:cNvSpPr/>
              <p:nvPr/>
            </p:nvSpPr>
            <p:spPr>
              <a:xfrm rot="7320000">
                <a:off x="8514000" y="45615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5D15-5355-44A4-9A28-292D907E26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7"/>
          <p:cNvSpPr txBox="1"/>
          <p:nvPr/>
        </p:nvSpPr>
        <p:spPr>
          <a:xfrm>
            <a:off x="1631880" y="2565360"/>
            <a:ext cx="5829480" cy="1150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创建新集体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打包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2357280" y="620640"/>
            <a:ext cx="619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第一课 珍惜新起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0" y="256536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结：踏入初中生活，一个新的班集体将在我们自己的手中诞生！让</a:t>
            </a:r>
            <a:r>
              <a:rPr b="1" lang="zh-CN" sz="3200" spc="-1" strike="noStrike" u="sng">
                <a:solidFill>
                  <a:srgbClr val="00b200"/>
                </a:solidFill>
                <a:uFillTx/>
                <a:latin typeface="宋体"/>
              </a:rPr>
              <a:t>我们行动起来，与老师一起，用自己的双手创造出一个我们为之自豪的集体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0" y="189000"/>
            <a:ext cx="94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b200"/>
                </a:solidFill>
                <a:latin typeface="Arial"/>
              </a:rPr>
              <a:t>、如何创建优秀班集体？</a:t>
            </a:r>
            <a:r>
              <a:rPr b="1" lang="en-US" sz="4000" spc="-1" strike="noStrike">
                <a:solidFill>
                  <a:srgbClr val="00b200"/>
                </a:solidFill>
                <a:latin typeface="Arial"/>
              </a:rPr>
              <a:t>P7- P8①②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24000" y="83664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共同的目标，前进的动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各尽所能，发挥所长，奉献集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团结协作，互助前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5" descr="拔河比赛1"/>
          <p:cNvPicPr/>
          <p:nvPr/>
        </p:nvPicPr>
        <p:blipFill>
          <a:blip r:embed="rId1"/>
          <a:stretch/>
        </p:blipFill>
        <p:spPr>
          <a:xfrm>
            <a:off x="2700360" y="4238640"/>
            <a:ext cx="3962520" cy="26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book6.gif (11372 bytes)"/>
          <p:cNvPicPr/>
          <p:nvPr/>
        </p:nvPicPr>
        <p:blipFill>
          <a:blip r:embed="rId1"/>
          <a:stretch/>
        </p:blipFill>
        <p:spPr>
          <a:xfrm>
            <a:off x="7467480" y="5794200"/>
            <a:ext cx="1417680" cy="1063800"/>
          </a:xfrm>
          <a:prstGeom prst="rect">
            <a:avLst/>
          </a:prstGeom>
          <a:ln w="0">
            <a:noFill/>
          </a:ln>
        </p:spPr>
      </p:pic>
      <p:sp>
        <p:nvSpPr>
          <p:cNvPr id="296" name="WordArt 3"/>
          <p:cNvSpPr txBox="1"/>
          <p:nvPr/>
        </p:nvSpPr>
        <p:spPr>
          <a:xfrm>
            <a:off x="7236000" y="5486400"/>
            <a:ext cx="167616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latin typeface="华文行楷"/>
              </a:rPr>
              <a:t>课堂小结</a:t>
            </a:r>
            <a:endParaRPr b="0" lang="en-US" sz="3200" spc="1" strike="noStrike">
              <a:ln w="12600">
                <a:solidFill>
                  <a:srgbClr val="ff0000"/>
                </a:solidFill>
                <a:round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900000" y="26028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第一课    珍惜新起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98680" y="31082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2492280"/>
            <a:ext cx="861048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一）、共同的目标，前进的动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二）、各尽所能，发挥所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奉献集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三）、团结协作，互助前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6443640" y="3500280"/>
            <a:ext cx="380880" cy="2357640"/>
          </a:xfrm>
          <a:custGeom>
            <a:avLst/>
            <a:gdLst>
              <a:gd name="textAreaLeft" fmla="*/ 0 w 380880"/>
              <a:gd name="textAreaRight" fmla="*/ 137520 w 380880"/>
              <a:gd name="textAreaTop" fmla="*/ 61200 h 2357640"/>
              <a:gd name="textAreaBottom" fmla="*/ 2296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732720" y="414972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创建新集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0" y="1125360"/>
            <a:ext cx="648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一）、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初中生活新体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二）、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珍视新友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三）、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与新朋友结伴成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>
            <a:off x="5076720" y="1052640"/>
            <a:ext cx="216000" cy="1871640"/>
          </a:xfrm>
          <a:custGeom>
            <a:avLst/>
            <a:gdLst>
              <a:gd name="textAreaLeft" fmla="*/ 0 w 216000"/>
              <a:gd name="textAreaRight" fmla="*/ 78120 w 216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5940360" y="206064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新学校，新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8194"/>
          <p:cNvSpPr/>
          <p:nvPr/>
        </p:nvSpPr>
        <p:spPr>
          <a:xfrm>
            <a:off x="1405080" y="6307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179280" y="404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随堂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79280" y="1197000"/>
            <a:ext cx="7921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在班集体里，如果没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），各想各的，各做各的，班级就会像一盘散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共同的朋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共同的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共同的兴趣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共同的价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828360" y="18637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611280" y="765000"/>
            <a:ext cx="756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俗话“一个篱笆三个桩，一个好汉三个帮”说的是若要成事，人与人就需要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团结协作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很多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找帮手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先打基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797440" y="21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324000" y="40464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闻名世界的指挥家卡拉扬说交响乐团要有“团队音”，各自的乐音要顾及整体，不能成为干扰别人的音。这说明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集体中不能有自己的突出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集体中不能有自己的声音，个人见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集体中应同心协力、团结奋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集体中只能有一个声音，完全一      致的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404720" y="20113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324000" y="620640"/>
            <a:ext cx="8281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众人拾柴火焰高”，“一滴水只有融入大海才不会干涸”。这两句俗话告诉我们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集体的发展离不开个人的努力，个人的成长离不开集体的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人多力量大，人多好办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个人是渺小的，集体才是伟大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3566160" y="1768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0" y="26028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米说，他们班集体像一支乐队，班主任刘老师是指挥，每个同学都是演奏者，大家团结一致，奏响了美妙的乐章。下列选项符合小米说法的是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米的同学和老师都很有音乐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米和同学、老师团结在一起，组成了一个优秀的集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米和同学是备受刘老师指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奏出美妙的乐曲需要乐队每个成员共同努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003640" y="191628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5487840" y="3651120"/>
            <a:ext cx="5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324000" y="476280"/>
            <a:ext cx="8281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优秀集体需要每个成员的团结一心、互相帮助，需要每个同学发挥所长，奉献集体，更重要的是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优秀的班主任老师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团结的班干部队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极向上的班级风气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共同的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900000" y="2276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468360" y="40464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红进入中学后发现初中和小学很不一样，特别是和新老师、新同学在一起，她感觉到很紧张，如果你是她的好朋友，你会怎样安慰她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尽可能避免与老师和同学接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多关心小红，劝她和小学熟悉的同学交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鼓励她主动与新老师、新同学去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认定她有心里问题，让她去看心理医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3708360" y="1773360"/>
            <a:ext cx="8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876240" y="40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是非判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468360" y="1268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在班集体中，只要我们每个人都是学习的尖子，我们的班集体就是一个优秀的班集体。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79280" y="3716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只有班级中人与人之间的团结协作，才能获得双赢的结果，即个人的健康成长和班集体的优秀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6877080" y="501336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6659640" y="2565360"/>
            <a:ext cx="6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763640" y="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隶书"/>
                <a:ea typeface="隶书"/>
              </a:rPr>
              <a:t>我心目中的班集体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79280" y="17733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用三个词来描绘你最喜欢的班级，并说出自己的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我希望生活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班集体中，因为在这样的集体中，我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因此，我们都愿意生活在一个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集体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4140360" y="2852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团结友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300720" y="2852640"/>
            <a:ext cx="22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互帮互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179280" y="3357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积极进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1619280" y="4005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才能健康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0" y="69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活动一</a:t>
            </a:r>
            <a:r>
              <a:rPr b="0" lang="en-US" sz="3200" spc="-1" strike="noStrike">
                <a:solidFill>
                  <a:srgbClr val="00b200"/>
                </a:solidFill>
                <a:latin typeface="黑体"/>
                <a:ea typeface="黑体"/>
              </a:rPr>
              <a:t>】</a:t>
            </a: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让我们先看看心目中的班集体是什么样子的  </a:t>
            </a:r>
            <a:r>
              <a:rPr b="0" lang="en-US" sz="3200" spc="-1" strike="noStrike">
                <a:solidFill>
                  <a:srgbClr val="00b200"/>
                </a:solidFill>
                <a:latin typeface="黑体"/>
                <a:ea typeface="黑体"/>
              </a:rPr>
              <a:t>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2124000" y="45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团结友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4" descr="春游"/>
          <p:cNvPicPr/>
          <p:nvPr/>
        </p:nvPicPr>
        <p:blipFill>
          <a:blip r:embed="rId1"/>
          <a:stretch/>
        </p:blipFill>
        <p:spPr>
          <a:xfrm>
            <a:off x="5796000" y="4941720"/>
            <a:ext cx="334800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24000" y="549360"/>
            <a:ext cx="77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年级，是我们人生道路上的一个新的起点，只要我们努力进取，一定会开创出更广阔的天地。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250920" y="3500280"/>
            <a:ext cx="822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要主动与同学交往，在学习上取长补短，在生活上互帮互助。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449000" y="2205000"/>
            <a:ext cx="459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872640" y="46720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1042920" y="148428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95280" y="3645000"/>
            <a:ext cx="73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同学们要积极参加集体活动，在活动中增进彼此的了解，增强集体的凝聚力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250920" y="476280"/>
            <a:ext cx="82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俗话说得好“多一个朋友，多一条路”。进入中学以后一定要结交朋友，什么样的人都要结交，如果自己被欺负了，朋友就可以拔刀相助。（ 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306080" y="2852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5193720" y="48690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0" y="18900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简答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79280" y="836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个班集体学习气氛很好。口语优异的英语课代表每天为同学们用英语讲一个小故事，酷爱文学的语文课代表为同学们精心选取“每日一句”；数学课代表为同学们精心准备“每日一题”；思想品德课代表则每天准时为同学们播报“每日要闻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活动不仅激发了同学们的学习兴趣，而且使同学们学到了许多为人处事的道理。在期末班级评测中，该班以明显优势赢得了“优秀班级”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547640" y="587700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b2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）这段材料体现了该班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3D30-3F07-42C2-AB4E-B36710EF0B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179280" y="40464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每个人都各尽所能，发挥所长，奉献集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95280" y="162864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进入中学后，我们应该如何创建一个优秀的班集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042920" y="278136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创建新集体、优秀的集体，需要全体同学和老师的共同努力；要确立共同的目标，作为前进的动力；要每个同学在集体中找到自己所在的位置，各尽所能、发挥所长、奉献集体；要班集体团结协作，互助前行，使每个人在集体中不断成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284280"/>
            <a:ext cx="81010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一、共同的目标，前进的动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我们生活在一个班级中，如果没有共同的愿望，各想各的，各做各的，班级就像一盘散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当我们有了</a:t>
            </a:r>
            <a:r>
              <a:rPr b="1" lang="zh-CN" sz="3200" spc="-1" strike="noStrike" u="sng">
                <a:solidFill>
                  <a:srgbClr val="00b200"/>
                </a:solidFill>
                <a:uFillTx/>
                <a:latin typeface="Arial"/>
              </a:rPr>
              <a:t>共同的目标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后，我们就拥有了</a:t>
            </a:r>
            <a:r>
              <a:rPr b="1" lang="zh-CN" sz="3200" spc="-1" strike="noStrike" u="sng">
                <a:solidFill>
                  <a:srgbClr val="00b200"/>
                </a:solidFill>
                <a:uFillTx/>
                <a:latin typeface="Arial"/>
              </a:rPr>
              <a:t>团结奋斗的不懈动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179280" y="49417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班训：团结、友爱、互助、上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0" y="551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班级目标：评为文明班，期末考试总分超区平均分，位于年级前两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0" y="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Arial"/>
                <a:ea typeface="黑体"/>
              </a:rPr>
              <a:t>思考：流沙为什么不能聚成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468360" y="692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乏共同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250920" y="4365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Arial"/>
              </a:rPr>
              <a:t>请大家一起设置班训和班级目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3422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打造优秀班集体的必备条件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990720" y="1628640"/>
            <a:ext cx="4302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d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华文新魏"/>
              </a:rPr>
              <a:t>学风严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d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华文新魏"/>
              </a:rPr>
              <a:t>同学关系和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703d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华文新魏"/>
              </a:rPr>
              <a:t>班风积极向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d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华文新魏"/>
              </a:rPr>
              <a:t>师生关系融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842000" y="2492280"/>
            <a:ext cx="4302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共同的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（动力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250920" y="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二、各尽所能，发挥所长，奉献集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0" y="62064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</a:rPr>
              <a:t>活动二：</a:t>
            </a:r>
            <a:r>
              <a:rPr b="1" lang="zh-CN" sz="3600" spc="-1" strike="noStrike">
                <a:solidFill>
                  <a:srgbClr val="00b200"/>
                </a:solidFill>
                <a:latin typeface="Arial"/>
              </a:rPr>
              <a:t>自我发挥  填写</a:t>
            </a:r>
            <a:r>
              <a:rPr b="1" lang="en-US" sz="3600" spc="-1" strike="noStrike">
                <a:solidFill>
                  <a:srgbClr val="00b200"/>
                </a:solidFill>
                <a:latin typeface="Arial"/>
              </a:rPr>
              <a:t>P7</a:t>
            </a:r>
            <a:r>
              <a:rPr b="1" lang="zh-CN" sz="3600" spc="-1" strike="noStrike">
                <a:solidFill>
                  <a:srgbClr val="00b200"/>
                </a:solidFill>
                <a:latin typeface="Arial"/>
              </a:rPr>
              <a:t>下面的表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</a:rPr>
              <a:t>看看我有哪些才智能为集体的建设弹奏出美妙的“音符”？ </a:t>
            </a:r>
            <a:r>
              <a:rPr b="1" lang="zh-CN" sz="1800" spc="-1" strike="noStrike">
                <a:solidFill>
                  <a:srgbClr val="00b2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b200"/>
                </a:solidFill>
                <a:latin typeface="Arial"/>
              </a:rPr>
              <a:t>P7</a:t>
            </a:r>
            <a:r>
              <a:rPr b="1" lang="zh-CN" sz="1800" spc="-1" strike="noStrike">
                <a:solidFill>
                  <a:srgbClr val="00b2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0" y="256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个人都能在班级中找到自己的位置，谁都无法代替。</a:t>
            </a:r>
            <a:r>
              <a:rPr b="0" lang="zh-CN" sz="2800" spc="-1" strike="noStrike" u="sng">
                <a:solidFill>
                  <a:srgbClr val="9900cc"/>
                </a:solidFill>
                <a:uFillTx/>
                <a:latin typeface="Arial"/>
                <a:ea typeface="黑体"/>
              </a:rPr>
              <a:t>当每个人都把自己的智慧和热情贡献给集体的建设时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，班集体就会成为一道亮丽的风景线，展现出彩虹般迷人的色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3" descr="拔河比赛2"/>
          <p:cNvPicPr/>
          <p:nvPr/>
        </p:nvPicPr>
        <p:blipFill>
          <a:blip r:embed="rId1"/>
          <a:stretch/>
        </p:blipFill>
        <p:spPr>
          <a:xfrm>
            <a:off x="4500720" y="4005360"/>
            <a:ext cx="3817800" cy="26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8"/>
          <p:cNvSpPr/>
          <p:nvPr/>
        </p:nvSpPr>
        <p:spPr>
          <a:xfrm>
            <a:off x="2771640" y="2492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春游"/>
          <p:cNvPicPr/>
          <p:nvPr/>
        </p:nvPicPr>
        <p:blipFill>
          <a:blip r:embed="rId1"/>
          <a:stretch/>
        </p:blipFill>
        <p:spPr>
          <a:xfrm>
            <a:off x="304920" y="304920"/>
            <a:ext cx="4771800" cy="2619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跳绳"/>
          <p:cNvPicPr/>
          <p:nvPr/>
        </p:nvPicPr>
        <p:blipFill>
          <a:blip r:embed="rId2"/>
          <a:stretch/>
        </p:blipFill>
        <p:spPr>
          <a:xfrm>
            <a:off x="5292720" y="2133720"/>
            <a:ext cx="3605040" cy="2990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班集体"/>
          <p:cNvPicPr/>
          <p:nvPr/>
        </p:nvPicPr>
        <p:blipFill>
          <a:blip r:embed="rId3"/>
          <a:stretch/>
        </p:blipFill>
        <p:spPr>
          <a:xfrm>
            <a:off x="6172200" y="990720"/>
            <a:ext cx="1803240" cy="13348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179280" y="3213000"/>
            <a:ext cx="49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，你能够为我们的集体做些什么呢？ 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dur="indefinite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dur="indefinite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533520" y="4572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团结协作，互助前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95280" y="1413000"/>
            <a:ext cx="85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景一：看到教室的地板上有几张纸屑，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24000" y="26370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景二：某日上课的时候，旁边有人在小声地悄悄讲话，你将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95280" y="41497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景三：课间操时，大家快步朝操场走去，而这时教室的灯火通明，你看到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小嘴"/>
          <p:cNvPicPr/>
          <p:nvPr/>
        </p:nvPicPr>
        <p:blipFill>
          <a:blip r:embed="rId1"/>
          <a:stretch/>
        </p:blipFill>
        <p:spPr>
          <a:xfrm>
            <a:off x="7467480" y="380880"/>
            <a:ext cx="10796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67327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三、团结协作，互助前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0" y="189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故事：</a:t>
            </a:r>
            <a:r>
              <a:rPr b="0" lang="zh-CN" sz="3200" spc="-1" strike="noStrike">
                <a:solidFill>
                  <a:srgbClr val="00b200"/>
                </a:solidFill>
                <a:latin typeface="Arial"/>
                <a:ea typeface="黑体"/>
              </a:rPr>
              <a:t>瘸子和瞎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0" y="83664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一个破庙里，住着一个瞎子和一个瘸子，他们经常为了抢占向阳通风的窗户而争吵不休。有一天，破庙突然着火了，瘸子的腿脚不便走不了、瞎子的眼睛不便也走不了。眼看两人就要活活烧死，在这紧要关头，瞎子终于说话了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还是团结合作吧，我背着你，你给我指方向，咱们一起逃出去吧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这样，他们两人都逃过了这次劫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r>
              <a:rPr b="0" lang="zh-CN" sz="2800" spc="-1" strike="noStrike">
                <a:solidFill>
                  <a:srgbClr val="00b200"/>
                </a:solidFill>
                <a:latin typeface="黑体"/>
                <a:ea typeface="黑体"/>
              </a:rPr>
              <a:t>这个故事告诉了我们什么道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595008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俗话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一个篱笆三个桩，一个好汉三个帮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640080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活动三：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阅读回答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0" y="54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教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8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先后走出三位院士的一个班级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0" y="1125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b2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）这个班级曾经面临哪些困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0" y="2708280"/>
            <a:ext cx="100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b2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b200"/>
                </a:solidFill>
                <a:latin typeface="黑体"/>
                <a:ea typeface="黑体"/>
              </a:rPr>
              <a:t>）这个班级成为一个优秀的集体，靠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0" y="1628640"/>
            <a:ext cx="91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答：学校的设施很差，生活很艰苦。当时好多同学是战地孤儿，各人的知识水平参差不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250920" y="32846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答：大家都很团结，有着很强的集体荣誉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答：我以前的班集体很团结，我们在校运会上参加比赛的同学很积极，不参赛的同学也做啦啦队为参赛同学加油支持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习成绩好；纪律好等方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0" y="386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2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b2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b200"/>
                </a:solidFill>
                <a:latin typeface="黑体"/>
                <a:ea typeface="黑体"/>
              </a:rPr>
              <a:t>）你可能也有过在优秀的班集体中生活的经历，在这样的集体中生活，你有何感受？不妨与大家一起分享你的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52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17Z</dcterms:modified>
  <cp:revision>19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