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1ACE-E26C-4532-A5A5-8F471B1C5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FA4D-8C50-49CD-B22A-97BFAB9B0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AD76-B272-455B-A6D9-50EA81780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1B7B-FDF5-4A93-A656-520F47E9B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D08C8-FC54-4C11-988F-935DCF60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B9F02-EAC6-4BF0-9012-DAEFFFE8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7FEF5-E667-4318-9230-0E001A5E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2475B-FC9F-4672-B537-009B5952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78866-345A-4665-875E-62D144DE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2CA1D-13AE-44BC-9416-B5F6CDD4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7671F-679B-4E71-A567-1804C57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59B9-8B1B-4287-9487-5A1BF21D5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5E384-D16C-4FE0-84A6-00375E7C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29A1C-2F9E-44A5-A710-C266BFB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0C776-6FB1-4EF4-B2D7-BA1878D1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9F5A4-2238-407B-B36D-433F2202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1EA55-D9E9-4D6E-8944-CD05FEA3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F961-A754-4A60-97F6-DCEC4433C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1065-BA81-400C-A42B-8D8162133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4997-16B3-4E39-8BB7-2DCE5F967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CFA6-C75A-433F-BCE3-96B008A50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CA7F-F442-4CF5-B74A-14E445272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A24E-C5F3-4BED-9A9C-16D5FD768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6FB4-3CD0-4F96-8688-5978E9327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c1c1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5C4E470-0DAD-4BB3-9B9C-51397F7A91C6}" type="slidenum">
              <a:rPr b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14C1-4094-47FD-BC4E-75A6B6435C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825480" y="1729800"/>
            <a:ext cx="77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从看电视说起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打包下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303280" y="494640"/>
            <a:ext cx="42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品德与社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人教版四年级下册第四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3619440" y="2852640"/>
            <a:ext cx="4289400" cy="32133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23760" y="49719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905242003414224"/>
          <p:cNvPicPr/>
          <p:nvPr/>
        </p:nvPicPr>
        <p:blipFill>
          <a:blip r:embed="rId1"/>
          <a:stretch/>
        </p:blipFill>
        <p:spPr>
          <a:xfrm>
            <a:off x="179280" y="981000"/>
            <a:ext cx="666720" cy="9525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900000" y="1268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课 堂 总 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8360" y="1933560"/>
            <a:ext cx="8315280" cy="2036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电视网络是一把双刃剑，我们作为新世纪的少年儿童要把握好自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合理利用时间，在不影响生活的情况下多多接触电视网络，但不要沉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快乐成长，快乐学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4353120" y="13431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生活瞭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066680" y="3200400"/>
            <a:ext cx="664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484360" y="4005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（喜洋洋与灰太狼）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68360" y="1125360"/>
            <a:ext cx="2133720" cy="8337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两种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9280" y="1125360"/>
            <a:ext cx="1871640" cy="83844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动画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572000" y="1136520"/>
            <a:ext cx="2376360" cy="7797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模范丈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093080" y="1154160"/>
            <a:ext cx="1942920" cy="7621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平底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5640" y="400536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个字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3200400"/>
            <a:ext cx="664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635280" y="414828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（新闻联播）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124000" y="1125360"/>
            <a:ext cx="2068560" cy="7909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真实快捷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79280" y="1125360"/>
            <a:ext cx="1871640" cy="7909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老少皆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284720" y="1125360"/>
            <a:ext cx="2448000" cy="77976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国内外大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1125360"/>
            <a:ext cx="2266920" cy="762120"/>
          </a:xfrm>
          <a:prstGeom prst="rect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每晚七点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42920" y="407664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个字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4788000" y="476280"/>
            <a:ext cx="3097080" cy="2089080"/>
          </a:xfrm>
          <a:prstGeom prst="cloudCallout">
            <a:avLst>
              <a:gd name="adj1" fmla="val 40981"/>
              <a:gd name="adj2" fmla="val 74560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219640" y="83664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业都做不完，怎么能看电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-33480" y="1440"/>
            <a:ext cx="3165480" cy="2087640"/>
          </a:xfrm>
          <a:prstGeom prst="cloudCallout">
            <a:avLst>
              <a:gd name="adj1" fmla="val 54837"/>
              <a:gd name="adj2" fmla="val 56504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5292720" y="4724280"/>
            <a:ext cx="2448000" cy="1873440"/>
          </a:xfrm>
          <a:prstGeom prst="cloudCallout">
            <a:avLst>
              <a:gd name="adj1" fmla="val 59791"/>
              <a:gd name="adj2" fmla="val 58268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5580000" y="3213000"/>
            <a:ext cx="1584360" cy="1079640"/>
          </a:xfrm>
          <a:prstGeom prst="cloudCallout">
            <a:avLst>
              <a:gd name="adj1" fmla="val -84569"/>
              <a:gd name="adj2" fmla="val -38087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541440" y="3214800"/>
            <a:ext cx="2592360" cy="1800000"/>
          </a:xfrm>
          <a:prstGeom prst="cloudCallout">
            <a:avLst>
              <a:gd name="adj1" fmla="val 47111"/>
              <a:gd name="adj2" fmla="val 92680"/>
            </a:avLst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55640" y="3645000"/>
            <a:ext cx="24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看电视太多，对眼睛不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364000" y="3141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364000" y="5084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看电视能有什么收获？不如看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11"/>
          <p:cNvPicPr/>
          <p:nvPr/>
        </p:nvPicPr>
        <p:blipFill>
          <a:blip r:embed="rId1"/>
          <a:stretch/>
        </p:blipFill>
        <p:spPr>
          <a:xfrm>
            <a:off x="2411280" y="909720"/>
            <a:ext cx="1729080" cy="26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12"/>
          <p:cNvPicPr/>
          <p:nvPr/>
        </p:nvPicPr>
        <p:blipFill>
          <a:blip r:embed="rId2"/>
          <a:stretch/>
        </p:blipFill>
        <p:spPr>
          <a:xfrm>
            <a:off x="3132000" y="4797360"/>
            <a:ext cx="144000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13"/>
          <p:cNvPicPr/>
          <p:nvPr/>
        </p:nvPicPr>
        <p:blipFill>
          <a:blip r:embed="rId3"/>
          <a:stretch/>
        </p:blipFill>
        <p:spPr>
          <a:xfrm>
            <a:off x="4067280" y="2565360"/>
            <a:ext cx="1206360" cy="18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14"/>
          <p:cNvPicPr/>
          <p:nvPr/>
        </p:nvPicPr>
        <p:blipFill>
          <a:blip r:embed="rId4"/>
          <a:stretch/>
        </p:blipFill>
        <p:spPr>
          <a:xfrm>
            <a:off x="7885080" y="4941720"/>
            <a:ext cx="1258920" cy="191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5"/>
          <p:cNvPicPr/>
          <p:nvPr/>
        </p:nvPicPr>
        <p:blipFill>
          <a:blip r:embed="rId5"/>
          <a:stretch/>
        </p:blipFill>
        <p:spPr>
          <a:xfrm>
            <a:off x="7667640" y="1844640"/>
            <a:ext cx="1476360" cy="2320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6"/>
          <p:cNvSpPr/>
          <p:nvPr/>
        </p:nvSpPr>
        <p:spPr>
          <a:xfrm>
            <a:off x="324000" y="333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些电视节目不适合小孩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8199"/>
          <p:cNvSpPr/>
          <p:nvPr/>
        </p:nvSpPr>
        <p:spPr>
          <a:xfrm>
            <a:off x="3348000" y="141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辩论提示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7840" y="1170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辩论主题：      正方：看电视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反方：看电视不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辩论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分正反两方进行辩论，正反方辩手各两人，其他同学根据自己的观点，成为台上选手的智囊团，准备随时参与辩论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注意辩论态度和蔼，言行文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辩论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可以表明自己的观点，举例说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可以针对对方观点提问、反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辩论遇到困难时，可以向智囊团求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68360" y="404640"/>
            <a:ext cx="54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金点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557360"/>
            <a:ext cx="820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觉得怎样去做才是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科学、合理、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确地看电视呢？和你的小组同学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1c1c1c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关于看电视的协议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甲方：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乙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孩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协议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阅读时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每天阅读半小时，时段为做完作业后的晚上九点至九点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阅读内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父母、老师的指导下选择自己喜欢的、内容健康的儿童读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阅读安排：读书要做笔记，积累优美词句，写下心得体会。也可以家长孩子同读一本书，口头交流读书感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甲方（签字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乙方（签字）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____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月 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1" lang="zh-CN" sz="1400" spc="-1" strike="noStrike">
                <a:solidFill>
                  <a:srgbClr val="0000ff"/>
                </a:solidFill>
                <a:latin typeface="Arial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00905242003414224"/>
          <p:cNvPicPr/>
          <p:nvPr/>
        </p:nvPicPr>
        <p:blipFill>
          <a:blip r:embed="rId1"/>
          <a:stretch/>
        </p:blipFill>
        <p:spPr>
          <a:xfrm>
            <a:off x="179280" y="981000"/>
            <a:ext cx="66672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900000" y="1268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掌 握 新 知 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1844640"/>
            <a:ext cx="9144000" cy="495792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接触传媒、学会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2340000" y="2492280"/>
            <a:ext cx="4800600" cy="2133720"/>
          </a:xfrm>
          <a:prstGeom prst="cloudCallout">
            <a:avLst>
              <a:gd name="adj1" fmla="val -64981"/>
              <a:gd name="adj2" fmla="val 11160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在接触大众传媒时，应该注意些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EE0A-B054-41C3-AB2A-1F16AFA1D8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0:56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55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