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6.jpeg" ContentType="image/jpeg"/>
  <Override PartName="/ppt/media/chimes.wav" ContentType="audio/x-wav"/>
  <Override PartName="/ppt/media/click.wav" ContentType="audio/x-wav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7.jpeg" ContentType="image/jpeg"/>
  <Override PartName="/ppt/media/image10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6F0-C681-41CC-9395-1F1739DF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ECB-EE16-48A0-9CD4-E75CA4B3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F66-B581-4DF4-AAE7-78283145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C9D-2F5A-4F6B-884F-DD1D910D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15B6-06FB-40B8-87F2-5662AE30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79E4-49D4-4536-9408-A196CB52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E7A0-2B1B-4141-8104-8C640ACA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3AEA-6D6F-48B1-B406-55AB1001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3499-79EB-4234-BCB0-848E0A7D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9ABE-BBB0-477F-AC24-2994BBC2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7C2E-77B0-49FB-8B07-8731D1B4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2B2-97DF-40D1-9507-BB2F4663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528A-775B-4BAD-97CE-8EBE6FCE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987C-88BE-4215-A2C1-D340F18D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DE18-10D8-4F44-AB56-963743A8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80AD-6829-4FC5-867A-C9EA9759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B8E2-3720-4402-8465-EE4D420A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5C4-3E93-4C2F-8529-5BEDA013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291-E906-4D85-B6D7-1E130499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C66-0C6C-4FA9-A749-ED6E401F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015-E687-43DF-847B-D1AA8959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66C-B9DA-426A-8268-625900CB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3C2-B656-4B05-AA3E-D7244C41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064-B726-4A49-A9FA-45AE39DD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F976-C671-46D7-9306-0D6A4E06B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D7F7-773D-4561-95BA-AB7F8C2B2B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1814400" y="2762280"/>
            <a:ext cx="5477040" cy="34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648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第十六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52120" y="1699920"/>
            <a:ext cx="74516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串联电路中电压的规律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实验中注意记录实验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1403280" y="2133720"/>
          <a:ext cx="7056360" cy="3240000"/>
        </p:xfrm>
        <a:graphic>
          <a:graphicData uri="http://schemas.openxmlformats.org/drawingml/2006/table">
            <a:tbl>
              <a:tblPr/>
              <a:tblGrid>
                <a:gridCol w="1782720"/>
                <a:gridCol w="1602000"/>
                <a:gridCol w="1584000"/>
                <a:gridCol w="2087640"/>
              </a:tblGrid>
              <a:tr h="1071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8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两端的电压 </a:t>
                      </a:r>
                      <a:r>
                        <a:rPr b="1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6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8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两端的电压    </a:t>
                      </a:r>
                      <a:r>
                        <a:rPr b="1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8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8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两端的总电压 </a:t>
                      </a:r>
                      <a:r>
                        <a:rPr b="1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第一次测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第二次测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3"/>
          <p:cNvSpPr/>
          <p:nvPr/>
        </p:nvSpPr>
        <p:spPr>
          <a:xfrm>
            <a:off x="7709400" y="6308640"/>
            <a:ext cx="729360" cy="36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返回导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ShockwaveFlash1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5"/>
          <p:cNvSpPr/>
          <p:nvPr/>
        </p:nvSpPr>
        <p:spPr>
          <a:xfrm>
            <a:off x="900000" y="112536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实验完成，请各组断开电路，讨论分析实验数据，看你能发现什么结论。并请你汇报一下你的实验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WordArt 6"/>
          <p:cNvSpPr txBox="1"/>
          <p:nvPr/>
        </p:nvSpPr>
        <p:spPr>
          <a:xfrm>
            <a:off x="826920" y="2421000"/>
            <a:ext cx="1366920" cy="13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结论：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1403280" y="3573360"/>
            <a:ext cx="67690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串联电路中，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串联电路两端的总电压等于各部分电路两端电压的和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U= U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U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1258920" y="5373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想一想：</a:t>
            </a:r>
            <a:r>
              <a:rPr b="0" lang="zh-CN" sz="2400" spc="-1" strike="noStrike">
                <a:solidFill>
                  <a:srgbClr val="040ee0"/>
                </a:solidFill>
                <a:latin typeface="Arial"/>
              </a:rPr>
              <a:t>并联电路中的电流又有什么规律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二、并联电路中电压的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179280" y="1341360"/>
            <a:ext cx="878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提出问题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并联电路中各支路两端的电压有什么关系呢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猜想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并联电路中各支电路两端的电压都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"/>
          <p:cNvSpPr/>
          <p:nvPr/>
        </p:nvSpPr>
        <p:spPr>
          <a:xfrm>
            <a:off x="468360" y="2492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请大家根据我们刚才探究串联电路中，串联电路两端的总电压和各部分电路两端的电压关系过程，探究一下并联电路中各支路两端的电压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7"/>
          <p:cNvSpPr/>
          <p:nvPr/>
        </p:nvSpPr>
        <p:spPr>
          <a:xfrm>
            <a:off x="7488360" y="4005360"/>
            <a:ext cx="1655640" cy="576000"/>
          </a:xfrm>
          <a:prstGeom prst="cloudCallout">
            <a:avLst>
              <a:gd name="adj1" fmla="val -3305"/>
              <a:gd name="adj2" fmla="val -486365"/>
            </a:avLst>
          </a:prstGeom>
          <a:blipFill rotWithShape="0">
            <a:blip r:embed="rId1"/>
            <a:srcRect/>
            <a:stretch/>
          </a:blipFill>
          <a:ln w="316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方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8" descr="024"/>
          <p:cNvPicPr/>
          <p:nvPr/>
        </p:nvPicPr>
        <p:blipFill>
          <a:blip r:embed="rId2"/>
          <a:stretch/>
        </p:blipFill>
        <p:spPr>
          <a:xfrm>
            <a:off x="7721640" y="4724280"/>
            <a:ext cx="14223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706" name="xjhsy3"/>
          <p:cNvGrpSpPr/>
          <p:nvPr/>
        </p:nvGrpSpPr>
        <p:grpSpPr>
          <a:xfrm>
            <a:off x="5364000" y="3886200"/>
            <a:ext cx="1584360" cy="620280"/>
            <a:chOff x="5364000" y="3886200"/>
            <a:chExt cx="1584360" cy="620280"/>
          </a:xfrm>
        </p:grpSpPr>
        <p:grpSp>
          <p:nvGrpSpPr>
            <p:cNvPr id="707" name="Group 48"/>
            <p:cNvGrpSpPr/>
            <p:nvPr/>
          </p:nvGrpSpPr>
          <p:grpSpPr>
            <a:xfrm>
              <a:off x="5364000" y="4193640"/>
              <a:ext cx="1584360" cy="312840"/>
              <a:chOff x="5364000" y="4193640"/>
              <a:chExt cx="1584360" cy="312840"/>
            </a:xfrm>
          </p:grpSpPr>
          <p:sp>
            <p:nvSpPr>
              <p:cNvPr id="708" name="Freeform 49"/>
              <p:cNvSpPr/>
              <p:nvPr/>
            </p:nvSpPr>
            <p:spPr>
              <a:xfrm flipV="1">
                <a:off x="5364000" y="4445280"/>
                <a:ext cx="1584360" cy="6120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50"/>
              <p:cNvSpPr/>
              <p:nvPr/>
            </p:nvSpPr>
            <p:spPr>
              <a:xfrm>
                <a:off x="6762240" y="4195800"/>
                <a:ext cx="135000" cy="20016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AutoShape 51"/>
              <p:cNvSpPr/>
              <p:nvPr/>
            </p:nvSpPr>
            <p:spPr>
              <a:xfrm>
                <a:off x="5630760" y="4193640"/>
                <a:ext cx="135000" cy="20016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Group 52"/>
            <p:cNvGrpSpPr/>
            <p:nvPr/>
          </p:nvGrpSpPr>
          <p:grpSpPr>
            <a:xfrm>
              <a:off x="6076800" y="3886200"/>
              <a:ext cx="230400" cy="507240"/>
              <a:chOff x="6076800" y="3886200"/>
              <a:chExt cx="230400" cy="507240"/>
            </a:xfrm>
          </p:grpSpPr>
          <p:grpSp>
            <p:nvGrpSpPr>
              <p:cNvPr id="712" name="Group 53"/>
              <p:cNvGrpSpPr/>
              <p:nvPr/>
            </p:nvGrpSpPr>
            <p:grpSpPr>
              <a:xfrm>
                <a:off x="6109560" y="3886200"/>
                <a:ext cx="171720" cy="397440"/>
                <a:chOff x="6109560" y="3886200"/>
                <a:chExt cx="171720" cy="397440"/>
              </a:xfrm>
            </p:grpSpPr>
            <p:grpSp>
              <p:nvGrpSpPr>
                <p:cNvPr id="713" name="Group 54"/>
                <p:cNvGrpSpPr/>
                <p:nvPr/>
              </p:nvGrpSpPr>
              <p:grpSpPr>
                <a:xfrm>
                  <a:off x="6156360" y="4190400"/>
                  <a:ext cx="77760" cy="93240"/>
                  <a:chOff x="6156360" y="4190400"/>
                  <a:chExt cx="77760" cy="93240"/>
                </a:xfrm>
              </p:grpSpPr>
              <p:grpSp>
                <p:nvGrpSpPr>
                  <p:cNvPr id="714" name="Group 55"/>
                  <p:cNvGrpSpPr/>
                  <p:nvPr/>
                </p:nvGrpSpPr>
                <p:grpSpPr>
                  <a:xfrm>
                    <a:off x="6156360" y="4190400"/>
                    <a:ext cx="77760" cy="93240"/>
                    <a:chOff x="6156360" y="4190400"/>
                    <a:chExt cx="77760" cy="93240"/>
                  </a:xfrm>
                </p:grpSpPr>
                <p:grpSp>
                  <p:nvGrpSpPr>
                    <p:cNvPr id="715" name="Group 56"/>
                    <p:cNvGrpSpPr/>
                    <p:nvPr/>
                  </p:nvGrpSpPr>
                  <p:grpSpPr>
                    <a:xfrm>
                      <a:off x="6175800" y="4262400"/>
                      <a:ext cx="42480" cy="21240"/>
                      <a:chOff x="6175800" y="4262400"/>
                      <a:chExt cx="42480" cy="21240"/>
                    </a:xfrm>
                  </p:grpSpPr>
                  <p:sp>
                    <p:nvSpPr>
                      <p:cNvPr id="716" name="Freeform 57"/>
                      <p:cNvSpPr/>
                      <p:nvPr/>
                    </p:nvSpPr>
                    <p:spPr>
                      <a:xfrm>
                        <a:off x="6175800" y="4262400"/>
                        <a:ext cx="424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Freeform 58"/>
                      <p:cNvSpPr/>
                      <p:nvPr/>
                    </p:nvSpPr>
                    <p:spPr>
                      <a:xfrm>
                        <a:off x="6182280" y="4262400"/>
                        <a:ext cx="190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8" name="Group 59"/>
                    <p:cNvGrpSpPr/>
                    <p:nvPr/>
                  </p:nvGrpSpPr>
                  <p:grpSpPr>
                    <a:xfrm>
                      <a:off x="6156360" y="4190400"/>
                      <a:ext cx="77760" cy="77760"/>
                      <a:chOff x="6156360" y="4190400"/>
                      <a:chExt cx="77760" cy="77760"/>
                    </a:xfrm>
                  </p:grpSpPr>
                  <p:sp>
                    <p:nvSpPr>
                      <p:cNvPr id="719" name="Freeform 60"/>
                      <p:cNvSpPr/>
                      <p:nvPr/>
                    </p:nvSpPr>
                    <p:spPr>
                      <a:xfrm>
                        <a:off x="6156360" y="4190400"/>
                        <a:ext cx="77760" cy="7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960" bIns="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Freeform 61"/>
                      <p:cNvSpPr/>
                      <p:nvPr/>
                    </p:nvSpPr>
                    <p:spPr>
                      <a:xfrm>
                        <a:off x="6156720" y="4200480"/>
                        <a:ext cx="93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Freeform 62"/>
                      <p:cNvSpPr/>
                      <p:nvPr/>
                    </p:nvSpPr>
                    <p:spPr>
                      <a:xfrm>
                        <a:off x="6156720" y="4214160"/>
                        <a:ext cx="126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2" name="Freeform 63"/>
                      <p:cNvSpPr/>
                      <p:nvPr/>
                    </p:nvSpPr>
                    <p:spPr>
                      <a:xfrm>
                        <a:off x="6156360" y="4225320"/>
                        <a:ext cx="147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3" name="Freeform 64"/>
                      <p:cNvSpPr/>
                      <p:nvPr/>
                    </p:nvSpPr>
                    <p:spPr>
                      <a:xfrm>
                        <a:off x="6158160" y="4237920"/>
                        <a:ext cx="1764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Freeform 65"/>
                      <p:cNvSpPr/>
                      <p:nvPr/>
                    </p:nvSpPr>
                    <p:spPr>
                      <a:xfrm>
                        <a:off x="6158160" y="4192920"/>
                        <a:ext cx="7200" cy="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Freeform 66"/>
                      <p:cNvSpPr/>
                      <p:nvPr/>
                    </p:nvSpPr>
                    <p:spPr>
                      <a:xfrm>
                        <a:off x="6171840" y="4191120"/>
                        <a:ext cx="62280" cy="7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26" name="Group 67"/>
                  <p:cNvGrpSpPr/>
                  <p:nvPr/>
                </p:nvGrpSpPr>
                <p:grpSpPr>
                  <a:xfrm>
                    <a:off x="6208200" y="4203000"/>
                    <a:ext cx="18360" cy="47160"/>
                    <a:chOff x="6208200" y="4203000"/>
                    <a:chExt cx="18360" cy="47160"/>
                  </a:xfrm>
                </p:grpSpPr>
                <p:sp>
                  <p:nvSpPr>
                    <p:cNvPr id="727" name="Freeform 68"/>
                    <p:cNvSpPr/>
                    <p:nvPr/>
                  </p:nvSpPr>
                  <p:spPr>
                    <a:xfrm>
                      <a:off x="6211800" y="4215600"/>
                      <a:ext cx="140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Freeform 69"/>
                    <p:cNvSpPr/>
                    <p:nvPr/>
                  </p:nvSpPr>
                  <p:spPr>
                    <a:xfrm>
                      <a:off x="6214320" y="4227840"/>
                      <a:ext cx="1224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Freeform 70"/>
                    <p:cNvSpPr/>
                    <p:nvPr/>
                  </p:nvSpPr>
                  <p:spPr>
                    <a:xfrm>
                      <a:off x="6213600" y="4241880"/>
                      <a:ext cx="126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Freeform 71"/>
                    <p:cNvSpPr/>
                    <p:nvPr/>
                  </p:nvSpPr>
                  <p:spPr>
                    <a:xfrm>
                      <a:off x="6208200" y="4203000"/>
                      <a:ext cx="1440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31" name="Freeform 72"/>
                <p:cNvSpPr/>
                <p:nvPr/>
              </p:nvSpPr>
              <p:spPr>
                <a:xfrm>
                  <a:off x="6109560" y="3886200"/>
                  <a:ext cx="171720" cy="31464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Oval 73"/>
                <p:cNvSpPr/>
                <p:nvPr/>
              </p:nvSpPr>
              <p:spPr>
                <a:xfrm>
                  <a:off x="6157800" y="4165200"/>
                  <a:ext cx="75240" cy="3204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74"/>
                <p:cNvSpPr/>
                <p:nvPr/>
              </p:nvSpPr>
              <p:spPr>
                <a:xfrm>
                  <a:off x="6236280" y="3917880"/>
                  <a:ext cx="28440" cy="4644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4" name="Group 75"/>
                <p:cNvGrpSpPr/>
                <p:nvPr/>
              </p:nvGrpSpPr>
              <p:grpSpPr>
                <a:xfrm>
                  <a:off x="6171480" y="3980880"/>
                  <a:ext cx="47880" cy="195480"/>
                  <a:chOff x="6171480" y="3980880"/>
                  <a:chExt cx="47880" cy="195480"/>
                </a:xfrm>
              </p:grpSpPr>
              <p:sp>
                <p:nvSpPr>
                  <p:cNvPr id="735" name="Freeform 76"/>
                  <p:cNvSpPr/>
                  <p:nvPr/>
                </p:nvSpPr>
                <p:spPr>
                  <a:xfrm>
                    <a:off x="6180480" y="4062240"/>
                    <a:ext cx="2952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Oval 77"/>
                  <p:cNvSpPr/>
                  <p:nvPr/>
                </p:nvSpPr>
                <p:spPr>
                  <a:xfrm>
                    <a:off x="6195600" y="4065840"/>
                    <a:ext cx="3600" cy="75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" name="Group 78"/>
                  <p:cNvGrpSpPr/>
                  <p:nvPr/>
                </p:nvGrpSpPr>
                <p:grpSpPr>
                  <a:xfrm>
                    <a:off x="6171480" y="3980880"/>
                    <a:ext cx="47880" cy="89640"/>
                    <a:chOff x="6171480" y="3980880"/>
                    <a:chExt cx="47880" cy="89640"/>
                  </a:xfrm>
                </p:grpSpPr>
                <p:sp>
                  <p:nvSpPr>
                    <p:cNvPr id="738" name="Oval 79"/>
                    <p:cNvSpPr/>
                    <p:nvPr/>
                  </p:nvSpPr>
                  <p:spPr>
                    <a:xfrm>
                      <a:off x="6174000" y="3980880"/>
                      <a:ext cx="43920" cy="30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Freeform 80"/>
                    <p:cNvSpPr/>
                    <p:nvPr/>
                  </p:nvSpPr>
                  <p:spPr>
                    <a:xfrm>
                      <a:off x="6171480" y="3994560"/>
                      <a:ext cx="4788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Group 81"/>
                  <p:cNvGrpSpPr/>
                  <p:nvPr/>
                </p:nvGrpSpPr>
                <p:grpSpPr>
                  <a:xfrm>
                    <a:off x="6186240" y="4078440"/>
                    <a:ext cx="16560" cy="87480"/>
                    <a:chOff x="6186240" y="4078440"/>
                    <a:chExt cx="16560" cy="87480"/>
                  </a:xfrm>
                </p:grpSpPr>
                <p:grpSp>
                  <p:nvGrpSpPr>
                    <p:cNvPr id="741" name=""/>
                    <p:cNvGrpSpPr/>
                    <p:nvPr/>
                  </p:nvGrpSpPr>
                  <p:grpSpPr>
                    <a:xfrm>
                      <a:off x="6189120" y="4080960"/>
                      <a:ext cx="360" cy="84960"/>
                      <a:chOff x="6189120" y="4080960"/>
                      <a:chExt cx="360" cy="84960"/>
                    </a:xfrm>
                  </p:grpSpPr>
                  <p:sp>
                    <p:nvSpPr>
                      <p:cNvPr id="742" name="Line 82"/>
                      <p:cNvSpPr/>
                      <p:nvPr/>
                    </p:nvSpPr>
                    <p:spPr>
                      <a:xfrm>
                        <a:off x="6189120" y="4080960"/>
                        <a:ext cx="0" cy="8496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3" name=""/>
                      <p:cNvSpPr txBox="1"/>
                      <p:nvPr/>
                    </p:nvSpPr>
                    <p:spPr>
                      <a:xfrm>
                        <a:off x="6189120" y="4080960"/>
                        <a:ext cx="360" cy="8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38160" bIns="38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44" name=""/>
                    <p:cNvGrpSpPr/>
                    <p:nvPr/>
                  </p:nvGrpSpPr>
                  <p:grpSpPr>
                    <a:xfrm>
                      <a:off x="6199920" y="4080600"/>
                      <a:ext cx="360" cy="84600"/>
                      <a:chOff x="6199920" y="4080600"/>
                      <a:chExt cx="360" cy="84600"/>
                    </a:xfrm>
                  </p:grpSpPr>
                  <p:sp>
                    <p:nvSpPr>
                      <p:cNvPr id="745" name="Line 83"/>
                      <p:cNvSpPr/>
                      <p:nvPr/>
                    </p:nvSpPr>
                    <p:spPr>
                      <a:xfrm flipV="1">
                        <a:off x="6200280" y="4080600"/>
                        <a:ext cx="0" cy="846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800" bIns="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"/>
                      <p:cNvSpPr txBox="1"/>
                      <p:nvPr/>
                    </p:nvSpPr>
                    <p:spPr>
                      <a:xfrm rot="10800000">
                        <a:off x="6199920" y="4080600"/>
                        <a:ext cx="360" cy="8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37800" bIns="37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47" name=""/>
                    <p:cNvGrpSpPr/>
                    <p:nvPr/>
                  </p:nvGrpSpPr>
                  <p:grpSpPr>
                    <a:xfrm>
                      <a:off x="6202440" y="4078440"/>
                      <a:ext cx="360" cy="84600"/>
                      <a:chOff x="6202440" y="4078440"/>
                      <a:chExt cx="360" cy="84600"/>
                    </a:xfrm>
                  </p:grpSpPr>
                  <p:sp>
                    <p:nvSpPr>
                      <p:cNvPr id="748" name="Line 84"/>
                      <p:cNvSpPr/>
                      <p:nvPr/>
                    </p:nvSpPr>
                    <p:spPr>
                      <a:xfrm flipV="1">
                        <a:off x="6202800" y="4078440"/>
                        <a:ext cx="0" cy="846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800" bIns="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"/>
                      <p:cNvSpPr txBox="1"/>
                      <p:nvPr/>
                    </p:nvSpPr>
                    <p:spPr>
                      <a:xfrm rot="10800000">
                        <a:off x="6202440" y="4078440"/>
                        <a:ext cx="360" cy="8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37800" bIns="37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0" name=""/>
                    <p:cNvGrpSpPr/>
                    <p:nvPr/>
                  </p:nvGrpSpPr>
                  <p:grpSpPr>
                    <a:xfrm>
                      <a:off x="6186240" y="4078440"/>
                      <a:ext cx="360" cy="84600"/>
                      <a:chOff x="6186240" y="4078440"/>
                      <a:chExt cx="360" cy="84600"/>
                    </a:xfrm>
                  </p:grpSpPr>
                  <p:sp>
                    <p:nvSpPr>
                      <p:cNvPr id="751" name="Line 85"/>
                      <p:cNvSpPr/>
                      <p:nvPr/>
                    </p:nvSpPr>
                    <p:spPr>
                      <a:xfrm flipV="1">
                        <a:off x="6186600" y="4078440"/>
                        <a:ext cx="0" cy="846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800" bIns="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2" name=""/>
                      <p:cNvSpPr txBox="1"/>
                      <p:nvPr/>
                    </p:nvSpPr>
                    <p:spPr>
                      <a:xfrm rot="10800000">
                        <a:off x="6186240" y="4078440"/>
                        <a:ext cx="360" cy="8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37800" bIns="37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53" name="Freeform 86"/>
                <p:cNvSpPr/>
                <p:nvPr/>
              </p:nvSpPr>
              <p:spPr>
                <a:xfrm>
                  <a:off x="6192000" y="4119840"/>
                  <a:ext cx="46440" cy="7344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4" name="Rectangle 87"/>
              <p:cNvSpPr/>
              <p:nvPr/>
            </p:nvSpPr>
            <p:spPr>
              <a:xfrm>
                <a:off x="6076800" y="4222800"/>
                <a:ext cx="230400" cy="170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5" name="xjhsy3"/>
          <p:cNvGrpSpPr/>
          <p:nvPr/>
        </p:nvGrpSpPr>
        <p:grpSpPr>
          <a:xfrm>
            <a:off x="5003640" y="4869000"/>
            <a:ext cx="1800360" cy="667440"/>
            <a:chOff x="5003640" y="4869000"/>
            <a:chExt cx="1800360" cy="667440"/>
          </a:xfrm>
        </p:grpSpPr>
        <p:grpSp>
          <p:nvGrpSpPr>
            <p:cNvPr id="756" name="Group 7"/>
            <p:cNvGrpSpPr/>
            <p:nvPr/>
          </p:nvGrpSpPr>
          <p:grpSpPr>
            <a:xfrm>
              <a:off x="5003640" y="5200200"/>
              <a:ext cx="1800360" cy="336240"/>
              <a:chOff x="5003640" y="5200200"/>
              <a:chExt cx="1800360" cy="336240"/>
            </a:xfrm>
          </p:grpSpPr>
          <p:sp>
            <p:nvSpPr>
              <p:cNvPr id="757" name="Freeform 8"/>
              <p:cNvSpPr/>
              <p:nvPr/>
            </p:nvSpPr>
            <p:spPr>
              <a:xfrm flipV="1">
                <a:off x="5003640" y="5470200"/>
                <a:ext cx="1800360" cy="6588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AutoShape 9"/>
              <p:cNvSpPr/>
              <p:nvPr/>
            </p:nvSpPr>
            <p:spPr>
              <a:xfrm>
                <a:off x="6592320" y="5202360"/>
                <a:ext cx="153720" cy="2152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0"/>
              <p:cNvSpPr/>
              <p:nvPr/>
            </p:nvSpPr>
            <p:spPr>
              <a:xfrm>
                <a:off x="5306760" y="5200200"/>
                <a:ext cx="153720" cy="2152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11"/>
            <p:cNvGrpSpPr/>
            <p:nvPr/>
          </p:nvGrpSpPr>
          <p:grpSpPr>
            <a:xfrm>
              <a:off x="5813640" y="4869000"/>
              <a:ext cx="261720" cy="546480"/>
              <a:chOff x="5813640" y="4869000"/>
              <a:chExt cx="261720" cy="546480"/>
            </a:xfrm>
          </p:grpSpPr>
          <p:grpSp>
            <p:nvGrpSpPr>
              <p:cNvPr id="761" name="Group 12"/>
              <p:cNvGrpSpPr/>
              <p:nvPr/>
            </p:nvGrpSpPr>
            <p:grpSpPr>
              <a:xfrm>
                <a:off x="5850720" y="4869000"/>
                <a:ext cx="195120" cy="427680"/>
                <a:chOff x="5850720" y="4869000"/>
                <a:chExt cx="195120" cy="427680"/>
              </a:xfrm>
            </p:grpSpPr>
            <p:grpSp>
              <p:nvGrpSpPr>
                <p:cNvPr id="762" name="Group 13"/>
                <p:cNvGrpSpPr/>
                <p:nvPr/>
              </p:nvGrpSpPr>
              <p:grpSpPr>
                <a:xfrm>
                  <a:off x="5903640" y="5196600"/>
                  <a:ext cx="88200" cy="100080"/>
                  <a:chOff x="5903640" y="5196600"/>
                  <a:chExt cx="88200" cy="100080"/>
                </a:xfrm>
              </p:grpSpPr>
              <p:grpSp>
                <p:nvGrpSpPr>
                  <p:cNvPr id="763" name="Group 14"/>
                  <p:cNvGrpSpPr/>
                  <p:nvPr/>
                </p:nvGrpSpPr>
                <p:grpSpPr>
                  <a:xfrm>
                    <a:off x="5903640" y="5196600"/>
                    <a:ext cx="88200" cy="100080"/>
                    <a:chOff x="5903640" y="5196600"/>
                    <a:chExt cx="88200" cy="100080"/>
                  </a:xfrm>
                </p:grpSpPr>
                <p:grpSp>
                  <p:nvGrpSpPr>
                    <p:cNvPr id="764" name="Group 15"/>
                    <p:cNvGrpSpPr/>
                    <p:nvPr/>
                  </p:nvGrpSpPr>
                  <p:grpSpPr>
                    <a:xfrm>
                      <a:off x="5925600" y="5273640"/>
                      <a:ext cx="48240" cy="23040"/>
                      <a:chOff x="5925600" y="5273640"/>
                      <a:chExt cx="48240" cy="23040"/>
                    </a:xfrm>
                  </p:grpSpPr>
                  <p:sp>
                    <p:nvSpPr>
                      <p:cNvPr id="765" name="Freeform 16"/>
                      <p:cNvSpPr/>
                      <p:nvPr/>
                    </p:nvSpPr>
                    <p:spPr>
                      <a:xfrm>
                        <a:off x="5925600" y="5273640"/>
                        <a:ext cx="4824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6" name="Freeform 17"/>
                      <p:cNvSpPr/>
                      <p:nvPr/>
                    </p:nvSpPr>
                    <p:spPr>
                      <a:xfrm>
                        <a:off x="5933160" y="5273640"/>
                        <a:ext cx="216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7" name="Group 18"/>
                    <p:cNvGrpSpPr/>
                    <p:nvPr/>
                  </p:nvGrpSpPr>
                  <p:grpSpPr>
                    <a:xfrm>
                      <a:off x="5903640" y="5196600"/>
                      <a:ext cx="88200" cy="83520"/>
                      <a:chOff x="5903640" y="5196600"/>
                      <a:chExt cx="88200" cy="83520"/>
                    </a:xfrm>
                  </p:grpSpPr>
                  <p:sp>
                    <p:nvSpPr>
                      <p:cNvPr id="768" name="Freeform 19"/>
                      <p:cNvSpPr/>
                      <p:nvPr/>
                    </p:nvSpPr>
                    <p:spPr>
                      <a:xfrm>
                        <a:off x="5903640" y="5196600"/>
                        <a:ext cx="882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Freeform 20"/>
                      <p:cNvSpPr/>
                      <p:nvPr/>
                    </p:nvSpPr>
                    <p:spPr>
                      <a:xfrm>
                        <a:off x="5904000" y="5207760"/>
                        <a:ext cx="108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Freeform 21"/>
                      <p:cNvSpPr/>
                      <p:nvPr/>
                    </p:nvSpPr>
                    <p:spPr>
                      <a:xfrm>
                        <a:off x="5904360" y="5222160"/>
                        <a:ext cx="144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Freeform 22"/>
                      <p:cNvSpPr/>
                      <p:nvPr/>
                    </p:nvSpPr>
                    <p:spPr>
                      <a:xfrm>
                        <a:off x="5903640" y="5234400"/>
                        <a:ext cx="1692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Freeform 23"/>
                      <p:cNvSpPr/>
                      <p:nvPr/>
                    </p:nvSpPr>
                    <p:spPr>
                      <a:xfrm>
                        <a:off x="5905440" y="5247720"/>
                        <a:ext cx="201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3" name="Freeform 24"/>
                      <p:cNvSpPr/>
                      <p:nvPr/>
                    </p:nvSpPr>
                    <p:spPr>
                      <a:xfrm>
                        <a:off x="5905800" y="5199480"/>
                        <a:ext cx="8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4" name="Freeform 25"/>
                      <p:cNvSpPr/>
                      <p:nvPr/>
                    </p:nvSpPr>
                    <p:spPr>
                      <a:xfrm>
                        <a:off x="5920920" y="5197320"/>
                        <a:ext cx="709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75" name="Group 26"/>
                  <p:cNvGrpSpPr/>
                  <p:nvPr/>
                </p:nvGrpSpPr>
                <p:grpSpPr>
                  <a:xfrm>
                    <a:off x="5962680" y="5209920"/>
                    <a:ext cx="20880" cy="50760"/>
                    <a:chOff x="5962680" y="5209920"/>
                    <a:chExt cx="20880" cy="50760"/>
                  </a:xfrm>
                </p:grpSpPr>
                <p:sp>
                  <p:nvSpPr>
                    <p:cNvPr id="776" name="Freeform 27"/>
                    <p:cNvSpPr/>
                    <p:nvPr/>
                  </p:nvSpPr>
                  <p:spPr>
                    <a:xfrm>
                      <a:off x="5966640" y="5223240"/>
                      <a:ext cx="162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28"/>
                    <p:cNvSpPr/>
                    <p:nvPr/>
                  </p:nvSpPr>
                  <p:spPr>
                    <a:xfrm>
                      <a:off x="5969520" y="523656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Freeform 29"/>
                    <p:cNvSpPr/>
                    <p:nvPr/>
                  </p:nvSpPr>
                  <p:spPr>
                    <a:xfrm>
                      <a:off x="5968800" y="525168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Freeform 30"/>
                    <p:cNvSpPr/>
                    <p:nvPr/>
                  </p:nvSpPr>
                  <p:spPr>
                    <a:xfrm>
                      <a:off x="5962680" y="5209920"/>
                      <a:ext cx="16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80" name="Freeform 31"/>
                <p:cNvSpPr/>
                <p:nvPr/>
              </p:nvSpPr>
              <p:spPr>
                <a:xfrm>
                  <a:off x="5850720" y="4869000"/>
                  <a:ext cx="195120" cy="339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Oval 32"/>
                <p:cNvSpPr/>
                <p:nvPr/>
              </p:nvSpPr>
              <p:spPr>
                <a:xfrm>
                  <a:off x="5905440" y="5169600"/>
                  <a:ext cx="85680" cy="342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33"/>
                <p:cNvSpPr/>
                <p:nvPr/>
              </p:nvSpPr>
              <p:spPr>
                <a:xfrm>
                  <a:off x="5994720" y="4902840"/>
                  <a:ext cx="32400" cy="5004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3" name="Group 34"/>
                <p:cNvGrpSpPr/>
                <p:nvPr/>
              </p:nvGrpSpPr>
              <p:grpSpPr>
                <a:xfrm>
                  <a:off x="5920920" y="4970880"/>
                  <a:ext cx="54360" cy="210600"/>
                  <a:chOff x="5920920" y="4970880"/>
                  <a:chExt cx="54360" cy="210600"/>
                </a:xfrm>
              </p:grpSpPr>
              <p:sp>
                <p:nvSpPr>
                  <p:cNvPr id="784" name="Freeform 35"/>
                  <p:cNvSpPr/>
                  <p:nvPr/>
                </p:nvSpPr>
                <p:spPr>
                  <a:xfrm>
                    <a:off x="5931000" y="5058720"/>
                    <a:ext cx="334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Oval 36"/>
                  <p:cNvSpPr/>
                  <p:nvPr/>
                </p:nvSpPr>
                <p:spPr>
                  <a:xfrm>
                    <a:off x="5948280" y="5062680"/>
                    <a:ext cx="4320" cy="82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6" name="Group 37"/>
                  <p:cNvGrpSpPr/>
                  <p:nvPr/>
                </p:nvGrpSpPr>
                <p:grpSpPr>
                  <a:xfrm>
                    <a:off x="5920920" y="4970880"/>
                    <a:ext cx="54360" cy="96480"/>
                    <a:chOff x="5920920" y="4970880"/>
                    <a:chExt cx="54360" cy="96480"/>
                  </a:xfrm>
                </p:grpSpPr>
                <p:sp>
                  <p:nvSpPr>
                    <p:cNvPr id="787" name="Oval 38"/>
                    <p:cNvSpPr/>
                    <p:nvPr/>
                  </p:nvSpPr>
                  <p:spPr>
                    <a:xfrm>
                      <a:off x="5923800" y="4970880"/>
                      <a:ext cx="49680" cy="3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Freeform 39"/>
                    <p:cNvSpPr/>
                    <p:nvPr/>
                  </p:nvSpPr>
                  <p:spPr>
                    <a:xfrm>
                      <a:off x="5920920" y="4985640"/>
                      <a:ext cx="5436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Group 40"/>
                  <p:cNvGrpSpPr/>
                  <p:nvPr/>
                </p:nvGrpSpPr>
                <p:grpSpPr>
                  <a:xfrm>
                    <a:off x="5937840" y="5076000"/>
                    <a:ext cx="19080" cy="93960"/>
                    <a:chOff x="5937840" y="5076000"/>
                    <a:chExt cx="19080" cy="93960"/>
                  </a:xfrm>
                </p:grpSpPr>
                <p:grpSp>
                  <p:nvGrpSpPr>
                    <p:cNvPr id="790" name=""/>
                    <p:cNvGrpSpPr/>
                    <p:nvPr/>
                  </p:nvGrpSpPr>
                  <p:grpSpPr>
                    <a:xfrm>
                      <a:off x="5941080" y="5078520"/>
                      <a:ext cx="360" cy="91440"/>
                      <a:chOff x="5941080" y="5078520"/>
                      <a:chExt cx="360" cy="91440"/>
                    </a:xfrm>
                  </p:grpSpPr>
                  <p:sp>
                    <p:nvSpPr>
                      <p:cNvPr id="791" name="Line 41"/>
                      <p:cNvSpPr/>
                      <p:nvPr/>
                    </p:nvSpPr>
                    <p:spPr>
                      <a:xfrm>
                        <a:off x="5941080" y="5078520"/>
                        <a:ext cx="0" cy="914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2" name=""/>
                      <p:cNvSpPr txBox="1"/>
                      <p:nvPr/>
                    </p:nvSpPr>
                    <p:spPr>
                      <a:xfrm>
                        <a:off x="5941080" y="5078520"/>
                        <a:ext cx="360" cy="9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640" bIns="44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3" name=""/>
                    <p:cNvGrpSpPr/>
                    <p:nvPr/>
                  </p:nvGrpSpPr>
                  <p:grpSpPr>
                    <a:xfrm>
                      <a:off x="5953320" y="5078520"/>
                      <a:ext cx="720" cy="90720"/>
                      <a:chOff x="5953320" y="5078520"/>
                      <a:chExt cx="720" cy="90720"/>
                    </a:xfrm>
                  </p:grpSpPr>
                  <p:sp>
                    <p:nvSpPr>
                      <p:cNvPr id="794" name="Line 42"/>
                      <p:cNvSpPr/>
                      <p:nvPr/>
                    </p:nvSpPr>
                    <p:spPr>
                      <a:xfrm flipV="1">
                        <a:off x="5953680" y="5078520"/>
                        <a:ext cx="360" cy="907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5" name=""/>
                      <p:cNvSpPr txBox="1"/>
                      <p:nvPr/>
                    </p:nvSpPr>
                    <p:spPr>
                      <a:xfrm rot="10800000">
                        <a:off x="5953320" y="5078520"/>
                        <a:ext cx="360" cy="9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3920" bIns="43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6" name=""/>
                    <p:cNvGrpSpPr/>
                    <p:nvPr/>
                  </p:nvGrpSpPr>
                  <p:grpSpPr>
                    <a:xfrm>
                      <a:off x="5956560" y="5076000"/>
                      <a:ext cx="360" cy="91080"/>
                      <a:chOff x="5956560" y="5076000"/>
                      <a:chExt cx="360" cy="91080"/>
                    </a:xfrm>
                  </p:grpSpPr>
                  <p:sp>
                    <p:nvSpPr>
                      <p:cNvPr id="797" name="Line 43"/>
                      <p:cNvSpPr/>
                      <p:nvPr/>
                    </p:nvSpPr>
                    <p:spPr>
                      <a:xfrm flipV="1">
                        <a:off x="5956920" y="507600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8" name=""/>
                      <p:cNvSpPr txBox="1"/>
                      <p:nvPr/>
                    </p:nvSpPr>
                    <p:spPr>
                      <a:xfrm rot="10800000">
                        <a:off x="5956560" y="507600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9" name=""/>
                    <p:cNvGrpSpPr/>
                    <p:nvPr/>
                  </p:nvGrpSpPr>
                  <p:grpSpPr>
                    <a:xfrm>
                      <a:off x="5937840" y="5076000"/>
                      <a:ext cx="360" cy="91080"/>
                      <a:chOff x="5937840" y="5076000"/>
                      <a:chExt cx="360" cy="91080"/>
                    </a:xfrm>
                  </p:grpSpPr>
                  <p:sp>
                    <p:nvSpPr>
                      <p:cNvPr id="800" name="Line 44"/>
                      <p:cNvSpPr/>
                      <p:nvPr/>
                    </p:nvSpPr>
                    <p:spPr>
                      <a:xfrm flipV="1">
                        <a:off x="5938200" y="507600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1" name=""/>
                      <p:cNvSpPr txBox="1"/>
                      <p:nvPr/>
                    </p:nvSpPr>
                    <p:spPr>
                      <a:xfrm rot="10800000">
                        <a:off x="5937840" y="507600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802" name="Freeform 45"/>
                <p:cNvSpPr/>
                <p:nvPr/>
              </p:nvSpPr>
              <p:spPr>
                <a:xfrm>
                  <a:off x="5944320" y="5120640"/>
                  <a:ext cx="52560" cy="792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3" name="Rectangle 46"/>
              <p:cNvSpPr/>
              <p:nvPr/>
            </p:nvSpPr>
            <p:spPr>
              <a:xfrm>
                <a:off x="5813640" y="5231520"/>
                <a:ext cx="261720" cy="183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04" name="xjhsy4" descr="w3"/>
          <p:cNvPicPr/>
          <p:nvPr/>
        </p:nvPicPr>
        <p:blipFill>
          <a:blip r:embed="rId5"/>
          <a:stretch/>
        </p:blipFill>
        <p:spPr>
          <a:xfrm>
            <a:off x="3564000" y="5803920"/>
            <a:ext cx="1825560" cy="1082520"/>
          </a:xfrm>
          <a:prstGeom prst="rect">
            <a:avLst/>
          </a:prstGeom>
          <a:ln w="0">
            <a:noFill/>
          </a:ln>
        </p:spPr>
      </p:pic>
      <p:pic>
        <p:nvPicPr>
          <p:cNvPr id="805" name="xjhsy8" descr="w7"/>
          <p:cNvPicPr/>
          <p:nvPr/>
        </p:nvPicPr>
        <p:blipFill>
          <a:blip r:embed="rId6"/>
          <a:stretch/>
        </p:blipFill>
        <p:spPr>
          <a:xfrm>
            <a:off x="6156360" y="5589720"/>
            <a:ext cx="1440000" cy="1035000"/>
          </a:xfrm>
          <a:prstGeom prst="rect">
            <a:avLst/>
          </a:prstGeom>
          <a:ln w="0">
            <a:noFill/>
          </a:ln>
        </p:spPr>
      </p:pic>
      <p:sp>
        <p:nvSpPr>
          <p:cNvPr id="806" name="Freeform 98"/>
          <p:cNvSpPr/>
          <p:nvPr/>
        </p:nvSpPr>
        <p:spPr>
          <a:xfrm>
            <a:off x="4788000" y="6237360"/>
            <a:ext cx="1655640" cy="479520"/>
          </a:xfrm>
          <a:custGeom>
            <a:avLst/>
            <a:gdLst/>
            <a:ahLst/>
            <a:rect l="l" t="t" r="r" b="b"/>
            <a:pathLst>
              <a:path w="1043" h="302">
                <a:moveTo>
                  <a:pt x="0" y="181"/>
                </a:moveTo>
                <a:cubicBezTo>
                  <a:pt x="185" y="241"/>
                  <a:pt x="370" y="302"/>
                  <a:pt x="544" y="272"/>
                </a:cubicBezTo>
                <a:cubicBezTo>
                  <a:pt x="718" y="242"/>
                  <a:pt x="960" y="45"/>
                  <a:pt x="1043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99"/>
          <p:cNvSpPr/>
          <p:nvPr/>
        </p:nvSpPr>
        <p:spPr>
          <a:xfrm>
            <a:off x="6732720" y="5229360"/>
            <a:ext cx="960480" cy="1008000"/>
          </a:xfrm>
          <a:custGeom>
            <a:avLst/>
            <a:gdLst/>
            <a:ahLst/>
            <a:rect l="l" t="t" r="r" b="b"/>
            <a:pathLst>
              <a:path w="605" h="635">
                <a:moveTo>
                  <a:pt x="363" y="635"/>
                </a:moveTo>
                <a:cubicBezTo>
                  <a:pt x="484" y="529"/>
                  <a:pt x="605" y="424"/>
                  <a:pt x="544" y="318"/>
                </a:cubicBezTo>
                <a:cubicBezTo>
                  <a:pt x="483" y="212"/>
                  <a:pt x="91" y="53"/>
                  <a:pt x="0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00"/>
          <p:cNvSpPr/>
          <p:nvPr/>
        </p:nvSpPr>
        <p:spPr>
          <a:xfrm>
            <a:off x="6659640" y="4292640"/>
            <a:ext cx="685800" cy="936720"/>
          </a:xfrm>
          <a:custGeom>
            <a:avLst/>
            <a:gdLst/>
            <a:ahLst/>
            <a:rect l="l" t="t" r="r" b="b"/>
            <a:pathLst>
              <a:path w="432" h="590">
                <a:moveTo>
                  <a:pt x="0" y="590"/>
                </a:moveTo>
                <a:cubicBezTo>
                  <a:pt x="193" y="503"/>
                  <a:pt x="386" y="416"/>
                  <a:pt x="409" y="318"/>
                </a:cubicBezTo>
                <a:cubicBezTo>
                  <a:pt x="432" y="220"/>
                  <a:pt x="182" y="53"/>
                  <a:pt x="137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101"/>
          <p:cNvSpPr/>
          <p:nvPr/>
        </p:nvSpPr>
        <p:spPr>
          <a:xfrm>
            <a:off x="4884840" y="4292640"/>
            <a:ext cx="766800" cy="1008000"/>
          </a:xfrm>
          <a:custGeom>
            <a:avLst/>
            <a:gdLst/>
            <a:ahLst/>
            <a:rect l="l" t="t" r="r" b="b"/>
            <a:pathLst>
              <a:path w="483" h="635">
                <a:moveTo>
                  <a:pt x="483" y="0"/>
                </a:moveTo>
                <a:cubicBezTo>
                  <a:pt x="271" y="83"/>
                  <a:pt x="60" y="166"/>
                  <a:pt x="30" y="272"/>
                </a:cubicBezTo>
                <a:cubicBezTo>
                  <a:pt x="0" y="378"/>
                  <a:pt x="257" y="575"/>
                  <a:pt x="302" y="635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102"/>
          <p:cNvSpPr/>
          <p:nvPr/>
        </p:nvSpPr>
        <p:spPr>
          <a:xfrm>
            <a:off x="3456000" y="5229360"/>
            <a:ext cx="1908000" cy="1295280"/>
          </a:xfrm>
          <a:custGeom>
            <a:avLst/>
            <a:gdLst/>
            <a:ahLst/>
            <a:rect l="l" t="t" r="r" b="b"/>
            <a:pathLst>
              <a:path w="1202" h="816">
                <a:moveTo>
                  <a:pt x="1202" y="0"/>
                </a:moveTo>
                <a:cubicBezTo>
                  <a:pt x="760" y="45"/>
                  <a:pt x="318" y="91"/>
                  <a:pt x="159" y="227"/>
                </a:cubicBezTo>
                <a:cubicBezTo>
                  <a:pt x="0" y="363"/>
                  <a:pt x="234" y="718"/>
                  <a:pt x="249" y="816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3384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设计电路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4"/>
          <p:cNvSpPr/>
          <p:nvPr/>
        </p:nvSpPr>
        <p:spPr>
          <a:xfrm>
            <a:off x="4427640" y="9079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ee0"/>
                </a:solidFill>
                <a:latin typeface="Arial"/>
              </a:rPr>
              <a:t>根据电路图连接实物电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131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2987640" cy="2339640"/>
          </a:xfrm>
          <a:prstGeom prst="rect">
            <a:avLst/>
          </a:prstGeom>
          <a:ln w="0">
            <a:noFill/>
          </a:ln>
        </p:spPr>
      </p:pic>
      <p:pic>
        <p:nvPicPr>
          <p:cNvPr id="814" name="xjhsy7" descr="w52"/>
          <p:cNvPicPr/>
          <p:nvPr/>
        </p:nvPicPr>
        <p:blipFill>
          <a:blip r:embed="rId2"/>
          <a:stretch/>
        </p:blipFill>
        <p:spPr>
          <a:xfrm>
            <a:off x="5435640" y="2060640"/>
            <a:ext cx="1800360" cy="1495440"/>
          </a:xfrm>
          <a:prstGeom prst="rect">
            <a:avLst/>
          </a:prstGeom>
          <a:ln w="0">
            <a:noFill/>
          </a:ln>
        </p:spPr>
      </p:pic>
      <p:grpSp>
        <p:nvGrpSpPr>
          <p:cNvPr id="815" name="xjhsy3"/>
          <p:cNvGrpSpPr/>
          <p:nvPr/>
        </p:nvGrpSpPr>
        <p:grpSpPr>
          <a:xfrm>
            <a:off x="5076720" y="3429000"/>
            <a:ext cx="2016360" cy="790200"/>
            <a:chOff x="5076720" y="3429000"/>
            <a:chExt cx="2016360" cy="790200"/>
          </a:xfrm>
        </p:grpSpPr>
        <p:grpSp>
          <p:nvGrpSpPr>
            <p:cNvPr id="816" name="Group 48"/>
            <p:cNvGrpSpPr/>
            <p:nvPr/>
          </p:nvGrpSpPr>
          <p:grpSpPr>
            <a:xfrm>
              <a:off x="5076720" y="3820680"/>
              <a:ext cx="2016360" cy="398520"/>
              <a:chOff x="5076720" y="3820680"/>
              <a:chExt cx="2016360" cy="398520"/>
            </a:xfrm>
          </p:grpSpPr>
          <p:sp>
            <p:nvSpPr>
              <p:cNvPr id="817" name="Freeform 49"/>
              <p:cNvSpPr/>
              <p:nvPr/>
            </p:nvSpPr>
            <p:spPr>
              <a:xfrm flipV="1">
                <a:off x="5076720" y="4140720"/>
                <a:ext cx="2016360" cy="7812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50"/>
              <p:cNvSpPr/>
              <p:nvPr/>
            </p:nvSpPr>
            <p:spPr>
              <a:xfrm>
                <a:off x="6856200" y="3823200"/>
                <a:ext cx="172080" cy="2548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51"/>
              <p:cNvSpPr/>
              <p:nvPr/>
            </p:nvSpPr>
            <p:spPr>
              <a:xfrm>
                <a:off x="5416200" y="3820680"/>
                <a:ext cx="172080" cy="2548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52"/>
            <p:cNvGrpSpPr/>
            <p:nvPr/>
          </p:nvGrpSpPr>
          <p:grpSpPr>
            <a:xfrm>
              <a:off x="5983920" y="3429000"/>
              <a:ext cx="293040" cy="646200"/>
              <a:chOff x="5983920" y="3429000"/>
              <a:chExt cx="293040" cy="646200"/>
            </a:xfrm>
          </p:grpSpPr>
          <p:grpSp>
            <p:nvGrpSpPr>
              <p:cNvPr id="821" name="Group 53"/>
              <p:cNvGrpSpPr/>
              <p:nvPr/>
            </p:nvGrpSpPr>
            <p:grpSpPr>
              <a:xfrm>
                <a:off x="6025680" y="3429000"/>
                <a:ext cx="218520" cy="506160"/>
                <a:chOff x="6025680" y="3429000"/>
                <a:chExt cx="218520" cy="506160"/>
              </a:xfrm>
            </p:grpSpPr>
            <p:grpSp>
              <p:nvGrpSpPr>
                <p:cNvPr id="822" name="Group 54"/>
                <p:cNvGrpSpPr/>
                <p:nvPr/>
              </p:nvGrpSpPr>
              <p:grpSpPr>
                <a:xfrm>
                  <a:off x="6085080" y="3816720"/>
                  <a:ext cx="98640" cy="118440"/>
                  <a:chOff x="6085080" y="3816720"/>
                  <a:chExt cx="98640" cy="118440"/>
                </a:xfrm>
              </p:grpSpPr>
              <p:grpSp>
                <p:nvGrpSpPr>
                  <p:cNvPr id="823" name="Group 55"/>
                  <p:cNvGrpSpPr/>
                  <p:nvPr/>
                </p:nvGrpSpPr>
                <p:grpSpPr>
                  <a:xfrm>
                    <a:off x="6085080" y="3816720"/>
                    <a:ext cx="98640" cy="118440"/>
                    <a:chOff x="6085080" y="3816720"/>
                    <a:chExt cx="98640" cy="118440"/>
                  </a:xfrm>
                </p:grpSpPr>
                <p:grpSp>
                  <p:nvGrpSpPr>
                    <p:cNvPr id="824" name="Group 56"/>
                    <p:cNvGrpSpPr/>
                    <p:nvPr/>
                  </p:nvGrpSpPr>
                  <p:grpSpPr>
                    <a:xfrm>
                      <a:off x="6109560" y="3908160"/>
                      <a:ext cx="53640" cy="27000"/>
                      <a:chOff x="6109560" y="3908160"/>
                      <a:chExt cx="53640" cy="27000"/>
                    </a:xfrm>
                  </p:grpSpPr>
                  <p:sp>
                    <p:nvSpPr>
                      <p:cNvPr id="825" name="Freeform 57"/>
                      <p:cNvSpPr/>
                      <p:nvPr/>
                    </p:nvSpPr>
                    <p:spPr>
                      <a:xfrm>
                        <a:off x="6109560" y="3908160"/>
                        <a:ext cx="53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6" name="Freeform 58"/>
                      <p:cNvSpPr/>
                      <p:nvPr/>
                    </p:nvSpPr>
                    <p:spPr>
                      <a:xfrm>
                        <a:off x="6117840" y="390816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27" name="Group 59"/>
                    <p:cNvGrpSpPr/>
                    <p:nvPr/>
                  </p:nvGrpSpPr>
                  <p:grpSpPr>
                    <a:xfrm>
                      <a:off x="6085080" y="3816720"/>
                      <a:ext cx="98640" cy="99000"/>
                      <a:chOff x="6085080" y="3816720"/>
                      <a:chExt cx="98640" cy="99000"/>
                    </a:xfrm>
                  </p:grpSpPr>
                  <p:sp>
                    <p:nvSpPr>
                      <p:cNvPr id="828" name="Freeform 60"/>
                      <p:cNvSpPr/>
                      <p:nvPr/>
                    </p:nvSpPr>
                    <p:spPr>
                      <a:xfrm>
                        <a:off x="6085080" y="3816720"/>
                        <a:ext cx="98640" cy="9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9" name="Freeform 61"/>
                      <p:cNvSpPr/>
                      <p:nvPr/>
                    </p:nvSpPr>
                    <p:spPr>
                      <a:xfrm>
                        <a:off x="6085440" y="3829680"/>
                        <a:ext cx="1188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0" name="Freeform 62"/>
                      <p:cNvSpPr/>
                      <p:nvPr/>
                    </p:nvSpPr>
                    <p:spPr>
                      <a:xfrm>
                        <a:off x="6085800" y="3846960"/>
                        <a:ext cx="158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1" name="Freeform 63"/>
                      <p:cNvSpPr/>
                      <p:nvPr/>
                    </p:nvSpPr>
                    <p:spPr>
                      <a:xfrm>
                        <a:off x="6085080" y="3861360"/>
                        <a:ext cx="187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2" name="Freeform 64"/>
                      <p:cNvSpPr/>
                      <p:nvPr/>
                    </p:nvSpPr>
                    <p:spPr>
                      <a:xfrm>
                        <a:off x="6087240" y="3877200"/>
                        <a:ext cx="2232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3" name="Freeform 65"/>
                      <p:cNvSpPr/>
                      <p:nvPr/>
                    </p:nvSpPr>
                    <p:spPr>
                      <a:xfrm>
                        <a:off x="6087600" y="3819960"/>
                        <a:ext cx="900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4" name="Freeform 66"/>
                      <p:cNvSpPr/>
                      <p:nvPr/>
                    </p:nvSpPr>
                    <p:spPr>
                      <a:xfrm>
                        <a:off x="6104520" y="3817800"/>
                        <a:ext cx="7920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35" name="Group 67"/>
                  <p:cNvGrpSpPr/>
                  <p:nvPr/>
                </p:nvGrpSpPr>
                <p:grpSpPr>
                  <a:xfrm>
                    <a:off x="6150960" y="3832560"/>
                    <a:ext cx="23400" cy="60120"/>
                    <a:chOff x="6150960" y="3832560"/>
                    <a:chExt cx="23400" cy="60120"/>
                  </a:xfrm>
                </p:grpSpPr>
                <p:sp>
                  <p:nvSpPr>
                    <p:cNvPr id="836" name="Freeform 68"/>
                    <p:cNvSpPr/>
                    <p:nvPr/>
                  </p:nvSpPr>
                  <p:spPr>
                    <a:xfrm>
                      <a:off x="6155280" y="3848400"/>
                      <a:ext cx="180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Freeform 69"/>
                    <p:cNvSpPr/>
                    <p:nvPr/>
                  </p:nvSpPr>
                  <p:spPr>
                    <a:xfrm>
                      <a:off x="6158520" y="3863880"/>
                      <a:ext cx="1584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Freeform 70"/>
                    <p:cNvSpPr/>
                    <p:nvPr/>
                  </p:nvSpPr>
                  <p:spPr>
                    <a:xfrm>
                      <a:off x="6157800" y="3882240"/>
                      <a:ext cx="16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Freeform 71"/>
                    <p:cNvSpPr/>
                    <p:nvPr/>
                  </p:nvSpPr>
                  <p:spPr>
                    <a:xfrm>
                      <a:off x="6150960" y="3832560"/>
                      <a:ext cx="183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40" name="Freeform 72"/>
                <p:cNvSpPr/>
                <p:nvPr/>
              </p:nvSpPr>
              <p:spPr>
                <a:xfrm>
                  <a:off x="6025680" y="3429000"/>
                  <a:ext cx="218520" cy="40068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Oval 73"/>
                <p:cNvSpPr/>
                <p:nvPr/>
              </p:nvSpPr>
              <p:spPr>
                <a:xfrm>
                  <a:off x="6086880" y="3784320"/>
                  <a:ext cx="95760" cy="4068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74"/>
                <p:cNvSpPr/>
                <p:nvPr/>
              </p:nvSpPr>
              <p:spPr>
                <a:xfrm>
                  <a:off x="6186960" y="3469320"/>
                  <a:ext cx="36360" cy="59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Group 75"/>
                <p:cNvGrpSpPr/>
                <p:nvPr/>
              </p:nvGrpSpPr>
              <p:grpSpPr>
                <a:xfrm>
                  <a:off x="6104520" y="3549600"/>
                  <a:ext cx="60840" cy="248760"/>
                  <a:chOff x="6104520" y="3549600"/>
                  <a:chExt cx="60840" cy="248760"/>
                </a:xfrm>
              </p:grpSpPr>
              <p:sp>
                <p:nvSpPr>
                  <p:cNvPr id="844" name="Freeform 76"/>
                  <p:cNvSpPr/>
                  <p:nvPr/>
                </p:nvSpPr>
                <p:spPr>
                  <a:xfrm>
                    <a:off x="6116040" y="3653280"/>
                    <a:ext cx="3744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Oval 77"/>
                  <p:cNvSpPr/>
                  <p:nvPr/>
                </p:nvSpPr>
                <p:spPr>
                  <a:xfrm>
                    <a:off x="6135120" y="3657960"/>
                    <a:ext cx="4680" cy="97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6" name="Group 78"/>
                  <p:cNvGrpSpPr/>
                  <p:nvPr/>
                </p:nvGrpSpPr>
                <p:grpSpPr>
                  <a:xfrm>
                    <a:off x="6104520" y="3549600"/>
                    <a:ext cx="60840" cy="114120"/>
                    <a:chOff x="6104520" y="3549600"/>
                    <a:chExt cx="60840" cy="114120"/>
                  </a:xfrm>
                </p:grpSpPr>
                <p:sp>
                  <p:nvSpPr>
                    <p:cNvPr id="847" name="Oval 79"/>
                    <p:cNvSpPr/>
                    <p:nvPr/>
                  </p:nvSpPr>
                  <p:spPr>
                    <a:xfrm>
                      <a:off x="6108120" y="3549600"/>
                      <a:ext cx="55800" cy="38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Freeform 80"/>
                    <p:cNvSpPr/>
                    <p:nvPr/>
                  </p:nvSpPr>
                  <p:spPr>
                    <a:xfrm>
                      <a:off x="6104520" y="3567240"/>
                      <a:ext cx="6084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9" name="Group 81"/>
                  <p:cNvGrpSpPr/>
                  <p:nvPr/>
                </p:nvGrpSpPr>
                <p:grpSpPr>
                  <a:xfrm>
                    <a:off x="6123240" y="3673800"/>
                    <a:ext cx="21240" cy="111240"/>
                    <a:chOff x="6123240" y="3673800"/>
                    <a:chExt cx="21240" cy="111240"/>
                  </a:xfrm>
                </p:grpSpPr>
                <p:grpSp>
                  <p:nvGrpSpPr>
                    <p:cNvPr id="850" name=""/>
                    <p:cNvGrpSpPr/>
                    <p:nvPr/>
                  </p:nvGrpSpPr>
                  <p:grpSpPr>
                    <a:xfrm>
                      <a:off x="6126840" y="3677040"/>
                      <a:ext cx="360" cy="108000"/>
                      <a:chOff x="6126840" y="3677040"/>
                      <a:chExt cx="360" cy="108000"/>
                    </a:xfrm>
                  </p:grpSpPr>
                  <p:sp>
                    <p:nvSpPr>
                      <p:cNvPr id="851" name="Line 82"/>
                      <p:cNvSpPr/>
                      <p:nvPr/>
                    </p:nvSpPr>
                    <p:spPr>
                      <a:xfrm>
                        <a:off x="6126840" y="3677040"/>
                        <a:ext cx="0" cy="1080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2" name=""/>
                      <p:cNvSpPr txBox="1"/>
                      <p:nvPr/>
                    </p:nvSpPr>
                    <p:spPr>
                      <a:xfrm>
                        <a:off x="6126840" y="3677040"/>
                        <a:ext cx="360" cy="108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53" name=""/>
                    <p:cNvGrpSpPr/>
                    <p:nvPr/>
                  </p:nvGrpSpPr>
                  <p:grpSpPr>
                    <a:xfrm>
                      <a:off x="6140520" y="3676680"/>
                      <a:ext cx="720" cy="107640"/>
                      <a:chOff x="6140520" y="3676680"/>
                      <a:chExt cx="720" cy="107640"/>
                    </a:xfrm>
                  </p:grpSpPr>
                  <p:sp>
                    <p:nvSpPr>
                      <p:cNvPr id="854" name="Line 83"/>
                      <p:cNvSpPr/>
                      <p:nvPr/>
                    </p:nvSpPr>
                    <p:spPr>
                      <a:xfrm flipV="1">
                        <a:off x="6140880" y="3676680"/>
                        <a:ext cx="36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5" name=""/>
                      <p:cNvSpPr txBox="1"/>
                      <p:nvPr/>
                    </p:nvSpPr>
                    <p:spPr>
                      <a:xfrm rot="10800000">
                        <a:off x="6140520" y="367668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56" name=""/>
                    <p:cNvGrpSpPr/>
                    <p:nvPr/>
                  </p:nvGrpSpPr>
                  <p:grpSpPr>
                    <a:xfrm>
                      <a:off x="6144120" y="3673800"/>
                      <a:ext cx="360" cy="107640"/>
                      <a:chOff x="6144120" y="3673800"/>
                      <a:chExt cx="360" cy="107640"/>
                    </a:xfrm>
                  </p:grpSpPr>
                  <p:sp>
                    <p:nvSpPr>
                      <p:cNvPr id="857" name="Line 84"/>
                      <p:cNvSpPr/>
                      <p:nvPr/>
                    </p:nvSpPr>
                    <p:spPr>
                      <a:xfrm flipV="1">
                        <a:off x="6144480" y="367380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8" name=""/>
                      <p:cNvSpPr txBox="1"/>
                      <p:nvPr/>
                    </p:nvSpPr>
                    <p:spPr>
                      <a:xfrm rot="10800000">
                        <a:off x="6144120" y="36738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59" name=""/>
                    <p:cNvGrpSpPr/>
                    <p:nvPr/>
                  </p:nvGrpSpPr>
                  <p:grpSpPr>
                    <a:xfrm>
                      <a:off x="6123240" y="3673800"/>
                      <a:ext cx="360" cy="107640"/>
                      <a:chOff x="6123240" y="3673800"/>
                      <a:chExt cx="360" cy="107640"/>
                    </a:xfrm>
                  </p:grpSpPr>
                  <p:sp>
                    <p:nvSpPr>
                      <p:cNvPr id="860" name="Line 85"/>
                      <p:cNvSpPr/>
                      <p:nvPr/>
                    </p:nvSpPr>
                    <p:spPr>
                      <a:xfrm flipV="1">
                        <a:off x="6123600" y="367380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1" name=""/>
                      <p:cNvSpPr txBox="1"/>
                      <p:nvPr/>
                    </p:nvSpPr>
                    <p:spPr>
                      <a:xfrm rot="10800000">
                        <a:off x="6123240" y="36738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862" name="Freeform 86"/>
                <p:cNvSpPr/>
                <p:nvPr/>
              </p:nvSpPr>
              <p:spPr>
                <a:xfrm>
                  <a:off x="6130800" y="3726720"/>
                  <a:ext cx="59040" cy="936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Rectangle 87"/>
              <p:cNvSpPr/>
              <p:nvPr/>
            </p:nvSpPr>
            <p:spPr>
              <a:xfrm>
                <a:off x="5983920" y="3857760"/>
                <a:ext cx="293040" cy="217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4" name="xjhsy3"/>
          <p:cNvGrpSpPr/>
          <p:nvPr/>
        </p:nvGrpSpPr>
        <p:grpSpPr>
          <a:xfrm>
            <a:off x="4932360" y="4653000"/>
            <a:ext cx="1800360" cy="667440"/>
            <a:chOff x="4932360" y="4653000"/>
            <a:chExt cx="1800360" cy="667440"/>
          </a:xfrm>
        </p:grpSpPr>
        <p:grpSp>
          <p:nvGrpSpPr>
            <p:cNvPr id="865" name="Group 7"/>
            <p:cNvGrpSpPr/>
            <p:nvPr/>
          </p:nvGrpSpPr>
          <p:grpSpPr>
            <a:xfrm>
              <a:off x="4932360" y="4984200"/>
              <a:ext cx="1800360" cy="336240"/>
              <a:chOff x="4932360" y="4984200"/>
              <a:chExt cx="1800360" cy="336240"/>
            </a:xfrm>
          </p:grpSpPr>
          <p:sp>
            <p:nvSpPr>
              <p:cNvPr id="866" name="Freeform 8"/>
              <p:cNvSpPr/>
              <p:nvPr/>
            </p:nvSpPr>
            <p:spPr>
              <a:xfrm flipV="1">
                <a:off x="4932360" y="5254200"/>
                <a:ext cx="1800360" cy="6588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AutoShape 9"/>
              <p:cNvSpPr/>
              <p:nvPr/>
            </p:nvSpPr>
            <p:spPr>
              <a:xfrm>
                <a:off x="6521040" y="4986360"/>
                <a:ext cx="153720" cy="2152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AutoShape 10"/>
              <p:cNvSpPr/>
              <p:nvPr/>
            </p:nvSpPr>
            <p:spPr>
              <a:xfrm>
                <a:off x="5235480" y="4984200"/>
                <a:ext cx="153720" cy="2152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Group 11"/>
            <p:cNvGrpSpPr/>
            <p:nvPr/>
          </p:nvGrpSpPr>
          <p:grpSpPr>
            <a:xfrm>
              <a:off x="5742360" y="4653000"/>
              <a:ext cx="261720" cy="546480"/>
              <a:chOff x="5742360" y="4653000"/>
              <a:chExt cx="261720" cy="546480"/>
            </a:xfrm>
          </p:grpSpPr>
          <p:grpSp>
            <p:nvGrpSpPr>
              <p:cNvPr id="870" name="Group 12"/>
              <p:cNvGrpSpPr/>
              <p:nvPr/>
            </p:nvGrpSpPr>
            <p:grpSpPr>
              <a:xfrm>
                <a:off x="5779440" y="4653000"/>
                <a:ext cx="195120" cy="427680"/>
                <a:chOff x="5779440" y="4653000"/>
                <a:chExt cx="195120" cy="427680"/>
              </a:xfrm>
            </p:grpSpPr>
            <p:grpSp>
              <p:nvGrpSpPr>
                <p:cNvPr id="871" name="Group 13"/>
                <p:cNvGrpSpPr/>
                <p:nvPr/>
              </p:nvGrpSpPr>
              <p:grpSpPr>
                <a:xfrm>
                  <a:off x="5832360" y="4980600"/>
                  <a:ext cx="88200" cy="100080"/>
                  <a:chOff x="5832360" y="4980600"/>
                  <a:chExt cx="88200" cy="100080"/>
                </a:xfrm>
              </p:grpSpPr>
              <p:grpSp>
                <p:nvGrpSpPr>
                  <p:cNvPr id="872" name="Group 14"/>
                  <p:cNvGrpSpPr/>
                  <p:nvPr/>
                </p:nvGrpSpPr>
                <p:grpSpPr>
                  <a:xfrm>
                    <a:off x="5832360" y="4980600"/>
                    <a:ext cx="88200" cy="100080"/>
                    <a:chOff x="5832360" y="4980600"/>
                    <a:chExt cx="88200" cy="100080"/>
                  </a:xfrm>
                </p:grpSpPr>
                <p:grpSp>
                  <p:nvGrpSpPr>
                    <p:cNvPr id="873" name="Group 15"/>
                    <p:cNvGrpSpPr/>
                    <p:nvPr/>
                  </p:nvGrpSpPr>
                  <p:grpSpPr>
                    <a:xfrm>
                      <a:off x="5854320" y="5057640"/>
                      <a:ext cx="48240" cy="23040"/>
                      <a:chOff x="5854320" y="5057640"/>
                      <a:chExt cx="48240" cy="23040"/>
                    </a:xfrm>
                  </p:grpSpPr>
                  <p:sp>
                    <p:nvSpPr>
                      <p:cNvPr id="874" name="Freeform 16"/>
                      <p:cNvSpPr/>
                      <p:nvPr/>
                    </p:nvSpPr>
                    <p:spPr>
                      <a:xfrm>
                        <a:off x="5854320" y="5057640"/>
                        <a:ext cx="4824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5" name="Freeform 17"/>
                      <p:cNvSpPr/>
                      <p:nvPr/>
                    </p:nvSpPr>
                    <p:spPr>
                      <a:xfrm>
                        <a:off x="5861880" y="5057640"/>
                        <a:ext cx="216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76" name="Group 18"/>
                    <p:cNvGrpSpPr/>
                    <p:nvPr/>
                  </p:nvGrpSpPr>
                  <p:grpSpPr>
                    <a:xfrm>
                      <a:off x="5832360" y="4980600"/>
                      <a:ext cx="88200" cy="83520"/>
                      <a:chOff x="5832360" y="4980600"/>
                      <a:chExt cx="88200" cy="83520"/>
                    </a:xfrm>
                  </p:grpSpPr>
                  <p:sp>
                    <p:nvSpPr>
                      <p:cNvPr id="877" name="Freeform 19"/>
                      <p:cNvSpPr/>
                      <p:nvPr/>
                    </p:nvSpPr>
                    <p:spPr>
                      <a:xfrm>
                        <a:off x="5832360" y="4980600"/>
                        <a:ext cx="882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8" name="Freeform 20"/>
                      <p:cNvSpPr/>
                      <p:nvPr/>
                    </p:nvSpPr>
                    <p:spPr>
                      <a:xfrm>
                        <a:off x="5832720" y="4991760"/>
                        <a:ext cx="108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9" name="Freeform 21"/>
                      <p:cNvSpPr/>
                      <p:nvPr/>
                    </p:nvSpPr>
                    <p:spPr>
                      <a:xfrm>
                        <a:off x="5833080" y="5006160"/>
                        <a:ext cx="144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0" name="Freeform 22"/>
                      <p:cNvSpPr/>
                      <p:nvPr/>
                    </p:nvSpPr>
                    <p:spPr>
                      <a:xfrm>
                        <a:off x="5832360" y="5018400"/>
                        <a:ext cx="1692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1" name="Freeform 23"/>
                      <p:cNvSpPr/>
                      <p:nvPr/>
                    </p:nvSpPr>
                    <p:spPr>
                      <a:xfrm>
                        <a:off x="5834160" y="5031720"/>
                        <a:ext cx="201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2" name="Freeform 24"/>
                      <p:cNvSpPr/>
                      <p:nvPr/>
                    </p:nvSpPr>
                    <p:spPr>
                      <a:xfrm>
                        <a:off x="5834520" y="4983480"/>
                        <a:ext cx="8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3" name="Freeform 25"/>
                      <p:cNvSpPr/>
                      <p:nvPr/>
                    </p:nvSpPr>
                    <p:spPr>
                      <a:xfrm>
                        <a:off x="5849640" y="4981320"/>
                        <a:ext cx="709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84" name="Group 26"/>
                  <p:cNvGrpSpPr/>
                  <p:nvPr/>
                </p:nvGrpSpPr>
                <p:grpSpPr>
                  <a:xfrm>
                    <a:off x="5891400" y="4993920"/>
                    <a:ext cx="20880" cy="50760"/>
                    <a:chOff x="5891400" y="4993920"/>
                    <a:chExt cx="20880" cy="50760"/>
                  </a:xfrm>
                </p:grpSpPr>
                <p:sp>
                  <p:nvSpPr>
                    <p:cNvPr id="885" name="Freeform 27"/>
                    <p:cNvSpPr/>
                    <p:nvPr/>
                  </p:nvSpPr>
                  <p:spPr>
                    <a:xfrm>
                      <a:off x="5895360" y="5007240"/>
                      <a:ext cx="162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6" name="Freeform 28"/>
                    <p:cNvSpPr/>
                    <p:nvPr/>
                  </p:nvSpPr>
                  <p:spPr>
                    <a:xfrm>
                      <a:off x="5898240" y="502056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7" name="Freeform 29"/>
                    <p:cNvSpPr/>
                    <p:nvPr/>
                  </p:nvSpPr>
                  <p:spPr>
                    <a:xfrm>
                      <a:off x="5897520" y="503568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Freeform 30"/>
                    <p:cNvSpPr/>
                    <p:nvPr/>
                  </p:nvSpPr>
                  <p:spPr>
                    <a:xfrm>
                      <a:off x="5891400" y="4993920"/>
                      <a:ext cx="16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89" name="Freeform 31"/>
                <p:cNvSpPr/>
                <p:nvPr/>
              </p:nvSpPr>
              <p:spPr>
                <a:xfrm>
                  <a:off x="5779440" y="4653000"/>
                  <a:ext cx="195120" cy="339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Oval 32"/>
                <p:cNvSpPr/>
                <p:nvPr/>
              </p:nvSpPr>
              <p:spPr>
                <a:xfrm>
                  <a:off x="5834160" y="4953600"/>
                  <a:ext cx="85680" cy="342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33"/>
                <p:cNvSpPr/>
                <p:nvPr/>
              </p:nvSpPr>
              <p:spPr>
                <a:xfrm>
                  <a:off x="5923440" y="4686840"/>
                  <a:ext cx="32400" cy="5004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2" name="Group 34"/>
                <p:cNvGrpSpPr/>
                <p:nvPr/>
              </p:nvGrpSpPr>
              <p:grpSpPr>
                <a:xfrm>
                  <a:off x="5849640" y="4754880"/>
                  <a:ext cx="54360" cy="210600"/>
                  <a:chOff x="5849640" y="4754880"/>
                  <a:chExt cx="54360" cy="210600"/>
                </a:xfrm>
              </p:grpSpPr>
              <p:sp>
                <p:nvSpPr>
                  <p:cNvPr id="893" name="Freeform 35"/>
                  <p:cNvSpPr/>
                  <p:nvPr/>
                </p:nvSpPr>
                <p:spPr>
                  <a:xfrm>
                    <a:off x="5859720" y="4842720"/>
                    <a:ext cx="334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Oval 36"/>
                  <p:cNvSpPr/>
                  <p:nvPr/>
                </p:nvSpPr>
                <p:spPr>
                  <a:xfrm>
                    <a:off x="5877000" y="4846680"/>
                    <a:ext cx="4320" cy="82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5" name="Group 37"/>
                  <p:cNvGrpSpPr/>
                  <p:nvPr/>
                </p:nvGrpSpPr>
                <p:grpSpPr>
                  <a:xfrm>
                    <a:off x="5849640" y="4754880"/>
                    <a:ext cx="54360" cy="96480"/>
                    <a:chOff x="5849640" y="4754880"/>
                    <a:chExt cx="54360" cy="96480"/>
                  </a:xfrm>
                </p:grpSpPr>
                <p:sp>
                  <p:nvSpPr>
                    <p:cNvPr id="896" name="Oval 38"/>
                    <p:cNvSpPr/>
                    <p:nvPr/>
                  </p:nvSpPr>
                  <p:spPr>
                    <a:xfrm>
                      <a:off x="5852520" y="4754880"/>
                      <a:ext cx="49680" cy="3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Freeform 39"/>
                    <p:cNvSpPr/>
                    <p:nvPr/>
                  </p:nvSpPr>
                  <p:spPr>
                    <a:xfrm>
                      <a:off x="5849640" y="4769640"/>
                      <a:ext cx="5436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8" name="Group 40"/>
                  <p:cNvGrpSpPr/>
                  <p:nvPr/>
                </p:nvGrpSpPr>
                <p:grpSpPr>
                  <a:xfrm>
                    <a:off x="5866560" y="4860000"/>
                    <a:ext cx="19080" cy="93960"/>
                    <a:chOff x="5866560" y="4860000"/>
                    <a:chExt cx="19080" cy="93960"/>
                  </a:xfrm>
                </p:grpSpPr>
                <p:grpSp>
                  <p:nvGrpSpPr>
                    <p:cNvPr id="899" name=""/>
                    <p:cNvGrpSpPr/>
                    <p:nvPr/>
                  </p:nvGrpSpPr>
                  <p:grpSpPr>
                    <a:xfrm>
                      <a:off x="5869800" y="4862520"/>
                      <a:ext cx="360" cy="91440"/>
                      <a:chOff x="5869800" y="4862520"/>
                      <a:chExt cx="360" cy="91440"/>
                    </a:xfrm>
                  </p:grpSpPr>
                  <p:sp>
                    <p:nvSpPr>
                      <p:cNvPr id="900" name="Line 41"/>
                      <p:cNvSpPr/>
                      <p:nvPr/>
                    </p:nvSpPr>
                    <p:spPr>
                      <a:xfrm>
                        <a:off x="5869800" y="4862520"/>
                        <a:ext cx="0" cy="914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1" name=""/>
                      <p:cNvSpPr txBox="1"/>
                      <p:nvPr/>
                    </p:nvSpPr>
                    <p:spPr>
                      <a:xfrm>
                        <a:off x="5869800" y="4862520"/>
                        <a:ext cx="360" cy="9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640" bIns="44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2" name=""/>
                    <p:cNvGrpSpPr/>
                    <p:nvPr/>
                  </p:nvGrpSpPr>
                  <p:grpSpPr>
                    <a:xfrm>
                      <a:off x="5882040" y="4862520"/>
                      <a:ext cx="720" cy="90720"/>
                      <a:chOff x="5882040" y="4862520"/>
                      <a:chExt cx="720" cy="90720"/>
                    </a:xfrm>
                  </p:grpSpPr>
                  <p:sp>
                    <p:nvSpPr>
                      <p:cNvPr id="903" name="Line 42"/>
                      <p:cNvSpPr/>
                      <p:nvPr/>
                    </p:nvSpPr>
                    <p:spPr>
                      <a:xfrm flipV="1">
                        <a:off x="5882400" y="4862520"/>
                        <a:ext cx="360" cy="907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4" name=""/>
                      <p:cNvSpPr txBox="1"/>
                      <p:nvPr/>
                    </p:nvSpPr>
                    <p:spPr>
                      <a:xfrm rot="10800000">
                        <a:off x="5882040" y="4862520"/>
                        <a:ext cx="360" cy="9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3920" bIns="43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5" name=""/>
                    <p:cNvGrpSpPr/>
                    <p:nvPr/>
                  </p:nvGrpSpPr>
                  <p:grpSpPr>
                    <a:xfrm>
                      <a:off x="5885280" y="4860000"/>
                      <a:ext cx="360" cy="91080"/>
                      <a:chOff x="5885280" y="4860000"/>
                      <a:chExt cx="360" cy="91080"/>
                    </a:xfrm>
                  </p:grpSpPr>
                  <p:sp>
                    <p:nvSpPr>
                      <p:cNvPr id="906" name="Line 43"/>
                      <p:cNvSpPr/>
                      <p:nvPr/>
                    </p:nvSpPr>
                    <p:spPr>
                      <a:xfrm flipV="1">
                        <a:off x="5885640" y="486000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7" name=""/>
                      <p:cNvSpPr txBox="1"/>
                      <p:nvPr/>
                    </p:nvSpPr>
                    <p:spPr>
                      <a:xfrm rot="10800000">
                        <a:off x="5885280" y="486000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8" name=""/>
                    <p:cNvGrpSpPr/>
                    <p:nvPr/>
                  </p:nvGrpSpPr>
                  <p:grpSpPr>
                    <a:xfrm>
                      <a:off x="5866560" y="4860000"/>
                      <a:ext cx="360" cy="91080"/>
                      <a:chOff x="5866560" y="4860000"/>
                      <a:chExt cx="360" cy="91080"/>
                    </a:xfrm>
                  </p:grpSpPr>
                  <p:sp>
                    <p:nvSpPr>
                      <p:cNvPr id="909" name="Line 44"/>
                      <p:cNvSpPr/>
                      <p:nvPr/>
                    </p:nvSpPr>
                    <p:spPr>
                      <a:xfrm flipV="1">
                        <a:off x="5866920" y="486000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0" name=""/>
                      <p:cNvSpPr txBox="1"/>
                      <p:nvPr/>
                    </p:nvSpPr>
                    <p:spPr>
                      <a:xfrm rot="10800000">
                        <a:off x="5866560" y="486000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911" name="Freeform 45"/>
                <p:cNvSpPr/>
                <p:nvPr/>
              </p:nvSpPr>
              <p:spPr>
                <a:xfrm>
                  <a:off x="5873040" y="4904640"/>
                  <a:ext cx="52560" cy="792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2" name="Rectangle 46"/>
              <p:cNvSpPr/>
              <p:nvPr/>
            </p:nvSpPr>
            <p:spPr>
              <a:xfrm>
                <a:off x="5742360" y="5015520"/>
                <a:ext cx="261720" cy="183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13" name="xjhsy4" descr="w3"/>
          <p:cNvPicPr/>
          <p:nvPr/>
        </p:nvPicPr>
        <p:blipFill>
          <a:blip r:embed="rId5"/>
          <a:stretch/>
        </p:blipFill>
        <p:spPr>
          <a:xfrm>
            <a:off x="3203640" y="5803920"/>
            <a:ext cx="2185920" cy="1082520"/>
          </a:xfrm>
          <a:prstGeom prst="rect">
            <a:avLst/>
          </a:prstGeom>
          <a:ln w="0">
            <a:noFill/>
          </a:ln>
        </p:spPr>
      </p:pic>
      <p:pic>
        <p:nvPicPr>
          <p:cNvPr id="914" name="xjhsy8" descr="w7"/>
          <p:cNvPicPr/>
          <p:nvPr/>
        </p:nvPicPr>
        <p:blipFill>
          <a:blip r:embed="rId6"/>
          <a:stretch/>
        </p:blipFill>
        <p:spPr>
          <a:xfrm>
            <a:off x="5796000" y="5516640"/>
            <a:ext cx="2087640" cy="1243080"/>
          </a:xfrm>
          <a:prstGeom prst="rect">
            <a:avLst/>
          </a:prstGeom>
          <a:ln w="0">
            <a:noFill/>
          </a:ln>
        </p:spPr>
      </p:pic>
      <p:sp>
        <p:nvSpPr>
          <p:cNvPr id="915" name="Freeform 98"/>
          <p:cNvSpPr/>
          <p:nvPr/>
        </p:nvSpPr>
        <p:spPr>
          <a:xfrm>
            <a:off x="5292720" y="2997360"/>
            <a:ext cx="503280" cy="861840"/>
          </a:xfrm>
          <a:custGeom>
            <a:avLst/>
            <a:gdLst/>
            <a:ahLst/>
            <a:rect l="l" t="t" r="r" b="b"/>
            <a:pathLst>
              <a:path w="504" h="789">
                <a:moveTo>
                  <a:pt x="504" y="0"/>
                </a:moveTo>
                <a:cubicBezTo>
                  <a:pt x="416" y="29"/>
                  <a:pt x="462" y="18"/>
                  <a:pt x="365" y="32"/>
                </a:cubicBezTo>
                <a:cubicBezTo>
                  <a:pt x="248" y="70"/>
                  <a:pt x="213" y="77"/>
                  <a:pt x="120" y="170"/>
                </a:cubicBezTo>
                <a:cubicBezTo>
                  <a:pt x="113" y="177"/>
                  <a:pt x="103" y="183"/>
                  <a:pt x="98" y="192"/>
                </a:cubicBezTo>
                <a:cubicBezTo>
                  <a:pt x="84" y="220"/>
                  <a:pt x="64" y="246"/>
                  <a:pt x="56" y="277"/>
                </a:cubicBezTo>
                <a:cubicBezTo>
                  <a:pt x="49" y="305"/>
                  <a:pt x="34" y="362"/>
                  <a:pt x="34" y="362"/>
                </a:cubicBezTo>
                <a:cubicBezTo>
                  <a:pt x="22" y="474"/>
                  <a:pt x="0" y="642"/>
                  <a:pt x="109" y="714"/>
                </a:cubicBezTo>
                <a:cubicBezTo>
                  <a:pt x="127" y="742"/>
                  <a:pt x="156" y="789"/>
                  <a:pt x="194" y="7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97"/>
          <p:cNvSpPr/>
          <p:nvPr/>
        </p:nvSpPr>
        <p:spPr>
          <a:xfrm>
            <a:off x="6156360" y="3068640"/>
            <a:ext cx="1079640" cy="936720"/>
          </a:xfrm>
          <a:custGeom>
            <a:avLst/>
            <a:gdLst/>
            <a:ahLst/>
            <a:rect l="l" t="t" r="r" b="b"/>
            <a:pathLst>
              <a:path w="544" h="779">
                <a:moveTo>
                  <a:pt x="0" y="0"/>
                </a:moveTo>
                <a:cubicBezTo>
                  <a:pt x="161" y="14"/>
                  <a:pt x="88" y="3"/>
                  <a:pt x="234" y="32"/>
                </a:cubicBezTo>
                <a:cubicBezTo>
                  <a:pt x="252" y="36"/>
                  <a:pt x="288" y="43"/>
                  <a:pt x="288" y="43"/>
                </a:cubicBezTo>
                <a:cubicBezTo>
                  <a:pt x="316" y="57"/>
                  <a:pt x="345" y="72"/>
                  <a:pt x="373" y="86"/>
                </a:cubicBezTo>
                <a:cubicBezTo>
                  <a:pt x="389" y="94"/>
                  <a:pt x="396" y="113"/>
                  <a:pt x="405" y="128"/>
                </a:cubicBezTo>
                <a:cubicBezTo>
                  <a:pt x="437" y="179"/>
                  <a:pt x="446" y="238"/>
                  <a:pt x="480" y="288"/>
                </a:cubicBezTo>
                <a:cubicBezTo>
                  <a:pt x="496" y="336"/>
                  <a:pt x="500" y="371"/>
                  <a:pt x="533" y="406"/>
                </a:cubicBezTo>
                <a:cubicBezTo>
                  <a:pt x="537" y="420"/>
                  <a:pt x="544" y="434"/>
                  <a:pt x="544" y="448"/>
                </a:cubicBezTo>
                <a:cubicBezTo>
                  <a:pt x="544" y="501"/>
                  <a:pt x="542" y="555"/>
                  <a:pt x="533" y="608"/>
                </a:cubicBezTo>
                <a:cubicBezTo>
                  <a:pt x="531" y="621"/>
                  <a:pt x="518" y="629"/>
                  <a:pt x="512" y="640"/>
                </a:cubicBezTo>
                <a:cubicBezTo>
                  <a:pt x="507" y="650"/>
                  <a:pt x="507" y="662"/>
                  <a:pt x="501" y="672"/>
                </a:cubicBezTo>
                <a:cubicBezTo>
                  <a:pt x="473" y="718"/>
                  <a:pt x="408" y="729"/>
                  <a:pt x="384" y="779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93"/>
          <p:cNvSpPr/>
          <p:nvPr/>
        </p:nvSpPr>
        <p:spPr>
          <a:xfrm>
            <a:off x="4716360" y="3860640"/>
            <a:ext cx="719280" cy="1224000"/>
          </a:xfrm>
          <a:custGeom>
            <a:avLst/>
            <a:gdLst/>
            <a:ahLst/>
            <a:rect l="l" t="t" r="r" b="b"/>
            <a:pathLst>
              <a:path w="427" h="882">
                <a:moveTo>
                  <a:pt x="404" y="0"/>
                </a:moveTo>
                <a:cubicBezTo>
                  <a:pt x="292" y="38"/>
                  <a:pt x="233" y="43"/>
                  <a:pt x="134" y="117"/>
                </a:cubicBezTo>
                <a:cubicBezTo>
                  <a:pt x="108" y="155"/>
                  <a:pt x="77" y="185"/>
                  <a:pt x="51" y="223"/>
                </a:cubicBezTo>
                <a:cubicBezTo>
                  <a:pt x="39" y="262"/>
                  <a:pt x="26" y="301"/>
                  <a:pt x="16" y="341"/>
                </a:cubicBezTo>
                <a:cubicBezTo>
                  <a:pt x="25" y="474"/>
                  <a:pt x="0" y="574"/>
                  <a:pt x="145" y="611"/>
                </a:cubicBezTo>
                <a:cubicBezTo>
                  <a:pt x="157" y="619"/>
                  <a:pt x="168" y="629"/>
                  <a:pt x="181" y="635"/>
                </a:cubicBezTo>
                <a:cubicBezTo>
                  <a:pt x="192" y="640"/>
                  <a:pt x="205" y="640"/>
                  <a:pt x="216" y="646"/>
                </a:cubicBezTo>
                <a:cubicBezTo>
                  <a:pt x="288" y="686"/>
                  <a:pt x="297" y="704"/>
                  <a:pt x="357" y="764"/>
                </a:cubicBezTo>
                <a:cubicBezTo>
                  <a:pt x="401" y="808"/>
                  <a:pt x="392" y="844"/>
                  <a:pt x="427" y="88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94"/>
          <p:cNvSpPr/>
          <p:nvPr/>
        </p:nvSpPr>
        <p:spPr>
          <a:xfrm>
            <a:off x="6588000" y="3933720"/>
            <a:ext cx="1025640" cy="1079640"/>
          </a:xfrm>
          <a:custGeom>
            <a:avLst/>
            <a:gdLst/>
            <a:ahLst/>
            <a:rect l="l" t="t" r="r" b="b"/>
            <a:pathLst>
              <a:path w="646" h="885">
                <a:moveTo>
                  <a:pt x="141" y="0"/>
                </a:moveTo>
                <a:cubicBezTo>
                  <a:pt x="215" y="4"/>
                  <a:pt x="290" y="3"/>
                  <a:pt x="364" y="12"/>
                </a:cubicBezTo>
                <a:cubicBezTo>
                  <a:pt x="419" y="19"/>
                  <a:pt x="427" y="44"/>
                  <a:pt x="470" y="71"/>
                </a:cubicBezTo>
                <a:cubicBezTo>
                  <a:pt x="528" y="107"/>
                  <a:pt x="579" y="148"/>
                  <a:pt x="646" y="165"/>
                </a:cubicBezTo>
                <a:cubicBezTo>
                  <a:pt x="642" y="220"/>
                  <a:pt x="643" y="275"/>
                  <a:pt x="635" y="329"/>
                </a:cubicBezTo>
                <a:cubicBezTo>
                  <a:pt x="631" y="354"/>
                  <a:pt x="632" y="386"/>
                  <a:pt x="611" y="400"/>
                </a:cubicBezTo>
                <a:cubicBezTo>
                  <a:pt x="551" y="439"/>
                  <a:pt x="526" y="481"/>
                  <a:pt x="482" y="541"/>
                </a:cubicBezTo>
                <a:cubicBezTo>
                  <a:pt x="470" y="557"/>
                  <a:pt x="465" y="580"/>
                  <a:pt x="447" y="588"/>
                </a:cubicBezTo>
                <a:cubicBezTo>
                  <a:pt x="369" y="625"/>
                  <a:pt x="293" y="680"/>
                  <a:pt x="211" y="705"/>
                </a:cubicBezTo>
                <a:cubicBezTo>
                  <a:pt x="149" y="748"/>
                  <a:pt x="186" y="719"/>
                  <a:pt x="106" y="799"/>
                </a:cubicBezTo>
                <a:cubicBezTo>
                  <a:pt x="86" y="819"/>
                  <a:pt x="35" y="847"/>
                  <a:pt x="35" y="847"/>
                </a:cubicBezTo>
                <a:cubicBezTo>
                  <a:pt x="10" y="885"/>
                  <a:pt x="26" y="882"/>
                  <a:pt x="0" y="88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0"/>
          <p:cNvSpPr/>
          <p:nvPr/>
        </p:nvSpPr>
        <p:spPr>
          <a:xfrm>
            <a:off x="3186000" y="5084640"/>
            <a:ext cx="2178000" cy="1474920"/>
          </a:xfrm>
          <a:custGeom>
            <a:avLst/>
            <a:gdLst/>
            <a:ahLst/>
            <a:rect l="l" t="t" r="r" b="b"/>
            <a:pathLst>
              <a:path w="1367" h="1293">
                <a:moveTo>
                  <a:pt x="1367" y="0"/>
                </a:moveTo>
                <a:cubicBezTo>
                  <a:pt x="1238" y="4"/>
                  <a:pt x="1108" y="5"/>
                  <a:pt x="979" y="12"/>
                </a:cubicBezTo>
                <a:cubicBezTo>
                  <a:pt x="922" y="15"/>
                  <a:pt x="889" y="42"/>
                  <a:pt x="838" y="59"/>
                </a:cubicBezTo>
                <a:cubicBezTo>
                  <a:pt x="775" y="80"/>
                  <a:pt x="697" y="76"/>
                  <a:pt x="638" y="106"/>
                </a:cubicBezTo>
                <a:cubicBezTo>
                  <a:pt x="570" y="141"/>
                  <a:pt x="608" y="127"/>
                  <a:pt x="520" y="141"/>
                </a:cubicBezTo>
                <a:cubicBezTo>
                  <a:pt x="467" y="159"/>
                  <a:pt x="440" y="215"/>
                  <a:pt x="391" y="247"/>
                </a:cubicBezTo>
                <a:cubicBezTo>
                  <a:pt x="363" y="328"/>
                  <a:pt x="310" y="387"/>
                  <a:pt x="250" y="447"/>
                </a:cubicBezTo>
                <a:cubicBezTo>
                  <a:pt x="227" y="514"/>
                  <a:pt x="183" y="576"/>
                  <a:pt x="144" y="635"/>
                </a:cubicBezTo>
                <a:cubicBezTo>
                  <a:pt x="136" y="647"/>
                  <a:pt x="129" y="658"/>
                  <a:pt x="121" y="670"/>
                </a:cubicBezTo>
                <a:cubicBezTo>
                  <a:pt x="113" y="682"/>
                  <a:pt x="97" y="706"/>
                  <a:pt x="97" y="706"/>
                </a:cubicBezTo>
                <a:cubicBezTo>
                  <a:pt x="66" y="828"/>
                  <a:pt x="107" y="687"/>
                  <a:pt x="62" y="788"/>
                </a:cubicBezTo>
                <a:cubicBezTo>
                  <a:pt x="4" y="917"/>
                  <a:pt x="68" y="811"/>
                  <a:pt x="15" y="894"/>
                </a:cubicBezTo>
                <a:cubicBezTo>
                  <a:pt x="22" y="1010"/>
                  <a:pt x="0" y="1161"/>
                  <a:pt x="109" y="1235"/>
                </a:cubicBezTo>
                <a:cubicBezTo>
                  <a:pt x="136" y="1276"/>
                  <a:pt x="163" y="1293"/>
                  <a:pt x="215" y="1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92"/>
          <p:cNvSpPr/>
          <p:nvPr/>
        </p:nvSpPr>
        <p:spPr>
          <a:xfrm>
            <a:off x="6516720" y="5013360"/>
            <a:ext cx="1908000" cy="1341360"/>
          </a:xfrm>
          <a:custGeom>
            <a:avLst/>
            <a:gdLst/>
            <a:ahLst/>
            <a:rect l="l" t="t" r="r" b="b"/>
            <a:pathLst>
              <a:path w="1075" h="1246">
                <a:moveTo>
                  <a:pt x="470" y="1246"/>
                </a:moveTo>
                <a:cubicBezTo>
                  <a:pt x="537" y="1242"/>
                  <a:pt x="604" y="1244"/>
                  <a:pt x="670" y="1234"/>
                </a:cubicBezTo>
                <a:cubicBezTo>
                  <a:pt x="684" y="1232"/>
                  <a:pt x="693" y="1217"/>
                  <a:pt x="705" y="1211"/>
                </a:cubicBezTo>
                <a:cubicBezTo>
                  <a:pt x="747" y="1190"/>
                  <a:pt x="834" y="1152"/>
                  <a:pt x="834" y="1152"/>
                </a:cubicBezTo>
                <a:cubicBezTo>
                  <a:pt x="865" y="1107"/>
                  <a:pt x="885" y="1057"/>
                  <a:pt x="917" y="1011"/>
                </a:cubicBezTo>
                <a:cubicBezTo>
                  <a:pt x="998" y="894"/>
                  <a:pt x="1017" y="870"/>
                  <a:pt x="1046" y="729"/>
                </a:cubicBezTo>
                <a:cubicBezTo>
                  <a:pt x="1041" y="576"/>
                  <a:pt x="1075" y="414"/>
                  <a:pt x="1023" y="270"/>
                </a:cubicBezTo>
                <a:cubicBezTo>
                  <a:pt x="999" y="204"/>
                  <a:pt x="843" y="104"/>
                  <a:pt x="776" y="82"/>
                </a:cubicBezTo>
                <a:cubicBezTo>
                  <a:pt x="530" y="0"/>
                  <a:pt x="0" y="47"/>
                  <a:pt x="0" y="4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91"/>
          <p:cNvSpPr/>
          <p:nvPr/>
        </p:nvSpPr>
        <p:spPr>
          <a:xfrm>
            <a:off x="4627440" y="6318360"/>
            <a:ext cx="1623960" cy="252360"/>
          </a:xfrm>
          <a:custGeom>
            <a:avLst/>
            <a:gdLst/>
            <a:ahLst/>
            <a:rect l="l" t="t" r="r" b="b"/>
            <a:pathLst>
              <a:path w="1023" h="159">
                <a:moveTo>
                  <a:pt x="0" y="141"/>
                </a:moveTo>
                <a:cubicBezTo>
                  <a:pt x="230" y="158"/>
                  <a:pt x="173" y="159"/>
                  <a:pt x="482" y="141"/>
                </a:cubicBezTo>
                <a:cubicBezTo>
                  <a:pt x="537" y="138"/>
                  <a:pt x="583" y="115"/>
                  <a:pt x="635" y="105"/>
                </a:cubicBezTo>
                <a:cubicBezTo>
                  <a:pt x="703" y="92"/>
                  <a:pt x="827" y="86"/>
                  <a:pt x="882" y="82"/>
                </a:cubicBezTo>
                <a:cubicBezTo>
                  <a:pt x="932" y="48"/>
                  <a:pt x="959" y="0"/>
                  <a:pt x="102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27"/>
          <p:cNvSpPr/>
          <p:nvPr/>
        </p:nvSpPr>
        <p:spPr>
          <a:xfrm>
            <a:off x="6300720" y="357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28"/>
          <p:cNvSpPr/>
          <p:nvPr/>
        </p:nvSpPr>
        <p:spPr>
          <a:xfrm>
            <a:off x="6227640" y="4437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3384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设计电路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4427640" y="9079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ee0"/>
                </a:solidFill>
                <a:latin typeface="Arial"/>
              </a:rPr>
              <a:t>根据电路图连接实物电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xjhsy7" descr="w52"/>
          <p:cNvPicPr/>
          <p:nvPr/>
        </p:nvPicPr>
        <p:blipFill>
          <a:blip r:embed="rId1"/>
          <a:stretch/>
        </p:blipFill>
        <p:spPr>
          <a:xfrm>
            <a:off x="5219640" y="4365720"/>
            <a:ext cx="1800360" cy="1495440"/>
          </a:xfrm>
          <a:prstGeom prst="rect">
            <a:avLst/>
          </a:prstGeom>
          <a:ln w="0">
            <a:noFill/>
          </a:ln>
        </p:spPr>
      </p:pic>
      <p:grpSp>
        <p:nvGrpSpPr>
          <p:cNvPr id="927" name="xjhsy3"/>
          <p:cNvGrpSpPr/>
          <p:nvPr/>
        </p:nvGrpSpPr>
        <p:grpSpPr>
          <a:xfrm>
            <a:off x="5076720" y="2205000"/>
            <a:ext cx="2016360" cy="790200"/>
            <a:chOff x="5076720" y="2205000"/>
            <a:chExt cx="2016360" cy="790200"/>
          </a:xfrm>
        </p:grpSpPr>
        <p:grpSp>
          <p:nvGrpSpPr>
            <p:cNvPr id="928" name="Group 48"/>
            <p:cNvGrpSpPr/>
            <p:nvPr/>
          </p:nvGrpSpPr>
          <p:grpSpPr>
            <a:xfrm>
              <a:off x="5076720" y="2596680"/>
              <a:ext cx="2016360" cy="398520"/>
              <a:chOff x="5076720" y="2596680"/>
              <a:chExt cx="2016360" cy="398520"/>
            </a:xfrm>
          </p:grpSpPr>
          <p:sp>
            <p:nvSpPr>
              <p:cNvPr id="929" name="Freeform 49"/>
              <p:cNvSpPr/>
              <p:nvPr/>
            </p:nvSpPr>
            <p:spPr>
              <a:xfrm flipV="1">
                <a:off x="5076720" y="2916720"/>
                <a:ext cx="2016360" cy="7812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AutoShape 50"/>
              <p:cNvSpPr/>
              <p:nvPr/>
            </p:nvSpPr>
            <p:spPr>
              <a:xfrm>
                <a:off x="6856200" y="2599200"/>
                <a:ext cx="172080" cy="2548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AutoShape 51"/>
              <p:cNvSpPr/>
              <p:nvPr/>
            </p:nvSpPr>
            <p:spPr>
              <a:xfrm>
                <a:off x="5416200" y="2596680"/>
                <a:ext cx="172080" cy="2548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52"/>
            <p:cNvGrpSpPr/>
            <p:nvPr/>
          </p:nvGrpSpPr>
          <p:grpSpPr>
            <a:xfrm>
              <a:off x="5983920" y="2205000"/>
              <a:ext cx="293040" cy="646200"/>
              <a:chOff x="5983920" y="2205000"/>
              <a:chExt cx="293040" cy="646200"/>
            </a:xfrm>
          </p:grpSpPr>
          <p:grpSp>
            <p:nvGrpSpPr>
              <p:cNvPr id="933" name="Group 53"/>
              <p:cNvGrpSpPr/>
              <p:nvPr/>
            </p:nvGrpSpPr>
            <p:grpSpPr>
              <a:xfrm>
                <a:off x="6025680" y="2205000"/>
                <a:ext cx="218520" cy="506160"/>
                <a:chOff x="6025680" y="2205000"/>
                <a:chExt cx="218520" cy="506160"/>
              </a:xfrm>
            </p:grpSpPr>
            <p:grpSp>
              <p:nvGrpSpPr>
                <p:cNvPr id="934" name="Group 54"/>
                <p:cNvGrpSpPr/>
                <p:nvPr/>
              </p:nvGrpSpPr>
              <p:grpSpPr>
                <a:xfrm>
                  <a:off x="6085080" y="2592720"/>
                  <a:ext cx="98640" cy="118440"/>
                  <a:chOff x="6085080" y="2592720"/>
                  <a:chExt cx="98640" cy="118440"/>
                </a:xfrm>
              </p:grpSpPr>
              <p:grpSp>
                <p:nvGrpSpPr>
                  <p:cNvPr id="935" name="Group 55"/>
                  <p:cNvGrpSpPr/>
                  <p:nvPr/>
                </p:nvGrpSpPr>
                <p:grpSpPr>
                  <a:xfrm>
                    <a:off x="6085080" y="2592720"/>
                    <a:ext cx="98640" cy="118440"/>
                    <a:chOff x="6085080" y="2592720"/>
                    <a:chExt cx="98640" cy="118440"/>
                  </a:xfrm>
                </p:grpSpPr>
                <p:grpSp>
                  <p:nvGrpSpPr>
                    <p:cNvPr id="936" name="Group 56"/>
                    <p:cNvGrpSpPr/>
                    <p:nvPr/>
                  </p:nvGrpSpPr>
                  <p:grpSpPr>
                    <a:xfrm>
                      <a:off x="6109560" y="2684160"/>
                      <a:ext cx="53640" cy="27000"/>
                      <a:chOff x="6109560" y="2684160"/>
                      <a:chExt cx="53640" cy="27000"/>
                    </a:xfrm>
                  </p:grpSpPr>
                  <p:sp>
                    <p:nvSpPr>
                      <p:cNvPr id="937" name="Freeform 57"/>
                      <p:cNvSpPr/>
                      <p:nvPr/>
                    </p:nvSpPr>
                    <p:spPr>
                      <a:xfrm>
                        <a:off x="6109560" y="2684160"/>
                        <a:ext cx="53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8" name="Freeform 58"/>
                      <p:cNvSpPr/>
                      <p:nvPr/>
                    </p:nvSpPr>
                    <p:spPr>
                      <a:xfrm>
                        <a:off x="6117840" y="268416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39" name="Group 59"/>
                    <p:cNvGrpSpPr/>
                    <p:nvPr/>
                  </p:nvGrpSpPr>
                  <p:grpSpPr>
                    <a:xfrm>
                      <a:off x="6085080" y="2592720"/>
                      <a:ext cx="98640" cy="99000"/>
                      <a:chOff x="6085080" y="2592720"/>
                      <a:chExt cx="98640" cy="99000"/>
                    </a:xfrm>
                  </p:grpSpPr>
                  <p:sp>
                    <p:nvSpPr>
                      <p:cNvPr id="940" name="Freeform 60"/>
                      <p:cNvSpPr/>
                      <p:nvPr/>
                    </p:nvSpPr>
                    <p:spPr>
                      <a:xfrm>
                        <a:off x="6085080" y="2592720"/>
                        <a:ext cx="98640" cy="9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1" name="Freeform 61"/>
                      <p:cNvSpPr/>
                      <p:nvPr/>
                    </p:nvSpPr>
                    <p:spPr>
                      <a:xfrm>
                        <a:off x="6085440" y="2605680"/>
                        <a:ext cx="1188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2" name="Freeform 62"/>
                      <p:cNvSpPr/>
                      <p:nvPr/>
                    </p:nvSpPr>
                    <p:spPr>
                      <a:xfrm>
                        <a:off x="6085800" y="2622960"/>
                        <a:ext cx="158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3" name="Freeform 63"/>
                      <p:cNvSpPr/>
                      <p:nvPr/>
                    </p:nvSpPr>
                    <p:spPr>
                      <a:xfrm>
                        <a:off x="6085080" y="2637360"/>
                        <a:ext cx="187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4" name="Freeform 64"/>
                      <p:cNvSpPr/>
                      <p:nvPr/>
                    </p:nvSpPr>
                    <p:spPr>
                      <a:xfrm>
                        <a:off x="6087240" y="2653200"/>
                        <a:ext cx="2232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5" name="Freeform 65"/>
                      <p:cNvSpPr/>
                      <p:nvPr/>
                    </p:nvSpPr>
                    <p:spPr>
                      <a:xfrm>
                        <a:off x="6087600" y="2595960"/>
                        <a:ext cx="900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6" name="Freeform 66"/>
                      <p:cNvSpPr/>
                      <p:nvPr/>
                    </p:nvSpPr>
                    <p:spPr>
                      <a:xfrm>
                        <a:off x="6104520" y="2593800"/>
                        <a:ext cx="7920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47" name="Group 67"/>
                  <p:cNvGrpSpPr/>
                  <p:nvPr/>
                </p:nvGrpSpPr>
                <p:grpSpPr>
                  <a:xfrm>
                    <a:off x="6150960" y="2608560"/>
                    <a:ext cx="23400" cy="60120"/>
                    <a:chOff x="6150960" y="2608560"/>
                    <a:chExt cx="23400" cy="60120"/>
                  </a:xfrm>
                </p:grpSpPr>
                <p:sp>
                  <p:nvSpPr>
                    <p:cNvPr id="948" name="Freeform 68"/>
                    <p:cNvSpPr/>
                    <p:nvPr/>
                  </p:nvSpPr>
                  <p:spPr>
                    <a:xfrm>
                      <a:off x="6155280" y="2624400"/>
                      <a:ext cx="180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Freeform 69"/>
                    <p:cNvSpPr/>
                    <p:nvPr/>
                  </p:nvSpPr>
                  <p:spPr>
                    <a:xfrm>
                      <a:off x="6158520" y="2639880"/>
                      <a:ext cx="1584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Freeform 70"/>
                    <p:cNvSpPr/>
                    <p:nvPr/>
                  </p:nvSpPr>
                  <p:spPr>
                    <a:xfrm>
                      <a:off x="6157800" y="2658240"/>
                      <a:ext cx="16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Freeform 71"/>
                    <p:cNvSpPr/>
                    <p:nvPr/>
                  </p:nvSpPr>
                  <p:spPr>
                    <a:xfrm>
                      <a:off x="6150960" y="2608560"/>
                      <a:ext cx="183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2" name="Freeform 72"/>
                <p:cNvSpPr/>
                <p:nvPr/>
              </p:nvSpPr>
              <p:spPr>
                <a:xfrm>
                  <a:off x="6025680" y="2205000"/>
                  <a:ext cx="218520" cy="40068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Oval 73"/>
                <p:cNvSpPr/>
                <p:nvPr/>
              </p:nvSpPr>
              <p:spPr>
                <a:xfrm>
                  <a:off x="6086880" y="2560320"/>
                  <a:ext cx="95760" cy="4068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74"/>
                <p:cNvSpPr/>
                <p:nvPr/>
              </p:nvSpPr>
              <p:spPr>
                <a:xfrm>
                  <a:off x="6186960" y="2245320"/>
                  <a:ext cx="36360" cy="59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5" name="Group 75"/>
                <p:cNvGrpSpPr/>
                <p:nvPr/>
              </p:nvGrpSpPr>
              <p:grpSpPr>
                <a:xfrm>
                  <a:off x="6104520" y="2325600"/>
                  <a:ext cx="60840" cy="248760"/>
                  <a:chOff x="6104520" y="2325600"/>
                  <a:chExt cx="60840" cy="248760"/>
                </a:xfrm>
              </p:grpSpPr>
              <p:sp>
                <p:nvSpPr>
                  <p:cNvPr id="956" name="Freeform 76"/>
                  <p:cNvSpPr/>
                  <p:nvPr/>
                </p:nvSpPr>
                <p:spPr>
                  <a:xfrm>
                    <a:off x="6116040" y="2429280"/>
                    <a:ext cx="3744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Oval 77"/>
                  <p:cNvSpPr/>
                  <p:nvPr/>
                </p:nvSpPr>
                <p:spPr>
                  <a:xfrm>
                    <a:off x="6135120" y="2433960"/>
                    <a:ext cx="4680" cy="97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58" name="Group 78"/>
                  <p:cNvGrpSpPr/>
                  <p:nvPr/>
                </p:nvGrpSpPr>
                <p:grpSpPr>
                  <a:xfrm>
                    <a:off x="6104520" y="2325600"/>
                    <a:ext cx="60840" cy="114120"/>
                    <a:chOff x="6104520" y="2325600"/>
                    <a:chExt cx="60840" cy="114120"/>
                  </a:xfrm>
                </p:grpSpPr>
                <p:sp>
                  <p:nvSpPr>
                    <p:cNvPr id="959" name="Oval 79"/>
                    <p:cNvSpPr/>
                    <p:nvPr/>
                  </p:nvSpPr>
                  <p:spPr>
                    <a:xfrm>
                      <a:off x="6108120" y="2325600"/>
                      <a:ext cx="55800" cy="38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Freeform 80"/>
                    <p:cNvSpPr/>
                    <p:nvPr/>
                  </p:nvSpPr>
                  <p:spPr>
                    <a:xfrm>
                      <a:off x="6104520" y="2343240"/>
                      <a:ext cx="6084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1" name="Group 81"/>
                  <p:cNvGrpSpPr/>
                  <p:nvPr/>
                </p:nvGrpSpPr>
                <p:grpSpPr>
                  <a:xfrm>
                    <a:off x="6123240" y="2449800"/>
                    <a:ext cx="21240" cy="111240"/>
                    <a:chOff x="6123240" y="2449800"/>
                    <a:chExt cx="21240" cy="111240"/>
                  </a:xfrm>
                </p:grpSpPr>
                <p:grpSp>
                  <p:nvGrpSpPr>
                    <p:cNvPr id="962" name=""/>
                    <p:cNvGrpSpPr/>
                    <p:nvPr/>
                  </p:nvGrpSpPr>
                  <p:grpSpPr>
                    <a:xfrm>
                      <a:off x="6126840" y="2453040"/>
                      <a:ext cx="360" cy="108000"/>
                      <a:chOff x="6126840" y="2453040"/>
                      <a:chExt cx="360" cy="108000"/>
                    </a:xfrm>
                  </p:grpSpPr>
                  <p:sp>
                    <p:nvSpPr>
                      <p:cNvPr id="963" name="Line 82"/>
                      <p:cNvSpPr/>
                      <p:nvPr/>
                    </p:nvSpPr>
                    <p:spPr>
                      <a:xfrm>
                        <a:off x="6126840" y="2453040"/>
                        <a:ext cx="0" cy="1080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4" name=""/>
                      <p:cNvSpPr txBox="1"/>
                      <p:nvPr/>
                    </p:nvSpPr>
                    <p:spPr>
                      <a:xfrm>
                        <a:off x="6126840" y="2453040"/>
                        <a:ext cx="360" cy="108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5" name=""/>
                    <p:cNvGrpSpPr/>
                    <p:nvPr/>
                  </p:nvGrpSpPr>
                  <p:grpSpPr>
                    <a:xfrm>
                      <a:off x="6140520" y="2452680"/>
                      <a:ext cx="720" cy="107640"/>
                      <a:chOff x="6140520" y="2452680"/>
                      <a:chExt cx="720" cy="107640"/>
                    </a:xfrm>
                  </p:grpSpPr>
                  <p:sp>
                    <p:nvSpPr>
                      <p:cNvPr id="966" name="Line 83"/>
                      <p:cNvSpPr/>
                      <p:nvPr/>
                    </p:nvSpPr>
                    <p:spPr>
                      <a:xfrm flipV="1">
                        <a:off x="6140880" y="2452680"/>
                        <a:ext cx="36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7" name=""/>
                      <p:cNvSpPr txBox="1"/>
                      <p:nvPr/>
                    </p:nvSpPr>
                    <p:spPr>
                      <a:xfrm rot="10800000">
                        <a:off x="6140520" y="245268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8" name=""/>
                    <p:cNvGrpSpPr/>
                    <p:nvPr/>
                  </p:nvGrpSpPr>
                  <p:grpSpPr>
                    <a:xfrm>
                      <a:off x="6144120" y="2449800"/>
                      <a:ext cx="360" cy="107640"/>
                      <a:chOff x="6144120" y="2449800"/>
                      <a:chExt cx="360" cy="107640"/>
                    </a:xfrm>
                  </p:grpSpPr>
                  <p:sp>
                    <p:nvSpPr>
                      <p:cNvPr id="969" name="Line 84"/>
                      <p:cNvSpPr/>
                      <p:nvPr/>
                    </p:nvSpPr>
                    <p:spPr>
                      <a:xfrm flipV="1">
                        <a:off x="6144480" y="244980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0" name=""/>
                      <p:cNvSpPr txBox="1"/>
                      <p:nvPr/>
                    </p:nvSpPr>
                    <p:spPr>
                      <a:xfrm rot="10800000">
                        <a:off x="6144120" y="24498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71" name=""/>
                    <p:cNvGrpSpPr/>
                    <p:nvPr/>
                  </p:nvGrpSpPr>
                  <p:grpSpPr>
                    <a:xfrm>
                      <a:off x="6123240" y="2449800"/>
                      <a:ext cx="360" cy="107640"/>
                      <a:chOff x="6123240" y="2449800"/>
                      <a:chExt cx="360" cy="107640"/>
                    </a:xfrm>
                  </p:grpSpPr>
                  <p:sp>
                    <p:nvSpPr>
                      <p:cNvPr id="972" name="Line 85"/>
                      <p:cNvSpPr/>
                      <p:nvPr/>
                    </p:nvSpPr>
                    <p:spPr>
                      <a:xfrm flipV="1">
                        <a:off x="6123600" y="244980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3" name=""/>
                      <p:cNvSpPr txBox="1"/>
                      <p:nvPr/>
                    </p:nvSpPr>
                    <p:spPr>
                      <a:xfrm rot="10800000">
                        <a:off x="6123240" y="24498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974" name="Freeform 86"/>
                <p:cNvSpPr/>
                <p:nvPr/>
              </p:nvSpPr>
              <p:spPr>
                <a:xfrm>
                  <a:off x="6130800" y="2502720"/>
                  <a:ext cx="59040" cy="936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5" name="Rectangle 87"/>
              <p:cNvSpPr/>
              <p:nvPr/>
            </p:nvSpPr>
            <p:spPr>
              <a:xfrm>
                <a:off x="5983920" y="2633760"/>
                <a:ext cx="293040" cy="217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6" name="xjhsy3"/>
          <p:cNvGrpSpPr/>
          <p:nvPr/>
        </p:nvGrpSpPr>
        <p:grpSpPr>
          <a:xfrm>
            <a:off x="5076720" y="3357720"/>
            <a:ext cx="1800360" cy="667440"/>
            <a:chOff x="5076720" y="3357720"/>
            <a:chExt cx="1800360" cy="667440"/>
          </a:xfrm>
        </p:grpSpPr>
        <p:grpSp>
          <p:nvGrpSpPr>
            <p:cNvPr id="977" name="Group 7"/>
            <p:cNvGrpSpPr/>
            <p:nvPr/>
          </p:nvGrpSpPr>
          <p:grpSpPr>
            <a:xfrm>
              <a:off x="5076720" y="3688920"/>
              <a:ext cx="1800360" cy="336240"/>
              <a:chOff x="5076720" y="3688920"/>
              <a:chExt cx="1800360" cy="336240"/>
            </a:xfrm>
          </p:grpSpPr>
          <p:sp>
            <p:nvSpPr>
              <p:cNvPr id="978" name="Freeform 8"/>
              <p:cNvSpPr/>
              <p:nvPr/>
            </p:nvSpPr>
            <p:spPr>
              <a:xfrm flipV="1">
                <a:off x="5076720" y="3958920"/>
                <a:ext cx="1800360" cy="6588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AutoShape 9"/>
              <p:cNvSpPr/>
              <p:nvPr/>
            </p:nvSpPr>
            <p:spPr>
              <a:xfrm>
                <a:off x="6665400" y="3691080"/>
                <a:ext cx="153720" cy="2152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AutoShape 10"/>
              <p:cNvSpPr/>
              <p:nvPr/>
            </p:nvSpPr>
            <p:spPr>
              <a:xfrm>
                <a:off x="5379840" y="3688920"/>
                <a:ext cx="153720" cy="2152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1" name="Group 11"/>
            <p:cNvGrpSpPr/>
            <p:nvPr/>
          </p:nvGrpSpPr>
          <p:grpSpPr>
            <a:xfrm>
              <a:off x="5886720" y="3357720"/>
              <a:ext cx="261720" cy="546480"/>
              <a:chOff x="5886720" y="3357720"/>
              <a:chExt cx="261720" cy="546480"/>
            </a:xfrm>
          </p:grpSpPr>
          <p:grpSp>
            <p:nvGrpSpPr>
              <p:cNvPr id="982" name="Group 12"/>
              <p:cNvGrpSpPr/>
              <p:nvPr/>
            </p:nvGrpSpPr>
            <p:grpSpPr>
              <a:xfrm>
                <a:off x="5923800" y="3357720"/>
                <a:ext cx="195120" cy="427680"/>
                <a:chOff x="5923800" y="3357720"/>
                <a:chExt cx="195120" cy="427680"/>
              </a:xfrm>
            </p:grpSpPr>
            <p:grpSp>
              <p:nvGrpSpPr>
                <p:cNvPr id="983" name="Group 13"/>
                <p:cNvGrpSpPr/>
                <p:nvPr/>
              </p:nvGrpSpPr>
              <p:grpSpPr>
                <a:xfrm>
                  <a:off x="5976720" y="3685320"/>
                  <a:ext cx="88200" cy="100080"/>
                  <a:chOff x="5976720" y="3685320"/>
                  <a:chExt cx="88200" cy="100080"/>
                </a:xfrm>
              </p:grpSpPr>
              <p:grpSp>
                <p:nvGrpSpPr>
                  <p:cNvPr id="984" name="Group 14"/>
                  <p:cNvGrpSpPr/>
                  <p:nvPr/>
                </p:nvGrpSpPr>
                <p:grpSpPr>
                  <a:xfrm>
                    <a:off x="5976720" y="3685320"/>
                    <a:ext cx="88200" cy="100080"/>
                    <a:chOff x="5976720" y="3685320"/>
                    <a:chExt cx="88200" cy="100080"/>
                  </a:xfrm>
                </p:grpSpPr>
                <p:grpSp>
                  <p:nvGrpSpPr>
                    <p:cNvPr id="985" name="Group 15"/>
                    <p:cNvGrpSpPr/>
                    <p:nvPr/>
                  </p:nvGrpSpPr>
                  <p:grpSpPr>
                    <a:xfrm>
                      <a:off x="5998680" y="3762360"/>
                      <a:ext cx="48240" cy="23040"/>
                      <a:chOff x="5998680" y="3762360"/>
                      <a:chExt cx="48240" cy="23040"/>
                    </a:xfrm>
                  </p:grpSpPr>
                  <p:sp>
                    <p:nvSpPr>
                      <p:cNvPr id="986" name="Freeform 16"/>
                      <p:cNvSpPr/>
                      <p:nvPr/>
                    </p:nvSpPr>
                    <p:spPr>
                      <a:xfrm>
                        <a:off x="5998680" y="3762360"/>
                        <a:ext cx="4824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7" name="Freeform 17"/>
                      <p:cNvSpPr/>
                      <p:nvPr/>
                    </p:nvSpPr>
                    <p:spPr>
                      <a:xfrm>
                        <a:off x="6006240" y="3762360"/>
                        <a:ext cx="216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8" name="Group 18"/>
                    <p:cNvGrpSpPr/>
                    <p:nvPr/>
                  </p:nvGrpSpPr>
                  <p:grpSpPr>
                    <a:xfrm>
                      <a:off x="5976720" y="3685320"/>
                      <a:ext cx="88200" cy="83520"/>
                      <a:chOff x="5976720" y="3685320"/>
                      <a:chExt cx="88200" cy="83520"/>
                    </a:xfrm>
                  </p:grpSpPr>
                  <p:sp>
                    <p:nvSpPr>
                      <p:cNvPr id="989" name="Freeform 19"/>
                      <p:cNvSpPr/>
                      <p:nvPr/>
                    </p:nvSpPr>
                    <p:spPr>
                      <a:xfrm>
                        <a:off x="5976720" y="3685320"/>
                        <a:ext cx="882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0" name="Freeform 20"/>
                      <p:cNvSpPr/>
                      <p:nvPr/>
                    </p:nvSpPr>
                    <p:spPr>
                      <a:xfrm>
                        <a:off x="5977080" y="3696480"/>
                        <a:ext cx="108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1" name="Freeform 21"/>
                      <p:cNvSpPr/>
                      <p:nvPr/>
                    </p:nvSpPr>
                    <p:spPr>
                      <a:xfrm>
                        <a:off x="5977440" y="3710880"/>
                        <a:ext cx="144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2" name="Freeform 22"/>
                      <p:cNvSpPr/>
                      <p:nvPr/>
                    </p:nvSpPr>
                    <p:spPr>
                      <a:xfrm>
                        <a:off x="5976720" y="3723120"/>
                        <a:ext cx="1692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3" name="Freeform 23"/>
                      <p:cNvSpPr/>
                      <p:nvPr/>
                    </p:nvSpPr>
                    <p:spPr>
                      <a:xfrm>
                        <a:off x="5978520" y="3736440"/>
                        <a:ext cx="201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4" name="Freeform 24"/>
                      <p:cNvSpPr/>
                      <p:nvPr/>
                    </p:nvSpPr>
                    <p:spPr>
                      <a:xfrm>
                        <a:off x="5978880" y="3688200"/>
                        <a:ext cx="8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5" name="Freeform 25"/>
                      <p:cNvSpPr/>
                      <p:nvPr/>
                    </p:nvSpPr>
                    <p:spPr>
                      <a:xfrm>
                        <a:off x="5994000" y="3686040"/>
                        <a:ext cx="709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96" name="Group 26"/>
                  <p:cNvGrpSpPr/>
                  <p:nvPr/>
                </p:nvGrpSpPr>
                <p:grpSpPr>
                  <a:xfrm>
                    <a:off x="6035760" y="3698640"/>
                    <a:ext cx="20880" cy="50760"/>
                    <a:chOff x="6035760" y="3698640"/>
                    <a:chExt cx="20880" cy="50760"/>
                  </a:xfrm>
                </p:grpSpPr>
                <p:sp>
                  <p:nvSpPr>
                    <p:cNvPr id="997" name="Freeform 27"/>
                    <p:cNvSpPr/>
                    <p:nvPr/>
                  </p:nvSpPr>
                  <p:spPr>
                    <a:xfrm>
                      <a:off x="6039720" y="3711960"/>
                      <a:ext cx="162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Freeform 28"/>
                    <p:cNvSpPr/>
                    <p:nvPr/>
                  </p:nvSpPr>
                  <p:spPr>
                    <a:xfrm>
                      <a:off x="6042600" y="372528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Freeform 29"/>
                    <p:cNvSpPr/>
                    <p:nvPr/>
                  </p:nvSpPr>
                  <p:spPr>
                    <a:xfrm>
                      <a:off x="6041880" y="374040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Freeform 30"/>
                    <p:cNvSpPr/>
                    <p:nvPr/>
                  </p:nvSpPr>
                  <p:spPr>
                    <a:xfrm>
                      <a:off x="6035760" y="3698640"/>
                      <a:ext cx="16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1" name="Freeform 31"/>
                <p:cNvSpPr/>
                <p:nvPr/>
              </p:nvSpPr>
              <p:spPr>
                <a:xfrm>
                  <a:off x="5923800" y="3357720"/>
                  <a:ext cx="195120" cy="339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32"/>
                <p:cNvSpPr/>
                <p:nvPr/>
              </p:nvSpPr>
              <p:spPr>
                <a:xfrm>
                  <a:off x="5978520" y="3658320"/>
                  <a:ext cx="85680" cy="342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33"/>
                <p:cNvSpPr/>
                <p:nvPr/>
              </p:nvSpPr>
              <p:spPr>
                <a:xfrm>
                  <a:off x="6067800" y="3391560"/>
                  <a:ext cx="32400" cy="5004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4" name="Group 34"/>
                <p:cNvGrpSpPr/>
                <p:nvPr/>
              </p:nvGrpSpPr>
              <p:grpSpPr>
                <a:xfrm>
                  <a:off x="5994000" y="3459600"/>
                  <a:ext cx="54360" cy="210600"/>
                  <a:chOff x="5994000" y="3459600"/>
                  <a:chExt cx="54360" cy="210600"/>
                </a:xfrm>
              </p:grpSpPr>
              <p:sp>
                <p:nvSpPr>
                  <p:cNvPr id="1005" name="Freeform 35"/>
                  <p:cNvSpPr/>
                  <p:nvPr/>
                </p:nvSpPr>
                <p:spPr>
                  <a:xfrm>
                    <a:off x="6004080" y="3547440"/>
                    <a:ext cx="334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Oval 36"/>
                  <p:cNvSpPr/>
                  <p:nvPr/>
                </p:nvSpPr>
                <p:spPr>
                  <a:xfrm>
                    <a:off x="6021360" y="3551400"/>
                    <a:ext cx="4320" cy="82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7" name="Group 37"/>
                  <p:cNvGrpSpPr/>
                  <p:nvPr/>
                </p:nvGrpSpPr>
                <p:grpSpPr>
                  <a:xfrm>
                    <a:off x="5994000" y="3459600"/>
                    <a:ext cx="54360" cy="96480"/>
                    <a:chOff x="5994000" y="3459600"/>
                    <a:chExt cx="54360" cy="96480"/>
                  </a:xfrm>
                </p:grpSpPr>
                <p:sp>
                  <p:nvSpPr>
                    <p:cNvPr id="1008" name="Oval 38"/>
                    <p:cNvSpPr/>
                    <p:nvPr/>
                  </p:nvSpPr>
                  <p:spPr>
                    <a:xfrm>
                      <a:off x="5996880" y="3459600"/>
                      <a:ext cx="49680" cy="3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Freeform 39"/>
                    <p:cNvSpPr/>
                    <p:nvPr/>
                  </p:nvSpPr>
                  <p:spPr>
                    <a:xfrm>
                      <a:off x="5994000" y="3474360"/>
                      <a:ext cx="5436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0" name="Group 40"/>
                  <p:cNvGrpSpPr/>
                  <p:nvPr/>
                </p:nvGrpSpPr>
                <p:grpSpPr>
                  <a:xfrm>
                    <a:off x="6010920" y="3564720"/>
                    <a:ext cx="19080" cy="93960"/>
                    <a:chOff x="6010920" y="3564720"/>
                    <a:chExt cx="19080" cy="93960"/>
                  </a:xfrm>
                </p:grpSpPr>
                <p:grpSp>
                  <p:nvGrpSpPr>
                    <p:cNvPr id="1011" name=""/>
                    <p:cNvGrpSpPr/>
                    <p:nvPr/>
                  </p:nvGrpSpPr>
                  <p:grpSpPr>
                    <a:xfrm>
                      <a:off x="6014160" y="3567240"/>
                      <a:ext cx="360" cy="91440"/>
                      <a:chOff x="6014160" y="3567240"/>
                      <a:chExt cx="360" cy="91440"/>
                    </a:xfrm>
                  </p:grpSpPr>
                  <p:sp>
                    <p:nvSpPr>
                      <p:cNvPr id="1012" name="Line 41"/>
                      <p:cNvSpPr/>
                      <p:nvPr/>
                    </p:nvSpPr>
                    <p:spPr>
                      <a:xfrm>
                        <a:off x="6014160" y="3567240"/>
                        <a:ext cx="0" cy="914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3" name=""/>
                      <p:cNvSpPr txBox="1"/>
                      <p:nvPr/>
                    </p:nvSpPr>
                    <p:spPr>
                      <a:xfrm>
                        <a:off x="6014160" y="3567240"/>
                        <a:ext cx="360" cy="9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640" bIns="44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14" name=""/>
                    <p:cNvGrpSpPr/>
                    <p:nvPr/>
                  </p:nvGrpSpPr>
                  <p:grpSpPr>
                    <a:xfrm>
                      <a:off x="6026400" y="3567240"/>
                      <a:ext cx="720" cy="90720"/>
                      <a:chOff x="6026400" y="3567240"/>
                      <a:chExt cx="720" cy="90720"/>
                    </a:xfrm>
                  </p:grpSpPr>
                  <p:sp>
                    <p:nvSpPr>
                      <p:cNvPr id="1015" name="Line 42"/>
                      <p:cNvSpPr/>
                      <p:nvPr/>
                    </p:nvSpPr>
                    <p:spPr>
                      <a:xfrm flipV="1">
                        <a:off x="6026760" y="3567240"/>
                        <a:ext cx="360" cy="907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6" name=""/>
                      <p:cNvSpPr txBox="1"/>
                      <p:nvPr/>
                    </p:nvSpPr>
                    <p:spPr>
                      <a:xfrm rot="10800000">
                        <a:off x="6026400" y="3567240"/>
                        <a:ext cx="360" cy="9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3920" bIns="43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17" name=""/>
                    <p:cNvGrpSpPr/>
                    <p:nvPr/>
                  </p:nvGrpSpPr>
                  <p:grpSpPr>
                    <a:xfrm>
                      <a:off x="6029640" y="3564720"/>
                      <a:ext cx="360" cy="91080"/>
                      <a:chOff x="6029640" y="3564720"/>
                      <a:chExt cx="360" cy="91080"/>
                    </a:xfrm>
                  </p:grpSpPr>
                  <p:sp>
                    <p:nvSpPr>
                      <p:cNvPr id="1018" name="Line 43"/>
                      <p:cNvSpPr/>
                      <p:nvPr/>
                    </p:nvSpPr>
                    <p:spPr>
                      <a:xfrm flipV="1">
                        <a:off x="6030000" y="356472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9" name=""/>
                      <p:cNvSpPr txBox="1"/>
                      <p:nvPr/>
                    </p:nvSpPr>
                    <p:spPr>
                      <a:xfrm rot="10800000">
                        <a:off x="6029640" y="356472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20" name=""/>
                    <p:cNvGrpSpPr/>
                    <p:nvPr/>
                  </p:nvGrpSpPr>
                  <p:grpSpPr>
                    <a:xfrm>
                      <a:off x="6010920" y="3564720"/>
                      <a:ext cx="360" cy="91080"/>
                      <a:chOff x="6010920" y="3564720"/>
                      <a:chExt cx="360" cy="91080"/>
                    </a:xfrm>
                  </p:grpSpPr>
                  <p:sp>
                    <p:nvSpPr>
                      <p:cNvPr id="1021" name="Line 44"/>
                      <p:cNvSpPr/>
                      <p:nvPr/>
                    </p:nvSpPr>
                    <p:spPr>
                      <a:xfrm flipV="1">
                        <a:off x="6011280" y="356472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2" name=""/>
                      <p:cNvSpPr txBox="1"/>
                      <p:nvPr/>
                    </p:nvSpPr>
                    <p:spPr>
                      <a:xfrm rot="10800000">
                        <a:off x="6010920" y="356472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023" name="Freeform 45"/>
                <p:cNvSpPr/>
                <p:nvPr/>
              </p:nvSpPr>
              <p:spPr>
                <a:xfrm>
                  <a:off x="6017400" y="3609360"/>
                  <a:ext cx="52560" cy="792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4" name="Rectangle 46"/>
              <p:cNvSpPr/>
              <p:nvPr/>
            </p:nvSpPr>
            <p:spPr>
              <a:xfrm>
                <a:off x="5886720" y="3720240"/>
                <a:ext cx="261720" cy="183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25" name="xjhsy4" descr="w3"/>
          <p:cNvPicPr/>
          <p:nvPr/>
        </p:nvPicPr>
        <p:blipFill>
          <a:blip r:embed="rId4"/>
          <a:stretch/>
        </p:blipFill>
        <p:spPr>
          <a:xfrm>
            <a:off x="3203640" y="5803920"/>
            <a:ext cx="2185920" cy="1082520"/>
          </a:xfrm>
          <a:prstGeom prst="rect">
            <a:avLst/>
          </a:prstGeom>
          <a:ln w="0">
            <a:noFill/>
          </a:ln>
        </p:spPr>
      </p:pic>
      <p:pic>
        <p:nvPicPr>
          <p:cNvPr id="1026" name="xjhsy8" descr="w7"/>
          <p:cNvPicPr/>
          <p:nvPr/>
        </p:nvPicPr>
        <p:blipFill>
          <a:blip r:embed="rId5"/>
          <a:stretch/>
        </p:blipFill>
        <p:spPr>
          <a:xfrm>
            <a:off x="5796000" y="5473800"/>
            <a:ext cx="2160720" cy="1285920"/>
          </a:xfrm>
          <a:prstGeom prst="rect">
            <a:avLst/>
          </a:prstGeom>
          <a:ln w="0">
            <a:noFill/>
          </a:ln>
        </p:spPr>
      </p:pic>
      <p:sp>
        <p:nvSpPr>
          <p:cNvPr id="1027" name="Freeform 98"/>
          <p:cNvSpPr/>
          <p:nvPr/>
        </p:nvSpPr>
        <p:spPr>
          <a:xfrm>
            <a:off x="5076720" y="2565360"/>
            <a:ext cx="432000" cy="1150920"/>
          </a:xfrm>
          <a:custGeom>
            <a:avLst/>
            <a:gdLst/>
            <a:ahLst/>
            <a:rect l="l" t="t" r="r" b="b"/>
            <a:pathLst>
              <a:path w="504" h="789">
                <a:moveTo>
                  <a:pt x="504" y="0"/>
                </a:moveTo>
                <a:cubicBezTo>
                  <a:pt x="416" y="29"/>
                  <a:pt x="462" y="18"/>
                  <a:pt x="365" y="32"/>
                </a:cubicBezTo>
                <a:cubicBezTo>
                  <a:pt x="248" y="70"/>
                  <a:pt x="213" y="77"/>
                  <a:pt x="120" y="170"/>
                </a:cubicBezTo>
                <a:cubicBezTo>
                  <a:pt x="113" y="177"/>
                  <a:pt x="103" y="183"/>
                  <a:pt x="98" y="192"/>
                </a:cubicBezTo>
                <a:cubicBezTo>
                  <a:pt x="84" y="220"/>
                  <a:pt x="64" y="246"/>
                  <a:pt x="56" y="277"/>
                </a:cubicBezTo>
                <a:cubicBezTo>
                  <a:pt x="49" y="305"/>
                  <a:pt x="34" y="362"/>
                  <a:pt x="34" y="362"/>
                </a:cubicBezTo>
                <a:cubicBezTo>
                  <a:pt x="22" y="474"/>
                  <a:pt x="0" y="642"/>
                  <a:pt x="109" y="714"/>
                </a:cubicBezTo>
                <a:cubicBezTo>
                  <a:pt x="127" y="742"/>
                  <a:pt x="156" y="789"/>
                  <a:pt x="194" y="7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93"/>
          <p:cNvSpPr/>
          <p:nvPr/>
        </p:nvSpPr>
        <p:spPr>
          <a:xfrm>
            <a:off x="4716360" y="3789360"/>
            <a:ext cx="935280" cy="1584360"/>
          </a:xfrm>
          <a:custGeom>
            <a:avLst/>
            <a:gdLst/>
            <a:ahLst/>
            <a:rect l="l" t="t" r="r" b="b"/>
            <a:pathLst>
              <a:path w="427" h="882">
                <a:moveTo>
                  <a:pt x="404" y="0"/>
                </a:moveTo>
                <a:cubicBezTo>
                  <a:pt x="292" y="38"/>
                  <a:pt x="233" y="43"/>
                  <a:pt x="134" y="117"/>
                </a:cubicBezTo>
                <a:cubicBezTo>
                  <a:pt x="108" y="155"/>
                  <a:pt x="77" y="185"/>
                  <a:pt x="51" y="223"/>
                </a:cubicBezTo>
                <a:cubicBezTo>
                  <a:pt x="39" y="262"/>
                  <a:pt x="26" y="301"/>
                  <a:pt x="16" y="341"/>
                </a:cubicBezTo>
                <a:cubicBezTo>
                  <a:pt x="25" y="474"/>
                  <a:pt x="0" y="574"/>
                  <a:pt x="145" y="611"/>
                </a:cubicBezTo>
                <a:cubicBezTo>
                  <a:pt x="157" y="619"/>
                  <a:pt x="168" y="629"/>
                  <a:pt x="181" y="635"/>
                </a:cubicBezTo>
                <a:cubicBezTo>
                  <a:pt x="192" y="640"/>
                  <a:pt x="205" y="640"/>
                  <a:pt x="216" y="646"/>
                </a:cubicBezTo>
                <a:cubicBezTo>
                  <a:pt x="288" y="686"/>
                  <a:pt x="297" y="704"/>
                  <a:pt x="357" y="764"/>
                </a:cubicBezTo>
                <a:cubicBezTo>
                  <a:pt x="401" y="808"/>
                  <a:pt x="392" y="844"/>
                  <a:pt x="427" y="88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94"/>
          <p:cNvSpPr/>
          <p:nvPr/>
        </p:nvSpPr>
        <p:spPr>
          <a:xfrm>
            <a:off x="6804000" y="2708280"/>
            <a:ext cx="1025640" cy="1081080"/>
          </a:xfrm>
          <a:custGeom>
            <a:avLst/>
            <a:gdLst/>
            <a:ahLst/>
            <a:rect l="l" t="t" r="r" b="b"/>
            <a:pathLst>
              <a:path w="646" h="885">
                <a:moveTo>
                  <a:pt x="141" y="0"/>
                </a:moveTo>
                <a:cubicBezTo>
                  <a:pt x="215" y="4"/>
                  <a:pt x="290" y="3"/>
                  <a:pt x="364" y="12"/>
                </a:cubicBezTo>
                <a:cubicBezTo>
                  <a:pt x="419" y="19"/>
                  <a:pt x="427" y="44"/>
                  <a:pt x="470" y="71"/>
                </a:cubicBezTo>
                <a:cubicBezTo>
                  <a:pt x="528" y="107"/>
                  <a:pt x="579" y="148"/>
                  <a:pt x="646" y="165"/>
                </a:cubicBezTo>
                <a:cubicBezTo>
                  <a:pt x="642" y="220"/>
                  <a:pt x="643" y="275"/>
                  <a:pt x="635" y="329"/>
                </a:cubicBezTo>
                <a:cubicBezTo>
                  <a:pt x="631" y="354"/>
                  <a:pt x="632" y="386"/>
                  <a:pt x="611" y="400"/>
                </a:cubicBezTo>
                <a:cubicBezTo>
                  <a:pt x="551" y="439"/>
                  <a:pt x="526" y="481"/>
                  <a:pt x="482" y="541"/>
                </a:cubicBezTo>
                <a:cubicBezTo>
                  <a:pt x="470" y="557"/>
                  <a:pt x="465" y="580"/>
                  <a:pt x="447" y="588"/>
                </a:cubicBezTo>
                <a:cubicBezTo>
                  <a:pt x="369" y="625"/>
                  <a:pt x="293" y="680"/>
                  <a:pt x="211" y="705"/>
                </a:cubicBezTo>
                <a:cubicBezTo>
                  <a:pt x="149" y="748"/>
                  <a:pt x="186" y="719"/>
                  <a:pt x="106" y="799"/>
                </a:cubicBezTo>
                <a:cubicBezTo>
                  <a:pt x="86" y="819"/>
                  <a:pt x="35" y="847"/>
                  <a:pt x="35" y="847"/>
                </a:cubicBezTo>
                <a:cubicBezTo>
                  <a:pt x="10" y="885"/>
                  <a:pt x="26" y="882"/>
                  <a:pt x="0" y="88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90"/>
          <p:cNvSpPr/>
          <p:nvPr/>
        </p:nvSpPr>
        <p:spPr>
          <a:xfrm>
            <a:off x="3348000" y="3716280"/>
            <a:ext cx="2178000" cy="2770200"/>
          </a:xfrm>
          <a:custGeom>
            <a:avLst/>
            <a:gdLst/>
            <a:ahLst/>
            <a:rect l="l" t="t" r="r" b="b"/>
            <a:pathLst>
              <a:path w="1367" h="1293">
                <a:moveTo>
                  <a:pt x="1367" y="0"/>
                </a:moveTo>
                <a:cubicBezTo>
                  <a:pt x="1238" y="4"/>
                  <a:pt x="1108" y="5"/>
                  <a:pt x="979" y="12"/>
                </a:cubicBezTo>
                <a:cubicBezTo>
                  <a:pt x="922" y="15"/>
                  <a:pt x="889" y="42"/>
                  <a:pt x="838" y="59"/>
                </a:cubicBezTo>
                <a:cubicBezTo>
                  <a:pt x="775" y="80"/>
                  <a:pt x="697" y="76"/>
                  <a:pt x="638" y="106"/>
                </a:cubicBezTo>
                <a:cubicBezTo>
                  <a:pt x="570" y="141"/>
                  <a:pt x="608" y="127"/>
                  <a:pt x="520" y="141"/>
                </a:cubicBezTo>
                <a:cubicBezTo>
                  <a:pt x="467" y="159"/>
                  <a:pt x="440" y="215"/>
                  <a:pt x="391" y="247"/>
                </a:cubicBezTo>
                <a:cubicBezTo>
                  <a:pt x="363" y="328"/>
                  <a:pt x="310" y="387"/>
                  <a:pt x="250" y="447"/>
                </a:cubicBezTo>
                <a:cubicBezTo>
                  <a:pt x="227" y="514"/>
                  <a:pt x="183" y="576"/>
                  <a:pt x="144" y="635"/>
                </a:cubicBezTo>
                <a:cubicBezTo>
                  <a:pt x="136" y="647"/>
                  <a:pt x="129" y="658"/>
                  <a:pt x="121" y="670"/>
                </a:cubicBezTo>
                <a:cubicBezTo>
                  <a:pt x="113" y="682"/>
                  <a:pt x="97" y="706"/>
                  <a:pt x="97" y="706"/>
                </a:cubicBezTo>
                <a:cubicBezTo>
                  <a:pt x="66" y="828"/>
                  <a:pt x="107" y="687"/>
                  <a:pt x="62" y="788"/>
                </a:cubicBezTo>
                <a:cubicBezTo>
                  <a:pt x="4" y="917"/>
                  <a:pt x="68" y="811"/>
                  <a:pt x="15" y="894"/>
                </a:cubicBezTo>
                <a:cubicBezTo>
                  <a:pt x="22" y="1010"/>
                  <a:pt x="0" y="1161"/>
                  <a:pt x="109" y="1235"/>
                </a:cubicBezTo>
                <a:cubicBezTo>
                  <a:pt x="136" y="1276"/>
                  <a:pt x="163" y="1293"/>
                  <a:pt x="215" y="1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92"/>
          <p:cNvSpPr/>
          <p:nvPr/>
        </p:nvSpPr>
        <p:spPr>
          <a:xfrm>
            <a:off x="6804000" y="3716280"/>
            <a:ext cx="1692360" cy="2521080"/>
          </a:xfrm>
          <a:custGeom>
            <a:avLst/>
            <a:gdLst/>
            <a:ahLst/>
            <a:rect l="l" t="t" r="r" b="b"/>
            <a:pathLst>
              <a:path w="1075" h="1246">
                <a:moveTo>
                  <a:pt x="470" y="1246"/>
                </a:moveTo>
                <a:cubicBezTo>
                  <a:pt x="537" y="1242"/>
                  <a:pt x="604" y="1244"/>
                  <a:pt x="670" y="1234"/>
                </a:cubicBezTo>
                <a:cubicBezTo>
                  <a:pt x="684" y="1232"/>
                  <a:pt x="693" y="1217"/>
                  <a:pt x="705" y="1211"/>
                </a:cubicBezTo>
                <a:cubicBezTo>
                  <a:pt x="747" y="1190"/>
                  <a:pt x="834" y="1152"/>
                  <a:pt x="834" y="1152"/>
                </a:cubicBezTo>
                <a:cubicBezTo>
                  <a:pt x="865" y="1107"/>
                  <a:pt x="885" y="1057"/>
                  <a:pt x="917" y="1011"/>
                </a:cubicBezTo>
                <a:cubicBezTo>
                  <a:pt x="998" y="894"/>
                  <a:pt x="1017" y="870"/>
                  <a:pt x="1046" y="729"/>
                </a:cubicBezTo>
                <a:cubicBezTo>
                  <a:pt x="1041" y="576"/>
                  <a:pt x="1075" y="414"/>
                  <a:pt x="1023" y="270"/>
                </a:cubicBezTo>
                <a:cubicBezTo>
                  <a:pt x="999" y="204"/>
                  <a:pt x="843" y="104"/>
                  <a:pt x="776" y="82"/>
                </a:cubicBezTo>
                <a:cubicBezTo>
                  <a:pt x="530" y="0"/>
                  <a:pt x="0" y="47"/>
                  <a:pt x="0" y="4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Freeform 91"/>
          <p:cNvSpPr/>
          <p:nvPr/>
        </p:nvSpPr>
        <p:spPr>
          <a:xfrm>
            <a:off x="4627440" y="6318360"/>
            <a:ext cx="1623960" cy="252360"/>
          </a:xfrm>
          <a:custGeom>
            <a:avLst/>
            <a:gdLst/>
            <a:ahLst/>
            <a:rect l="l" t="t" r="r" b="b"/>
            <a:pathLst>
              <a:path w="1023" h="159">
                <a:moveTo>
                  <a:pt x="0" y="141"/>
                </a:moveTo>
                <a:cubicBezTo>
                  <a:pt x="230" y="158"/>
                  <a:pt x="173" y="159"/>
                  <a:pt x="482" y="141"/>
                </a:cubicBezTo>
                <a:cubicBezTo>
                  <a:pt x="537" y="138"/>
                  <a:pt x="583" y="115"/>
                  <a:pt x="635" y="105"/>
                </a:cubicBezTo>
                <a:cubicBezTo>
                  <a:pt x="703" y="92"/>
                  <a:pt x="827" y="86"/>
                  <a:pt x="882" y="82"/>
                </a:cubicBezTo>
                <a:cubicBezTo>
                  <a:pt x="932" y="48"/>
                  <a:pt x="959" y="0"/>
                  <a:pt x="102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98"/>
          <p:cNvSpPr/>
          <p:nvPr/>
        </p:nvSpPr>
        <p:spPr>
          <a:xfrm>
            <a:off x="630072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99"/>
          <p:cNvSpPr/>
          <p:nvPr/>
        </p:nvSpPr>
        <p:spPr>
          <a:xfrm>
            <a:off x="6156360" y="3141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Picture 104" descr=""/>
          <p:cNvPicPr/>
          <p:nvPr/>
        </p:nvPicPr>
        <p:blipFill>
          <a:blip r:embed="rId6"/>
          <a:stretch/>
        </p:blipFill>
        <p:spPr>
          <a:xfrm>
            <a:off x="611280" y="1989000"/>
            <a:ext cx="3311280" cy="2275200"/>
          </a:xfrm>
          <a:prstGeom prst="rect">
            <a:avLst/>
          </a:prstGeom>
          <a:ln w="0">
            <a:noFill/>
          </a:ln>
        </p:spPr>
      </p:pic>
      <p:sp>
        <p:nvSpPr>
          <p:cNvPr id="1036" name="Freeform 101"/>
          <p:cNvSpPr/>
          <p:nvPr/>
        </p:nvSpPr>
        <p:spPr>
          <a:xfrm>
            <a:off x="5940360" y="3860640"/>
            <a:ext cx="1297080" cy="1729080"/>
          </a:xfrm>
          <a:custGeom>
            <a:avLst/>
            <a:gdLst/>
            <a:ahLst/>
            <a:rect l="l" t="t" r="r" b="b"/>
            <a:pathLst>
              <a:path w="863" h="1112">
                <a:moveTo>
                  <a:pt x="545" y="0"/>
                </a:moveTo>
                <a:cubicBezTo>
                  <a:pt x="704" y="397"/>
                  <a:pt x="863" y="794"/>
                  <a:pt x="772" y="953"/>
                </a:cubicBezTo>
                <a:cubicBezTo>
                  <a:pt x="681" y="1112"/>
                  <a:pt x="121" y="953"/>
                  <a:pt x="0" y="95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3384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设计电路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4"/>
          <p:cNvSpPr/>
          <p:nvPr/>
        </p:nvSpPr>
        <p:spPr>
          <a:xfrm>
            <a:off x="4427640" y="9079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ee0"/>
                </a:solidFill>
                <a:latin typeface="Arial"/>
              </a:rPr>
              <a:t>根据电路图连接实物电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xjhsy7" descr="w52"/>
          <p:cNvPicPr/>
          <p:nvPr/>
        </p:nvPicPr>
        <p:blipFill>
          <a:blip r:embed="rId1"/>
          <a:stretch/>
        </p:blipFill>
        <p:spPr>
          <a:xfrm>
            <a:off x="5219640" y="4365720"/>
            <a:ext cx="1800360" cy="1495440"/>
          </a:xfrm>
          <a:prstGeom prst="rect">
            <a:avLst/>
          </a:prstGeom>
          <a:ln w="0">
            <a:noFill/>
          </a:ln>
        </p:spPr>
      </p:pic>
      <p:grpSp>
        <p:nvGrpSpPr>
          <p:cNvPr id="1040" name="xjhsy3"/>
          <p:cNvGrpSpPr/>
          <p:nvPr/>
        </p:nvGrpSpPr>
        <p:grpSpPr>
          <a:xfrm>
            <a:off x="5076720" y="2205000"/>
            <a:ext cx="2016360" cy="790200"/>
            <a:chOff x="5076720" y="2205000"/>
            <a:chExt cx="2016360" cy="790200"/>
          </a:xfrm>
        </p:grpSpPr>
        <p:grpSp>
          <p:nvGrpSpPr>
            <p:cNvPr id="1041" name="Group 48"/>
            <p:cNvGrpSpPr/>
            <p:nvPr/>
          </p:nvGrpSpPr>
          <p:grpSpPr>
            <a:xfrm>
              <a:off x="5076720" y="2596680"/>
              <a:ext cx="2016360" cy="398520"/>
              <a:chOff x="5076720" y="2596680"/>
              <a:chExt cx="2016360" cy="398520"/>
            </a:xfrm>
          </p:grpSpPr>
          <p:sp>
            <p:nvSpPr>
              <p:cNvPr id="1042" name="Freeform 49"/>
              <p:cNvSpPr/>
              <p:nvPr/>
            </p:nvSpPr>
            <p:spPr>
              <a:xfrm flipV="1">
                <a:off x="5076720" y="2916720"/>
                <a:ext cx="2016360" cy="7812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AutoShape 50"/>
              <p:cNvSpPr/>
              <p:nvPr/>
            </p:nvSpPr>
            <p:spPr>
              <a:xfrm>
                <a:off x="6856200" y="2599200"/>
                <a:ext cx="172080" cy="2548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AutoShape 51"/>
              <p:cNvSpPr/>
              <p:nvPr/>
            </p:nvSpPr>
            <p:spPr>
              <a:xfrm>
                <a:off x="5416200" y="2596680"/>
                <a:ext cx="172080" cy="2548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52"/>
            <p:cNvGrpSpPr/>
            <p:nvPr/>
          </p:nvGrpSpPr>
          <p:grpSpPr>
            <a:xfrm>
              <a:off x="5983920" y="2205000"/>
              <a:ext cx="293040" cy="646200"/>
              <a:chOff x="5983920" y="2205000"/>
              <a:chExt cx="293040" cy="646200"/>
            </a:xfrm>
          </p:grpSpPr>
          <p:grpSp>
            <p:nvGrpSpPr>
              <p:cNvPr id="1046" name="Group 53"/>
              <p:cNvGrpSpPr/>
              <p:nvPr/>
            </p:nvGrpSpPr>
            <p:grpSpPr>
              <a:xfrm>
                <a:off x="6025680" y="2205000"/>
                <a:ext cx="218520" cy="506160"/>
                <a:chOff x="6025680" y="2205000"/>
                <a:chExt cx="218520" cy="506160"/>
              </a:xfrm>
            </p:grpSpPr>
            <p:grpSp>
              <p:nvGrpSpPr>
                <p:cNvPr id="1047" name="Group 54"/>
                <p:cNvGrpSpPr/>
                <p:nvPr/>
              </p:nvGrpSpPr>
              <p:grpSpPr>
                <a:xfrm>
                  <a:off x="6085080" y="2592720"/>
                  <a:ext cx="98640" cy="118440"/>
                  <a:chOff x="6085080" y="2592720"/>
                  <a:chExt cx="98640" cy="118440"/>
                </a:xfrm>
              </p:grpSpPr>
              <p:grpSp>
                <p:nvGrpSpPr>
                  <p:cNvPr id="1048" name="Group 55"/>
                  <p:cNvGrpSpPr/>
                  <p:nvPr/>
                </p:nvGrpSpPr>
                <p:grpSpPr>
                  <a:xfrm>
                    <a:off x="6085080" y="2592720"/>
                    <a:ext cx="98640" cy="118440"/>
                    <a:chOff x="6085080" y="2592720"/>
                    <a:chExt cx="98640" cy="118440"/>
                  </a:xfrm>
                </p:grpSpPr>
                <p:grpSp>
                  <p:nvGrpSpPr>
                    <p:cNvPr id="1049" name="Group 56"/>
                    <p:cNvGrpSpPr/>
                    <p:nvPr/>
                  </p:nvGrpSpPr>
                  <p:grpSpPr>
                    <a:xfrm>
                      <a:off x="6109560" y="2684160"/>
                      <a:ext cx="53640" cy="27000"/>
                      <a:chOff x="6109560" y="2684160"/>
                      <a:chExt cx="53640" cy="27000"/>
                    </a:xfrm>
                  </p:grpSpPr>
                  <p:sp>
                    <p:nvSpPr>
                      <p:cNvPr id="1050" name="Freeform 57"/>
                      <p:cNvSpPr/>
                      <p:nvPr/>
                    </p:nvSpPr>
                    <p:spPr>
                      <a:xfrm>
                        <a:off x="6109560" y="2684160"/>
                        <a:ext cx="53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1" name="Freeform 58"/>
                      <p:cNvSpPr/>
                      <p:nvPr/>
                    </p:nvSpPr>
                    <p:spPr>
                      <a:xfrm>
                        <a:off x="6117840" y="268416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52" name="Group 59"/>
                    <p:cNvGrpSpPr/>
                    <p:nvPr/>
                  </p:nvGrpSpPr>
                  <p:grpSpPr>
                    <a:xfrm>
                      <a:off x="6085080" y="2592720"/>
                      <a:ext cx="98640" cy="99000"/>
                      <a:chOff x="6085080" y="2592720"/>
                      <a:chExt cx="98640" cy="99000"/>
                    </a:xfrm>
                  </p:grpSpPr>
                  <p:sp>
                    <p:nvSpPr>
                      <p:cNvPr id="1053" name="Freeform 60"/>
                      <p:cNvSpPr/>
                      <p:nvPr/>
                    </p:nvSpPr>
                    <p:spPr>
                      <a:xfrm>
                        <a:off x="6085080" y="2592720"/>
                        <a:ext cx="98640" cy="9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4" name="Freeform 61"/>
                      <p:cNvSpPr/>
                      <p:nvPr/>
                    </p:nvSpPr>
                    <p:spPr>
                      <a:xfrm>
                        <a:off x="6085440" y="2605680"/>
                        <a:ext cx="1188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5" name="Freeform 62"/>
                      <p:cNvSpPr/>
                      <p:nvPr/>
                    </p:nvSpPr>
                    <p:spPr>
                      <a:xfrm>
                        <a:off x="6085800" y="2622960"/>
                        <a:ext cx="158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6" name="Freeform 63"/>
                      <p:cNvSpPr/>
                      <p:nvPr/>
                    </p:nvSpPr>
                    <p:spPr>
                      <a:xfrm>
                        <a:off x="6085080" y="2637360"/>
                        <a:ext cx="187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7" name="Freeform 64"/>
                      <p:cNvSpPr/>
                      <p:nvPr/>
                    </p:nvSpPr>
                    <p:spPr>
                      <a:xfrm>
                        <a:off x="6087240" y="2653200"/>
                        <a:ext cx="2232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8" name="Freeform 65"/>
                      <p:cNvSpPr/>
                      <p:nvPr/>
                    </p:nvSpPr>
                    <p:spPr>
                      <a:xfrm>
                        <a:off x="6087600" y="2595960"/>
                        <a:ext cx="900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9" name="Freeform 66"/>
                      <p:cNvSpPr/>
                      <p:nvPr/>
                    </p:nvSpPr>
                    <p:spPr>
                      <a:xfrm>
                        <a:off x="6104520" y="2593800"/>
                        <a:ext cx="7920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60" name="Group 67"/>
                  <p:cNvGrpSpPr/>
                  <p:nvPr/>
                </p:nvGrpSpPr>
                <p:grpSpPr>
                  <a:xfrm>
                    <a:off x="6150960" y="2608560"/>
                    <a:ext cx="23400" cy="60120"/>
                    <a:chOff x="6150960" y="2608560"/>
                    <a:chExt cx="23400" cy="60120"/>
                  </a:xfrm>
                </p:grpSpPr>
                <p:sp>
                  <p:nvSpPr>
                    <p:cNvPr id="1061" name="Freeform 68"/>
                    <p:cNvSpPr/>
                    <p:nvPr/>
                  </p:nvSpPr>
                  <p:spPr>
                    <a:xfrm>
                      <a:off x="6155280" y="2624400"/>
                      <a:ext cx="180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2" name="Freeform 69"/>
                    <p:cNvSpPr/>
                    <p:nvPr/>
                  </p:nvSpPr>
                  <p:spPr>
                    <a:xfrm>
                      <a:off x="6158520" y="2639880"/>
                      <a:ext cx="1584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3" name="Freeform 70"/>
                    <p:cNvSpPr/>
                    <p:nvPr/>
                  </p:nvSpPr>
                  <p:spPr>
                    <a:xfrm>
                      <a:off x="6157800" y="2658240"/>
                      <a:ext cx="16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Freeform 71"/>
                    <p:cNvSpPr/>
                    <p:nvPr/>
                  </p:nvSpPr>
                  <p:spPr>
                    <a:xfrm>
                      <a:off x="6150960" y="2608560"/>
                      <a:ext cx="183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65" name="Freeform 72"/>
                <p:cNvSpPr/>
                <p:nvPr/>
              </p:nvSpPr>
              <p:spPr>
                <a:xfrm>
                  <a:off x="6025680" y="2205000"/>
                  <a:ext cx="218520" cy="40068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Oval 73"/>
                <p:cNvSpPr/>
                <p:nvPr/>
              </p:nvSpPr>
              <p:spPr>
                <a:xfrm>
                  <a:off x="6086880" y="2560320"/>
                  <a:ext cx="95760" cy="4068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74"/>
                <p:cNvSpPr/>
                <p:nvPr/>
              </p:nvSpPr>
              <p:spPr>
                <a:xfrm>
                  <a:off x="6186960" y="2245320"/>
                  <a:ext cx="36360" cy="59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8" name="Group 75"/>
                <p:cNvGrpSpPr/>
                <p:nvPr/>
              </p:nvGrpSpPr>
              <p:grpSpPr>
                <a:xfrm>
                  <a:off x="6104520" y="2325600"/>
                  <a:ext cx="60840" cy="248760"/>
                  <a:chOff x="6104520" y="2325600"/>
                  <a:chExt cx="60840" cy="248760"/>
                </a:xfrm>
              </p:grpSpPr>
              <p:sp>
                <p:nvSpPr>
                  <p:cNvPr id="1069" name="Freeform 76"/>
                  <p:cNvSpPr/>
                  <p:nvPr/>
                </p:nvSpPr>
                <p:spPr>
                  <a:xfrm>
                    <a:off x="6116040" y="2429280"/>
                    <a:ext cx="3744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Oval 77"/>
                  <p:cNvSpPr/>
                  <p:nvPr/>
                </p:nvSpPr>
                <p:spPr>
                  <a:xfrm>
                    <a:off x="6135120" y="2433960"/>
                    <a:ext cx="4680" cy="97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1" name="Group 78"/>
                  <p:cNvGrpSpPr/>
                  <p:nvPr/>
                </p:nvGrpSpPr>
                <p:grpSpPr>
                  <a:xfrm>
                    <a:off x="6104520" y="2325600"/>
                    <a:ext cx="60840" cy="114120"/>
                    <a:chOff x="6104520" y="2325600"/>
                    <a:chExt cx="60840" cy="114120"/>
                  </a:xfrm>
                </p:grpSpPr>
                <p:sp>
                  <p:nvSpPr>
                    <p:cNvPr id="1072" name="Oval 79"/>
                    <p:cNvSpPr/>
                    <p:nvPr/>
                  </p:nvSpPr>
                  <p:spPr>
                    <a:xfrm>
                      <a:off x="6108120" y="2325600"/>
                      <a:ext cx="55800" cy="38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3" name="Freeform 80"/>
                    <p:cNvSpPr/>
                    <p:nvPr/>
                  </p:nvSpPr>
                  <p:spPr>
                    <a:xfrm>
                      <a:off x="6104520" y="2343240"/>
                      <a:ext cx="6084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4" name="Group 81"/>
                  <p:cNvGrpSpPr/>
                  <p:nvPr/>
                </p:nvGrpSpPr>
                <p:grpSpPr>
                  <a:xfrm>
                    <a:off x="6123240" y="2449800"/>
                    <a:ext cx="21240" cy="111240"/>
                    <a:chOff x="6123240" y="2449800"/>
                    <a:chExt cx="21240" cy="111240"/>
                  </a:xfrm>
                </p:grpSpPr>
                <p:grpSp>
                  <p:nvGrpSpPr>
                    <p:cNvPr id="1075" name=""/>
                    <p:cNvGrpSpPr/>
                    <p:nvPr/>
                  </p:nvGrpSpPr>
                  <p:grpSpPr>
                    <a:xfrm>
                      <a:off x="6126840" y="2453040"/>
                      <a:ext cx="360" cy="108000"/>
                      <a:chOff x="6126840" y="2453040"/>
                      <a:chExt cx="360" cy="108000"/>
                    </a:xfrm>
                  </p:grpSpPr>
                  <p:sp>
                    <p:nvSpPr>
                      <p:cNvPr id="1076" name="Line 82"/>
                      <p:cNvSpPr/>
                      <p:nvPr/>
                    </p:nvSpPr>
                    <p:spPr>
                      <a:xfrm>
                        <a:off x="6126840" y="2453040"/>
                        <a:ext cx="0" cy="1080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7" name=""/>
                      <p:cNvSpPr txBox="1"/>
                      <p:nvPr/>
                    </p:nvSpPr>
                    <p:spPr>
                      <a:xfrm>
                        <a:off x="6126840" y="2453040"/>
                        <a:ext cx="360" cy="108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78" name=""/>
                    <p:cNvGrpSpPr/>
                    <p:nvPr/>
                  </p:nvGrpSpPr>
                  <p:grpSpPr>
                    <a:xfrm>
                      <a:off x="6140520" y="2452680"/>
                      <a:ext cx="720" cy="107640"/>
                      <a:chOff x="6140520" y="2452680"/>
                      <a:chExt cx="720" cy="107640"/>
                    </a:xfrm>
                  </p:grpSpPr>
                  <p:sp>
                    <p:nvSpPr>
                      <p:cNvPr id="1079" name="Line 83"/>
                      <p:cNvSpPr/>
                      <p:nvPr/>
                    </p:nvSpPr>
                    <p:spPr>
                      <a:xfrm flipV="1">
                        <a:off x="6140880" y="2452680"/>
                        <a:ext cx="36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0" name=""/>
                      <p:cNvSpPr txBox="1"/>
                      <p:nvPr/>
                    </p:nvSpPr>
                    <p:spPr>
                      <a:xfrm rot="10800000">
                        <a:off x="6140520" y="245268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81" name=""/>
                    <p:cNvGrpSpPr/>
                    <p:nvPr/>
                  </p:nvGrpSpPr>
                  <p:grpSpPr>
                    <a:xfrm>
                      <a:off x="6144120" y="2449800"/>
                      <a:ext cx="360" cy="107640"/>
                      <a:chOff x="6144120" y="2449800"/>
                      <a:chExt cx="360" cy="107640"/>
                    </a:xfrm>
                  </p:grpSpPr>
                  <p:sp>
                    <p:nvSpPr>
                      <p:cNvPr id="1082" name="Line 84"/>
                      <p:cNvSpPr/>
                      <p:nvPr/>
                    </p:nvSpPr>
                    <p:spPr>
                      <a:xfrm flipV="1">
                        <a:off x="6144480" y="244980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3" name=""/>
                      <p:cNvSpPr txBox="1"/>
                      <p:nvPr/>
                    </p:nvSpPr>
                    <p:spPr>
                      <a:xfrm rot="10800000">
                        <a:off x="6144120" y="24498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84" name=""/>
                    <p:cNvGrpSpPr/>
                    <p:nvPr/>
                  </p:nvGrpSpPr>
                  <p:grpSpPr>
                    <a:xfrm>
                      <a:off x="6123240" y="2449800"/>
                      <a:ext cx="360" cy="107640"/>
                      <a:chOff x="6123240" y="2449800"/>
                      <a:chExt cx="360" cy="107640"/>
                    </a:xfrm>
                  </p:grpSpPr>
                  <p:sp>
                    <p:nvSpPr>
                      <p:cNvPr id="1085" name="Line 85"/>
                      <p:cNvSpPr/>
                      <p:nvPr/>
                    </p:nvSpPr>
                    <p:spPr>
                      <a:xfrm flipV="1">
                        <a:off x="6123600" y="244980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6" name=""/>
                      <p:cNvSpPr txBox="1"/>
                      <p:nvPr/>
                    </p:nvSpPr>
                    <p:spPr>
                      <a:xfrm rot="10800000">
                        <a:off x="6123240" y="24498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087" name="Freeform 86"/>
                <p:cNvSpPr/>
                <p:nvPr/>
              </p:nvSpPr>
              <p:spPr>
                <a:xfrm>
                  <a:off x="6130800" y="2502720"/>
                  <a:ext cx="59040" cy="936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8" name="Rectangle 87"/>
              <p:cNvSpPr/>
              <p:nvPr/>
            </p:nvSpPr>
            <p:spPr>
              <a:xfrm>
                <a:off x="5983920" y="2633760"/>
                <a:ext cx="293040" cy="217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9" name="xjhsy3"/>
          <p:cNvGrpSpPr/>
          <p:nvPr/>
        </p:nvGrpSpPr>
        <p:grpSpPr>
          <a:xfrm>
            <a:off x="5076720" y="3357720"/>
            <a:ext cx="1800360" cy="667440"/>
            <a:chOff x="5076720" y="3357720"/>
            <a:chExt cx="1800360" cy="667440"/>
          </a:xfrm>
        </p:grpSpPr>
        <p:grpSp>
          <p:nvGrpSpPr>
            <p:cNvPr id="1090" name="Group 7"/>
            <p:cNvGrpSpPr/>
            <p:nvPr/>
          </p:nvGrpSpPr>
          <p:grpSpPr>
            <a:xfrm>
              <a:off x="5076720" y="3688920"/>
              <a:ext cx="1800360" cy="336240"/>
              <a:chOff x="5076720" y="3688920"/>
              <a:chExt cx="1800360" cy="336240"/>
            </a:xfrm>
          </p:grpSpPr>
          <p:sp>
            <p:nvSpPr>
              <p:cNvPr id="1091" name="Freeform 8"/>
              <p:cNvSpPr/>
              <p:nvPr/>
            </p:nvSpPr>
            <p:spPr>
              <a:xfrm flipV="1">
                <a:off x="5076720" y="3958920"/>
                <a:ext cx="1800360" cy="6588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AutoShape 9"/>
              <p:cNvSpPr/>
              <p:nvPr/>
            </p:nvSpPr>
            <p:spPr>
              <a:xfrm>
                <a:off x="6665400" y="3691080"/>
                <a:ext cx="153720" cy="2152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AutoShape 10"/>
              <p:cNvSpPr/>
              <p:nvPr/>
            </p:nvSpPr>
            <p:spPr>
              <a:xfrm>
                <a:off x="5379840" y="3688920"/>
                <a:ext cx="153720" cy="2152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Group 11"/>
            <p:cNvGrpSpPr/>
            <p:nvPr/>
          </p:nvGrpSpPr>
          <p:grpSpPr>
            <a:xfrm>
              <a:off x="5886720" y="3357720"/>
              <a:ext cx="261720" cy="546480"/>
              <a:chOff x="5886720" y="3357720"/>
              <a:chExt cx="261720" cy="546480"/>
            </a:xfrm>
          </p:grpSpPr>
          <p:grpSp>
            <p:nvGrpSpPr>
              <p:cNvPr id="1095" name="Group 12"/>
              <p:cNvGrpSpPr/>
              <p:nvPr/>
            </p:nvGrpSpPr>
            <p:grpSpPr>
              <a:xfrm>
                <a:off x="5923800" y="3357720"/>
                <a:ext cx="195120" cy="427680"/>
                <a:chOff x="5923800" y="3357720"/>
                <a:chExt cx="195120" cy="427680"/>
              </a:xfrm>
            </p:grpSpPr>
            <p:grpSp>
              <p:nvGrpSpPr>
                <p:cNvPr id="1096" name="Group 13"/>
                <p:cNvGrpSpPr/>
                <p:nvPr/>
              </p:nvGrpSpPr>
              <p:grpSpPr>
                <a:xfrm>
                  <a:off x="5976720" y="3685320"/>
                  <a:ext cx="88200" cy="100080"/>
                  <a:chOff x="5976720" y="3685320"/>
                  <a:chExt cx="88200" cy="100080"/>
                </a:xfrm>
              </p:grpSpPr>
              <p:grpSp>
                <p:nvGrpSpPr>
                  <p:cNvPr id="1097" name="Group 14"/>
                  <p:cNvGrpSpPr/>
                  <p:nvPr/>
                </p:nvGrpSpPr>
                <p:grpSpPr>
                  <a:xfrm>
                    <a:off x="5976720" y="3685320"/>
                    <a:ext cx="88200" cy="100080"/>
                    <a:chOff x="5976720" y="3685320"/>
                    <a:chExt cx="88200" cy="100080"/>
                  </a:xfrm>
                </p:grpSpPr>
                <p:grpSp>
                  <p:nvGrpSpPr>
                    <p:cNvPr id="1098" name="Group 15"/>
                    <p:cNvGrpSpPr/>
                    <p:nvPr/>
                  </p:nvGrpSpPr>
                  <p:grpSpPr>
                    <a:xfrm>
                      <a:off x="5998680" y="3762360"/>
                      <a:ext cx="48240" cy="23040"/>
                      <a:chOff x="5998680" y="3762360"/>
                      <a:chExt cx="48240" cy="23040"/>
                    </a:xfrm>
                  </p:grpSpPr>
                  <p:sp>
                    <p:nvSpPr>
                      <p:cNvPr id="1099" name="Freeform 16"/>
                      <p:cNvSpPr/>
                      <p:nvPr/>
                    </p:nvSpPr>
                    <p:spPr>
                      <a:xfrm>
                        <a:off x="5998680" y="3762360"/>
                        <a:ext cx="4824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0" name="Freeform 17"/>
                      <p:cNvSpPr/>
                      <p:nvPr/>
                    </p:nvSpPr>
                    <p:spPr>
                      <a:xfrm>
                        <a:off x="6006240" y="3762360"/>
                        <a:ext cx="216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01" name="Group 18"/>
                    <p:cNvGrpSpPr/>
                    <p:nvPr/>
                  </p:nvGrpSpPr>
                  <p:grpSpPr>
                    <a:xfrm>
                      <a:off x="5976720" y="3685320"/>
                      <a:ext cx="88200" cy="83520"/>
                      <a:chOff x="5976720" y="3685320"/>
                      <a:chExt cx="88200" cy="83520"/>
                    </a:xfrm>
                  </p:grpSpPr>
                  <p:sp>
                    <p:nvSpPr>
                      <p:cNvPr id="1102" name="Freeform 19"/>
                      <p:cNvSpPr/>
                      <p:nvPr/>
                    </p:nvSpPr>
                    <p:spPr>
                      <a:xfrm>
                        <a:off x="5976720" y="3685320"/>
                        <a:ext cx="882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3" name="Freeform 20"/>
                      <p:cNvSpPr/>
                      <p:nvPr/>
                    </p:nvSpPr>
                    <p:spPr>
                      <a:xfrm>
                        <a:off x="5977080" y="3696480"/>
                        <a:ext cx="108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4" name="Freeform 21"/>
                      <p:cNvSpPr/>
                      <p:nvPr/>
                    </p:nvSpPr>
                    <p:spPr>
                      <a:xfrm>
                        <a:off x="5977440" y="3710880"/>
                        <a:ext cx="144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5" name="Freeform 22"/>
                      <p:cNvSpPr/>
                      <p:nvPr/>
                    </p:nvSpPr>
                    <p:spPr>
                      <a:xfrm>
                        <a:off x="5976720" y="3723120"/>
                        <a:ext cx="1692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6" name="Freeform 23"/>
                      <p:cNvSpPr/>
                      <p:nvPr/>
                    </p:nvSpPr>
                    <p:spPr>
                      <a:xfrm>
                        <a:off x="5978520" y="3736440"/>
                        <a:ext cx="201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7" name="Freeform 24"/>
                      <p:cNvSpPr/>
                      <p:nvPr/>
                    </p:nvSpPr>
                    <p:spPr>
                      <a:xfrm>
                        <a:off x="5978880" y="3688200"/>
                        <a:ext cx="8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8" name="Freeform 25"/>
                      <p:cNvSpPr/>
                      <p:nvPr/>
                    </p:nvSpPr>
                    <p:spPr>
                      <a:xfrm>
                        <a:off x="5994000" y="3686040"/>
                        <a:ext cx="709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09" name="Group 26"/>
                  <p:cNvGrpSpPr/>
                  <p:nvPr/>
                </p:nvGrpSpPr>
                <p:grpSpPr>
                  <a:xfrm>
                    <a:off x="6035760" y="3698640"/>
                    <a:ext cx="20880" cy="50760"/>
                    <a:chOff x="6035760" y="3698640"/>
                    <a:chExt cx="20880" cy="50760"/>
                  </a:xfrm>
                </p:grpSpPr>
                <p:sp>
                  <p:nvSpPr>
                    <p:cNvPr id="1110" name="Freeform 27"/>
                    <p:cNvSpPr/>
                    <p:nvPr/>
                  </p:nvSpPr>
                  <p:spPr>
                    <a:xfrm>
                      <a:off x="6039720" y="3711960"/>
                      <a:ext cx="162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1" name="Freeform 28"/>
                    <p:cNvSpPr/>
                    <p:nvPr/>
                  </p:nvSpPr>
                  <p:spPr>
                    <a:xfrm>
                      <a:off x="6042600" y="372528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Freeform 29"/>
                    <p:cNvSpPr/>
                    <p:nvPr/>
                  </p:nvSpPr>
                  <p:spPr>
                    <a:xfrm>
                      <a:off x="6041880" y="374040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3" name="Freeform 30"/>
                    <p:cNvSpPr/>
                    <p:nvPr/>
                  </p:nvSpPr>
                  <p:spPr>
                    <a:xfrm>
                      <a:off x="6035760" y="3698640"/>
                      <a:ext cx="16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14" name="Freeform 31"/>
                <p:cNvSpPr/>
                <p:nvPr/>
              </p:nvSpPr>
              <p:spPr>
                <a:xfrm>
                  <a:off x="5923800" y="3357720"/>
                  <a:ext cx="195120" cy="339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Oval 32"/>
                <p:cNvSpPr/>
                <p:nvPr/>
              </p:nvSpPr>
              <p:spPr>
                <a:xfrm>
                  <a:off x="5978520" y="3658320"/>
                  <a:ext cx="85680" cy="342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3"/>
                <p:cNvSpPr/>
                <p:nvPr/>
              </p:nvSpPr>
              <p:spPr>
                <a:xfrm>
                  <a:off x="6067800" y="3391560"/>
                  <a:ext cx="32400" cy="5004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7" name="Group 34"/>
                <p:cNvGrpSpPr/>
                <p:nvPr/>
              </p:nvGrpSpPr>
              <p:grpSpPr>
                <a:xfrm>
                  <a:off x="5994000" y="3459600"/>
                  <a:ext cx="54360" cy="210600"/>
                  <a:chOff x="5994000" y="3459600"/>
                  <a:chExt cx="54360" cy="210600"/>
                </a:xfrm>
              </p:grpSpPr>
              <p:sp>
                <p:nvSpPr>
                  <p:cNvPr id="1118" name="Freeform 35"/>
                  <p:cNvSpPr/>
                  <p:nvPr/>
                </p:nvSpPr>
                <p:spPr>
                  <a:xfrm>
                    <a:off x="6004080" y="3547440"/>
                    <a:ext cx="334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Oval 36"/>
                  <p:cNvSpPr/>
                  <p:nvPr/>
                </p:nvSpPr>
                <p:spPr>
                  <a:xfrm>
                    <a:off x="6021360" y="3551400"/>
                    <a:ext cx="4320" cy="82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20" name="Group 37"/>
                  <p:cNvGrpSpPr/>
                  <p:nvPr/>
                </p:nvGrpSpPr>
                <p:grpSpPr>
                  <a:xfrm>
                    <a:off x="5994000" y="3459600"/>
                    <a:ext cx="54360" cy="96480"/>
                    <a:chOff x="5994000" y="3459600"/>
                    <a:chExt cx="54360" cy="96480"/>
                  </a:xfrm>
                </p:grpSpPr>
                <p:sp>
                  <p:nvSpPr>
                    <p:cNvPr id="1121" name="Oval 38"/>
                    <p:cNvSpPr/>
                    <p:nvPr/>
                  </p:nvSpPr>
                  <p:spPr>
                    <a:xfrm>
                      <a:off x="5996880" y="3459600"/>
                      <a:ext cx="49680" cy="3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Freeform 39"/>
                    <p:cNvSpPr/>
                    <p:nvPr/>
                  </p:nvSpPr>
                  <p:spPr>
                    <a:xfrm>
                      <a:off x="5994000" y="3474360"/>
                      <a:ext cx="5436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3" name="Group 40"/>
                  <p:cNvGrpSpPr/>
                  <p:nvPr/>
                </p:nvGrpSpPr>
                <p:grpSpPr>
                  <a:xfrm>
                    <a:off x="6010920" y="3564720"/>
                    <a:ext cx="19080" cy="93960"/>
                    <a:chOff x="6010920" y="3564720"/>
                    <a:chExt cx="19080" cy="93960"/>
                  </a:xfrm>
                </p:grpSpPr>
                <p:grpSp>
                  <p:nvGrpSpPr>
                    <p:cNvPr id="1124" name=""/>
                    <p:cNvGrpSpPr/>
                    <p:nvPr/>
                  </p:nvGrpSpPr>
                  <p:grpSpPr>
                    <a:xfrm>
                      <a:off x="6014160" y="3567240"/>
                      <a:ext cx="360" cy="91440"/>
                      <a:chOff x="6014160" y="3567240"/>
                      <a:chExt cx="360" cy="91440"/>
                    </a:xfrm>
                  </p:grpSpPr>
                  <p:sp>
                    <p:nvSpPr>
                      <p:cNvPr id="1125" name="Line 41"/>
                      <p:cNvSpPr/>
                      <p:nvPr/>
                    </p:nvSpPr>
                    <p:spPr>
                      <a:xfrm>
                        <a:off x="6014160" y="3567240"/>
                        <a:ext cx="0" cy="914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6" name=""/>
                      <p:cNvSpPr txBox="1"/>
                      <p:nvPr/>
                    </p:nvSpPr>
                    <p:spPr>
                      <a:xfrm>
                        <a:off x="6014160" y="3567240"/>
                        <a:ext cx="360" cy="9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640" bIns="44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27" name=""/>
                    <p:cNvGrpSpPr/>
                    <p:nvPr/>
                  </p:nvGrpSpPr>
                  <p:grpSpPr>
                    <a:xfrm>
                      <a:off x="6026400" y="3567240"/>
                      <a:ext cx="720" cy="90720"/>
                      <a:chOff x="6026400" y="3567240"/>
                      <a:chExt cx="720" cy="90720"/>
                    </a:xfrm>
                  </p:grpSpPr>
                  <p:sp>
                    <p:nvSpPr>
                      <p:cNvPr id="1128" name="Line 42"/>
                      <p:cNvSpPr/>
                      <p:nvPr/>
                    </p:nvSpPr>
                    <p:spPr>
                      <a:xfrm flipV="1">
                        <a:off x="6026760" y="3567240"/>
                        <a:ext cx="360" cy="907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9" name=""/>
                      <p:cNvSpPr txBox="1"/>
                      <p:nvPr/>
                    </p:nvSpPr>
                    <p:spPr>
                      <a:xfrm rot="10800000">
                        <a:off x="6026400" y="3567240"/>
                        <a:ext cx="360" cy="9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3920" bIns="43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30" name=""/>
                    <p:cNvGrpSpPr/>
                    <p:nvPr/>
                  </p:nvGrpSpPr>
                  <p:grpSpPr>
                    <a:xfrm>
                      <a:off x="6029640" y="3564720"/>
                      <a:ext cx="360" cy="91080"/>
                      <a:chOff x="6029640" y="3564720"/>
                      <a:chExt cx="360" cy="91080"/>
                    </a:xfrm>
                  </p:grpSpPr>
                  <p:sp>
                    <p:nvSpPr>
                      <p:cNvPr id="1131" name="Line 43"/>
                      <p:cNvSpPr/>
                      <p:nvPr/>
                    </p:nvSpPr>
                    <p:spPr>
                      <a:xfrm flipV="1">
                        <a:off x="6030000" y="356472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2" name=""/>
                      <p:cNvSpPr txBox="1"/>
                      <p:nvPr/>
                    </p:nvSpPr>
                    <p:spPr>
                      <a:xfrm rot="10800000">
                        <a:off x="6029640" y="356472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33" name=""/>
                    <p:cNvGrpSpPr/>
                    <p:nvPr/>
                  </p:nvGrpSpPr>
                  <p:grpSpPr>
                    <a:xfrm>
                      <a:off x="6010920" y="3564720"/>
                      <a:ext cx="360" cy="91080"/>
                      <a:chOff x="6010920" y="3564720"/>
                      <a:chExt cx="360" cy="91080"/>
                    </a:xfrm>
                  </p:grpSpPr>
                  <p:sp>
                    <p:nvSpPr>
                      <p:cNvPr id="1134" name="Line 44"/>
                      <p:cNvSpPr/>
                      <p:nvPr/>
                    </p:nvSpPr>
                    <p:spPr>
                      <a:xfrm flipV="1">
                        <a:off x="6011280" y="356472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5" name=""/>
                      <p:cNvSpPr txBox="1"/>
                      <p:nvPr/>
                    </p:nvSpPr>
                    <p:spPr>
                      <a:xfrm rot="10800000">
                        <a:off x="6010920" y="356472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136" name="Freeform 45"/>
                <p:cNvSpPr/>
                <p:nvPr/>
              </p:nvSpPr>
              <p:spPr>
                <a:xfrm>
                  <a:off x="6017400" y="3609360"/>
                  <a:ext cx="52560" cy="792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7" name="Rectangle 46"/>
              <p:cNvSpPr/>
              <p:nvPr/>
            </p:nvSpPr>
            <p:spPr>
              <a:xfrm>
                <a:off x="5886720" y="3720240"/>
                <a:ext cx="261720" cy="183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8" name="xjhsy4" descr="w3"/>
          <p:cNvPicPr/>
          <p:nvPr/>
        </p:nvPicPr>
        <p:blipFill>
          <a:blip r:embed="rId4"/>
          <a:stretch/>
        </p:blipFill>
        <p:spPr>
          <a:xfrm>
            <a:off x="3203640" y="5803920"/>
            <a:ext cx="2185920" cy="1082520"/>
          </a:xfrm>
          <a:prstGeom prst="rect">
            <a:avLst/>
          </a:prstGeom>
          <a:ln w="0">
            <a:noFill/>
          </a:ln>
        </p:spPr>
      </p:pic>
      <p:pic>
        <p:nvPicPr>
          <p:cNvPr id="1139" name="xjhsy8" descr="w7"/>
          <p:cNvPicPr/>
          <p:nvPr/>
        </p:nvPicPr>
        <p:blipFill>
          <a:blip r:embed="rId5"/>
          <a:stretch/>
        </p:blipFill>
        <p:spPr>
          <a:xfrm>
            <a:off x="5796000" y="5473800"/>
            <a:ext cx="2160720" cy="1285920"/>
          </a:xfrm>
          <a:prstGeom prst="rect">
            <a:avLst/>
          </a:prstGeom>
          <a:ln w="0">
            <a:noFill/>
          </a:ln>
        </p:spPr>
      </p:pic>
      <p:sp>
        <p:nvSpPr>
          <p:cNvPr id="1140" name="Freeform 98"/>
          <p:cNvSpPr/>
          <p:nvPr/>
        </p:nvSpPr>
        <p:spPr>
          <a:xfrm>
            <a:off x="5219640" y="2637000"/>
            <a:ext cx="358920" cy="1152360"/>
          </a:xfrm>
          <a:custGeom>
            <a:avLst/>
            <a:gdLst/>
            <a:ahLst/>
            <a:rect l="l" t="t" r="r" b="b"/>
            <a:pathLst>
              <a:path w="504" h="789">
                <a:moveTo>
                  <a:pt x="504" y="0"/>
                </a:moveTo>
                <a:cubicBezTo>
                  <a:pt x="416" y="29"/>
                  <a:pt x="462" y="18"/>
                  <a:pt x="365" y="32"/>
                </a:cubicBezTo>
                <a:cubicBezTo>
                  <a:pt x="248" y="70"/>
                  <a:pt x="213" y="77"/>
                  <a:pt x="120" y="170"/>
                </a:cubicBezTo>
                <a:cubicBezTo>
                  <a:pt x="113" y="177"/>
                  <a:pt x="103" y="183"/>
                  <a:pt x="98" y="192"/>
                </a:cubicBezTo>
                <a:cubicBezTo>
                  <a:pt x="84" y="220"/>
                  <a:pt x="64" y="246"/>
                  <a:pt x="56" y="277"/>
                </a:cubicBezTo>
                <a:cubicBezTo>
                  <a:pt x="49" y="305"/>
                  <a:pt x="34" y="362"/>
                  <a:pt x="34" y="362"/>
                </a:cubicBezTo>
                <a:cubicBezTo>
                  <a:pt x="22" y="474"/>
                  <a:pt x="0" y="642"/>
                  <a:pt x="109" y="714"/>
                </a:cubicBezTo>
                <a:cubicBezTo>
                  <a:pt x="127" y="742"/>
                  <a:pt x="156" y="789"/>
                  <a:pt x="194" y="7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94"/>
          <p:cNvSpPr/>
          <p:nvPr/>
        </p:nvSpPr>
        <p:spPr>
          <a:xfrm>
            <a:off x="6804000" y="2708280"/>
            <a:ext cx="1025640" cy="1081080"/>
          </a:xfrm>
          <a:custGeom>
            <a:avLst/>
            <a:gdLst/>
            <a:ahLst/>
            <a:rect l="l" t="t" r="r" b="b"/>
            <a:pathLst>
              <a:path w="646" h="885">
                <a:moveTo>
                  <a:pt x="141" y="0"/>
                </a:moveTo>
                <a:cubicBezTo>
                  <a:pt x="215" y="4"/>
                  <a:pt x="290" y="3"/>
                  <a:pt x="364" y="12"/>
                </a:cubicBezTo>
                <a:cubicBezTo>
                  <a:pt x="419" y="19"/>
                  <a:pt x="427" y="44"/>
                  <a:pt x="470" y="71"/>
                </a:cubicBezTo>
                <a:cubicBezTo>
                  <a:pt x="528" y="107"/>
                  <a:pt x="579" y="148"/>
                  <a:pt x="646" y="165"/>
                </a:cubicBezTo>
                <a:cubicBezTo>
                  <a:pt x="642" y="220"/>
                  <a:pt x="643" y="275"/>
                  <a:pt x="635" y="329"/>
                </a:cubicBezTo>
                <a:cubicBezTo>
                  <a:pt x="631" y="354"/>
                  <a:pt x="632" y="386"/>
                  <a:pt x="611" y="400"/>
                </a:cubicBezTo>
                <a:cubicBezTo>
                  <a:pt x="551" y="439"/>
                  <a:pt x="526" y="481"/>
                  <a:pt x="482" y="541"/>
                </a:cubicBezTo>
                <a:cubicBezTo>
                  <a:pt x="470" y="557"/>
                  <a:pt x="465" y="580"/>
                  <a:pt x="447" y="588"/>
                </a:cubicBezTo>
                <a:cubicBezTo>
                  <a:pt x="369" y="625"/>
                  <a:pt x="293" y="680"/>
                  <a:pt x="211" y="705"/>
                </a:cubicBezTo>
                <a:cubicBezTo>
                  <a:pt x="149" y="748"/>
                  <a:pt x="186" y="719"/>
                  <a:pt x="106" y="799"/>
                </a:cubicBezTo>
                <a:cubicBezTo>
                  <a:pt x="86" y="819"/>
                  <a:pt x="35" y="847"/>
                  <a:pt x="35" y="847"/>
                </a:cubicBezTo>
                <a:cubicBezTo>
                  <a:pt x="10" y="885"/>
                  <a:pt x="26" y="882"/>
                  <a:pt x="0" y="88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reeform 90"/>
          <p:cNvSpPr/>
          <p:nvPr/>
        </p:nvSpPr>
        <p:spPr>
          <a:xfrm>
            <a:off x="3276720" y="3789360"/>
            <a:ext cx="2158920" cy="2625840"/>
          </a:xfrm>
          <a:custGeom>
            <a:avLst/>
            <a:gdLst/>
            <a:ahLst/>
            <a:rect l="l" t="t" r="r" b="b"/>
            <a:pathLst>
              <a:path w="1367" h="1293">
                <a:moveTo>
                  <a:pt x="1367" y="0"/>
                </a:moveTo>
                <a:cubicBezTo>
                  <a:pt x="1238" y="4"/>
                  <a:pt x="1108" y="5"/>
                  <a:pt x="979" y="12"/>
                </a:cubicBezTo>
                <a:cubicBezTo>
                  <a:pt x="922" y="15"/>
                  <a:pt x="889" y="42"/>
                  <a:pt x="838" y="59"/>
                </a:cubicBezTo>
                <a:cubicBezTo>
                  <a:pt x="775" y="80"/>
                  <a:pt x="697" y="76"/>
                  <a:pt x="638" y="106"/>
                </a:cubicBezTo>
                <a:cubicBezTo>
                  <a:pt x="570" y="141"/>
                  <a:pt x="608" y="127"/>
                  <a:pt x="520" y="141"/>
                </a:cubicBezTo>
                <a:cubicBezTo>
                  <a:pt x="467" y="159"/>
                  <a:pt x="440" y="215"/>
                  <a:pt x="391" y="247"/>
                </a:cubicBezTo>
                <a:cubicBezTo>
                  <a:pt x="363" y="328"/>
                  <a:pt x="310" y="387"/>
                  <a:pt x="250" y="447"/>
                </a:cubicBezTo>
                <a:cubicBezTo>
                  <a:pt x="227" y="514"/>
                  <a:pt x="183" y="576"/>
                  <a:pt x="144" y="635"/>
                </a:cubicBezTo>
                <a:cubicBezTo>
                  <a:pt x="136" y="647"/>
                  <a:pt x="129" y="658"/>
                  <a:pt x="121" y="670"/>
                </a:cubicBezTo>
                <a:cubicBezTo>
                  <a:pt x="113" y="682"/>
                  <a:pt x="97" y="706"/>
                  <a:pt x="97" y="706"/>
                </a:cubicBezTo>
                <a:cubicBezTo>
                  <a:pt x="66" y="828"/>
                  <a:pt x="107" y="687"/>
                  <a:pt x="62" y="788"/>
                </a:cubicBezTo>
                <a:cubicBezTo>
                  <a:pt x="4" y="917"/>
                  <a:pt x="68" y="811"/>
                  <a:pt x="15" y="894"/>
                </a:cubicBezTo>
                <a:cubicBezTo>
                  <a:pt x="22" y="1010"/>
                  <a:pt x="0" y="1161"/>
                  <a:pt x="109" y="1235"/>
                </a:cubicBezTo>
                <a:cubicBezTo>
                  <a:pt x="136" y="1276"/>
                  <a:pt x="163" y="1293"/>
                  <a:pt x="215" y="1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92"/>
          <p:cNvSpPr/>
          <p:nvPr/>
        </p:nvSpPr>
        <p:spPr>
          <a:xfrm>
            <a:off x="6804000" y="3716280"/>
            <a:ext cx="1692360" cy="2521080"/>
          </a:xfrm>
          <a:custGeom>
            <a:avLst/>
            <a:gdLst/>
            <a:ahLst/>
            <a:rect l="l" t="t" r="r" b="b"/>
            <a:pathLst>
              <a:path w="1075" h="1246">
                <a:moveTo>
                  <a:pt x="470" y="1246"/>
                </a:moveTo>
                <a:cubicBezTo>
                  <a:pt x="537" y="1242"/>
                  <a:pt x="604" y="1244"/>
                  <a:pt x="670" y="1234"/>
                </a:cubicBezTo>
                <a:cubicBezTo>
                  <a:pt x="684" y="1232"/>
                  <a:pt x="693" y="1217"/>
                  <a:pt x="705" y="1211"/>
                </a:cubicBezTo>
                <a:cubicBezTo>
                  <a:pt x="747" y="1190"/>
                  <a:pt x="834" y="1152"/>
                  <a:pt x="834" y="1152"/>
                </a:cubicBezTo>
                <a:cubicBezTo>
                  <a:pt x="865" y="1107"/>
                  <a:pt x="885" y="1057"/>
                  <a:pt x="917" y="1011"/>
                </a:cubicBezTo>
                <a:cubicBezTo>
                  <a:pt x="998" y="894"/>
                  <a:pt x="1017" y="870"/>
                  <a:pt x="1046" y="729"/>
                </a:cubicBezTo>
                <a:cubicBezTo>
                  <a:pt x="1041" y="576"/>
                  <a:pt x="1075" y="414"/>
                  <a:pt x="1023" y="270"/>
                </a:cubicBezTo>
                <a:cubicBezTo>
                  <a:pt x="999" y="204"/>
                  <a:pt x="843" y="104"/>
                  <a:pt x="776" y="82"/>
                </a:cubicBezTo>
                <a:cubicBezTo>
                  <a:pt x="530" y="0"/>
                  <a:pt x="0" y="47"/>
                  <a:pt x="0" y="4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91"/>
          <p:cNvSpPr/>
          <p:nvPr/>
        </p:nvSpPr>
        <p:spPr>
          <a:xfrm>
            <a:off x="4572000" y="6237360"/>
            <a:ext cx="1623960" cy="252360"/>
          </a:xfrm>
          <a:custGeom>
            <a:avLst/>
            <a:gdLst/>
            <a:ahLst/>
            <a:rect l="l" t="t" r="r" b="b"/>
            <a:pathLst>
              <a:path w="1023" h="159">
                <a:moveTo>
                  <a:pt x="0" y="141"/>
                </a:moveTo>
                <a:cubicBezTo>
                  <a:pt x="230" y="158"/>
                  <a:pt x="173" y="159"/>
                  <a:pt x="482" y="141"/>
                </a:cubicBezTo>
                <a:cubicBezTo>
                  <a:pt x="537" y="138"/>
                  <a:pt x="583" y="115"/>
                  <a:pt x="635" y="105"/>
                </a:cubicBezTo>
                <a:cubicBezTo>
                  <a:pt x="703" y="92"/>
                  <a:pt x="827" y="86"/>
                  <a:pt x="882" y="82"/>
                </a:cubicBezTo>
                <a:cubicBezTo>
                  <a:pt x="932" y="48"/>
                  <a:pt x="959" y="0"/>
                  <a:pt x="102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97"/>
          <p:cNvSpPr/>
          <p:nvPr/>
        </p:nvSpPr>
        <p:spPr>
          <a:xfrm>
            <a:off x="630072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98"/>
          <p:cNvSpPr/>
          <p:nvPr/>
        </p:nvSpPr>
        <p:spPr>
          <a:xfrm>
            <a:off x="6156360" y="3141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Picture 104" descr=""/>
          <p:cNvPicPr/>
          <p:nvPr/>
        </p:nvPicPr>
        <p:blipFill>
          <a:blip r:embed="rId6"/>
          <a:stretch/>
        </p:blipFill>
        <p:spPr>
          <a:xfrm>
            <a:off x="611280" y="2276640"/>
            <a:ext cx="2916000" cy="2047680"/>
          </a:xfrm>
          <a:prstGeom prst="rect">
            <a:avLst/>
          </a:prstGeom>
          <a:ln w="0">
            <a:noFill/>
          </a:ln>
        </p:spPr>
      </p:pic>
      <p:sp>
        <p:nvSpPr>
          <p:cNvPr id="1148" name="Freeform 100"/>
          <p:cNvSpPr/>
          <p:nvPr/>
        </p:nvSpPr>
        <p:spPr>
          <a:xfrm>
            <a:off x="3395520" y="5229360"/>
            <a:ext cx="2184480" cy="1341360"/>
          </a:xfrm>
          <a:custGeom>
            <a:avLst/>
            <a:gdLst/>
            <a:ahLst/>
            <a:rect l="l" t="t" r="r" b="b"/>
            <a:pathLst>
              <a:path w="1349" h="640">
                <a:moveTo>
                  <a:pt x="1349" y="53"/>
                </a:moveTo>
                <a:cubicBezTo>
                  <a:pt x="1225" y="37"/>
                  <a:pt x="1100" y="19"/>
                  <a:pt x="976" y="0"/>
                </a:cubicBezTo>
                <a:cubicBezTo>
                  <a:pt x="841" y="3"/>
                  <a:pt x="705" y="1"/>
                  <a:pt x="570" y="10"/>
                </a:cubicBezTo>
                <a:cubicBezTo>
                  <a:pt x="477" y="16"/>
                  <a:pt x="379" y="66"/>
                  <a:pt x="293" y="96"/>
                </a:cubicBezTo>
                <a:cubicBezTo>
                  <a:pt x="237" y="115"/>
                  <a:pt x="191" y="182"/>
                  <a:pt x="154" y="224"/>
                </a:cubicBezTo>
                <a:cubicBezTo>
                  <a:pt x="134" y="246"/>
                  <a:pt x="90" y="288"/>
                  <a:pt x="90" y="288"/>
                </a:cubicBezTo>
                <a:cubicBezTo>
                  <a:pt x="56" y="395"/>
                  <a:pt x="109" y="238"/>
                  <a:pt x="58" y="352"/>
                </a:cubicBezTo>
                <a:cubicBezTo>
                  <a:pt x="49" y="372"/>
                  <a:pt x="37" y="416"/>
                  <a:pt x="37" y="416"/>
                </a:cubicBezTo>
                <a:cubicBezTo>
                  <a:pt x="48" y="634"/>
                  <a:pt x="0" y="576"/>
                  <a:pt x="58" y="6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99"/>
          <p:cNvSpPr/>
          <p:nvPr/>
        </p:nvSpPr>
        <p:spPr>
          <a:xfrm>
            <a:off x="5940360" y="5229360"/>
            <a:ext cx="1735200" cy="1082520"/>
          </a:xfrm>
          <a:custGeom>
            <a:avLst/>
            <a:gdLst/>
            <a:ahLst/>
            <a:rect l="l" t="t" r="r" b="b"/>
            <a:pathLst>
              <a:path w="1002" h="533">
                <a:moveTo>
                  <a:pt x="0" y="64"/>
                </a:moveTo>
                <a:cubicBezTo>
                  <a:pt x="157" y="44"/>
                  <a:pt x="313" y="20"/>
                  <a:pt x="469" y="0"/>
                </a:cubicBezTo>
                <a:cubicBezTo>
                  <a:pt x="558" y="4"/>
                  <a:pt x="647" y="3"/>
                  <a:pt x="736" y="11"/>
                </a:cubicBezTo>
                <a:cubicBezTo>
                  <a:pt x="867" y="23"/>
                  <a:pt x="940" y="105"/>
                  <a:pt x="981" y="224"/>
                </a:cubicBezTo>
                <a:cubicBezTo>
                  <a:pt x="974" y="363"/>
                  <a:pt x="1002" y="446"/>
                  <a:pt x="906" y="533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实验中注意记录实验数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826920" y="1989000"/>
          <a:ext cx="7416720" cy="3456000"/>
        </p:xfrm>
        <a:graphic>
          <a:graphicData uri="http://schemas.openxmlformats.org/drawingml/2006/table">
            <a:tbl>
              <a:tblPr/>
              <a:tblGrid>
                <a:gridCol w="1727280"/>
                <a:gridCol w="1690560"/>
                <a:gridCol w="1671840"/>
                <a:gridCol w="2327040"/>
              </a:tblGrid>
              <a:tr h="1108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8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两端的电压 </a:t>
                      </a:r>
                      <a:r>
                        <a:rPr b="1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6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8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两端的电压    </a:t>
                      </a:r>
                      <a:r>
                        <a:rPr b="1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并联电路两端的电压 </a:t>
                      </a:r>
                      <a:r>
                        <a:rPr b="1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第一次测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第二次测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3"/>
          <p:cNvSpPr/>
          <p:nvPr/>
        </p:nvSpPr>
        <p:spPr>
          <a:xfrm>
            <a:off x="7709400" y="6308640"/>
            <a:ext cx="729360" cy="36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返回导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ShockwaveFlash1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7344000" cy="16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实验完成，请各组断开电路，讨论分析实验数据，看你能发现什么结论。并请你汇报一下你的实验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WordArt 7"/>
          <p:cNvSpPr txBox="1"/>
          <p:nvPr/>
        </p:nvSpPr>
        <p:spPr>
          <a:xfrm>
            <a:off x="826920" y="2421000"/>
            <a:ext cx="1366920" cy="13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结论：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56" name="Text Box 8"/>
          <p:cNvSpPr/>
          <p:nvPr/>
        </p:nvSpPr>
        <p:spPr>
          <a:xfrm>
            <a:off x="1258920" y="3645000"/>
            <a:ext cx="705636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并联电路中，各支路两端的电压都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U= U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= U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文本框 8199"/>
          <p:cNvSpPr/>
          <p:nvPr/>
        </p:nvSpPr>
        <p:spPr>
          <a:xfrm>
            <a:off x="2014560" y="717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66358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4000" y="1197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、电压的作用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24000" y="191628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、电压的符号是</a:t>
            </a:r>
            <a:r>
              <a:rPr b="0" lang="zh-CN" sz="2800" spc="-1" strike="noStrike" u="sng">
                <a:solidFill>
                  <a:srgbClr val="3333ff"/>
                </a:solidFill>
                <a:uFillTx/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. 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在国际单位制中，它的单位是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_____, 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用符号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_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__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_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来表示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299736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、一节干电池的电压为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____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24000" y="3645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、家庭正常照明电路的电压是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______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伏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324000" y="429264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、人体的安全电压应不高于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_____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伏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95280" y="501336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、一节蓄电池的电压为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____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987640" y="112536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使自由电荷定向移动形成电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419640" y="1844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826920" y="227664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伏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3132000" y="227664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211640" y="2924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5435640" y="3429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076720" y="4149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4427640" y="4941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用电压表测量并联电路的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Picture 20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2665440" cy="194472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9" descr=""/>
          <p:cNvPicPr/>
          <p:nvPr/>
        </p:nvPicPr>
        <p:blipFill>
          <a:blip r:embed="rId2"/>
          <a:stretch/>
        </p:blipFill>
        <p:spPr>
          <a:xfrm>
            <a:off x="3059280" y="1844640"/>
            <a:ext cx="2916000" cy="200340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8" descr=""/>
          <p:cNvPicPr/>
          <p:nvPr/>
        </p:nvPicPr>
        <p:blipFill>
          <a:blip r:embed="rId3"/>
          <a:stretch/>
        </p:blipFill>
        <p:spPr>
          <a:xfrm>
            <a:off x="6012000" y="1844640"/>
            <a:ext cx="2916000" cy="2048040"/>
          </a:xfrm>
          <a:prstGeom prst="rect">
            <a:avLst/>
          </a:prstGeom>
          <a:ln w="0">
            <a:noFill/>
          </a:ln>
        </p:spPr>
      </p:pic>
      <p:sp>
        <p:nvSpPr>
          <p:cNvPr id="1162" name="AutoShape 16"/>
          <p:cNvSpPr/>
          <p:nvPr/>
        </p:nvSpPr>
        <p:spPr>
          <a:xfrm rot="16200000">
            <a:off x="4194720" y="1141920"/>
            <a:ext cx="719280" cy="6013800"/>
          </a:xfrm>
          <a:custGeom>
            <a:avLst/>
            <a:gdLst>
              <a:gd name="textAreaLeft" fmla="*/ 459720 w 719280"/>
              <a:gd name="textAreaRight" fmla="*/ 719640 w 719280"/>
              <a:gd name="textAreaTop" fmla="*/ 156240 h 6013800"/>
              <a:gd name="textAreaBottom" fmla="*/ 5857560 h 601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Picture 21" descr=""/>
          <p:cNvPicPr/>
          <p:nvPr/>
        </p:nvPicPr>
        <p:blipFill>
          <a:blip r:embed="rId4"/>
          <a:stretch/>
        </p:blipFill>
        <p:spPr>
          <a:xfrm>
            <a:off x="3419640" y="4365720"/>
            <a:ext cx="25192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6"/>
          <p:cNvSpPr/>
          <p:nvPr/>
        </p:nvSpPr>
        <p:spPr>
          <a:xfrm>
            <a:off x="539640" y="1413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7"/>
          <p:cNvSpPr/>
          <p:nvPr/>
        </p:nvSpPr>
        <p:spPr>
          <a:xfrm>
            <a:off x="1549080" y="1463760"/>
            <a:ext cx="581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晓明用规格不同的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串联后接入电路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实验，用电压表测得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两端的电压为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3.5V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为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2.5V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，则两灯串联的总电压为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____V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8"/>
          <p:cNvSpPr/>
          <p:nvPr/>
        </p:nvSpPr>
        <p:spPr>
          <a:xfrm>
            <a:off x="1687320" y="2903400"/>
            <a:ext cx="585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接着晓明用规格相同的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串联后接入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6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的电路中，用电压表测得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两端电压为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3V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，则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的两端电压为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_____V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9"/>
          <p:cNvSpPr/>
          <p:nvPr/>
        </p:nvSpPr>
        <p:spPr>
          <a:xfrm>
            <a:off x="3399840" y="4581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一想：根据这两题你得到什么启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0"/>
          <p:cNvSpPr/>
          <p:nvPr/>
        </p:nvSpPr>
        <p:spPr>
          <a:xfrm>
            <a:off x="2535480" y="533412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只有规格相同的灯泡串联工作时，它们的电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才会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1"/>
          <p:cNvSpPr/>
          <p:nvPr/>
        </p:nvSpPr>
        <p:spPr>
          <a:xfrm>
            <a:off x="5796000" y="234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2"/>
          <p:cNvSpPr/>
          <p:nvPr/>
        </p:nvSpPr>
        <p:spPr>
          <a:xfrm>
            <a:off x="3278520" y="373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46D0-C6FD-4C0A-BDE4-C1914B83EC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5"/>
          <p:cNvSpPr/>
          <p:nvPr/>
        </p:nvSpPr>
        <p:spPr>
          <a:xfrm>
            <a:off x="250920" y="887400"/>
            <a:ext cx="87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并联后接入电路中，测得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两端电压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3V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，则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两端电压为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大于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3V               B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等于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3V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C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小于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3V               D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条件不足，无法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6"/>
          <p:cNvSpPr/>
          <p:nvPr/>
        </p:nvSpPr>
        <p:spPr>
          <a:xfrm>
            <a:off x="179280" y="2781360"/>
            <a:ext cx="865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和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并联后接到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3V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的电源上，发现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比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亮多了，若两灯的电压分别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U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U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，则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U1&gt;U2                 B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 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U1&lt;U2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C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U1=U2=3V              D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U1+U2=3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7"/>
          <p:cNvSpPr/>
          <p:nvPr/>
        </p:nvSpPr>
        <p:spPr>
          <a:xfrm>
            <a:off x="250920" y="4630680"/>
            <a:ext cx="840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与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串联在电路中，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比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亮两倍，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过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电流为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0.2A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，则通过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电流为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小于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0.2A            B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大于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0.2A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C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等于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0.2A            D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等于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0.1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8"/>
          <p:cNvSpPr/>
          <p:nvPr/>
        </p:nvSpPr>
        <p:spPr>
          <a:xfrm>
            <a:off x="3350160" y="14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9"/>
          <p:cNvSpPr/>
          <p:nvPr/>
        </p:nvSpPr>
        <p:spPr>
          <a:xfrm>
            <a:off x="795888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0"/>
          <p:cNvSpPr/>
          <p:nvPr/>
        </p:nvSpPr>
        <p:spPr>
          <a:xfrm>
            <a:off x="6936480" y="5105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50920" y="11253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、这是一只电压表，有三个接线柱，两个量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xjhsy7" descr="w52"/>
          <p:cNvPicPr/>
          <p:nvPr/>
        </p:nvPicPr>
        <p:blipFill>
          <a:blip r:embed="rId1"/>
          <a:stretch/>
        </p:blipFill>
        <p:spPr>
          <a:xfrm>
            <a:off x="6156360" y="260280"/>
            <a:ext cx="2808360" cy="23335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50920" y="2349360"/>
            <a:ext cx="70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、（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）当导线接在”和“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3”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接线柱上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971640" y="3068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量程是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～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伏，分度值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每一小格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为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0.1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755640" y="3716280"/>
            <a:ext cx="65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）当导线接在“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—”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和“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15”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接线柱上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971640" y="45086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量程是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～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15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伏，分度值（每一小格）为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0.5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9640" y="1557360"/>
            <a:ext cx="813600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如何使用电压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431bed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）观察电压表是否指在</a:t>
            </a:r>
            <a:r>
              <a:rPr b="0" lang="zh-CN" sz="2800" spc="-1" strike="noStrike">
                <a:solidFill>
                  <a:srgbClr val="f60000"/>
                </a:solidFill>
                <a:latin typeface="Arial"/>
              </a:rPr>
              <a:t>零刻度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431bed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）电流必须从正接线柱流进去，从负接线柱流出来。否则电压表指针反向偏传，损坏电流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     “</a:t>
            </a:r>
            <a:r>
              <a:rPr b="0" lang="zh-CN" sz="2800" spc="-1" strike="noStrike">
                <a:solidFill>
                  <a:srgbClr val="f60000"/>
                </a:solidFill>
                <a:latin typeface="Arial"/>
              </a:rPr>
              <a:t>正进负出</a:t>
            </a: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431bed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）选择</a:t>
            </a:r>
            <a:r>
              <a:rPr b="0" lang="zh-CN" sz="2800" spc="-1" strike="noStrike">
                <a:solidFill>
                  <a:srgbClr val="f60000"/>
                </a:solidFill>
                <a:latin typeface="Arial"/>
              </a:rPr>
              <a:t>合适的量程</a:t>
            </a: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，被测电压不能超过电压表的量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431bed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）电压表必须和被测电路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并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431bed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）电压表可以不经过用电器直接接在电源的两极上。测量电源电压</a:t>
            </a:r>
            <a:r>
              <a:rPr b="0" lang="zh-CN" sz="1800" spc="-1" strike="noStrike">
                <a:solidFill>
                  <a:srgbClr val="431bed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8360" y="1700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串联电路中电流的规律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串联电路中各处电流都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 = I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= I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并联电路中电流的规律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并联电路中的电流：干路中的电流等于各支路电流之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 = I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+ I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971640" y="515772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想一想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串并联电路中电压有什么规律呢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6121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一、串联电路中电压的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0" y="1341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提出问题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串联电路中各部分电路两端的电压和总电压有什么关系呢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猜想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串联电路两端的总电压等于各部分电路两端的电压之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0" y="2421000"/>
            <a:ext cx="7993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探究实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为了验证你的猜想，应如何设计实验进行探究？请各小组制定实验方案，并在方案里明确以下问题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24000" y="3789360"/>
            <a:ext cx="7056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为了比较串联电路各部分电路两端的电压大小，我们需要什么仪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如何测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准备测量几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测量后怎么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实验步骤怎么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能画出电路图吗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7380360" y="4005360"/>
            <a:ext cx="1763640" cy="622080"/>
          </a:xfrm>
          <a:prstGeom prst="cloudCallout">
            <a:avLst>
              <a:gd name="adj1" fmla="val -13634"/>
              <a:gd name="adj2" fmla="val -379337"/>
            </a:avLst>
          </a:prstGeom>
          <a:blipFill rotWithShape="0">
            <a:blip r:embed="rId1"/>
            <a:srcRect/>
            <a:stretch/>
          </a:blipFill>
          <a:ln w="316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方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024"/>
          <p:cNvPicPr/>
          <p:nvPr/>
        </p:nvPicPr>
        <p:blipFill>
          <a:blip r:embed="rId2"/>
          <a:stretch/>
        </p:blipFill>
        <p:spPr>
          <a:xfrm>
            <a:off x="7866000" y="4940280"/>
            <a:ext cx="1278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3384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设计电路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13"/>
          <p:cNvGrpSpPr/>
          <p:nvPr/>
        </p:nvGrpSpPr>
        <p:grpSpPr>
          <a:xfrm>
            <a:off x="684000" y="2276640"/>
            <a:ext cx="2808720" cy="3047760"/>
            <a:chOff x="684000" y="2276640"/>
            <a:chExt cx="2808720" cy="3047760"/>
          </a:xfrm>
        </p:grpSpPr>
        <p:sp>
          <p:nvSpPr>
            <p:cNvPr id="121" name="Oval 114"/>
            <p:cNvSpPr/>
            <p:nvPr/>
          </p:nvSpPr>
          <p:spPr>
            <a:xfrm>
              <a:off x="1324800" y="3512880"/>
              <a:ext cx="374760" cy="396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15"/>
            <p:cNvSpPr/>
            <p:nvPr/>
          </p:nvSpPr>
          <p:spPr>
            <a:xfrm>
              <a:off x="1325880" y="3461400"/>
              <a:ext cx="693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116"/>
            <p:cNvGrpSpPr/>
            <p:nvPr/>
          </p:nvGrpSpPr>
          <p:grpSpPr>
            <a:xfrm>
              <a:off x="684000" y="2276640"/>
              <a:ext cx="2808720" cy="3047760"/>
              <a:chOff x="684000" y="2276640"/>
              <a:chExt cx="2808720" cy="3047760"/>
            </a:xfrm>
          </p:grpSpPr>
          <p:grpSp>
            <p:nvGrpSpPr>
              <p:cNvPr id="124" name="Group 117"/>
              <p:cNvGrpSpPr/>
              <p:nvPr/>
            </p:nvGrpSpPr>
            <p:grpSpPr>
              <a:xfrm>
                <a:off x="1281960" y="4596120"/>
                <a:ext cx="600840" cy="378720"/>
                <a:chOff x="1281960" y="4596120"/>
                <a:chExt cx="600840" cy="378720"/>
              </a:xfrm>
            </p:grpSpPr>
            <p:grpSp>
              <p:nvGrpSpPr>
                <p:cNvPr id="125" name=""/>
                <p:cNvGrpSpPr/>
                <p:nvPr/>
              </p:nvGrpSpPr>
              <p:grpSpPr>
                <a:xfrm>
                  <a:off x="1341720" y="4596120"/>
                  <a:ext cx="360" cy="378720"/>
                  <a:chOff x="1341720" y="4596120"/>
                  <a:chExt cx="360" cy="378720"/>
                </a:xfrm>
              </p:grpSpPr>
              <p:sp>
                <p:nvSpPr>
                  <p:cNvPr id="126" name="Line 118"/>
                  <p:cNvSpPr/>
                  <p:nvPr/>
                </p:nvSpPr>
                <p:spPr>
                  <a:xfrm>
                    <a:off x="1341720" y="4596120"/>
                    <a:ext cx="0" cy="378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 txBox="1"/>
                  <p:nvPr/>
                </p:nvSpPr>
                <p:spPr>
                  <a:xfrm>
                    <a:off x="1341720" y="4596120"/>
                    <a:ext cx="360" cy="37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1281960" y="4659120"/>
                  <a:ext cx="360" cy="252360"/>
                  <a:chOff x="1281960" y="4659120"/>
                  <a:chExt cx="360" cy="252360"/>
                </a:xfrm>
              </p:grpSpPr>
              <p:sp>
                <p:nvSpPr>
                  <p:cNvPr id="129" name="Line 119"/>
                  <p:cNvSpPr/>
                  <p:nvPr/>
                </p:nvSpPr>
                <p:spPr>
                  <a:xfrm>
                    <a:off x="1281960" y="4659120"/>
                    <a:ext cx="0" cy="252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 txBox="1"/>
                  <p:nvPr/>
                </p:nvSpPr>
                <p:spPr>
                  <a:xfrm>
                    <a:off x="1281960" y="4659120"/>
                    <a:ext cx="360" cy="25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1882440" y="4596120"/>
                  <a:ext cx="360" cy="378720"/>
                  <a:chOff x="1882440" y="4596120"/>
                  <a:chExt cx="360" cy="378720"/>
                </a:xfrm>
              </p:grpSpPr>
              <p:sp>
                <p:nvSpPr>
                  <p:cNvPr id="132" name="Line 120"/>
                  <p:cNvSpPr/>
                  <p:nvPr/>
                </p:nvSpPr>
                <p:spPr>
                  <a:xfrm>
                    <a:off x="1882440" y="4596120"/>
                    <a:ext cx="0" cy="378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 txBox="1"/>
                  <p:nvPr/>
                </p:nvSpPr>
                <p:spPr>
                  <a:xfrm>
                    <a:off x="1882440" y="4596120"/>
                    <a:ext cx="360" cy="37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1822320" y="4659120"/>
                  <a:ext cx="360" cy="252360"/>
                  <a:chOff x="1822320" y="4659120"/>
                  <a:chExt cx="360" cy="252360"/>
                </a:xfrm>
              </p:grpSpPr>
              <p:sp>
                <p:nvSpPr>
                  <p:cNvPr id="135" name="Line 121"/>
                  <p:cNvSpPr/>
                  <p:nvPr/>
                </p:nvSpPr>
                <p:spPr>
                  <a:xfrm>
                    <a:off x="1822320" y="4659120"/>
                    <a:ext cx="0" cy="252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 txBox="1"/>
                  <p:nvPr/>
                </p:nvSpPr>
                <p:spPr>
                  <a:xfrm>
                    <a:off x="1822320" y="4659120"/>
                    <a:ext cx="360" cy="25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122"/>
              <p:cNvGrpSpPr/>
              <p:nvPr/>
            </p:nvGrpSpPr>
            <p:grpSpPr>
              <a:xfrm>
                <a:off x="684000" y="2276640"/>
                <a:ext cx="2808720" cy="3047760"/>
                <a:chOff x="684000" y="2276640"/>
                <a:chExt cx="2808720" cy="304776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684360" y="4788360"/>
                  <a:ext cx="597600" cy="360"/>
                  <a:chOff x="684360" y="4788360"/>
                  <a:chExt cx="597600" cy="360"/>
                </a:xfrm>
              </p:grpSpPr>
              <p:sp>
                <p:nvSpPr>
                  <p:cNvPr id="139" name="Line 123"/>
                  <p:cNvSpPr/>
                  <p:nvPr/>
                </p:nvSpPr>
                <p:spPr>
                  <a:xfrm flipH="1">
                    <a:off x="684360" y="4788360"/>
                    <a:ext cx="597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 txBox="1"/>
                  <p:nvPr/>
                </p:nvSpPr>
                <p:spPr>
                  <a:xfrm>
                    <a:off x="684360" y="4788360"/>
                    <a:ext cx="5976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Oval 124"/>
                <p:cNvSpPr/>
                <p:nvPr/>
              </p:nvSpPr>
              <p:spPr>
                <a:xfrm>
                  <a:off x="2538000" y="4742280"/>
                  <a:ext cx="83880" cy="91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Text Box 125"/>
                <p:cNvSpPr/>
                <p:nvPr/>
              </p:nvSpPr>
              <p:spPr>
                <a:xfrm>
                  <a:off x="2340720" y="2276640"/>
                  <a:ext cx="69408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ext Box 126"/>
                <p:cNvSpPr/>
                <p:nvPr/>
              </p:nvSpPr>
              <p:spPr>
                <a:xfrm>
                  <a:off x="1219320" y="2289600"/>
                  <a:ext cx="69408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1341360" y="4786560"/>
                  <a:ext cx="476640" cy="360"/>
                  <a:chOff x="1341360" y="4786560"/>
                  <a:chExt cx="476640" cy="360"/>
                </a:xfrm>
              </p:grpSpPr>
              <p:sp>
                <p:nvSpPr>
                  <p:cNvPr id="145" name="Line 127"/>
                  <p:cNvSpPr/>
                  <p:nvPr/>
                </p:nvSpPr>
                <p:spPr>
                  <a:xfrm>
                    <a:off x="1341360" y="4786560"/>
                    <a:ext cx="476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 txBox="1"/>
                  <p:nvPr/>
                </p:nvSpPr>
                <p:spPr>
                  <a:xfrm>
                    <a:off x="1341360" y="4786560"/>
                    <a:ext cx="476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128"/>
                <p:cNvGrpSpPr/>
                <p:nvPr/>
              </p:nvGrpSpPr>
              <p:grpSpPr>
                <a:xfrm>
                  <a:off x="1313640" y="2706840"/>
                  <a:ext cx="375480" cy="396720"/>
                  <a:chOff x="1313640" y="2706840"/>
                  <a:chExt cx="375480" cy="396720"/>
                </a:xfrm>
              </p:grpSpPr>
              <p:sp>
                <p:nvSpPr>
                  <p:cNvPr id="148" name="Oval 129"/>
                  <p:cNvSpPr/>
                  <p:nvPr/>
                </p:nvSpPr>
                <p:spPr>
                  <a:xfrm>
                    <a:off x="1313640" y="2706840"/>
                    <a:ext cx="375480" cy="3967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9" name="Group 130"/>
                  <p:cNvGrpSpPr/>
                  <p:nvPr/>
                </p:nvGrpSpPr>
                <p:grpSpPr>
                  <a:xfrm>
                    <a:off x="1371240" y="2767680"/>
                    <a:ext cx="259920" cy="274680"/>
                    <a:chOff x="1371240" y="2767680"/>
                    <a:chExt cx="259920" cy="274680"/>
                  </a:xfrm>
                </p:grpSpPr>
                <p:grpSp>
                  <p:nvGrpSpPr>
                    <p:cNvPr id="150" name=""/>
                    <p:cNvGrpSpPr/>
                    <p:nvPr/>
                  </p:nvGrpSpPr>
                  <p:grpSpPr>
                    <a:xfrm>
                      <a:off x="1371240" y="2767680"/>
                      <a:ext cx="259920" cy="274680"/>
                      <a:chOff x="1371240" y="2767680"/>
                      <a:chExt cx="259920" cy="274680"/>
                    </a:xfrm>
                  </p:grpSpPr>
                  <p:sp>
                    <p:nvSpPr>
                      <p:cNvPr id="151" name="Line 131"/>
                      <p:cNvSpPr/>
                      <p:nvPr/>
                    </p:nvSpPr>
                    <p:spPr>
                      <a:xfrm>
                        <a:off x="1371240" y="2767680"/>
                        <a:ext cx="259920" cy="274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" name=""/>
                      <p:cNvSpPr txBox="1"/>
                      <p:nvPr/>
                    </p:nvSpPr>
                    <p:spPr>
                      <a:xfrm>
                        <a:off x="1371240" y="2767680"/>
                        <a:ext cx="259920" cy="274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3" name=""/>
                    <p:cNvGrpSpPr/>
                    <p:nvPr/>
                  </p:nvGrpSpPr>
                  <p:grpSpPr>
                    <a:xfrm>
                      <a:off x="1371240" y="2767680"/>
                      <a:ext cx="259920" cy="274680"/>
                      <a:chOff x="1371240" y="2767680"/>
                      <a:chExt cx="259920" cy="274680"/>
                    </a:xfrm>
                  </p:grpSpPr>
                  <p:sp>
                    <p:nvSpPr>
                      <p:cNvPr id="154" name="Line 132"/>
                      <p:cNvSpPr/>
                      <p:nvPr/>
                    </p:nvSpPr>
                    <p:spPr>
                      <a:xfrm flipH="1">
                        <a:off x="1371240" y="2767680"/>
                        <a:ext cx="259920" cy="274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" name=""/>
                      <p:cNvSpPr txBox="1"/>
                      <p:nvPr/>
                    </p:nvSpPr>
                    <p:spPr>
                      <a:xfrm>
                        <a:off x="1371240" y="2767680"/>
                        <a:ext cx="259920" cy="274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84000" y="2894400"/>
                  <a:ext cx="643680" cy="360"/>
                  <a:chOff x="684000" y="2894400"/>
                  <a:chExt cx="643680" cy="360"/>
                </a:xfrm>
              </p:grpSpPr>
              <p:sp>
                <p:nvSpPr>
                  <p:cNvPr id="157" name="Line 133"/>
                  <p:cNvSpPr/>
                  <p:nvPr/>
                </p:nvSpPr>
                <p:spPr>
                  <a:xfrm flipH="1">
                    <a:off x="684000" y="2894400"/>
                    <a:ext cx="643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 txBox="1"/>
                  <p:nvPr/>
                </p:nvSpPr>
                <p:spPr>
                  <a:xfrm>
                    <a:off x="684360" y="2894400"/>
                    <a:ext cx="643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2863080" y="2887920"/>
                  <a:ext cx="629280" cy="360"/>
                  <a:chOff x="2863080" y="2887920"/>
                  <a:chExt cx="629280" cy="360"/>
                </a:xfrm>
              </p:grpSpPr>
              <p:sp>
                <p:nvSpPr>
                  <p:cNvPr id="160" name="Line 134"/>
                  <p:cNvSpPr/>
                  <p:nvPr/>
                </p:nvSpPr>
                <p:spPr>
                  <a:xfrm flipH="1">
                    <a:off x="2863080" y="2887920"/>
                    <a:ext cx="629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 txBox="1"/>
                  <p:nvPr/>
                </p:nvSpPr>
                <p:spPr>
                  <a:xfrm>
                    <a:off x="2863080" y="2887920"/>
                    <a:ext cx="629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3074040" y="4770720"/>
                  <a:ext cx="418320" cy="360"/>
                  <a:chOff x="3074040" y="4770720"/>
                  <a:chExt cx="418320" cy="360"/>
                </a:xfrm>
              </p:grpSpPr>
              <p:sp>
                <p:nvSpPr>
                  <p:cNvPr id="163" name="Line 135"/>
                  <p:cNvSpPr/>
                  <p:nvPr/>
                </p:nvSpPr>
                <p:spPr>
                  <a:xfrm flipH="1">
                    <a:off x="3074040" y="4770720"/>
                    <a:ext cx="4179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 txBox="1"/>
                  <p:nvPr/>
                </p:nvSpPr>
                <p:spPr>
                  <a:xfrm>
                    <a:off x="3074400" y="4770720"/>
                    <a:ext cx="417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3492360" y="2889720"/>
                  <a:ext cx="360" cy="1878840"/>
                  <a:chOff x="3492360" y="2889720"/>
                  <a:chExt cx="360" cy="1878840"/>
                </a:xfrm>
              </p:grpSpPr>
              <p:sp>
                <p:nvSpPr>
                  <p:cNvPr id="166" name="Line 136"/>
                  <p:cNvSpPr/>
                  <p:nvPr/>
                </p:nvSpPr>
                <p:spPr>
                  <a:xfrm>
                    <a:off x="3492360" y="2889720"/>
                    <a:ext cx="0" cy="1878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 txBox="1"/>
                  <p:nvPr/>
                </p:nvSpPr>
                <p:spPr>
                  <a:xfrm>
                    <a:off x="3492360" y="2889720"/>
                    <a:ext cx="360" cy="187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84360" y="2907000"/>
                  <a:ext cx="360" cy="1880640"/>
                  <a:chOff x="684360" y="2907000"/>
                  <a:chExt cx="360" cy="1880640"/>
                </a:xfrm>
              </p:grpSpPr>
              <p:sp>
                <p:nvSpPr>
                  <p:cNvPr id="169" name="Line 137"/>
                  <p:cNvSpPr/>
                  <p:nvPr/>
                </p:nvSpPr>
                <p:spPr>
                  <a:xfrm>
                    <a:off x="684360" y="2907000"/>
                    <a:ext cx="0" cy="1880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 txBox="1"/>
                  <p:nvPr/>
                </p:nvSpPr>
                <p:spPr>
                  <a:xfrm>
                    <a:off x="684360" y="2907000"/>
                    <a:ext cx="360" cy="188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2591280" y="4532760"/>
                  <a:ext cx="490320" cy="223200"/>
                  <a:chOff x="2591280" y="4532760"/>
                  <a:chExt cx="490320" cy="223200"/>
                </a:xfrm>
              </p:grpSpPr>
              <p:sp>
                <p:nvSpPr>
                  <p:cNvPr id="172" name="Line 138"/>
                  <p:cNvSpPr/>
                  <p:nvPr/>
                </p:nvSpPr>
                <p:spPr>
                  <a:xfrm flipH="1">
                    <a:off x="2591280" y="4532760"/>
                    <a:ext cx="48996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 txBox="1"/>
                  <p:nvPr/>
                </p:nvSpPr>
                <p:spPr>
                  <a:xfrm>
                    <a:off x="2591640" y="4532760"/>
                    <a:ext cx="489960" cy="22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139"/>
                <p:cNvGrpSpPr/>
                <p:nvPr/>
              </p:nvGrpSpPr>
              <p:grpSpPr>
                <a:xfrm>
                  <a:off x="2459520" y="2703240"/>
                  <a:ext cx="375480" cy="392760"/>
                  <a:chOff x="2459520" y="2703240"/>
                  <a:chExt cx="375480" cy="392760"/>
                </a:xfrm>
              </p:grpSpPr>
              <p:sp>
                <p:nvSpPr>
                  <p:cNvPr id="175" name="Oval 140"/>
                  <p:cNvSpPr/>
                  <p:nvPr/>
                </p:nvSpPr>
                <p:spPr>
                  <a:xfrm>
                    <a:off x="2459520" y="2703240"/>
                    <a:ext cx="375480" cy="3927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6" name="Group 141"/>
                  <p:cNvGrpSpPr/>
                  <p:nvPr/>
                </p:nvGrpSpPr>
                <p:grpSpPr>
                  <a:xfrm>
                    <a:off x="2517120" y="2763360"/>
                    <a:ext cx="259920" cy="271800"/>
                    <a:chOff x="2517120" y="2763360"/>
                    <a:chExt cx="259920" cy="271800"/>
                  </a:xfrm>
                </p:grpSpPr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2517120" y="2763360"/>
                      <a:ext cx="259920" cy="271800"/>
                      <a:chOff x="2517120" y="2763360"/>
                      <a:chExt cx="259920" cy="271800"/>
                    </a:xfrm>
                  </p:grpSpPr>
                  <p:sp>
                    <p:nvSpPr>
                      <p:cNvPr id="178" name="Line 142"/>
                      <p:cNvSpPr/>
                      <p:nvPr/>
                    </p:nvSpPr>
                    <p:spPr>
                      <a:xfrm>
                        <a:off x="2517120" y="2763360"/>
                        <a:ext cx="259920" cy="271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"/>
                      <p:cNvSpPr txBox="1"/>
                      <p:nvPr/>
                    </p:nvSpPr>
                    <p:spPr>
                      <a:xfrm>
                        <a:off x="2517120" y="2763360"/>
                        <a:ext cx="259920" cy="271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2517120" y="2763360"/>
                      <a:ext cx="259920" cy="271800"/>
                      <a:chOff x="2517120" y="2763360"/>
                      <a:chExt cx="259920" cy="271800"/>
                    </a:xfrm>
                  </p:grpSpPr>
                  <p:sp>
                    <p:nvSpPr>
                      <p:cNvPr id="181" name="Line 143"/>
                      <p:cNvSpPr/>
                      <p:nvPr/>
                    </p:nvSpPr>
                    <p:spPr>
                      <a:xfrm flipH="1">
                        <a:off x="2517120" y="2763360"/>
                        <a:ext cx="259920" cy="271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"/>
                      <p:cNvSpPr txBox="1"/>
                      <p:nvPr/>
                    </p:nvSpPr>
                    <p:spPr>
                      <a:xfrm>
                        <a:off x="2517120" y="2763360"/>
                        <a:ext cx="259920" cy="271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1882080" y="4786560"/>
                  <a:ext cx="699120" cy="360"/>
                  <a:chOff x="1882080" y="4786560"/>
                  <a:chExt cx="699120" cy="360"/>
                </a:xfrm>
              </p:grpSpPr>
              <p:sp>
                <p:nvSpPr>
                  <p:cNvPr id="184" name="Line 144"/>
                  <p:cNvSpPr/>
                  <p:nvPr/>
                </p:nvSpPr>
                <p:spPr>
                  <a:xfrm flipH="1">
                    <a:off x="1882080" y="4786560"/>
                    <a:ext cx="6987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 txBox="1"/>
                  <p:nvPr/>
                </p:nvSpPr>
                <p:spPr>
                  <a:xfrm>
                    <a:off x="1882440" y="4786560"/>
                    <a:ext cx="698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1689120" y="2896200"/>
                  <a:ext cx="766080" cy="360"/>
                  <a:chOff x="1689120" y="2896200"/>
                  <a:chExt cx="766080" cy="360"/>
                </a:xfrm>
              </p:grpSpPr>
              <p:sp>
                <p:nvSpPr>
                  <p:cNvPr id="187" name="Line 145"/>
                  <p:cNvSpPr/>
                  <p:nvPr/>
                </p:nvSpPr>
                <p:spPr>
                  <a:xfrm flipH="1">
                    <a:off x="1689120" y="2896200"/>
                    <a:ext cx="766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 txBox="1"/>
                  <p:nvPr/>
                </p:nvSpPr>
                <p:spPr>
                  <a:xfrm>
                    <a:off x="1689120" y="2896200"/>
                    <a:ext cx="766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" name="Text Box 146"/>
                <p:cNvSpPr/>
                <p:nvPr/>
              </p:nvSpPr>
              <p:spPr>
                <a:xfrm>
                  <a:off x="2525760" y="4821480"/>
                  <a:ext cx="693720" cy="5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147"/>
                <p:cNvSpPr/>
                <p:nvPr/>
              </p:nvSpPr>
              <p:spPr>
                <a:xfrm>
                  <a:off x="880920" y="2824920"/>
                  <a:ext cx="1389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148"/>
                <p:cNvSpPr/>
                <p:nvPr/>
              </p:nvSpPr>
              <p:spPr>
                <a:xfrm>
                  <a:off x="2056320" y="2851560"/>
                  <a:ext cx="1389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947160" y="2874600"/>
              <a:ext cx="360" cy="857160"/>
              <a:chOff x="947160" y="2874600"/>
              <a:chExt cx="360" cy="857160"/>
            </a:xfrm>
          </p:grpSpPr>
          <p:sp>
            <p:nvSpPr>
              <p:cNvPr id="193" name="Line 149"/>
              <p:cNvSpPr/>
              <p:nvPr/>
            </p:nvSpPr>
            <p:spPr>
              <a:xfrm>
                <a:off x="947160" y="2874600"/>
                <a:ext cx="0" cy="85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947160" y="2874600"/>
                <a:ext cx="360" cy="85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947160" y="3741480"/>
              <a:ext cx="376200" cy="360"/>
              <a:chOff x="947160" y="3741480"/>
              <a:chExt cx="376200" cy="360"/>
            </a:xfrm>
          </p:grpSpPr>
          <p:sp>
            <p:nvSpPr>
              <p:cNvPr id="196" name="Line 150"/>
              <p:cNvSpPr/>
              <p:nvPr/>
            </p:nvSpPr>
            <p:spPr>
              <a:xfrm>
                <a:off x="947160" y="3741480"/>
                <a:ext cx="376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947160" y="3741480"/>
                <a:ext cx="376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709640" y="3722400"/>
              <a:ext cx="414000" cy="360"/>
              <a:chOff x="1709640" y="3722400"/>
              <a:chExt cx="414000" cy="360"/>
            </a:xfrm>
          </p:grpSpPr>
          <p:sp>
            <p:nvSpPr>
              <p:cNvPr id="199" name="Line 151"/>
              <p:cNvSpPr/>
              <p:nvPr/>
            </p:nvSpPr>
            <p:spPr>
              <a:xfrm>
                <a:off x="1709640" y="3722400"/>
                <a:ext cx="41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1709640" y="3722400"/>
                <a:ext cx="41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123640" y="2912400"/>
              <a:ext cx="360" cy="809640"/>
              <a:chOff x="2123640" y="2912400"/>
              <a:chExt cx="360" cy="809640"/>
            </a:xfrm>
          </p:grpSpPr>
          <p:sp>
            <p:nvSpPr>
              <p:cNvPr id="202" name="Line 152"/>
              <p:cNvSpPr/>
              <p:nvPr/>
            </p:nvSpPr>
            <p:spPr>
              <a:xfrm flipV="1">
                <a:off x="2124000" y="2912400"/>
                <a:ext cx="0" cy="80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 rot="10800000">
                <a:off x="2123640" y="2912400"/>
                <a:ext cx="360" cy="80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Text Box 45"/>
          <p:cNvSpPr/>
          <p:nvPr/>
        </p:nvSpPr>
        <p:spPr>
          <a:xfrm>
            <a:off x="4427640" y="9079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ee0"/>
                </a:solidFill>
                <a:latin typeface="Arial"/>
              </a:rPr>
              <a:t>根据电路图连接实物电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8"/>
          <p:cNvSpPr/>
          <p:nvPr/>
        </p:nvSpPr>
        <p:spPr>
          <a:xfrm>
            <a:off x="4067280" y="429264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xjhsy7" descr="w52"/>
          <p:cNvPicPr/>
          <p:nvPr/>
        </p:nvPicPr>
        <p:blipFill>
          <a:blip r:embed="rId1"/>
          <a:stretch/>
        </p:blipFill>
        <p:spPr>
          <a:xfrm>
            <a:off x="4788000" y="1317600"/>
            <a:ext cx="20160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07" name="xjhsy3"/>
          <p:cNvGrpSpPr/>
          <p:nvPr/>
        </p:nvGrpSpPr>
        <p:grpSpPr>
          <a:xfrm>
            <a:off x="4356000" y="3573360"/>
            <a:ext cx="1800360" cy="667800"/>
            <a:chOff x="4356000" y="3573360"/>
            <a:chExt cx="1800360" cy="667800"/>
          </a:xfrm>
        </p:grpSpPr>
        <p:grpSp>
          <p:nvGrpSpPr>
            <p:cNvPr id="208" name="Group 10"/>
            <p:cNvGrpSpPr/>
            <p:nvPr/>
          </p:nvGrpSpPr>
          <p:grpSpPr>
            <a:xfrm>
              <a:off x="4356000" y="3904560"/>
              <a:ext cx="1800360" cy="336600"/>
              <a:chOff x="4356000" y="3904560"/>
              <a:chExt cx="1800360" cy="336600"/>
            </a:xfrm>
          </p:grpSpPr>
          <p:sp>
            <p:nvSpPr>
              <p:cNvPr id="209" name="Freeform 11"/>
              <p:cNvSpPr/>
              <p:nvPr/>
            </p:nvSpPr>
            <p:spPr>
              <a:xfrm flipV="1">
                <a:off x="4356000" y="4174920"/>
                <a:ext cx="1800360" cy="6588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utoShape 12"/>
              <p:cNvSpPr/>
              <p:nvPr/>
            </p:nvSpPr>
            <p:spPr>
              <a:xfrm>
                <a:off x="5944680" y="3906720"/>
                <a:ext cx="153720" cy="2156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utoShape 13"/>
              <p:cNvSpPr/>
              <p:nvPr/>
            </p:nvSpPr>
            <p:spPr>
              <a:xfrm>
                <a:off x="4659120" y="3904560"/>
                <a:ext cx="153720" cy="2156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14"/>
            <p:cNvGrpSpPr/>
            <p:nvPr/>
          </p:nvGrpSpPr>
          <p:grpSpPr>
            <a:xfrm>
              <a:off x="5166000" y="3573360"/>
              <a:ext cx="261720" cy="546840"/>
              <a:chOff x="5166000" y="3573360"/>
              <a:chExt cx="261720" cy="546840"/>
            </a:xfrm>
          </p:grpSpPr>
          <p:grpSp>
            <p:nvGrpSpPr>
              <p:cNvPr id="213" name="Group 15"/>
              <p:cNvGrpSpPr/>
              <p:nvPr/>
            </p:nvGrpSpPr>
            <p:grpSpPr>
              <a:xfrm>
                <a:off x="5203080" y="3573360"/>
                <a:ext cx="195120" cy="428400"/>
                <a:chOff x="5203080" y="3573360"/>
                <a:chExt cx="195120" cy="428400"/>
              </a:xfrm>
            </p:grpSpPr>
            <p:grpSp>
              <p:nvGrpSpPr>
                <p:cNvPr id="214" name="Group 16"/>
                <p:cNvGrpSpPr/>
                <p:nvPr/>
              </p:nvGrpSpPr>
              <p:grpSpPr>
                <a:xfrm>
                  <a:off x="5256000" y="3901320"/>
                  <a:ext cx="88200" cy="100440"/>
                  <a:chOff x="5256000" y="3901320"/>
                  <a:chExt cx="88200" cy="100440"/>
                </a:xfrm>
              </p:grpSpPr>
              <p:grpSp>
                <p:nvGrpSpPr>
                  <p:cNvPr id="215" name="Group 17"/>
                  <p:cNvGrpSpPr/>
                  <p:nvPr/>
                </p:nvGrpSpPr>
                <p:grpSpPr>
                  <a:xfrm>
                    <a:off x="5256000" y="3901320"/>
                    <a:ext cx="88200" cy="100440"/>
                    <a:chOff x="5256000" y="3901320"/>
                    <a:chExt cx="88200" cy="100440"/>
                  </a:xfrm>
                </p:grpSpPr>
                <p:grpSp>
                  <p:nvGrpSpPr>
                    <p:cNvPr id="216" name="Group 18"/>
                    <p:cNvGrpSpPr/>
                    <p:nvPr/>
                  </p:nvGrpSpPr>
                  <p:grpSpPr>
                    <a:xfrm>
                      <a:off x="5277960" y="3978720"/>
                      <a:ext cx="48240" cy="23040"/>
                      <a:chOff x="5277960" y="3978720"/>
                      <a:chExt cx="48240" cy="23040"/>
                    </a:xfrm>
                  </p:grpSpPr>
                  <p:sp>
                    <p:nvSpPr>
                      <p:cNvPr id="217" name="Freeform 19"/>
                      <p:cNvSpPr/>
                      <p:nvPr/>
                    </p:nvSpPr>
                    <p:spPr>
                      <a:xfrm>
                        <a:off x="5277960" y="3978720"/>
                        <a:ext cx="4824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8" name="Freeform 20"/>
                      <p:cNvSpPr/>
                      <p:nvPr/>
                    </p:nvSpPr>
                    <p:spPr>
                      <a:xfrm>
                        <a:off x="5285520" y="3978720"/>
                        <a:ext cx="216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9" name="Group 21"/>
                    <p:cNvGrpSpPr/>
                    <p:nvPr/>
                  </p:nvGrpSpPr>
                  <p:grpSpPr>
                    <a:xfrm>
                      <a:off x="5256000" y="3901320"/>
                      <a:ext cx="88200" cy="83880"/>
                      <a:chOff x="5256000" y="3901320"/>
                      <a:chExt cx="88200" cy="83880"/>
                    </a:xfrm>
                  </p:grpSpPr>
                  <p:sp>
                    <p:nvSpPr>
                      <p:cNvPr id="220" name="Freeform 22"/>
                      <p:cNvSpPr/>
                      <p:nvPr/>
                    </p:nvSpPr>
                    <p:spPr>
                      <a:xfrm>
                        <a:off x="5256000" y="3901320"/>
                        <a:ext cx="8820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1" name="Freeform 23"/>
                      <p:cNvSpPr/>
                      <p:nvPr/>
                    </p:nvSpPr>
                    <p:spPr>
                      <a:xfrm>
                        <a:off x="5256360" y="3912480"/>
                        <a:ext cx="108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2" name="Freeform 24"/>
                      <p:cNvSpPr/>
                      <p:nvPr/>
                    </p:nvSpPr>
                    <p:spPr>
                      <a:xfrm>
                        <a:off x="5256720" y="3926880"/>
                        <a:ext cx="144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Freeform 25"/>
                      <p:cNvSpPr/>
                      <p:nvPr/>
                    </p:nvSpPr>
                    <p:spPr>
                      <a:xfrm>
                        <a:off x="5256000" y="3939120"/>
                        <a:ext cx="1692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4" name="Freeform 26"/>
                      <p:cNvSpPr/>
                      <p:nvPr/>
                    </p:nvSpPr>
                    <p:spPr>
                      <a:xfrm>
                        <a:off x="5257800" y="3952440"/>
                        <a:ext cx="201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5" name="Freeform 27"/>
                      <p:cNvSpPr/>
                      <p:nvPr/>
                    </p:nvSpPr>
                    <p:spPr>
                      <a:xfrm>
                        <a:off x="5258160" y="3904200"/>
                        <a:ext cx="8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Freeform 28"/>
                      <p:cNvSpPr/>
                      <p:nvPr/>
                    </p:nvSpPr>
                    <p:spPr>
                      <a:xfrm>
                        <a:off x="5273280" y="3902040"/>
                        <a:ext cx="709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7" name="Group 29"/>
                  <p:cNvGrpSpPr/>
                  <p:nvPr/>
                </p:nvGrpSpPr>
                <p:grpSpPr>
                  <a:xfrm>
                    <a:off x="5315040" y="3915000"/>
                    <a:ext cx="20880" cy="50760"/>
                    <a:chOff x="5315040" y="3915000"/>
                    <a:chExt cx="20880" cy="50760"/>
                  </a:xfrm>
                </p:grpSpPr>
                <p:sp>
                  <p:nvSpPr>
                    <p:cNvPr id="228" name="Freeform 30"/>
                    <p:cNvSpPr/>
                    <p:nvPr/>
                  </p:nvSpPr>
                  <p:spPr>
                    <a:xfrm>
                      <a:off x="5319000" y="3928320"/>
                      <a:ext cx="162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31"/>
                    <p:cNvSpPr/>
                    <p:nvPr/>
                  </p:nvSpPr>
                  <p:spPr>
                    <a:xfrm>
                      <a:off x="5321880" y="394164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32"/>
                    <p:cNvSpPr/>
                    <p:nvPr/>
                  </p:nvSpPr>
                  <p:spPr>
                    <a:xfrm>
                      <a:off x="5321160" y="39567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Freeform 33"/>
                    <p:cNvSpPr/>
                    <p:nvPr/>
                  </p:nvSpPr>
                  <p:spPr>
                    <a:xfrm>
                      <a:off x="5315040" y="3915000"/>
                      <a:ext cx="16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32" name="Freeform 34"/>
                <p:cNvSpPr/>
                <p:nvPr/>
              </p:nvSpPr>
              <p:spPr>
                <a:xfrm>
                  <a:off x="5203080" y="3573360"/>
                  <a:ext cx="195120" cy="339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5"/>
                <p:cNvSpPr/>
                <p:nvPr/>
              </p:nvSpPr>
              <p:spPr>
                <a:xfrm>
                  <a:off x="5257800" y="3874320"/>
                  <a:ext cx="85680" cy="342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36"/>
                <p:cNvSpPr/>
                <p:nvPr/>
              </p:nvSpPr>
              <p:spPr>
                <a:xfrm>
                  <a:off x="5347080" y="3607200"/>
                  <a:ext cx="32400" cy="50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37"/>
                <p:cNvGrpSpPr/>
                <p:nvPr/>
              </p:nvGrpSpPr>
              <p:grpSpPr>
                <a:xfrm>
                  <a:off x="5273280" y="3675240"/>
                  <a:ext cx="54360" cy="210600"/>
                  <a:chOff x="5273280" y="3675240"/>
                  <a:chExt cx="54360" cy="210600"/>
                </a:xfrm>
              </p:grpSpPr>
              <p:sp>
                <p:nvSpPr>
                  <p:cNvPr id="236" name="Freeform 38"/>
                  <p:cNvSpPr/>
                  <p:nvPr/>
                </p:nvSpPr>
                <p:spPr>
                  <a:xfrm>
                    <a:off x="5283360" y="3763080"/>
                    <a:ext cx="334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39"/>
                  <p:cNvSpPr/>
                  <p:nvPr/>
                </p:nvSpPr>
                <p:spPr>
                  <a:xfrm>
                    <a:off x="5300640" y="3767040"/>
                    <a:ext cx="4320" cy="82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8" name="Group 40"/>
                  <p:cNvGrpSpPr/>
                  <p:nvPr/>
                </p:nvGrpSpPr>
                <p:grpSpPr>
                  <a:xfrm>
                    <a:off x="5273280" y="3675240"/>
                    <a:ext cx="54360" cy="96480"/>
                    <a:chOff x="5273280" y="3675240"/>
                    <a:chExt cx="54360" cy="96480"/>
                  </a:xfrm>
                </p:grpSpPr>
                <p:sp>
                  <p:nvSpPr>
                    <p:cNvPr id="239" name="Oval 41"/>
                    <p:cNvSpPr/>
                    <p:nvPr/>
                  </p:nvSpPr>
                  <p:spPr>
                    <a:xfrm>
                      <a:off x="5276160" y="3675240"/>
                      <a:ext cx="49680" cy="3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Freeform 42"/>
                    <p:cNvSpPr/>
                    <p:nvPr/>
                  </p:nvSpPr>
                  <p:spPr>
                    <a:xfrm>
                      <a:off x="5273280" y="3690000"/>
                      <a:ext cx="5436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" name="Group 43"/>
                  <p:cNvGrpSpPr/>
                  <p:nvPr/>
                </p:nvGrpSpPr>
                <p:grpSpPr>
                  <a:xfrm>
                    <a:off x="5290200" y="3780360"/>
                    <a:ext cx="19080" cy="93960"/>
                    <a:chOff x="5290200" y="3780360"/>
                    <a:chExt cx="19080" cy="9396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5293440" y="3782880"/>
                      <a:ext cx="360" cy="91440"/>
                      <a:chOff x="5293440" y="3782880"/>
                      <a:chExt cx="360" cy="91440"/>
                    </a:xfrm>
                  </p:grpSpPr>
                  <p:sp>
                    <p:nvSpPr>
                      <p:cNvPr id="243" name="Line 44"/>
                      <p:cNvSpPr/>
                      <p:nvPr/>
                    </p:nvSpPr>
                    <p:spPr>
                      <a:xfrm>
                        <a:off x="5293440" y="3782880"/>
                        <a:ext cx="0" cy="914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"/>
                      <p:cNvSpPr txBox="1"/>
                      <p:nvPr/>
                    </p:nvSpPr>
                    <p:spPr>
                      <a:xfrm>
                        <a:off x="5293440" y="3782880"/>
                        <a:ext cx="360" cy="9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640" bIns="44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5" name=""/>
                    <p:cNvGrpSpPr/>
                    <p:nvPr/>
                  </p:nvGrpSpPr>
                  <p:grpSpPr>
                    <a:xfrm>
                      <a:off x="5305680" y="3782880"/>
                      <a:ext cx="720" cy="90720"/>
                      <a:chOff x="5305680" y="3782880"/>
                      <a:chExt cx="720" cy="90720"/>
                    </a:xfrm>
                  </p:grpSpPr>
                  <p:sp>
                    <p:nvSpPr>
                      <p:cNvPr id="246" name="Line 45"/>
                      <p:cNvSpPr/>
                      <p:nvPr/>
                    </p:nvSpPr>
                    <p:spPr>
                      <a:xfrm flipV="1">
                        <a:off x="5306040" y="3782880"/>
                        <a:ext cx="360" cy="907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"/>
                      <p:cNvSpPr txBox="1"/>
                      <p:nvPr/>
                    </p:nvSpPr>
                    <p:spPr>
                      <a:xfrm rot="10800000">
                        <a:off x="5305680" y="3782880"/>
                        <a:ext cx="360" cy="9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3920" bIns="43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8" name=""/>
                    <p:cNvGrpSpPr/>
                    <p:nvPr/>
                  </p:nvGrpSpPr>
                  <p:grpSpPr>
                    <a:xfrm>
                      <a:off x="5308920" y="3780360"/>
                      <a:ext cx="360" cy="91080"/>
                      <a:chOff x="5308920" y="3780360"/>
                      <a:chExt cx="360" cy="91080"/>
                    </a:xfrm>
                  </p:grpSpPr>
                  <p:sp>
                    <p:nvSpPr>
                      <p:cNvPr id="249" name="Line 46"/>
                      <p:cNvSpPr/>
                      <p:nvPr/>
                    </p:nvSpPr>
                    <p:spPr>
                      <a:xfrm flipV="1">
                        <a:off x="5309280" y="378036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"/>
                      <p:cNvSpPr txBox="1"/>
                      <p:nvPr/>
                    </p:nvSpPr>
                    <p:spPr>
                      <a:xfrm rot="10800000">
                        <a:off x="5308920" y="378036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1" name=""/>
                    <p:cNvGrpSpPr/>
                    <p:nvPr/>
                  </p:nvGrpSpPr>
                  <p:grpSpPr>
                    <a:xfrm>
                      <a:off x="5290200" y="3780360"/>
                      <a:ext cx="360" cy="91080"/>
                      <a:chOff x="5290200" y="3780360"/>
                      <a:chExt cx="360" cy="91080"/>
                    </a:xfrm>
                  </p:grpSpPr>
                  <p:sp>
                    <p:nvSpPr>
                      <p:cNvPr id="252" name="Line 47"/>
                      <p:cNvSpPr/>
                      <p:nvPr/>
                    </p:nvSpPr>
                    <p:spPr>
                      <a:xfrm flipV="1">
                        <a:off x="5290560" y="378036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 txBox="1"/>
                      <p:nvPr/>
                    </p:nvSpPr>
                    <p:spPr>
                      <a:xfrm rot="10800000">
                        <a:off x="5290200" y="378036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54" name="Freeform 48"/>
                <p:cNvSpPr/>
                <p:nvPr/>
              </p:nvSpPr>
              <p:spPr>
                <a:xfrm>
                  <a:off x="5296680" y="3825360"/>
                  <a:ext cx="52560" cy="792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Rectangle 49"/>
              <p:cNvSpPr/>
              <p:nvPr/>
            </p:nvSpPr>
            <p:spPr>
              <a:xfrm>
                <a:off x="5166000" y="3936240"/>
                <a:ext cx="261720" cy="183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xjhsy3"/>
          <p:cNvGrpSpPr/>
          <p:nvPr/>
        </p:nvGrpSpPr>
        <p:grpSpPr>
          <a:xfrm>
            <a:off x="6516720" y="3213000"/>
            <a:ext cx="2016000" cy="790200"/>
            <a:chOff x="6516720" y="3213000"/>
            <a:chExt cx="2016000" cy="790200"/>
          </a:xfrm>
        </p:grpSpPr>
        <p:grpSp>
          <p:nvGrpSpPr>
            <p:cNvPr id="257" name="Group 51"/>
            <p:cNvGrpSpPr/>
            <p:nvPr/>
          </p:nvGrpSpPr>
          <p:grpSpPr>
            <a:xfrm>
              <a:off x="6516720" y="3604680"/>
              <a:ext cx="2016000" cy="398520"/>
              <a:chOff x="6516720" y="3604680"/>
              <a:chExt cx="2016000" cy="398520"/>
            </a:xfrm>
          </p:grpSpPr>
          <p:sp>
            <p:nvSpPr>
              <p:cNvPr id="258" name="Freeform 52"/>
              <p:cNvSpPr/>
              <p:nvPr/>
            </p:nvSpPr>
            <p:spPr>
              <a:xfrm flipV="1">
                <a:off x="6516720" y="3924720"/>
                <a:ext cx="2016000" cy="7812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53"/>
              <p:cNvSpPr/>
              <p:nvPr/>
            </p:nvSpPr>
            <p:spPr>
              <a:xfrm>
                <a:off x="8295840" y="3607200"/>
                <a:ext cx="172080" cy="2548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54"/>
              <p:cNvSpPr/>
              <p:nvPr/>
            </p:nvSpPr>
            <p:spPr>
              <a:xfrm>
                <a:off x="6856200" y="3604680"/>
                <a:ext cx="172080" cy="2548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55"/>
            <p:cNvGrpSpPr/>
            <p:nvPr/>
          </p:nvGrpSpPr>
          <p:grpSpPr>
            <a:xfrm>
              <a:off x="7423560" y="3213000"/>
              <a:ext cx="293040" cy="646200"/>
              <a:chOff x="7423560" y="3213000"/>
              <a:chExt cx="293040" cy="646200"/>
            </a:xfrm>
          </p:grpSpPr>
          <p:grpSp>
            <p:nvGrpSpPr>
              <p:cNvPr id="262" name="Group 56"/>
              <p:cNvGrpSpPr/>
              <p:nvPr/>
            </p:nvGrpSpPr>
            <p:grpSpPr>
              <a:xfrm>
                <a:off x="7465320" y="3213000"/>
                <a:ext cx="218520" cy="506160"/>
                <a:chOff x="7465320" y="3213000"/>
                <a:chExt cx="218520" cy="506160"/>
              </a:xfrm>
            </p:grpSpPr>
            <p:grpSp>
              <p:nvGrpSpPr>
                <p:cNvPr id="263" name="Group 57"/>
                <p:cNvGrpSpPr/>
                <p:nvPr/>
              </p:nvGrpSpPr>
              <p:grpSpPr>
                <a:xfrm>
                  <a:off x="7524720" y="3600720"/>
                  <a:ext cx="98640" cy="118440"/>
                  <a:chOff x="7524720" y="3600720"/>
                  <a:chExt cx="98640" cy="118440"/>
                </a:xfrm>
              </p:grpSpPr>
              <p:grpSp>
                <p:nvGrpSpPr>
                  <p:cNvPr id="264" name="Group 58"/>
                  <p:cNvGrpSpPr/>
                  <p:nvPr/>
                </p:nvGrpSpPr>
                <p:grpSpPr>
                  <a:xfrm>
                    <a:off x="7524720" y="3600720"/>
                    <a:ext cx="98640" cy="118440"/>
                    <a:chOff x="7524720" y="3600720"/>
                    <a:chExt cx="98640" cy="118440"/>
                  </a:xfrm>
                </p:grpSpPr>
                <p:grpSp>
                  <p:nvGrpSpPr>
                    <p:cNvPr id="265" name="Group 59"/>
                    <p:cNvGrpSpPr/>
                    <p:nvPr/>
                  </p:nvGrpSpPr>
                  <p:grpSpPr>
                    <a:xfrm>
                      <a:off x="7549200" y="3692160"/>
                      <a:ext cx="53640" cy="27000"/>
                      <a:chOff x="7549200" y="3692160"/>
                      <a:chExt cx="53640" cy="27000"/>
                    </a:xfrm>
                  </p:grpSpPr>
                  <p:sp>
                    <p:nvSpPr>
                      <p:cNvPr id="266" name="Freeform 60"/>
                      <p:cNvSpPr/>
                      <p:nvPr/>
                    </p:nvSpPr>
                    <p:spPr>
                      <a:xfrm>
                        <a:off x="7549200" y="3692160"/>
                        <a:ext cx="53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Freeform 61"/>
                      <p:cNvSpPr/>
                      <p:nvPr/>
                    </p:nvSpPr>
                    <p:spPr>
                      <a:xfrm>
                        <a:off x="7557480" y="369216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" name="Group 62"/>
                    <p:cNvGrpSpPr/>
                    <p:nvPr/>
                  </p:nvGrpSpPr>
                  <p:grpSpPr>
                    <a:xfrm>
                      <a:off x="7524720" y="3600720"/>
                      <a:ext cx="98640" cy="99000"/>
                      <a:chOff x="7524720" y="3600720"/>
                      <a:chExt cx="98640" cy="99000"/>
                    </a:xfrm>
                  </p:grpSpPr>
                  <p:sp>
                    <p:nvSpPr>
                      <p:cNvPr id="269" name="Freeform 63"/>
                      <p:cNvSpPr/>
                      <p:nvPr/>
                    </p:nvSpPr>
                    <p:spPr>
                      <a:xfrm>
                        <a:off x="7524720" y="3600720"/>
                        <a:ext cx="98640" cy="9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Freeform 64"/>
                      <p:cNvSpPr/>
                      <p:nvPr/>
                    </p:nvSpPr>
                    <p:spPr>
                      <a:xfrm>
                        <a:off x="7525080" y="3613680"/>
                        <a:ext cx="1188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Freeform 65"/>
                      <p:cNvSpPr/>
                      <p:nvPr/>
                    </p:nvSpPr>
                    <p:spPr>
                      <a:xfrm>
                        <a:off x="7525440" y="3630960"/>
                        <a:ext cx="158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Freeform 66"/>
                      <p:cNvSpPr/>
                      <p:nvPr/>
                    </p:nvSpPr>
                    <p:spPr>
                      <a:xfrm>
                        <a:off x="7524720" y="3645360"/>
                        <a:ext cx="187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Freeform 67"/>
                      <p:cNvSpPr/>
                      <p:nvPr/>
                    </p:nvSpPr>
                    <p:spPr>
                      <a:xfrm>
                        <a:off x="7526880" y="3661200"/>
                        <a:ext cx="2232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Freeform 68"/>
                      <p:cNvSpPr/>
                      <p:nvPr/>
                    </p:nvSpPr>
                    <p:spPr>
                      <a:xfrm>
                        <a:off x="7527240" y="3603960"/>
                        <a:ext cx="900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Freeform 69"/>
                      <p:cNvSpPr/>
                      <p:nvPr/>
                    </p:nvSpPr>
                    <p:spPr>
                      <a:xfrm>
                        <a:off x="7544160" y="3601800"/>
                        <a:ext cx="7920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6" name="Group 70"/>
                  <p:cNvGrpSpPr/>
                  <p:nvPr/>
                </p:nvGrpSpPr>
                <p:grpSpPr>
                  <a:xfrm>
                    <a:off x="7590600" y="3616560"/>
                    <a:ext cx="23400" cy="60120"/>
                    <a:chOff x="7590600" y="3616560"/>
                    <a:chExt cx="23400" cy="60120"/>
                  </a:xfrm>
                </p:grpSpPr>
                <p:sp>
                  <p:nvSpPr>
                    <p:cNvPr id="277" name="Freeform 71"/>
                    <p:cNvSpPr/>
                    <p:nvPr/>
                  </p:nvSpPr>
                  <p:spPr>
                    <a:xfrm>
                      <a:off x="7594920" y="3632400"/>
                      <a:ext cx="180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Freeform 72"/>
                    <p:cNvSpPr/>
                    <p:nvPr/>
                  </p:nvSpPr>
                  <p:spPr>
                    <a:xfrm>
                      <a:off x="7598160" y="3647880"/>
                      <a:ext cx="1584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Freeform 73"/>
                    <p:cNvSpPr/>
                    <p:nvPr/>
                  </p:nvSpPr>
                  <p:spPr>
                    <a:xfrm>
                      <a:off x="7597440" y="3666240"/>
                      <a:ext cx="16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74"/>
                    <p:cNvSpPr/>
                    <p:nvPr/>
                  </p:nvSpPr>
                  <p:spPr>
                    <a:xfrm>
                      <a:off x="7590600" y="3616560"/>
                      <a:ext cx="183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81" name="Freeform 75"/>
                <p:cNvSpPr/>
                <p:nvPr/>
              </p:nvSpPr>
              <p:spPr>
                <a:xfrm>
                  <a:off x="7465320" y="3213000"/>
                  <a:ext cx="218520" cy="40068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76"/>
                <p:cNvSpPr/>
                <p:nvPr/>
              </p:nvSpPr>
              <p:spPr>
                <a:xfrm>
                  <a:off x="7526520" y="3568320"/>
                  <a:ext cx="95760" cy="4068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77"/>
                <p:cNvSpPr/>
                <p:nvPr/>
              </p:nvSpPr>
              <p:spPr>
                <a:xfrm>
                  <a:off x="7626600" y="3253320"/>
                  <a:ext cx="36360" cy="59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Group 78"/>
                <p:cNvGrpSpPr/>
                <p:nvPr/>
              </p:nvGrpSpPr>
              <p:grpSpPr>
                <a:xfrm>
                  <a:off x="7544160" y="3333600"/>
                  <a:ext cx="60840" cy="248760"/>
                  <a:chOff x="7544160" y="3333600"/>
                  <a:chExt cx="60840" cy="248760"/>
                </a:xfrm>
              </p:grpSpPr>
              <p:sp>
                <p:nvSpPr>
                  <p:cNvPr id="285" name="Freeform 79"/>
                  <p:cNvSpPr/>
                  <p:nvPr/>
                </p:nvSpPr>
                <p:spPr>
                  <a:xfrm>
                    <a:off x="7555680" y="3437280"/>
                    <a:ext cx="3744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80"/>
                  <p:cNvSpPr/>
                  <p:nvPr/>
                </p:nvSpPr>
                <p:spPr>
                  <a:xfrm>
                    <a:off x="7574760" y="3441960"/>
                    <a:ext cx="4680" cy="97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7" name="Group 81"/>
                  <p:cNvGrpSpPr/>
                  <p:nvPr/>
                </p:nvGrpSpPr>
                <p:grpSpPr>
                  <a:xfrm>
                    <a:off x="7544160" y="3333600"/>
                    <a:ext cx="60840" cy="114120"/>
                    <a:chOff x="7544160" y="3333600"/>
                    <a:chExt cx="60840" cy="114120"/>
                  </a:xfrm>
                </p:grpSpPr>
                <p:sp>
                  <p:nvSpPr>
                    <p:cNvPr id="288" name="Oval 82"/>
                    <p:cNvSpPr/>
                    <p:nvPr/>
                  </p:nvSpPr>
                  <p:spPr>
                    <a:xfrm>
                      <a:off x="7547760" y="3333600"/>
                      <a:ext cx="55800" cy="38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83"/>
                    <p:cNvSpPr/>
                    <p:nvPr/>
                  </p:nvSpPr>
                  <p:spPr>
                    <a:xfrm>
                      <a:off x="7544160" y="3351240"/>
                      <a:ext cx="6084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84"/>
                  <p:cNvGrpSpPr/>
                  <p:nvPr/>
                </p:nvGrpSpPr>
                <p:grpSpPr>
                  <a:xfrm>
                    <a:off x="7562880" y="3457800"/>
                    <a:ext cx="21240" cy="111240"/>
                    <a:chOff x="7562880" y="3457800"/>
                    <a:chExt cx="21240" cy="111240"/>
                  </a:xfrm>
                </p:grpSpPr>
                <p:grpSp>
                  <p:nvGrpSpPr>
                    <p:cNvPr id="291" name=""/>
                    <p:cNvGrpSpPr/>
                    <p:nvPr/>
                  </p:nvGrpSpPr>
                  <p:grpSpPr>
                    <a:xfrm>
                      <a:off x="7566480" y="3461040"/>
                      <a:ext cx="360" cy="108000"/>
                      <a:chOff x="7566480" y="3461040"/>
                      <a:chExt cx="360" cy="108000"/>
                    </a:xfrm>
                  </p:grpSpPr>
                  <p:sp>
                    <p:nvSpPr>
                      <p:cNvPr id="292" name="Line 85"/>
                      <p:cNvSpPr/>
                      <p:nvPr/>
                    </p:nvSpPr>
                    <p:spPr>
                      <a:xfrm>
                        <a:off x="7566480" y="3461040"/>
                        <a:ext cx="0" cy="1080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"/>
                      <p:cNvSpPr txBox="1"/>
                      <p:nvPr/>
                    </p:nvSpPr>
                    <p:spPr>
                      <a:xfrm>
                        <a:off x="7566480" y="3461040"/>
                        <a:ext cx="360" cy="108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4" name=""/>
                    <p:cNvGrpSpPr/>
                    <p:nvPr/>
                  </p:nvGrpSpPr>
                  <p:grpSpPr>
                    <a:xfrm>
                      <a:off x="7580160" y="3460680"/>
                      <a:ext cx="720" cy="107640"/>
                      <a:chOff x="7580160" y="3460680"/>
                      <a:chExt cx="720" cy="107640"/>
                    </a:xfrm>
                  </p:grpSpPr>
                  <p:sp>
                    <p:nvSpPr>
                      <p:cNvPr id="295" name="Line 86"/>
                      <p:cNvSpPr/>
                      <p:nvPr/>
                    </p:nvSpPr>
                    <p:spPr>
                      <a:xfrm flipV="1">
                        <a:off x="7580520" y="3460680"/>
                        <a:ext cx="36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"/>
                      <p:cNvSpPr txBox="1"/>
                      <p:nvPr/>
                    </p:nvSpPr>
                    <p:spPr>
                      <a:xfrm rot="10800000">
                        <a:off x="7580160" y="346068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7" name=""/>
                    <p:cNvGrpSpPr/>
                    <p:nvPr/>
                  </p:nvGrpSpPr>
                  <p:grpSpPr>
                    <a:xfrm>
                      <a:off x="7583760" y="3457800"/>
                      <a:ext cx="360" cy="107640"/>
                      <a:chOff x="7583760" y="3457800"/>
                      <a:chExt cx="360" cy="107640"/>
                    </a:xfrm>
                  </p:grpSpPr>
                  <p:sp>
                    <p:nvSpPr>
                      <p:cNvPr id="298" name="Line 87"/>
                      <p:cNvSpPr/>
                      <p:nvPr/>
                    </p:nvSpPr>
                    <p:spPr>
                      <a:xfrm flipV="1">
                        <a:off x="7584120" y="345780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"/>
                      <p:cNvSpPr txBox="1"/>
                      <p:nvPr/>
                    </p:nvSpPr>
                    <p:spPr>
                      <a:xfrm rot="10800000">
                        <a:off x="7583760" y="34578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7562880" y="3457800"/>
                      <a:ext cx="360" cy="107640"/>
                      <a:chOff x="7562880" y="3457800"/>
                      <a:chExt cx="360" cy="107640"/>
                    </a:xfrm>
                  </p:grpSpPr>
                  <p:sp>
                    <p:nvSpPr>
                      <p:cNvPr id="301" name="Line 88"/>
                      <p:cNvSpPr/>
                      <p:nvPr/>
                    </p:nvSpPr>
                    <p:spPr>
                      <a:xfrm flipV="1">
                        <a:off x="7563240" y="345780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" name=""/>
                      <p:cNvSpPr txBox="1"/>
                      <p:nvPr/>
                    </p:nvSpPr>
                    <p:spPr>
                      <a:xfrm rot="10800000">
                        <a:off x="7562880" y="34578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03" name="Freeform 89"/>
                <p:cNvSpPr/>
                <p:nvPr/>
              </p:nvSpPr>
              <p:spPr>
                <a:xfrm>
                  <a:off x="7570440" y="3510720"/>
                  <a:ext cx="59040" cy="936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Rectangle 90"/>
              <p:cNvSpPr/>
              <p:nvPr/>
            </p:nvSpPr>
            <p:spPr>
              <a:xfrm>
                <a:off x="7423560" y="3641760"/>
                <a:ext cx="293040" cy="217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5" name="xjhsy4" descr="w3"/>
          <p:cNvPicPr/>
          <p:nvPr/>
        </p:nvPicPr>
        <p:blipFill>
          <a:blip r:embed="rId4"/>
          <a:stretch/>
        </p:blipFill>
        <p:spPr>
          <a:xfrm>
            <a:off x="3995640" y="5084640"/>
            <a:ext cx="2185920" cy="1082880"/>
          </a:xfrm>
          <a:prstGeom prst="rect">
            <a:avLst/>
          </a:prstGeom>
          <a:ln w="0">
            <a:noFill/>
          </a:ln>
        </p:spPr>
      </p:pic>
      <p:pic>
        <p:nvPicPr>
          <p:cNvPr id="306" name="xjhsy8" descr="w7"/>
          <p:cNvPicPr/>
          <p:nvPr/>
        </p:nvPicPr>
        <p:blipFill>
          <a:blip r:embed="rId5"/>
          <a:stretch/>
        </p:blipFill>
        <p:spPr>
          <a:xfrm>
            <a:off x="6804000" y="4797360"/>
            <a:ext cx="2087640" cy="1243080"/>
          </a:xfrm>
          <a:prstGeom prst="rect">
            <a:avLst/>
          </a:prstGeom>
          <a:ln w="0">
            <a:noFill/>
          </a:ln>
        </p:spPr>
      </p:pic>
      <p:sp>
        <p:nvSpPr>
          <p:cNvPr id="307" name="Freeform 111"/>
          <p:cNvSpPr/>
          <p:nvPr/>
        </p:nvSpPr>
        <p:spPr>
          <a:xfrm>
            <a:off x="4211640" y="2492280"/>
            <a:ext cx="936720" cy="1513080"/>
          </a:xfrm>
          <a:custGeom>
            <a:avLst/>
            <a:gdLst/>
            <a:ahLst/>
            <a:rect l="l" t="t" r="r" b="b"/>
            <a:pathLst>
              <a:path w="371" h="1017">
                <a:moveTo>
                  <a:pt x="371" y="0"/>
                </a:moveTo>
                <a:cubicBezTo>
                  <a:pt x="296" y="50"/>
                  <a:pt x="328" y="29"/>
                  <a:pt x="275" y="64"/>
                </a:cubicBezTo>
                <a:cubicBezTo>
                  <a:pt x="264" y="71"/>
                  <a:pt x="243" y="85"/>
                  <a:pt x="243" y="85"/>
                </a:cubicBezTo>
                <a:cubicBezTo>
                  <a:pt x="216" y="122"/>
                  <a:pt x="190" y="162"/>
                  <a:pt x="169" y="203"/>
                </a:cubicBezTo>
                <a:cubicBezTo>
                  <a:pt x="143" y="254"/>
                  <a:pt x="141" y="311"/>
                  <a:pt x="115" y="363"/>
                </a:cubicBezTo>
                <a:cubicBezTo>
                  <a:pt x="115" y="381"/>
                  <a:pt x="0" y="891"/>
                  <a:pt x="201" y="981"/>
                </a:cubicBezTo>
                <a:cubicBezTo>
                  <a:pt x="282" y="1017"/>
                  <a:pt x="246" y="984"/>
                  <a:pt x="275" y="101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10"/>
          <p:cNvSpPr/>
          <p:nvPr/>
        </p:nvSpPr>
        <p:spPr>
          <a:xfrm>
            <a:off x="5651640" y="2421000"/>
            <a:ext cx="552240" cy="1584360"/>
          </a:xfrm>
          <a:custGeom>
            <a:avLst/>
            <a:gdLst/>
            <a:ahLst/>
            <a:rect l="l" t="t" r="r" b="b"/>
            <a:pathLst>
              <a:path w="529" h="1056">
                <a:moveTo>
                  <a:pt x="0" y="0"/>
                </a:moveTo>
                <a:cubicBezTo>
                  <a:pt x="33" y="4"/>
                  <a:pt x="92" y="8"/>
                  <a:pt x="128" y="22"/>
                </a:cubicBezTo>
                <a:cubicBezTo>
                  <a:pt x="240" y="64"/>
                  <a:pt x="101" y="25"/>
                  <a:pt x="213" y="54"/>
                </a:cubicBezTo>
                <a:cubicBezTo>
                  <a:pt x="244" y="74"/>
                  <a:pt x="264" y="85"/>
                  <a:pt x="288" y="118"/>
                </a:cubicBezTo>
                <a:cubicBezTo>
                  <a:pt x="351" y="208"/>
                  <a:pt x="244" y="99"/>
                  <a:pt x="320" y="171"/>
                </a:cubicBezTo>
                <a:cubicBezTo>
                  <a:pt x="327" y="192"/>
                  <a:pt x="329" y="216"/>
                  <a:pt x="341" y="235"/>
                </a:cubicBezTo>
                <a:cubicBezTo>
                  <a:pt x="359" y="263"/>
                  <a:pt x="366" y="267"/>
                  <a:pt x="373" y="299"/>
                </a:cubicBezTo>
                <a:cubicBezTo>
                  <a:pt x="378" y="320"/>
                  <a:pt x="379" y="342"/>
                  <a:pt x="384" y="363"/>
                </a:cubicBezTo>
                <a:cubicBezTo>
                  <a:pt x="392" y="396"/>
                  <a:pt x="410" y="426"/>
                  <a:pt x="416" y="459"/>
                </a:cubicBezTo>
                <a:cubicBezTo>
                  <a:pt x="419" y="477"/>
                  <a:pt x="419" y="495"/>
                  <a:pt x="426" y="512"/>
                </a:cubicBezTo>
                <a:cubicBezTo>
                  <a:pt x="430" y="522"/>
                  <a:pt x="441" y="527"/>
                  <a:pt x="448" y="534"/>
                </a:cubicBezTo>
                <a:cubicBezTo>
                  <a:pt x="451" y="548"/>
                  <a:pt x="452" y="563"/>
                  <a:pt x="458" y="576"/>
                </a:cubicBezTo>
                <a:cubicBezTo>
                  <a:pt x="463" y="585"/>
                  <a:pt x="475" y="589"/>
                  <a:pt x="480" y="598"/>
                </a:cubicBezTo>
                <a:cubicBezTo>
                  <a:pt x="486" y="611"/>
                  <a:pt x="486" y="626"/>
                  <a:pt x="490" y="640"/>
                </a:cubicBezTo>
                <a:cubicBezTo>
                  <a:pt x="497" y="662"/>
                  <a:pt x="505" y="683"/>
                  <a:pt x="512" y="704"/>
                </a:cubicBezTo>
                <a:cubicBezTo>
                  <a:pt x="516" y="715"/>
                  <a:pt x="522" y="736"/>
                  <a:pt x="522" y="736"/>
                </a:cubicBezTo>
                <a:cubicBezTo>
                  <a:pt x="517" y="806"/>
                  <a:pt x="529" y="882"/>
                  <a:pt x="480" y="939"/>
                </a:cubicBezTo>
                <a:cubicBezTo>
                  <a:pt x="467" y="954"/>
                  <a:pt x="448" y="965"/>
                  <a:pt x="437" y="982"/>
                </a:cubicBezTo>
                <a:cubicBezTo>
                  <a:pt x="430" y="993"/>
                  <a:pt x="424" y="1004"/>
                  <a:pt x="416" y="1014"/>
                </a:cubicBezTo>
                <a:cubicBezTo>
                  <a:pt x="407" y="1025"/>
                  <a:pt x="343" y="1056"/>
                  <a:pt x="373" y="10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96"/>
          <p:cNvSpPr/>
          <p:nvPr/>
        </p:nvSpPr>
        <p:spPr>
          <a:xfrm>
            <a:off x="3780000" y="4005360"/>
            <a:ext cx="884160" cy="1728720"/>
          </a:xfrm>
          <a:custGeom>
            <a:avLst/>
            <a:gdLst/>
            <a:ahLst/>
            <a:rect l="l" t="t" r="r" b="b"/>
            <a:pathLst>
              <a:path w="602" h="1099">
                <a:moveTo>
                  <a:pt x="602" y="0"/>
                </a:moveTo>
                <a:cubicBezTo>
                  <a:pt x="299" y="23"/>
                  <a:pt x="408" y="0"/>
                  <a:pt x="271" y="32"/>
                </a:cubicBezTo>
                <a:cubicBezTo>
                  <a:pt x="170" y="83"/>
                  <a:pt x="211" y="56"/>
                  <a:pt x="143" y="107"/>
                </a:cubicBezTo>
                <a:cubicBezTo>
                  <a:pt x="123" y="137"/>
                  <a:pt x="95" y="160"/>
                  <a:pt x="79" y="192"/>
                </a:cubicBezTo>
                <a:cubicBezTo>
                  <a:pt x="54" y="244"/>
                  <a:pt x="29" y="307"/>
                  <a:pt x="15" y="363"/>
                </a:cubicBezTo>
                <a:cubicBezTo>
                  <a:pt x="17" y="419"/>
                  <a:pt x="0" y="772"/>
                  <a:pt x="68" y="896"/>
                </a:cubicBezTo>
                <a:cubicBezTo>
                  <a:pt x="87" y="930"/>
                  <a:pt x="111" y="960"/>
                  <a:pt x="132" y="992"/>
                </a:cubicBezTo>
                <a:cubicBezTo>
                  <a:pt x="158" y="1032"/>
                  <a:pt x="232" y="1047"/>
                  <a:pt x="271" y="1067"/>
                </a:cubicBezTo>
                <a:cubicBezTo>
                  <a:pt x="330" y="1096"/>
                  <a:pt x="348" y="1099"/>
                  <a:pt x="420" y="109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3"/>
          <p:cNvSpPr/>
          <p:nvPr/>
        </p:nvSpPr>
        <p:spPr>
          <a:xfrm>
            <a:off x="5364000" y="5589720"/>
            <a:ext cx="1928880" cy="287280"/>
          </a:xfrm>
          <a:custGeom>
            <a:avLst/>
            <a:gdLst/>
            <a:ahLst/>
            <a:rect l="l" t="t" r="r" b="b"/>
            <a:pathLst>
              <a:path w="1034" h="161">
                <a:moveTo>
                  <a:pt x="0" y="108"/>
                </a:moveTo>
                <a:cubicBezTo>
                  <a:pt x="75" y="133"/>
                  <a:pt x="43" y="122"/>
                  <a:pt x="96" y="140"/>
                </a:cubicBezTo>
                <a:cubicBezTo>
                  <a:pt x="124" y="149"/>
                  <a:pt x="181" y="161"/>
                  <a:pt x="181" y="161"/>
                </a:cubicBezTo>
                <a:cubicBezTo>
                  <a:pt x="443" y="153"/>
                  <a:pt x="493" y="157"/>
                  <a:pt x="682" y="118"/>
                </a:cubicBezTo>
                <a:cubicBezTo>
                  <a:pt x="766" y="63"/>
                  <a:pt x="861" y="37"/>
                  <a:pt x="960" y="22"/>
                </a:cubicBezTo>
                <a:cubicBezTo>
                  <a:pt x="1027" y="0"/>
                  <a:pt x="1002" y="1"/>
                  <a:pt x="1034" y="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94"/>
          <p:cNvSpPr/>
          <p:nvPr/>
        </p:nvSpPr>
        <p:spPr>
          <a:xfrm>
            <a:off x="8388360" y="3716280"/>
            <a:ext cx="360360" cy="1873440"/>
          </a:xfrm>
          <a:custGeom>
            <a:avLst/>
            <a:gdLst/>
            <a:ahLst/>
            <a:rect l="l" t="t" r="r" b="b"/>
            <a:pathLst>
              <a:path w="593" h="1232">
                <a:moveTo>
                  <a:pt x="0" y="1232"/>
                </a:moveTo>
                <a:cubicBezTo>
                  <a:pt x="60" y="1229"/>
                  <a:pt x="121" y="1229"/>
                  <a:pt x="181" y="1222"/>
                </a:cubicBezTo>
                <a:cubicBezTo>
                  <a:pt x="232" y="1216"/>
                  <a:pt x="280" y="1198"/>
                  <a:pt x="331" y="1190"/>
                </a:cubicBezTo>
                <a:cubicBezTo>
                  <a:pt x="409" y="1136"/>
                  <a:pt x="399" y="1074"/>
                  <a:pt x="437" y="998"/>
                </a:cubicBezTo>
                <a:cubicBezTo>
                  <a:pt x="463" y="823"/>
                  <a:pt x="493" y="649"/>
                  <a:pt x="523" y="475"/>
                </a:cubicBezTo>
                <a:cubicBezTo>
                  <a:pt x="512" y="149"/>
                  <a:pt x="593" y="134"/>
                  <a:pt x="373" y="27"/>
                </a:cubicBezTo>
                <a:cubicBezTo>
                  <a:pt x="362" y="21"/>
                  <a:pt x="354" y="7"/>
                  <a:pt x="341" y="6"/>
                </a:cubicBezTo>
                <a:cubicBezTo>
                  <a:pt x="281" y="0"/>
                  <a:pt x="220" y="6"/>
                  <a:pt x="160" y="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95"/>
          <p:cNvSpPr/>
          <p:nvPr/>
        </p:nvSpPr>
        <p:spPr>
          <a:xfrm>
            <a:off x="6012000" y="3716280"/>
            <a:ext cx="936360" cy="422280"/>
          </a:xfrm>
          <a:custGeom>
            <a:avLst/>
            <a:gdLst/>
            <a:ahLst/>
            <a:rect l="l" t="t" r="r" b="b"/>
            <a:pathLst>
              <a:path w="683" h="266">
                <a:moveTo>
                  <a:pt x="683" y="0"/>
                </a:moveTo>
                <a:cubicBezTo>
                  <a:pt x="615" y="16"/>
                  <a:pt x="549" y="33"/>
                  <a:pt x="480" y="42"/>
                </a:cubicBezTo>
                <a:cubicBezTo>
                  <a:pt x="380" y="76"/>
                  <a:pt x="275" y="99"/>
                  <a:pt x="171" y="117"/>
                </a:cubicBezTo>
                <a:cubicBezTo>
                  <a:pt x="150" y="131"/>
                  <a:pt x="125" y="142"/>
                  <a:pt x="107" y="160"/>
                </a:cubicBezTo>
                <a:cubicBezTo>
                  <a:pt x="96" y="171"/>
                  <a:pt x="88" y="184"/>
                  <a:pt x="75" y="192"/>
                </a:cubicBezTo>
                <a:cubicBezTo>
                  <a:pt x="52" y="207"/>
                  <a:pt x="24" y="212"/>
                  <a:pt x="0" y="224"/>
                </a:cubicBezTo>
                <a:cubicBezTo>
                  <a:pt x="47" y="259"/>
                  <a:pt x="30" y="244"/>
                  <a:pt x="54" y="26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3384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设计电路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4"/>
          <p:cNvSpPr/>
          <p:nvPr/>
        </p:nvSpPr>
        <p:spPr>
          <a:xfrm>
            <a:off x="4427640" y="9079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ee0"/>
                </a:solidFill>
                <a:latin typeface="Arial"/>
              </a:rPr>
              <a:t>根据电路图连接实物电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8"/>
          <p:cNvSpPr/>
          <p:nvPr/>
        </p:nvSpPr>
        <p:spPr>
          <a:xfrm>
            <a:off x="4067280" y="429264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xjhsy7" descr="w52"/>
          <p:cNvPicPr/>
          <p:nvPr/>
        </p:nvPicPr>
        <p:blipFill>
          <a:blip r:embed="rId1"/>
          <a:stretch/>
        </p:blipFill>
        <p:spPr>
          <a:xfrm>
            <a:off x="6804000" y="1413000"/>
            <a:ext cx="2016000" cy="1676160"/>
          </a:xfrm>
          <a:prstGeom prst="rect">
            <a:avLst/>
          </a:prstGeom>
          <a:ln w="0">
            <a:noFill/>
          </a:ln>
        </p:spPr>
      </p:pic>
      <p:grpSp>
        <p:nvGrpSpPr>
          <p:cNvPr id="317" name="xjhsy3"/>
          <p:cNvGrpSpPr/>
          <p:nvPr/>
        </p:nvGrpSpPr>
        <p:grpSpPr>
          <a:xfrm>
            <a:off x="4356000" y="3573360"/>
            <a:ext cx="1800360" cy="667800"/>
            <a:chOff x="4356000" y="3573360"/>
            <a:chExt cx="1800360" cy="667800"/>
          </a:xfrm>
        </p:grpSpPr>
        <p:grpSp>
          <p:nvGrpSpPr>
            <p:cNvPr id="318" name="Group 10"/>
            <p:cNvGrpSpPr/>
            <p:nvPr/>
          </p:nvGrpSpPr>
          <p:grpSpPr>
            <a:xfrm>
              <a:off x="4356000" y="3904560"/>
              <a:ext cx="1800360" cy="336600"/>
              <a:chOff x="4356000" y="3904560"/>
              <a:chExt cx="1800360" cy="336600"/>
            </a:xfrm>
          </p:grpSpPr>
          <p:sp>
            <p:nvSpPr>
              <p:cNvPr id="319" name="Freeform 11"/>
              <p:cNvSpPr/>
              <p:nvPr/>
            </p:nvSpPr>
            <p:spPr>
              <a:xfrm flipV="1">
                <a:off x="4356000" y="4174920"/>
                <a:ext cx="1800360" cy="6588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AutoShape 12"/>
              <p:cNvSpPr/>
              <p:nvPr/>
            </p:nvSpPr>
            <p:spPr>
              <a:xfrm>
                <a:off x="5944680" y="3906720"/>
                <a:ext cx="153720" cy="2156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13"/>
              <p:cNvSpPr/>
              <p:nvPr/>
            </p:nvSpPr>
            <p:spPr>
              <a:xfrm>
                <a:off x="4659120" y="3904560"/>
                <a:ext cx="153720" cy="2156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14"/>
            <p:cNvGrpSpPr/>
            <p:nvPr/>
          </p:nvGrpSpPr>
          <p:grpSpPr>
            <a:xfrm>
              <a:off x="5166000" y="3573360"/>
              <a:ext cx="261720" cy="546840"/>
              <a:chOff x="5166000" y="3573360"/>
              <a:chExt cx="261720" cy="546840"/>
            </a:xfrm>
          </p:grpSpPr>
          <p:grpSp>
            <p:nvGrpSpPr>
              <p:cNvPr id="323" name="Group 15"/>
              <p:cNvGrpSpPr/>
              <p:nvPr/>
            </p:nvGrpSpPr>
            <p:grpSpPr>
              <a:xfrm>
                <a:off x="5203080" y="3573360"/>
                <a:ext cx="195120" cy="428400"/>
                <a:chOff x="5203080" y="3573360"/>
                <a:chExt cx="195120" cy="428400"/>
              </a:xfrm>
            </p:grpSpPr>
            <p:grpSp>
              <p:nvGrpSpPr>
                <p:cNvPr id="324" name="Group 16"/>
                <p:cNvGrpSpPr/>
                <p:nvPr/>
              </p:nvGrpSpPr>
              <p:grpSpPr>
                <a:xfrm>
                  <a:off x="5256000" y="3901320"/>
                  <a:ext cx="88200" cy="100440"/>
                  <a:chOff x="5256000" y="3901320"/>
                  <a:chExt cx="88200" cy="100440"/>
                </a:xfrm>
              </p:grpSpPr>
              <p:grpSp>
                <p:nvGrpSpPr>
                  <p:cNvPr id="325" name="Group 17"/>
                  <p:cNvGrpSpPr/>
                  <p:nvPr/>
                </p:nvGrpSpPr>
                <p:grpSpPr>
                  <a:xfrm>
                    <a:off x="5256000" y="3901320"/>
                    <a:ext cx="88200" cy="100440"/>
                    <a:chOff x="5256000" y="3901320"/>
                    <a:chExt cx="88200" cy="100440"/>
                  </a:xfrm>
                </p:grpSpPr>
                <p:grpSp>
                  <p:nvGrpSpPr>
                    <p:cNvPr id="326" name="Group 18"/>
                    <p:cNvGrpSpPr/>
                    <p:nvPr/>
                  </p:nvGrpSpPr>
                  <p:grpSpPr>
                    <a:xfrm>
                      <a:off x="5277960" y="3978720"/>
                      <a:ext cx="48240" cy="23040"/>
                      <a:chOff x="5277960" y="3978720"/>
                      <a:chExt cx="48240" cy="23040"/>
                    </a:xfrm>
                  </p:grpSpPr>
                  <p:sp>
                    <p:nvSpPr>
                      <p:cNvPr id="327" name="Freeform 19"/>
                      <p:cNvSpPr/>
                      <p:nvPr/>
                    </p:nvSpPr>
                    <p:spPr>
                      <a:xfrm>
                        <a:off x="5277960" y="3978720"/>
                        <a:ext cx="4824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Freeform 20"/>
                      <p:cNvSpPr/>
                      <p:nvPr/>
                    </p:nvSpPr>
                    <p:spPr>
                      <a:xfrm>
                        <a:off x="5285520" y="3978720"/>
                        <a:ext cx="216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9" name="Group 21"/>
                    <p:cNvGrpSpPr/>
                    <p:nvPr/>
                  </p:nvGrpSpPr>
                  <p:grpSpPr>
                    <a:xfrm>
                      <a:off x="5256000" y="3901320"/>
                      <a:ext cx="88200" cy="83880"/>
                      <a:chOff x="5256000" y="3901320"/>
                      <a:chExt cx="88200" cy="83880"/>
                    </a:xfrm>
                  </p:grpSpPr>
                  <p:sp>
                    <p:nvSpPr>
                      <p:cNvPr id="330" name="Freeform 22"/>
                      <p:cNvSpPr/>
                      <p:nvPr/>
                    </p:nvSpPr>
                    <p:spPr>
                      <a:xfrm>
                        <a:off x="5256000" y="3901320"/>
                        <a:ext cx="8820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1" name="Freeform 23"/>
                      <p:cNvSpPr/>
                      <p:nvPr/>
                    </p:nvSpPr>
                    <p:spPr>
                      <a:xfrm>
                        <a:off x="5256360" y="3912480"/>
                        <a:ext cx="108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" name="Freeform 24"/>
                      <p:cNvSpPr/>
                      <p:nvPr/>
                    </p:nvSpPr>
                    <p:spPr>
                      <a:xfrm>
                        <a:off x="5256720" y="3926880"/>
                        <a:ext cx="144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Freeform 25"/>
                      <p:cNvSpPr/>
                      <p:nvPr/>
                    </p:nvSpPr>
                    <p:spPr>
                      <a:xfrm>
                        <a:off x="5256000" y="3939120"/>
                        <a:ext cx="1692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Freeform 26"/>
                      <p:cNvSpPr/>
                      <p:nvPr/>
                    </p:nvSpPr>
                    <p:spPr>
                      <a:xfrm>
                        <a:off x="5257800" y="3952440"/>
                        <a:ext cx="201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5" name="Freeform 27"/>
                      <p:cNvSpPr/>
                      <p:nvPr/>
                    </p:nvSpPr>
                    <p:spPr>
                      <a:xfrm>
                        <a:off x="5258160" y="3904200"/>
                        <a:ext cx="8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Freeform 28"/>
                      <p:cNvSpPr/>
                      <p:nvPr/>
                    </p:nvSpPr>
                    <p:spPr>
                      <a:xfrm>
                        <a:off x="5273280" y="3902040"/>
                        <a:ext cx="709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37" name="Group 29"/>
                  <p:cNvGrpSpPr/>
                  <p:nvPr/>
                </p:nvGrpSpPr>
                <p:grpSpPr>
                  <a:xfrm>
                    <a:off x="5315040" y="3915000"/>
                    <a:ext cx="20880" cy="50760"/>
                    <a:chOff x="5315040" y="3915000"/>
                    <a:chExt cx="20880" cy="50760"/>
                  </a:xfrm>
                </p:grpSpPr>
                <p:sp>
                  <p:nvSpPr>
                    <p:cNvPr id="338" name="Freeform 30"/>
                    <p:cNvSpPr/>
                    <p:nvPr/>
                  </p:nvSpPr>
                  <p:spPr>
                    <a:xfrm>
                      <a:off x="5319000" y="3928320"/>
                      <a:ext cx="162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Freeform 31"/>
                    <p:cNvSpPr/>
                    <p:nvPr/>
                  </p:nvSpPr>
                  <p:spPr>
                    <a:xfrm>
                      <a:off x="5321880" y="394164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32"/>
                    <p:cNvSpPr/>
                    <p:nvPr/>
                  </p:nvSpPr>
                  <p:spPr>
                    <a:xfrm>
                      <a:off x="5321160" y="39567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Freeform 33"/>
                    <p:cNvSpPr/>
                    <p:nvPr/>
                  </p:nvSpPr>
                  <p:spPr>
                    <a:xfrm>
                      <a:off x="5315040" y="3915000"/>
                      <a:ext cx="16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42" name="Freeform 34"/>
                <p:cNvSpPr/>
                <p:nvPr/>
              </p:nvSpPr>
              <p:spPr>
                <a:xfrm>
                  <a:off x="5203080" y="3573360"/>
                  <a:ext cx="195120" cy="339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35"/>
                <p:cNvSpPr/>
                <p:nvPr/>
              </p:nvSpPr>
              <p:spPr>
                <a:xfrm>
                  <a:off x="5257800" y="3874320"/>
                  <a:ext cx="85680" cy="342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36"/>
                <p:cNvSpPr/>
                <p:nvPr/>
              </p:nvSpPr>
              <p:spPr>
                <a:xfrm>
                  <a:off x="5347080" y="3607200"/>
                  <a:ext cx="32400" cy="50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" name="Group 37"/>
                <p:cNvGrpSpPr/>
                <p:nvPr/>
              </p:nvGrpSpPr>
              <p:grpSpPr>
                <a:xfrm>
                  <a:off x="5273280" y="3675240"/>
                  <a:ext cx="54360" cy="210600"/>
                  <a:chOff x="5273280" y="3675240"/>
                  <a:chExt cx="54360" cy="210600"/>
                </a:xfrm>
              </p:grpSpPr>
              <p:sp>
                <p:nvSpPr>
                  <p:cNvPr id="346" name="Freeform 38"/>
                  <p:cNvSpPr/>
                  <p:nvPr/>
                </p:nvSpPr>
                <p:spPr>
                  <a:xfrm>
                    <a:off x="5283360" y="3763080"/>
                    <a:ext cx="334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Oval 39"/>
                  <p:cNvSpPr/>
                  <p:nvPr/>
                </p:nvSpPr>
                <p:spPr>
                  <a:xfrm>
                    <a:off x="5300640" y="3767040"/>
                    <a:ext cx="4320" cy="82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8" name="Group 40"/>
                  <p:cNvGrpSpPr/>
                  <p:nvPr/>
                </p:nvGrpSpPr>
                <p:grpSpPr>
                  <a:xfrm>
                    <a:off x="5273280" y="3675240"/>
                    <a:ext cx="54360" cy="96480"/>
                    <a:chOff x="5273280" y="3675240"/>
                    <a:chExt cx="54360" cy="96480"/>
                  </a:xfrm>
                </p:grpSpPr>
                <p:sp>
                  <p:nvSpPr>
                    <p:cNvPr id="349" name="Oval 41"/>
                    <p:cNvSpPr/>
                    <p:nvPr/>
                  </p:nvSpPr>
                  <p:spPr>
                    <a:xfrm>
                      <a:off x="5276160" y="3675240"/>
                      <a:ext cx="49680" cy="3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Freeform 42"/>
                    <p:cNvSpPr/>
                    <p:nvPr/>
                  </p:nvSpPr>
                  <p:spPr>
                    <a:xfrm>
                      <a:off x="5273280" y="3690000"/>
                      <a:ext cx="5436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43"/>
                  <p:cNvGrpSpPr/>
                  <p:nvPr/>
                </p:nvGrpSpPr>
                <p:grpSpPr>
                  <a:xfrm>
                    <a:off x="5290200" y="3780360"/>
                    <a:ext cx="19080" cy="93960"/>
                    <a:chOff x="5290200" y="3780360"/>
                    <a:chExt cx="19080" cy="93960"/>
                  </a:xfrm>
                </p:grpSpPr>
                <p:grpSp>
                  <p:nvGrpSpPr>
                    <p:cNvPr id="352" name=""/>
                    <p:cNvGrpSpPr/>
                    <p:nvPr/>
                  </p:nvGrpSpPr>
                  <p:grpSpPr>
                    <a:xfrm>
                      <a:off x="5293440" y="3782880"/>
                      <a:ext cx="360" cy="91440"/>
                      <a:chOff x="5293440" y="3782880"/>
                      <a:chExt cx="360" cy="91440"/>
                    </a:xfrm>
                  </p:grpSpPr>
                  <p:sp>
                    <p:nvSpPr>
                      <p:cNvPr id="353" name="Line 44"/>
                      <p:cNvSpPr/>
                      <p:nvPr/>
                    </p:nvSpPr>
                    <p:spPr>
                      <a:xfrm>
                        <a:off x="5293440" y="3782880"/>
                        <a:ext cx="0" cy="914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4" name=""/>
                      <p:cNvSpPr txBox="1"/>
                      <p:nvPr/>
                    </p:nvSpPr>
                    <p:spPr>
                      <a:xfrm>
                        <a:off x="5293440" y="3782880"/>
                        <a:ext cx="360" cy="9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640" bIns="44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5" name=""/>
                    <p:cNvGrpSpPr/>
                    <p:nvPr/>
                  </p:nvGrpSpPr>
                  <p:grpSpPr>
                    <a:xfrm>
                      <a:off x="5305680" y="3782880"/>
                      <a:ext cx="720" cy="90720"/>
                      <a:chOff x="5305680" y="3782880"/>
                      <a:chExt cx="720" cy="90720"/>
                    </a:xfrm>
                  </p:grpSpPr>
                  <p:sp>
                    <p:nvSpPr>
                      <p:cNvPr id="356" name="Line 45"/>
                      <p:cNvSpPr/>
                      <p:nvPr/>
                    </p:nvSpPr>
                    <p:spPr>
                      <a:xfrm flipV="1">
                        <a:off x="5306040" y="3782880"/>
                        <a:ext cx="360" cy="907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7" name=""/>
                      <p:cNvSpPr txBox="1"/>
                      <p:nvPr/>
                    </p:nvSpPr>
                    <p:spPr>
                      <a:xfrm rot="10800000">
                        <a:off x="5305680" y="3782880"/>
                        <a:ext cx="360" cy="9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3920" bIns="43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8" name=""/>
                    <p:cNvGrpSpPr/>
                    <p:nvPr/>
                  </p:nvGrpSpPr>
                  <p:grpSpPr>
                    <a:xfrm>
                      <a:off x="5308920" y="3780360"/>
                      <a:ext cx="360" cy="91080"/>
                      <a:chOff x="5308920" y="3780360"/>
                      <a:chExt cx="360" cy="91080"/>
                    </a:xfrm>
                  </p:grpSpPr>
                  <p:sp>
                    <p:nvSpPr>
                      <p:cNvPr id="359" name="Line 46"/>
                      <p:cNvSpPr/>
                      <p:nvPr/>
                    </p:nvSpPr>
                    <p:spPr>
                      <a:xfrm flipV="1">
                        <a:off x="5309280" y="378036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0" name=""/>
                      <p:cNvSpPr txBox="1"/>
                      <p:nvPr/>
                    </p:nvSpPr>
                    <p:spPr>
                      <a:xfrm rot="10800000">
                        <a:off x="5308920" y="378036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1" name=""/>
                    <p:cNvGrpSpPr/>
                    <p:nvPr/>
                  </p:nvGrpSpPr>
                  <p:grpSpPr>
                    <a:xfrm>
                      <a:off x="5290200" y="3780360"/>
                      <a:ext cx="360" cy="91080"/>
                      <a:chOff x="5290200" y="3780360"/>
                      <a:chExt cx="360" cy="91080"/>
                    </a:xfrm>
                  </p:grpSpPr>
                  <p:sp>
                    <p:nvSpPr>
                      <p:cNvPr id="362" name="Line 47"/>
                      <p:cNvSpPr/>
                      <p:nvPr/>
                    </p:nvSpPr>
                    <p:spPr>
                      <a:xfrm flipV="1">
                        <a:off x="5290560" y="378036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3" name=""/>
                      <p:cNvSpPr txBox="1"/>
                      <p:nvPr/>
                    </p:nvSpPr>
                    <p:spPr>
                      <a:xfrm rot="10800000">
                        <a:off x="5290200" y="378036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64" name="Freeform 48"/>
                <p:cNvSpPr/>
                <p:nvPr/>
              </p:nvSpPr>
              <p:spPr>
                <a:xfrm>
                  <a:off x="5296680" y="3825360"/>
                  <a:ext cx="52560" cy="792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Rectangle 49"/>
              <p:cNvSpPr/>
              <p:nvPr/>
            </p:nvSpPr>
            <p:spPr>
              <a:xfrm>
                <a:off x="5166000" y="3936240"/>
                <a:ext cx="261720" cy="183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xjhsy3"/>
          <p:cNvGrpSpPr/>
          <p:nvPr/>
        </p:nvGrpSpPr>
        <p:grpSpPr>
          <a:xfrm>
            <a:off x="6516720" y="3213000"/>
            <a:ext cx="2016000" cy="718560"/>
            <a:chOff x="6516720" y="3213000"/>
            <a:chExt cx="2016000" cy="718560"/>
          </a:xfrm>
        </p:grpSpPr>
        <p:grpSp>
          <p:nvGrpSpPr>
            <p:cNvPr id="367" name="Group 51"/>
            <p:cNvGrpSpPr/>
            <p:nvPr/>
          </p:nvGrpSpPr>
          <p:grpSpPr>
            <a:xfrm>
              <a:off x="6516720" y="3569400"/>
              <a:ext cx="2016000" cy="362160"/>
              <a:chOff x="6516720" y="3569400"/>
              <a:chExt cx="2016000" cy="362160"/>
            </a:xfrm>
          </p:grpSpPr>
          <p:sp>
            <p:nvSpPr>
              <p:cNvPr id="368" name="Freeform 52"/>
              <p:cNvSpPr/>
              <p:nvPr/>
            </p:nvSpPr>
            <p:spPr>
              <a:xfrm flipV="1">
                <a:off x="6516720" y="3860280"/>
                <a:ext cx="2016000" cy="7092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AutoShape 53"/>
              <p:cNvSpPr/>
              <p:nvPr/>
            </p:nvSpPr>
            <p:spPr>
              <a:xfrm>
                <a:off x="8295840" y="3571920"/>
                <a:ext cx="172080" cy="2318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AutoShape 54"/>
              <p:cNvSpPr/>
              <p:nvPr/>
            </p:nvSpPr>
            <p:spPr>
              <a:xfrm>
                <a:off x="6856200" y="3569400"/>
                <a:ext cx="172080" cy="2318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55"/>
            <p:cNvGrpSpPr/>
            <p:nvPr/>
          </p:nvGrpSpPr>
          <p:grpSpPr>
            <a:xfrm>
              <a:off x="7423560" y="3213000"/>
              <a:ext cx="293040" cy="588240"/>
              <a:chOff x="7423560" y="3213000"/>
              <a:chExt cx="293040" cy="588240"/>
            </a:xfrm>
          </p:grpSpPr>
          <p:grpSp>
            <p:nvGrpSpPr>
              <p:cNvPr id="372" name="Group 56"/>
              <p:cNvGrpSpPr/>
              <p:nvPr/>
            </p:nvGrpSpPr>
            <p:grpSpPr>
              <a:xfrm>
                <a:off x="7465320" y="3213000"/>
                <a:ext cx="218520" cy="460800"/>
                <a:chOff x="7465320" y="3213000"/>
                <a:chExt cx="218520" cy="460800"/>
              </a:xfrm>
            </p:grpSpPr>
            <p:grpSp>
              <p:nvGrpSpPr>
                <p:cNvPr id="373" name="Group 57"/>
                <p:cNvGrpSpPr/>
                <p:nvPr/>
              </p:nvGrpSpPr>
              <p:grpSpPr>
                <a:xfrm>
                  <a:off x="7524720" y="3565800"/>
                  <a:ext cx="98640" cy="108000"/>
                  <a:chOff x="7524720" y="3565800"/>
                  <a:chExt cx="98640" cy="108000"/>
                </a:xfrm>
              </p:grpSpPr>
              <p:grpSp>
                <p:nvGrpSpPr>
                  <p:cNvPr id="374" name="Group 58"/>
                  <p:cNvGrpSpPr/>
                  <p:nvPr/>
                </p:nvGrpSpPr>
                <p:grpSpPr>
                  <a:xfrm>
                    <a:off x="7524720" y="3565800"/>
                    <a:ext cx="98640" cy="108000"/>
                    <a:chOff x="7524720" y="3565800"/>
                    <a:chExt cx="98640" cy="108000"/>
                  </a:xfrm>
                </p:grpSpPr>
                <p:grpSp>
                  <p:nvGrpSpPr>
                    <p:cNvPr id="375" name="Group 59"/>
                    <p:cNvGrpSpPr/>
                    <p:nvPr/>
                  </p:nvGrpSpPr>
                  <p:grpSpPr>
                    <a:xfrm>
                      <a:off x="7549200" y="3648960"/>
                      <a:ext cx="53640" cy="24840"/>
                      <a:chOff x="7549200" y="3648960"/>
                      <a:chExt cx="53640" cy="24840"/>
                    </a:xfrm>
                  </p:grpSpPr>
                  <p:sp>
                    <p:nvSpPr>
                      <p:cNvPr id="376" name="Freeform 60"/>
                      <p:cNvSpPr/>
                      <p:nvPr/>
                    </p:nvSpPr>
                    <p:spPr>
                      <a:xfrm>
                        <a:off x="7549200" y="3648960"/>
                        <a:ext cx="5364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Freeform 61"/>
                      <p:cNvSpPr/>
                      <p:nvPr/>
                    </p:nvSpPr>
                    <p:spPr>
                      <a:xfrm>
                        <a:off x="7557480" y="3648960"/>
                        <a:ext cx="2376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8" name="Group 62"/>
                    <p:cNvGrpSpPr/>
                    <p:nvPr/>
                  </p:nvGrpSpPr>
                  <p:grpSpPr>
                    <a:xfrm>
                      <a:off x="7524720" y="3565800"/>
                      <a:ext cx="98640" cy="90000"/>
                      <a:chOff x="7524720" y="3565800"/>
                      <a:chExt cx="98640" cy="90000"/>
                    </a:xfrm>
                  </p:grpSpPr>
                  <p:sp>
                    <p:nvSpPr>
                      <p:cNvPr id="379" name="Freeform 63"/>
                      <p:cNvSpPr/>
                      <p:nvPr/>
                    </p:nvSpPr>
                    <p:spPr>
                      <a:xfrm>
                        <a:off x="7524720" y="3565800"/>
                        <a:ext cx="98640" cy="9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Freeform 64"/>
                      <p:cNvSpPr/>
                      <p:nvPr/>
                    </p:nvSpPr>
                    <p:spPr>
                      <a:xfrm>
                        <a:off x="7525080" y="3577680"/>
                        <a:ext cx="1188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1" name="Freeform 65"/>
                      <p:cNvSpPr/>
                      <p:nvPr/>
                    </p:nvSpPr>
                    <p:spPr>
                      <a:xfrm>
                        <a:off x="7525440" y="3593160"/>
                        <a:ext cx="158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2" name="Freeform 66"/>
                      <p:cNvSpPr/>
                      <p:nvPr/>
                    </p:nvSpPr>
                    <p:spPr>
                      <a:xfrm>
                        <a:off x="7524720" y="3606480"/>
                        <a:ext cx="1872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3" name="Freeform 67"/>
                      <p:cNvSpPr/>
                      <p:nvPr/>
                    </p:nvSpPr>
                    <p:spPr>
                      <a:xfrm>
                        <a:off x="7526880" y="3620880"/>
                        <a:ext cx="223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4" name="Freeform 68"/>
                      <p:cNvSpPr/>
                      <p:nvPr/>
                    </p:nvSpPr>
                    <p:spPr>
                      <a:xfrm>
                        <a:off x="7527240" y="3568680"/>
                        <a:ext cx="90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5" name="Freeform 69"/>
                      <p:cNvSpPr/>
                      <p:nvPr/>
                    </p:nvSpPr>
                    <p:spPr>
                      <a:xfrm>
                        <a:off x="7544160" y="3566520"/>
                        <a:ext cx="792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86" name="Group 70"/>
                  <p:cNvGrpSpPr/>
                  <p:nvPr/>
                </p:nvGrpSpPr>
                <p:grpSpPr>
                  <a:xfrm>
                    <a:off x="7590600" y="3580200"/>
                    <a:ext cx="23400" cy="54720"/>
                    <a:chOff x="7590600" y="3580200"/>
                    <a:chExt cx="23400" cy="54720"/>
                  </a:xfrm>
                </p:grpSpPr>
                <p:sp>
                  <p:nvSpPr>
                    <p:cNvPr id="387" name="Freeform 71"/>
                    <p:cNvSpPr/>
                    <p:nvPr/>
                  </p:nvSpPr>
                  <p:spPr>
                    <a:xfrm>
                      <a:off x="7594920" y="3594600"/>
                      <a:ext cx="1800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72"/>
                    <p:cNvSpPr/>
                    <p:nvPr/>
                  </p:nvSpPr>
                  <p:spPr>
                    <a:xfrm>
                      <a:off x="7598160" y="3608640"/>
                      <a:ext cx="158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Freeform 73"/>
                    <p:cNvSpPr/>
                    <p:nvPr/>
                  </p:nvSpPr>
                  <p:spPr>
                    <a:xfrm>
                      <a:off x="7597440" y="3625200"/>
                      <a:ext cx="162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Freeform 74"/>
                    <p:cNvSpPr/>
                    <p:nvPr/>
                  </p:nvSpPr>
                  <p:spPr>
                    <a:xfrm>
                      <a:off x="7590600" y="3580200"/>
                      <a:ext cx="183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91" name="Freeform 75"/>
                <p:cNvSpPr/>
                <p:nvPr/>
              </p:nvSpPr>
              <p:spPr>
                <a:xfrm>
                  <a:off x="7465320" y="3213000"/>
                  <a:ext cx="218520" cy="36504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Oval 76"/>
                <p:cNvSpPr/>
                <p:nvPr/>
              </p:nvSpPr>
              <p:spPr>
                <a:xfrm>
                  <a:off x="7526520" y="3536640"/>
                  <a:ext cx="95760" cy="3708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77"/>
                <p:cNvSpPr/>
                <p:nvPr/>
              </p:nvSpPr>
              <p:spPr>
                <a:xfrm>
                  <a:off x="7626600" y="3249720"/>
                  <a:ext cx="36360" cy="540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4" name="Group 78"/>
                <p:cNvGrpSpPr/>
                <p:nvPr/>
              </p:nvGrpSpPr>
              <p:grpSpPr>
                <a:xfrm>
                  <a:off x="7544160" y="3322800"/>
                  <a:ext cx="60840" cy="226440"/>
                  <a:chOff x="7544160" y="3322800"/>
                  <a:chExt cx="60840" cy="226440"/>
                </a:xfrm>
              </p:grpSpPr>
              <p:sp>
                <p:nvSpPr>
                  <p:cNvPr id="395" name="Freeform 79"/>
                  <p:cNvSpPr/>
                  <p:nvPr/>
                </p:nvSpPr>
                <p:spPr>
                  <a:xfrm>
                    <a:off x="7555680" y="3417120"/>
                    <a:ext cx="374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Oval 80"/>
                  <p:cNvSpPr/>
                  <p:nvPr/>
                </p:nvSpPr>
                <p:spPr>
                  <a:xfrm>
                    <a:off x="7574760" y="3421440"/>
                    <a:ext cx="4680" cy="90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7" name="Group 81"/>
                  <p:cNvGrpSpPr/>
                  <p:nvPr/>
                </p:nvGrpSpPr>
                <p:grpSpPr>
                  <a:xfrm>
                    <a:off x="7544160" y="3322800"/>
                    <a:ext cx="60840" cy="103320"/>
                    <a:chOff x="7544160" y="3322800"/>
                    <a:chExt cx="60840" cy="103320"/>
                  </a:xfrm>
                </p:grpSpPr>
                <p:sp>
                  <p:nvSpPr>
                    <p:cNvPr id="398" name="Oval 82"/>
                    <p:cNvSpPr/>
                    <p:nvPr/>
                  </p:nvSpPr>
                  <p:spPr>
                    <a:xfrm>
                      <a:off x="7547760" y="3322800"/>
                      <a:ext cx="55800" cy="35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83"/>
                    <p:cNvSpPr/>
                    <p:nvPr/>
                  </p:nvSpPr>
                  <p:spPr>
                    <a:xfrm>
                      <a:off x="7544160" y="3338640"/>
                      <a:ext cx="6084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84"/>
                  <p:cNvGrpSpPr/>
                  <p:nvPr/>
                </p:nvGrpSpPr>
                <p:grpSpPr>
                  <a:xfrm>
                    <a:off x="7562880" y="3436200"/>
                    <a:ext cx="21240" cy="100800"/>
                    <a:chOff x="7562880" y="3436200"/>
                    <a:chExt cx="21240" cy="100800"/>
                  </a:xfrm>
                </p:grpSpPr>
                <p:grpSp>
                  <p:nvGrpSpPr>
                    <p:cNvPr id="401" name=""/>
                    <p:cNvGrpSpPr/>
                    <p:nvPr/>
                  </p:nvGrpSpPr>
                  <p:grpSpPr>
                    <a:xfrm>
                      <a:off x="7566480" y="3438720"/>
                      <a:ext cx="360" cy="98280"/>
                      <a:chOff x="7566480" y="3438720"/>
                      <a:chExt cx="360" cy="98280"/>
                    </a:xfrm>
                  </p:grpSpPr>
                  <p:sp>
                    <p:nvSpPr>
                      <p:cNvPr id="402" name="Line 85"/>
                      <p:cNvSpPr/>
                      <p:nvPr/>
                    </p:nvSpPr>
                    <p:spPr>
                      <a:xfrm>
                        <a:off x="7566480" y="3438720"/>
                        <a:ext cx="0" cy="982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3" name=""/>
                      <p:cNvSpPr txBox="1"/>
                      <p:nvPr/>
                    </p:nvSpPr>
                    <p:spPr>
                      <a:xfrm>
                        <a:off x="7566480" y="3438720"/>
                        <a:ext cx="360" cy="9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4" name=""/>
                    <p:cNvGrpSpPr/>
                    <p:nvPr/>
                  </p:nvGrpSpPr>
                  <p:grpSpPr>
                    <a:xfrm>
                      <a:off x="7580160" y="3438720"/>
                      <a:ext cx="720" cy="97920"/>
                      <a:chOff x="7580160" y="3438720"/>
                      <a:chExt cx="720" cy="97920"/>
                    </a:xfrm>
                  </p:grpSpPr>
                  <p:sp>
                    <p:nvSpPr>
                      <p:cNvPr id="405" name="Line 86"/>
                      <p:cNvSpPr/>
                      <p:nvPr/>
                    </p:nvSpPr>
                    <p:spPr>
                      <a:xfrm flipV="1">
                        <a:off x="7580520" y="3438720"/>
                        <a:ext cx="360" cy="979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6" name=""/>
                      <p:cNvSpPr txBox="1"/>
                      <p:nvPr/>
                    </p:nvSpPr>
                    <p:spPr>
                      <a:xfrm rot="10800000">
                        <a:off x="7580160" y="3438720"/>
                        <a:ext cx="360" cy="9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7" name=""/>
                    <p:cNvGrpSpPr/>
                    <p:nvPr/>
                  </p:nvGrpSpPr>
                  <p:grpSpPr>
                    <a:xfrm>
                      <a:off x="7583760" y="3436200"/>
                      <a:ext cx="360" cy="97920"/>
                      <a:chOff x="7583760" y="3436200"/>
                      <a:chExt cx="360" cy="97920"/>
                    </a:xfrm>
                  </p:grpSpPr>
                  <p:sp>
                    <p:nvSpPr>
                      <p:cNvPr id="408" name="Line 87"/>
                      <p:cNvSpPr/>
                      <p:nvPr/>
                    </p:nvSpPr>
                    <p:spPr>
                      <a:xfrm flipV="1">
                        <a:off x="7584120" y="3436200"/>
                        <a:ext cx="0" cy="979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9" name=""/>
                      <p:cNvSpPr txBox="1"/>
                      <p:nvPr/>
                    </p:nvSpPr>
                    <p:spPr>
                      <a:xfrm rot="10800000">
                        <a:off x="7583760" y="3436200"/>
                        <a:ext cx="360" cy="9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0" name=""/>
                    <p:cNvGrpSpPr/>
                    <p:nvPr/>
                  </p:nvGrpSpPr>
                  <p:grpSpPr>
                    <a:xfrm>
                      <a:off x="7562880" y="3436200"/>
                      <a:ext cx="360" cy="97920"/>
                      <a:chOff x="7562880" y="3436200"/>
                      <a:chExt cx="360" cy="97920"/>
                    </a:xfrm>
                  </p:grpSpPr>
                  <p:sp>
                    <p:nvSpPr>
                      <p:cNvPr id="411" name="Line 88"/>
                      <p:cNvSpPr/>
                      <p:nvPr/>
                    </p:nvSpPr>
                    <p:spPr>
                      <a:xfrm flipV="1">
                        <a:off x="7563240" y="3436200"/>
                        <a:ext cx="0" cy="979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2" name=""/>
                      <p:cNvSpPr txBox="1"/>
                      <p:nvPr/>
                    </p:nvSpPr>
                    <p:spPr>
                      <a:xfrm rot="10800000">
                        <a:off x="7562880" y="3436200"/>
                        <a:ext cx="360" cy="9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13" name="Freeform 89"/>
                <p:cNvSpPr/>
                <p:nvPr/>
              </p:nvSpPr>
              <p:spPr>
                <a:xfrm>
                  <a:off x="7570440" y="3484080"/>
                  <a:ext cx="59040" cy="8532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Rectangle 90"/>
              <p:cNvSpPr/>
              <p:nvPr/>
            </p:nvSpPr>
            <p:spPr>
              <a:xfrm>
                <a:off x="7423560" y="3603240"/>
                <a:ext cx="293040" cy="1980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5" name="xjhsy4" descr="w3"/>
          <p:cNvPicPr/>
          <p:nvPr/>
        </p:nvPicPr>
        <p:blipFill>
          <a:blip r:embed="rId4"/>
          <a:stretch/>
        </p:blipFill>
        <p:spPr>
          <a:xfrm>
            <a:off x="3995640" y="5084640"/>
            <a:ext cx="2185920" cy="1082880"/>
          </a:xfrm>
          <a:prstGeom prst="rect">
            <a:avLst/>
          </a:prstGeom>
          <a:ln w="0">
            <a:noFill/>
          </a:ln>
        </p:spPr>
      </p:pic>
      <p:pic>
        <p:nvPicPr>
          <p:cNvPr id="416" name="xjhsy8" descr="w7"/>
          <p:cNvPicPr/>
          <p:nvPr/>
        </p:nvPicPr>
        <p:blipFill>
          <a:blip r:embed="rId5"/>
          <a:stretch/>
        </p:blipFill>
        <p:spPr>
          <a:xfrm>
            <a:off x="6804000" y="4797360"/>
            <a:ext cx="2087640" cy="1243080"/>
          </a:xfrm>
          <a:prstGeom prst="rect">
            <a:avLst/>
          </a:prstGeom>
          <a:ln w="0">
            <a:noFill/>
          </a:ln>
        </p:spPr>
      </p:pic>
      <p:sp>
        <p:nvSpPr>
          <p:cNvPr id="417" name="Freeform 111"/>
          <p:cNvSpPr/>
          <p:nvPr/>
        </p:nvSpPr>
        <p:spPr>
          <a:xfrm>
            <a:off x="6659640" y="2565360"/>
            <a:ext cx="649080" cy="1079640"/>
          </a:xfrm>
          <a:custGeom>
            <a:avLst/>
            <a:gdLst/>
            <a:ahLst/>
            <a:rect l="l" t="t" r="r" b="b"/>
            <a:pathLst>
              <a:path w="371" h="1017">
                <a:moveTo>
                  <a:pt x="371" y="0"/>
                </a:moveTo>
                <a:cubicBezTo>
                  <a:pt x="296" y="50"/>
                  <a:pt x="328" y="29"/>
                  <a:pt x="275" y="64"/>
                </a:cubicBezTo>
                <a:cubicBezTo>
                  <a:pt x="264" y="71"/>
                  <a:pt x="243" y="85"/>
                  <a:pt x="243" y="85"/>
                </a:cubicBezTo>
                <a:cubicBezTo>
                  <a:pt x="216" y="122"/>
                  <a:pt x="190" y="162"/>
                  <a:pt x="169" y="203"/>
                </a:cubicBezTo>
                <a:cubicBezTo>
                  <a:pt x="143" y="254"/>
                  <a:pt x="141" y="311"/>
                  <a:pt x="115" y="363"/>
                </a:cubicBezTo>
                <a:cubicBezTo>
                  <a:pt x="115" y="381"/>
                  <a:pt x="0" y="891"/>
                  <a:pt x="201" y="981"/>
                </a:cubicBezTo>
                <a:cubicBezTo>
                  <a:pt x="282" y="1017"/>
                  <a:pt x="246" y="984"/>
                  <a:pt x="275" y="101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0"/>
          <p:cNvSpPr/>
          <p:nvPr/>
        </p:nvSpPr>
        <p:spPr>
          <a:xfrm>
            <a:off x="7596360" y="2492280"/>
            <a:ext cx="1152360" cy="1152720"/>
          </a:xfrm>
          <a:custGeom>
            <a:avLst/>
            <a:gdLst/>
            <a:ahLst/>
            <a:rect l="l" t="t" r="r" b="b"/>
            <a:pathLst>
              <a:path w="529" h="1056">
                <a:moveTo>
                  <a:pt x="0" y="0"/>
                </a:moveTo>
                <a:cubicBezTo>
                  <a:pt x="33" y="4"/>
                  <a:pt x="92" y="8"/>
                  <a:pt x="128" y="22"/>
                </a:cubicBezTo>
                <a:cubicBezTo>
                  <a:pt x="240" y="64"/>
                  <a:pt x="101" y="25"/>
                  <a:pt x="213" y="54"/>
                </a:cubicBezTo>
                <a:cubicBezTo>
                  <a:pt x="244" y="74"/>
                  <a:pt x="264" y="85"/>
                  <a:pt x="288" y="118"/>
                </a:cubicBezTo>
                <a:cubicBezTo>
                  <a:pt x="351" y="208"/>
                  <a:pt x="244" y="99"/>
                  <a:pt x="320" y="171"/>
                </a:cubicBezTo>
                <a:cubicBezTo>
                  <a:pt x="327" y="192"/>
                  <a:pt x="329" y="216"/>
                  <a:pt x="341" y="235"/>
                </a:cubicBezTo>
                <a:cubicBezTo>
                  <a:pt x="359" y="263"/>
                  <a:pt x="366" y="267"/>
                  <a:pt x="373" y="299"/>
                </a:cubicBezTo>
                <a:cubicBezTo>
                  <a:pt x="378" y="320"/>
                  <a:pt x="379" y="342"/>
                  <a:pt x="384" y="363"/>
                </a:cubicBezTo>
                <a:cubicBezTo>
                  <a:pt x="392" y="396"/>
                  <a:pt x="410" y="426"/>
                  <a:pt x="416" y="459"/>
                </a:cubicBezTo>
                <a:cubicBezTo>
                  <a:pt x="419" y="477"/>
                  <a:pt x="419" y="495"/>
                  <a:pt x="426" y="512"/>
                </a:cubicBezTo>
                <a:cubicBezTo>
                  <a:pt x="430" y="522"/>
                  <a:pt x="441" y="527"/>
                  <a:pt x="448" y="534"/>
                </a:cubicBezTo>
                <a:cubicBezTo>
                  <a:pt x="451" y="548"/>
                  <a:pt x="452" y="563"/>
                  <a:pt x="458" y="576"/>
                </a:cubicBezTo>
                <a:cubicBezTo>
                  <a:pt x="463" y="585"/>
                  <a:pt x="475" y="589"/>
                  <a:pt x="480" y="598"/>
                </a:cubicBezTo>
                <a:cubicBezTo>
                  <a:pt x="486" y="611"/>
                  <a:pt x="486" y="626"/>
                  <a:pt x="490" y="640"/>
                </a:cubicBezTo>
                <a:cubicBezTo>
                  <a:pt x="497" y="662"/>
                  <a:pt x="505" y="683"/>
                  <a:pt x="512" y="704"/>
                </a:cubicBezTo>
                <a:cubicBezTo>
                  <a:pt x="516" y="715"/>
                  <a:pt x="522" y="736"/>
                  <a:pt x="522" y="736"/>
                </a:cubicBezTo>
                <a:cubicBezTo>
                  <a:pt x="517" y="806"/>
                  <a:pt x="529" y="882"/>
                  <a:pt x="480" y="939"/>
                </a:cubicBezTo>
                <a:cubicBezTo>
                  <a:pt x="467" y="954"/>
                  <a:pt x="448" y="965"/>
                  <a:pt x="437" y="982"/>
                </a:cubicBezTo>
                <a:cubicBezTo>
                  <a:pt x="430" y="993"/>
                  <a:pt x="424" y="1004"/>
                  <a:pt x="416" y="1014"/>
                </a:cubicBezTo>
                <a:cubicBezTo>
                  <a:pt x="407" y="1025"/>
                  <a:pt x="343" y="1056"/>
                  <a:pt x="373" y="10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96"/>
          <p:cNvSpPr/>
          <p:nvPr/>
        </p:nvSpPr>
        <p:spPr>
          <a:xfrm>
            <a:off x="3780000" y="4005360"/>
            <a:ext cx="863280" cy="1800000"/>
          </a:xfrm>
          <a:custGeom>
            <a:avLst/>
            <a:gdLst/>
            <a:ahLst/>
            <a:rect l="l" t="t" r="r" b="b"/>
            <a:pathLst>
              <a:path w="602" h="1099">
                <a:moveTo>
                  <a:pt x="602" y="0"/>
                </a:moveTo>
                <a:cubicBezTo>
                  <a:pt x="299" y="23"/>
                  <a:pt x="408" y="0"/>
                  <a:pt x="271" y="32"/>
                </a:cubicBezTo>
                <a:cubicBezTo>
                  <a:pt x="170" y="83"/>
                  <a:pt x="211" y="56"/>
                  <a:pt x="143" y="107"/>
                </a:cubicBezTo>
                <a:cubicBezTo>
                  <a:pt x="123" y="137"/>
                  <a:pt x="95" y="160"/>
                  <a:pt x="79" y="192"/>
                </a:cubicBezTo>
                <a:cubicBezTo>
                  <a:pt x="54" y="244"/>
                  <a:pt x="29" y="307"/>
                  <a:pt x="15" y="363"/>
                </a:cubicBezTo>
                <a:cubicBezTo>
                  <a:pt x="17" y="419"/>
                  <a:pt x="0" y="772"/>
                  <a:pt x="68" y="896"/>
                </a:cubicBezTo>
                <a:cubicBezTo>
                  <a:pt x="87" y="930"/>
                  <a:pt x="111" y="960"/>
                  <a:pt x="132" y="992"/>
                </a:cubicBezTo>
                <a:cubicBezTo>
                  <a:pt x="158" y="1032"/>
                  <a:pt x="232" y="1047"/>
                  <a:pt x="271" y="1067"/>
                </a:cubicBezTo>
                <a:cubicBezTo>
                  <a:pt x="330" y="1096"/>
                  <a:pt x="348" y="1099"/>
                  <a:pt x="420" y="109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93"/>
          <p:cNvSpPr/>
          <p:nvPr/>
        </p:nvSpPr>
        <p:spPr>
          <a:xfrm>
            <a:off x="5364000" y="5589720"/>
            <a:ext cx="1928880" cy="287280"/>
          </a:xfrm>
          <a:custGeom>
            <a:avLst/>
            <a:gdLst/>
            <a:ahLst/>
            <a:rect l="l" t="t" r="r" b="b"/>
            <a:pathLst>
              <a:path w="1034" h="161">
                <a:moveTo>
                  <a:pt x="0" y="108"/>
                </a:moveTo>
                <a:cubicBezTo>
                  <a:pt x="75" y="133"/>
                  <a:pt x="43" y="122"/>
                  <a:pt x="96" y="140"/>
                </a:cubicBezTo>
                <a:cubicBezTo>
                  <a:pt x="124" y="149"/>
                  <a:pt x="181" y="161"/>
                  <a:pt x="181" y="161"/>
                </a:cubicBezTo>
                <a:cubicBezTo>
                  <a:pt x="443" y="153"/>
                  <a:pt x="493" y="157"/>
                  <a:pt x="682" y="118"/>
                </a:cubicBezTo>
                <a:cubicBezTo>
                  <a:pt x="766" y="63"/>
                  <a:pt x="861" y="37"/>
                  <a:pt x="960" y="22"/>
                </a:cubicBezTo>
                <a:cubicBezTo>
                  <a:pt x="1027" y="0"/>
                  <a:pt x="1002" y="1"/>
                  <a:pt x="1034" y="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94"/>
          <p:cNvSpPr/>
          <p:nvPr/>
        </p:nvSpPr>
        <p:spPr>
          <a:xfrm>
            <a:off x="8388360" y="3716280"/>
            <a:ext cx="360360" cy="1873440"/>
          </a:xfrm>
          <a:custGeom>
            <a:avLst/>
            <a:gdLst/>
            <a:ahLst/>
            <a:rect l="l" t="t" r="r" b="b"/>
            <a:pathLst>
              <a:path w="593" h="1232">
                <a:moveTo>
                  <a:pt x="0" y="1232"/>
                </a:moveTo>
                <a:cubicBezTo>
                  <a:pt x="60" y="1229"/>
                  <a:pt x="121" y="1229"/>
                  <a:pt x="181" y="1222"/>
                </a:cubicBezTo>
                <a:cubicBezTo>
                  <a:pt x="232" y="1216"/>
                  <a:pt x="280" y="1198"/>
                  <a:pt x="331" y="1190"/>
                </a:cubicBezTo>
                <a:cubicBezTo>
                  <a:pt x="409" y="1136"/>
                  <a:pt x="399" y="1074"/>
                  <a:pt x="437" y="998"/>
                </a:cubicBezTo>
                <a:cubicBezTo>
                  <a:pt x="463" y="823"/>
                  <a:pt x="493" y="649"/>
                  <a:pt x="523" y="475"/>
                </a:cubicBezTo>
                <a:cubicBezTo>
                  <a:pt x="512" y="149"/>
                  <a:pt x="593" y="134"/>
                  <a:pt x="373" y="27"/>
                </a:cubicBezTo>
                <a:cubicBezTo>
                  <a:pt x="362" y="21"/>
                  <a:pt x="354" y="7"/>
                  <a:pt x="341" y="6"/>
                </a:cubicBezTo>
                <a:cubicBezTo>
                  <a:pt x="281" y="0"/>
                  <a:pt x="220" y="6"/>
                  <a:pt x="160" y="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95"/>
          <p:cNvSpPr/>
          <p:nvPr/>
        </p:nvSpPr>
        <p:spPr>
          <a:xfrm>
            <a:off x="5940360" y="3716280"/>
            <a:ext cx="936720" cy="422280"/>
          </a:xfrm>
          <a:custGeom>
            <a:avLst/>
            <a:gdLst/>
            <a:ahLst/>
            <a:rect l="l" t="t" r="r" b="b"/>
            <a:pathLst>
              <a:path w="683" h="266">
                <a:moveTo>
                  <a:pt x="683" y="0"/>
                </a:moveTo>
                <a:cubicBezTo>
                  <a:pt x="615" y="16"/>
                  <a:pt x="549" y="33"/>
                  <a:pt x="480" y="42"/>
                </a:cubicBezTo>
                <a:cubicBezTo>
                  <a:pt x="380" y="76"/>
                  <a:pt x="275" y="99"/>
                  <a:pt x="171" y="117"/>
                </a:cubicBezTo>
                <a:cubicBezTo>
                  <a:pt x="150" y="131"/>
                  <a:pt x="125" y="142"/>
                  <a:pt x="107" y="160"/>
                </a:cubicBezTo>
                <a:cubicBezTo>
                  <a:pt x="96" y="171"/>
                  <a:pt x="88" y="184"/>
                  <a:pt x="75" y="192"/>
                </a:cubicBezTo>
                <a:cubicBezTo>
                  <a:pt x="52" y="207"/>
                  <a:pt x="24" y="212"/>
                  <a:pt x="0" y="224"/>
                </a:cubicBezTo>
                <a:cubicBezTo>
                  <a:pt x="47" y="259"/>
                  <a:pt x="30" y="244"/>
                  <a:pt x="54" y="26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99"/>
          <p:cNvGrpSpPr/>
          <p:nvPr/>
        </p:nvGrpSpPr>
        <p:grpSpPr>
          <a:xfrm>
            <a:off x="684000" y="2276640"/>
            <a:ext cx="2808720" cy="3047760"/>
            <a:chOff x="684000" y="2276640"/>
            <a:chExt cx="2808720" cy="3047760"/>
          </a:xfrm>
        </p:grpSpPr>
        <p:sp>
          <p:nvSpPr>
            <p:cNvPr id="424" name="Oval 100"/>
            <p:cNvSpPr/>
            <p:nvPr/>
          </p:nvSpPr>
          <p:spPr>
            <a:xfrm>
              <a:off x="2519640" y="3522240"/>
              <a:ext cx="375120" cy="396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01"/>
            <p:cNvSpPr/>
            <p:nvPr/>
          </p:nvSpPr>
          <p:spPr>
            <a:xfrm>
              <a:off x="2521080" y="3470760"/>
              <a:ext cx="6933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Group 102"/>
            <p:cNvGrpSpPr/>
            <p:nvPr/>
          </p:nvGrpSpPr>
          <p:grpSpPr>
            <a:xfrm>
              <a:off x="684000" y="2276640"/>
              <a:ext cx="2808720" cy="3047760"/>
              <a:chOff x="684000" y="2276640"/>
              <a:chExt cx="2808720" cy="30477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341720" y="4596120"/>
                <a:ext cx="360" cy="378720"/>
                <a:chOff x="1341720" y="4596120"/>
                <a:chExt cx="360" cy="378720"/>
              </a:xfrm>
            </p:grpSpPr>
            <p:sp>
              <p:nvSpPr>
                <p:cNvPr id="428" name="Line 103"/>
                <p:cNvSpPr/>
                <p:nvPr/>
              </p:nvSpPr>
              <p:spPr>
                <a:xfrm>
                  <a:off x="1341720" y="4596120"/>
                  <a:ext cx="0" cy="378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 txBox="1"/>
                <p:nvPr/>
              </p:nvSpPr>
              <p:spPr>
                <a:xfrm>
                  <a:off x="1341720" y="4596120"/>
                  <a:ext cx="36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1281600" y="4659480"/>
                <a:ext cx="360" cy="252360"/>
                <a:chOff x="1281600" y="4659480"/>
                <a:chExt cx="360" cy="252360"/>
              </a:xfrm>
            </p:grpSpPr>
            <p:sp>
              <p:nvSpPr>
                <p:cNvPr id="431" name="Line 104"/>
                <p:cNvSpPr/>
                <p:nvPr/>
              </p:nvSpPr>
              <p:spPr>
                <a:xfrm>
                  <a:off x="1281600" y="4659480"/>
                  <a:ext cx="0" cy="2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 txBox="1"/>
                <p:nvPr/>
              </p:nvSpPr>
              <p:spPr>
                <a:xfrm>
                  <a:off x="1281600" y="4659480"/>
                  <a:ext cx="360" cy="25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1882440" y="4596120"/>
                <a:ext cx="360" cy="378720"/>
                <a:chOff x="1882440" y="4596120"/>
                <a:chExt cx="360" cy="378720"/>
              </a:xfrm>
            </p:grpSpPr>
            <p:sp>
              <p:nvSpPr>
                <p:cNvPr id="434" name="Line 105"/>
                <p:cNvSpPr/>
                <p:nvPr/>
              </p:nvSpPr>
              <p:spPr>
                <a:xfrm>
                  <a:off x="1882440" y="4596120"/>
                  <a:ext cx="0" cy="378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 txBox="1"/>
                <p:nvPr/>
              </p:nvSpPr>
              <p:spPr>
                <a:xfrm>
                  <a:off x="1882440" y="4596120"/>
                  <a:ext cx="36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1822320" y="4659480"/>
                <a:ext cx="360" cy="252360"/>
                <a:chOff x="1822320" y="4659480"/>
                <a:chExt cx="360" cy="252360"/>
              </a:xfrm>
            </p:grpSpPr>
            <p:sp>
              <p:nvSpPr>
                <p:cNvPr id="437" name="Line 106"/>
                <p:cNvSpPr/>
                <p:nvPr/>
              </p:nvSpPr>
              <p:spPr>
                <a:xfrm>
                  <a:off x="1822320" y="4659480"/>
                  <a:ext cx="0" cy="2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 txBox="1"/>
                <p:nvPr/>
              </p:nvSpPr>
              <p:spPr>
                <a:xfrm>
                  <a:off x="1822320" y="4659480"/>
                  <a:ext cx="360" cy="25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84000" y="4788360"/>
                <a:ext cx="597600" cy="360"/>
                <a:chOff x="684000" y="4788360"/>
                <a:chExt cx="597600" cy="360"/>
              </a:xfrm>
            </p:grpSpPr>
            <p:sp>
              <p:nvSpPr>
                <p:cNvPr id="440" name="Line 107"/>
                <p:cNvSpPr/>
                <p:nvPr/>
              </p:nvSpPr>
              <p:spPr>
                <a:xfrm flipH="1">
                  <a:off x="684000" y="4788360"/>
                  <a:ext cx="597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 txBox="1"/>
                <p:nvPr/>
              </p:nvSpPr>
              <p:spPr>
                <a:xfrm>
                  <a:off x="684360" y="4788360"/>
                  <a:ext cx="597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Oval 108"/>
              <p:cNvSpPr/>
              <p:nvPr/>
            </p:nvSpPr>
            <p:spPr>
              <a:xfrm>
                <a:off x="2538000" y="4742280"/>
                <a:ext cx="83880" cy="91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09"/>
              <p:cNvSpPr/>
              <p:nvPr/>
            </p:nvSpPr>
            <p:spPr>
              <a:xfrm>
                <a:off x="2340720" y="2276640"/>
                <a:ext cx="69408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110"/>
              <p:cNvSpPr/>
              <p:nvPr/>
            </p:nvSpPr>
            <p:spPr>
              <a:xfrm>
                <a:off x="1218960" y="2289960"/>
                <a:ext cx="69444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1341000" y="4786560"/>
                <a:ext cx="476640" cy="360"/>
                <a:chOff x="1341000" y="4786560"/>
                <a:chExt cx="476640" cy="360"/>
              </a:xfrm>
            </p:grpSpPr>
            <p:sp>
              <p:nvSpPr>
                <p:cNvPr id="446" name="Line 111"/>
                <p:cNvSpPr/>
                <p:nvPr/>
              </p:nvSpPr>
              <p:spPr>
                <a:xfrm>
                  <a:off x="1341000" y="4786560"/>
                  <a:ext cx="47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 txBox="1"/>
                <p:nvPr/>
              </p:nvSpPr>
              <p:spPr>
                <a:xfrm>
                  <a:off x="1341000" y="4786560"/>
                  <a:ext cx="47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Group 112"/>
              <p:cNvGrpSpPr/>
              <p:nvPr/>
            </p:nvGrpSpPr>
            <p:grpSpPr>
              <a:xfrm>
                <a:off x="1313640" y="2706840"/>
                <a:ext cx="375480" cy="396720"/>
                <a:chOff x="1313640" y="2706840"/>
                <a:chExt cx="375480" cy="396720"/>
              </a:xfrm>
            </p:grpSpPr>
            <p:sp>
              <p:nvSpPr>
                <p:cNvPr id="449" name="Oval 113"/>
                <p:cNvSpPr/>
                <p:nvPr/>
              </p:nvSpPr>
              <p:spPr>
                <a:xfrm>
                  <a:off x="1313640" y="2706840"/>
                  <a:ext cx="375480" cy="3967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14"/>
                <p:cNvGrpSpPr/>
                <p:nvPr/>
              </p:nvGrpSpPr>
              <p:grpSpPr>
                <a:xfrm>
                  <a:off x="1371240" y="2767680"/>
                  <a:ext cx="259920" cy="274680"/>
                  <a:chOff x="1371240" y="2767680"/>
                  <a:chExt cx="259920" cy="274680"/>
                </a:xfrm>
              </p:grpSpPr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1371240" y="2767680"/>
                    <a:ext cx="259920" cy="274680"/>
                    <a:chOff x="1371240" y="2767680"/>
                    <a:chExt cx="259920" cy="274680"/>
                  </a:xfrm>
                </p:grpSpPr>
                <p:sp>
                  <p:nvSpPr>
                    <p:cNvPr id="452" name="Line 115"/>
                    <p:cNvSpPr/>
                    <p:nvPr/>
                  </p:nvSpPr>
                  <p:spPr>
                    <a:xfrm>
                      <a:off x="1371240" y="2767680"/>
                      <a:ext cx="259920" cy="27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 txBox="1"/>
                    <p:nvPr/>
                  </p:nvSpPr>
                  <p:spPr>
                    <a:xfrm>
                      <a:off x="1371240" y="2767680"/>
                      <a:ext cx="2599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1371240" y="2767680"/>
                    <a:ext cx="259920" cy="274680"/>
                    <a:chOff x="1371240" y="2767680"/>
                    <a:chExt cx="259920" cy="274680"/>
                  </a:xfrm>
                </p:grpSpPr>
                <p:sp>
                  <p:nvSpPr>
                    <p:cNvPr id="455" name="Line 116"/>
                    <p:cNvSpPr/>
                    <p:nvPr/>
                  </p:nvSpPr>
                  <p:spPr>
                    <a:xfrm flipH="1">
                      <a:off x="1371240" y="2767680"/>
                      <a:ext cx="259920" cy="27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 txBox="1"/>
                    <p:nvPr/>
                  </p:nvSpPr>
                  <p:spPr>
                    <a:xfrm>
                      <a:off x="1371240" y="2767680"/>
                      <a:ext cx="2599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57" name=""/>
              <p:cNvGrpSpPr/>
              <p:nvPr/>
            </p:nvGrpSpPr>
            <p:grpSpPr>
              <a:xfrm>
                <a:off x="684000" y="2894400"/>
                <a:ext cx="643680" cy="360"/>
                <a:chOff x="684000" y="2894400"/>
                <a:chExt cx="643680" cy="360"/>
              </a:xfrm>
            </p:grpSpPr>
            <p:sp>
              <p:nvSpPr>
                <p:cNvPr id="458" name="Line 117"/>
                <p:cNvSpPr/>
                <p:nvPr/>
              </p:nvSpPr>
              <p:spPr>
                <a:xfrm flipH="1">
                  <a:off x="684000" y="2894400"/>
                  <a:ext cx="643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 txBox="1"/>
                <p:nvPr/>
              </p:nvSpPr>
              <p:spPr>
                <a:xfrm>
                  <a:off x="684360" y="2894400"/>
                  <a:ext cx="643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2863080" y="2887920"/>
                <a:ext cx="629280" cy="360"/>
                <a:chOff x="2863080" y="2887920"/>
                <a:chExt cx="629280" cy="360"/>
              </a:xfrm>
            </p:grpSpPr>
            <p:sp>
              <p:nvSpPr>
                <p:cNvPr id="461" name="Line 118"/>
                <p:cNvSpPr/>
                <p:nvPr/>
              </p:nvSpPr>
              <p:spPr>
                <a:xfrm flipH="1">
                  <a:off x="2863080" y="2887920"/>
                  <a:ext cx="629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 txBox="1"/>
                <p:nvPr/>
              </p:nvSpPr>
              <p:spPr>
                <a:xfrm>
                  <a:off x="2863080" y="2887920"/>
                  <a:ext cx="629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3074400" y="4770720"/>
                <a:ext cx="417600" cy="360"/>
                <a:chOff x="3074400" y="4770720"/>
                <a:chExt cx="417600" cy="360"/>
              </a:xfrm>
            </p:grpSpPr>
            <p:sp>
              <p:nvSpPr>
                <p:cNvPr id="464" name="Line 119"/>
                <p:cNvSpPr/>
                <p:nvPr/>
              </p:nvSpPr>
              <p:spPr>
                <a:xfrm flipH="1">
                  <a:off x="3074400" y="4770720"/>
                  <a:ext cx="417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 txBox="1"/>
                <p:nvPr/>
              </p:nvSpPr>
              <p:spPr>
                <a:xfrm>
                  <a:off x="3074400" y="4770720"/>
                  <a:ext cx="417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3492360" y="2889720"/>
                <a:ext cx="360" cy="1878840"/>
                <a:chOff x="3492360" y="2889720"/>
                <a:chExt cx="360" cy="1878840"/>
              </a:xfrm>
            </p:grpSpPr>
            <p:sp>
              <p:nvSpPr>
                <p:cNvPr id="467" name="Line 120"/>
                <p:cNvSpPr/>
                <p:nvPr/>
              </p:nvSpPr>
              <p:spPr>
                <a:xfrm>
                  <a:off x="3492360" y="2889720"/>
                  <a:ext cx="0" cy="1878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 txBox="1"/>
                <p:nvPr/>
              </p:nvSpPr>
              <p:spPr>
                <a:xfrm>
                  <a:off x="3492360" y="2889720"/>
                  <a:ext cx="360" cy="187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684360" y="2907000"/>
                <a:ext cx="360" cy="1880640"/>
                <a:chOff x="684360" y="2907000"/>
                <a:chExt cx="360" cy="1880640"/>
              </a:xfrm>
            </p:grpSpPr>
            <p:sp>
              <p:nvSpPr>
                <p:cNvPr id="470" name="Line 121"/>
                <p:cNvSpPr/>
                <p:nvPr/>
              </p:nvSpPr>
              <p:spPr>
                <a:xfrm>
                  <a:off x="684360" y="2907000"/>
                  <a:ext cx="0" cy="188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 txBox="1"/>
                <p:nvPr/>
              </p:nvSpPr>
              <p:spPr>
                <a:xfrm>
                  <a:off x="684360" y="2907000"/>
                  <a:ext cx="360" cy="188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2591280" y="4532760"/>
                <a:ext cx="490320" cy="223200"/>
                <a:chOff x="2591280" y="4532760"/>
                <a:chExt cx="490320" cy="223200"/>
              </a:xfrm>
            </p:grpSpPr>
            <p:sp>
              <p:nvSpPr>
                <p:cNvPr id="473" name="Line 122"/>
                <p:cNvSpPr/>
                <p:nvPr/>
              </p:nvSpPr>
              <p:spPr>
                <a:xfrm flipH="1">
                  <a:off x="2591280" y="4532760"/>
                  <a:ext cx="48996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 txBox="1"/>
                <p:nvPr/>
              </p:nvSpPr>
              <p:spPr>
                <a:xfrm>
                  <a:off x="2591640" y="4532760"/>
                  <a:ext cx="489960" cy="22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Group 123"/>
              <p:cNvGrpSpPr/>
              <p:nvPr/>
            </p:nvGrpSpPr>
            <p:grpSpPr>
              <a:xfrm>
                <a:off x="2459880" y="2703240"/>
                <a:ext cx="375480" cy="392760"/>
                <a:chOff x="2459880" y="2703240"/>
                <a:chExt cx="375480" cy="392760"/>
              </a:xfrm>
            </p:grpSpPr>
            <p:sp>
              <p:nvSpPr>
                <p:cNvPr id="476" name="Oval 124"/>
                <p:cNvSpPr/>
                <p:nvPr/>
              </p:nvSpPr>
              <p:spPr>
                <a:xfrm>
                  <a:off x="2459880" y="2703240"/>
                  <a:ext cx="375480" cy="3927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Group 125"/>
                <p:cNvGrpSpPr/>
                <p:nvPr/>
              </p:nvGrpSpPr>
              <p:grpSpPr>
                <a:xfrm>
                  <a:off x="2517480" y="2763360"/>
                  <a:ext cx="259920" cy="271800"/>
                  <a:chOff x="2517480" y="2763360"/>
                  <a:chExt cx="259920" cy="27180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2517480" y="2763360"/>
                    <a:ext cx="259920" cy="271800"/>
                    <a:chOff x="2517480" y="2763360"/>
                    <a:chExt cx="259920" cy="271800"/>
                  </a:xfrm>
                </p:grpSpPr>
                <p:sp>
                  <p:nvSpPr>
                    <p:cNvPr id="479" name="Line 126"/>
                    <p:cNvSpPr/>
                    <p:nvPr/>
                  </p:nvSpPr>
                  <p:spPr>
                    <a:xfrm>
                      <a:off x="2517480" y="2763360"/>
                      <a:ext cx="259920" cy="271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 txBox="1"/>
                    <p:nvPr/>
                  </p:nvSpPr>
                  <p:spPr>
                    <a:xfrm>
                      <a:off x="2517480" y="2763360"/>
                      <a:ext cx="259920" cy="271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2517480" y="2763360"/>
                    <a:ext cx="259920" cy="271800"/>
                    <a:chOff x="2517480" y="2763360"/>
                    <a:chExt cx="259920" cy="271800"/>
                  </a:xfrm>
                </p:grpSpPr>
                <p:sp>
                  <p:nvSpPr>
                    <p:cNvPr id="482" name="Line 127"/>
                    <p:cNvSpPr/>
                    <p:nvPr/>
                  </p:nvSpPr>
                  <p:spPr>
                    <a:xfrm flipH="1">
                      <a:off x="2517480" y="2763360"/>
                      <a:ext cx="259920" cy="271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 txBox="1"/>
                    <p:nvPr/>
                  </p:nvSpPr>
                  <p:spPr>
                    <a:xfrm>
                      <a:off x="2517480" y="2763360"/>
                      <a:ext cx="259920" cy="271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84" name=""/>
              <p:cNvGrpSpPr/>
              <p:nvPr/>
            </p:nvGrpSpPr>
            <p:grpSpPr>
              <a:xfrm>
                <a:off x="1882440" y="4786560"/>
                <a:ext cx="698400" cy="360"/>
                <a:chOff x="1882440" y="4786560"/>
                <a:chExt cx="698400" cy="360"/>
              </a:xfrm>
            </p:grpSpPr>
            <p:sp>
              <p:nvSpPr>
                <p:cNvPr id="485" name="Line 128"/>
                <p:cNvSpPr/>
                <p:nvPr/>
              </p:nvSpPr>
              <p:spPr>
                <a:xfrm flipH="1">
                  <a:off x="1882440" y="4786560"/>
                  <a:ext cx="698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 txBox="1"/>
                <p:nvPr/>
              </p:nvSpPr>
              <p:spPr>
                <a:xfrm>
                  <a:off x="1882440" y="4786560"/>
                  <a:ext cx="698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1689480" y="2896200"/>
                <a:ext cx="766080" cy="360"/>
                <a:chOff x="1689480" y="2896200"/>
                <a:chExt cx="766080" cy="360"/>
              </a:xfrm>
            </p:grpSpPr>
            <p:sp>
              <p:nvSpPr>
                <p:cNvPr id="488" name="Line 129"/>
                <p:cNvSpPr/>
                <p:nvPr/>
              </p:nvSpPr>
              <p:spPr>
                <a:xfrm flipH="1">
                  <a:off x="1689480" y="2896200"/>
                  <a:ext cx="766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 txBox="1"/>
                <p:nvPr/>
              </p:nvSpPr>
              <p:spPr>
                <a:xfrm>
                  <a:off x="1689480" y="2896200"/>
                  <a:ext cx="766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130"/>
              <p:cNvSpPr/>
              <p:nvPr/>
            </p:nvSpPr>
            <p:spPr>
              <a:xfrm>
                <a:off x="2525760" y="4821480"/>
                <a:ext cx="69372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131"/>
              <p:cNvSpPr/>
              <p:nvPr/>
            </p:nvSpPr>
            <p:spPr>
              <a:xfrm>
                <a:off x="3252960" y="2853720"/>
                <a:ext cx="138960" cy="11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32"/>
              <p:cNvSpPr/>
              <p:nvPr/>
            </p:nvSpPr>
            <p:spPr>
              <a:xfrm>
                <a:off x="2056320" y="2851560"/>
                <a:ext cx="1389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2115360" y="2883960"/>
                <a:ext cx="360" cy="857160"/>
                <a:chOff x="2115360" y="2883960"/>
                <a:chExt cx="360" cy="857160"/>
              </a:xfrm>
            </p:grpSpPr>
            <p:sp>
              <p:nvSpPr>
                <p:cNvPr id="494" name="Line 133"/>
                <p:cNvSpPr/>
                <p:nvPr/>
              </p:nvSpPr>
              <p:spPr>
                <a:xfrm>
                  <a:off x="2115360" y="2883960"/>
                  <a:ext cx="0" cy="857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 txBox="1"/>
                <p:nvPr/>
              </p:nvSpPr>
              <p:spPr>
                <a:xfrm>
                  <a:off x="2115360" y="2883960"/>
                  <a:ext cx="3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6" name=""/>
            <p:cNvGrpSpPr/>
            <p:nvPr/>
          </p:nvGrpSpPr>
          <p:grpSpPr>
            <a:xfrm>
              <a:off x="2105280" y="3750840"/>
              <a:ext cx="412920" cy="360"/>
              <a:chOff x="2105280" y="3750840"/>
              <a:chExt cx="412920" cy="360"/>
            </a:xfrm>
          </p:grpSpPr>
          <p:sp>
            <p:nvSpPr>
              <p:cNvPr id="497" name="Line 134"/>
              <p:cNvSpPr/>
              <p:nvPr/>
            </p:nvSpPr>
            <p:spPr>
              <a:xfrm>
                <a:off x="2105280" y="3750840"/>
                <a:ext cx="41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 txBox="1"/>
              <p:nvPr/>
            </p:nvSpPr>
            <p:spPr>
              <a:xfrm>
                <a:off x="2105280" y="3750840"/>
                <a:ext cx="41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904480" y="3731760"/>
              <a:ext cx="414000" cy="360"/>
              <a:chOff x="2904480" y="3731760"/>
              <a:chExt cx="414000" cy="360"/>
            </a:xfrm>
          </p:grpSpPr>
          <p:sp>
            <p:nvSpPr>
              <p:cNvPr id="500" name="Line 135"/>
              <p:cNvSpPr/>
              <p:nvPr/>
            </p:nvSpPr>
            <p:spPr>
              <a:xfrm>
                <a:off x="2904480" y="3731760"/>
                <a:ext cx="41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>
                <a:off x="2904480" y="3731760"/>
                <a:ext cx="41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3318480" y="2922120"/>
              <a:ext cx="360" cy="809280"/>
              <a:chOff x="3318480" y="2922120"/>
              <a:chExt cx="360" cy="809280"/>
            </a:xfrm>
          </p:grpSpPr>
          <p:sp>
            <p:nvSpPr>
              <p:cNvPr id="503" name="Line 136"/>
              <p:cNvSpPr/>
              <p:nvPr/>
            </p:nvSpPr>
            <p:spPr>
              <a:xfrm flipV="1">
                <a:off x="3318840" y="2922120"/>
                <a:ext cx="0" cy="80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 txBox="1"/>
              <p:nvPr/>
            </p:nvSpPr>
            <p:spPr>
              <a:xfrm rot="10800000">
                <a:off x="3318480" y="2922120"/>
                <a:ext cx="360" cy="80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3384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设计电路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4427640" y="9079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ee0"/>
                </a:solidFill>
                <a:latin typeface="Arial"/>
              </a:rPr>
              <a:t>根据电路图连接实物电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8"/>
          <p:cNvSpPr/>
          <p:nvPr/>
        </p:nvSpPr>
        <p:spPr>
          <a:xfrm>
            <a:off x="4067280" y="429264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xjhsy7" descr="w52"/>
          <p:cNvPicPr/>
          <p:nvPr/>
        </p:nvPicPr>
        <p:blipFill>
          <a:blip r:embed="rId1"/>
          <a:stretch/>
        </p:blipFill>
        <p:spPr>
          <a:xfrm>
            <a:off x="6804000" y="1413000"/>
            <a:ext cx="2016000" cy="1676160"/>
          </a:xfrm>
          <a:prstGeom prst="rect">
            <a:avLst/>
          </a:prstGeom>
          <a:ln w="0">
            <a:noFill/>
          </a:ln>
        </p:spPr>
      </p:pic>
      <p:grpSp>
        <p:nvGrpSpPr>
          <p:cNvPr id="509" name="xjhsy3"/>
          <p:cNvGrpSpPr/>
          <p:nvPr/>
        </p:nvGrpSpPr>
        <p:grpSpPr>
          <a:xfrm>
            <a:off x="4356000" y="3573360"/>
            <a:ext cx="1800360" cy="667800"/>
            <a:chOff x="4356000" y="3573360"/>
            <a:chExt cx="1800360" cy="667800"/>
          </a:xfrm>
        </p:grpSpPr>
        <p:grpSp>
          <p:nvGrpSpPr>
            <p:cNvPr id="510" name="Group 10"/>
            <p:cNvGrpSpPr/>
            <p:nvPr/>
          </p:nvGrpSpPr>
          <p:grpSpPr>
            <a:xfrm>
              <a:off x="4356000" y="3904560"/>
              <a:ext cx="1800360" cy="336600"/>
              <a:chOff x="4356000" y="3904560"/>
              <a:chExt cx="1800360" cy="336600"/>
            </a:xfrm>
          </p:grpSpPr>
          <p:sp>
            <p:nvSpPr>
              <p:cNvPr id="511" name="Freeform 11"/>
              <p:cNvSpPr/>
              <p:nvPr/>
            </p:nvSpPr>
            <p:spPr>
              <a:xfrm flipV="1">
                <a:off x="4356000" y="4174920"/>
                <a:ext cx="1800360" cy="6588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AutoShape 12"/>
              <p:cNvSpPr/>
              <p:nvPr/>
            </p:nvSpPr>
            <p:spPr>
              <a:xfrm>
                <a:off x="5944680" y="3906720"/>
                <a:ext cx="153720" cy="2156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AutoShape 13"/>
              <p:cNvSpPr/>
              <p:nvPr/>
            </p:nvSpPr>
            <p:spPr>
              <a:xfrm>
                <a:off x="4659120" y="3904560"/>
                <a:ext cx="153720" cy="2156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14"/>
            <p:cNvGrpSpPr/>
            <p:nvPr/>
          </p:nvGrpSpPr>
          <p:grpSpPr>
            <a:xfrm>
              <a:off x="5166000" y="3573360"/>
              <a:ext cx="261720" cy="546840"/>
              <a:chOff x="5166000" y="3573360"/>
              <a:chExt cx="261720" cy="546840"/>
            </a:xfrm>
          </p:grpSpPr>
          <p:grpSp>
            <p:nvGrpSpPr>
              <p:cNvPr id="515" name="Group 15"/>
              <p:cNvGrpSpPr/>
              <p:nvPr/>
            </p:nvGrpSpPr>
            <p:grpSpPr>
              <a:xfrm>
                <a:off x="5203080" y="3573360"/>
                <a:ext cx="195120" cy="428400"/>
                <a:chOff x="5203080" y="3573360"/>
                <a:chExt cx="195120" cy="428400"/>
              </a:xfrm>
            </p:grpSpPr>
            <p:grpSp>
              <p:nvGrpSpPr>
                <p:cNvPr id="516" name="Group 16"/>
                <p:cNvGrpSpPr/>
                <p:nvPr/>
              </p:nvGrpSpPr>
              <p:grpSpPr>
                <a:xfrm>
                  <a:off x="5256000" y="3901320"/>
                  <a:ext cx="88200" cy="100440"/>
                  <a:chOff x="5256000" y="3901320"/>
                  <a:chExt cx="88200" cy="100440"/>
                </a:xfrm>
              </p:grpSpPr>
              <p:grpSp>
                <p:nvGrpSpPr>
                  <p:cNvPr id="517" name="Group 17"/>
                  <p:cNvGrpSpPr/>
                  <p:nvPr/>
                </p:nvGrpSpPr>
                <p:grpSpPr>
                  <a:xfrm>
                    <a:off x="5256000" y="3901320"/>
                    <a:ext cx="88200" cy="100440"/>
                    <a:chOff x="5256000" y="3901320"/>
                    <a:chExt cx="88200" cy="100440"/>
                  </a:xfrm>
                </p:grpSpPr>
                <p:grpSp>
                  <p:nvGrpSpPr>
                    <p:cNvPr id="518" name="Group 18"/>
                    <p:cNvGrpSpPr/>
                    <p:nvPr/>
                  </p:nvGrpSpPr>
                  <p:grpSpPr>
                    <a:xfrm>
                      <a:off x="5277960" y="3978720"/>
                      <a:ext cx="48240" cy="23040"/>
                      <a:chOff x="5277960" y="3978720"/>
                      <a:chExt cx="48240" cy="23040"/>
                    </a:xfrm>
                  </p:grpSpPr>
                  <p:sp>
                    <p:nvSpPr>
                      <p:cNvPr id="519" name="Freeform 19"/>
                      <p:cNvSpPr/>
                      <p:nvPr/>
                    </p:nvSpPr>
                    <p:spPr>
                      <a:xfrm>
                        <a:off x="5277960" y="3978720"/>
                        <a:ext cx="4824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Freeform 20"/>
                      <p:cNvSpPr/>
                      <p:nvPr/>
                    </p:nvSpPr>
                    <p:spPr>
                      <a:xfrm>
                        <a:off x="5285520" y="3978720"/>
                        <a:ext cx="216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1" name="Group 21"/>
                    <p:cNvGrpSpPr/>
                    <p:nvPr/>
                  </p:nvGrpSpPr>
                  <p:grpSpPr>
                    <a:xfrm>
                      <a:off x="5256000" y="3901320"/>
                      <a:ext cx="88200" cy="83880"/>
                      <a:chOff x="5256000" y="3901320"/>
                      <a:chExt cx="88200" cy="83880"/>
                    </a:xfrm>
                  </p:grpSpPr>
                  <p:sp>
                    <p:nvSpPr>
                      <p:cNvPr id="522" name="Freeform 22"/>
                      <p:cNvSpPr/>
                      <p:nvPr/>
                    </p:nvSpPr>
                    <p:spPr>
                      <a:xfrm>
                        <a:off x="5256000" y="3901320"/>
                        <a:ext cx="8820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Freeform 23"/>
                      <p:cNvSpPr/>
                      <p:nvPr/>
                    </p:nvSpPr>
                    <p:spPr>
                      <a:xfrm>
                        <a:off x="5256360" y="3912480"/>
                        <a:ext cx="108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Freeform 24"/>
                      <p:cNvSpPr/>
                      <p:nvPr/>
                    </p:nvSpPr>
                    <p:spPr>
                      <a:xfrm>
                        <a:off x="5256720" y="3926880"/>
                        <a:ext cx="144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Freeform 25"/>
                      <p:cNvSpPr/>
                      <p:nvPr/>
                    </p:nvSpPr>
                    <p:spPr>
                      <a:xfrm>
                        <a:off x="5256000" y="3939120"/>
                        <a:ext cx="1692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Freeform 26"/>
                      <p:cNvSpPr/>
                      <p:nvPr/>
                    </p:nvSpPr>
                    <p:spPr>
                      <a:xfrm>
                        <a:off x="5257800" y="3952440"/>
                        <a:ext cx="201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Freeform 27"/>
                      <p:cNvSpPr/>
                      <p:nvPr/>
                    </p:nvSpPr>
                    <p:spPr>
                      <a:xfrm>
                        <a:off x="5258160" y="3904200"/>
                        <a:ext cx="8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Freeform 28"/>
                      <p:cNvSpPr/>
                      <p:nvPr/>
                    </p:nvSpPr>
                    <p:spPr>
                      <a:xfrm>
                        <a:off x="5273280" y="3902040"/>
                        <a:ext cx="709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9" name="Group 29"/>
                  <p:cNvGrpSpPr/>
                  <p:nvPr/>
                </p:nvGrpSpPr>
                <p:grpSpPr>
                  <a:xfrm>
                    <a:off x="5315040" y="3915000"/>
                    <a:ext cx="20880" cy="50760"/>
                    <a:chOff x="5315040" y="3915000"/>
                    <a:chExt cx="20880" cy="50760"/>
                  </a:xfrm>
                </p:grpSpPr>
                <p:sp>
                  <p:nvSpPr>
                    <p:cNvPr id="530" name="Freeform 30"/>
                    <p:cNvSpPr/>
                    <p:nvPr/>
                  </p:nvSpPr>
                  <p:spPr>
                    <a:xfrm>
                      <a:off x="5319000" y="3928320"/>
                      <a:ext cx="162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Freeform 31"/>
                    <p:cNvSpPr/>
                    <p:nvPr/>
                  </p:nvSpPr>
                  <p:spPr>
                    <a:xfrm>
                      <a:off x="5321880" y="394164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Freeform 32"/>
                    <p:cNvSpPr/>
                    <p:nvPr/>
                  </p:nvSpPr>
                  <p:spPr>
                    <a:xfrm>
                      <a:off x="5321160" y="39567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Freeform 33"/>
                    <p:cNvSpPr/>
                    <p:nvPr/>
                  </p:nvSpPr>
                  <p:spPr>
                    <a:xfrm>
                      <a:off x="5315040" y="3915000"/>
                      <a:ext cx="16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34" name="Freeform 34"/>
                <p:cNvSpPr/>
                <p:nvPr/>
              </p:nvSpPr>
              <p:spPr>
                <a:xfrm>
                  <a:off x="5203080" y="3573360"/>
                  <a:ext cx="195120" cy="339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35"/>
                <p:cNvSpPr/>
                <p:nvPr/>
              </p:nvSpPr>
              <p:spPr>
                <a:xfrm>
                  <a:off x="5257800" y="3874320"/>
                  <a:ext cx="85680" cy="342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"/>
                <p:cNvSpPr/>
                <p:nvPr/>
              </p:nvSpPr>
              <p:spPr>
                <a:xfrm>
                  <a:off x="5347080" y="3607200"/>
                  <a:ext cx="32400" cy="50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Group 37"/>
                <p:cNvGrpSpPr/>
                <p:nvPr/>
              </p:nvGrpSpPr>
              <p:grpSpPr>
                <a:xfrm>
                  <a:off x="5273280" y="3675240"/>
                  <a:ext cx="54360" cy="210600"/>
                  <a:chOff x="5273280" y="3675240"/>
                  <a:chExt cx="54360" cy="210600"/>
                </a:xfrm>
              </p:grpSpPr>
              <p:sp>
                <p:nvSpPr>
                  <p:cNvPr id="538" name="Freeform 38"/>
                  <p:cNvSpPr/>
                  <p:nvPr/>
                </p:nvSpPr>
                <p:spPr>
                  <a:xfrm>
                    <a:off x="5283360" y="3763080"/>
                    <a:ext cx="334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39"/>
                  <p:cNvSpPr/>
                  <p:nvPr/>
                </p:nvSpPr>
                <p:spPr>
                  <a:xfrm>
                    <a:off x="5300640" y="3767040"/>
                    <a:ext cx="4320" cy="82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0" name="Group 40"/>
                  <p:cNvGrpSpPr/>
                  <p:nvPr/>
                </p:nvGrpSpPr>
                <p:grpSpPr>
                  <a:xfrm>
                    <a:off x="5273280" y="3675240"/>
                    <a:ext cx="54360" cy="96480"/>
                    <a:chOff x="5273280" y="3675240"/>
                    <a:chExt cx="54360" cy="96480"/>
                  </a:xfrm>
                </p:grpSpPr>
                <p:sp>
                  <p:nvSpPr>
                    <p:cNvPr id="541" name="Oval 41"/>
                    <p:cNvSpPr/>
                    <p:nvPr/>
                  </p:nvSpPr>
                  <p:spPr>
                    <a:xfrm>
                      <a:off x="5276160" y="3675240"/>
                      <a:ext cx="49680" cy="3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Freeform 42"/>
                    <p:cNvSpPr/>
                    <p:nvPr/>
                  </p:nvSpPr>
                  <p:spPr>
                    <a:xfrm>
                      <a:off x="5273280" y="3690000"/>
                      <a:ext cx="5436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Group 43"/>
                  <p:cNvGrpSpPr/>
                  <p:nvPr/>
                </p:nvGrpSpPr>
                <p:grpSpPr>
                  <a:xfrm>
                    <a:off x="5290200" y="3780360"/>
                    <a:ext cx="19080" cy="93960"/>
                    <a:chOff x="5290200" y="3780360"/>
                    <a:chExt cx="19080" cy="93960"/>
                  </a:xfrm>
                </p:grpSpPr>
                <p:grpSp>
                  <p:nvGrpSpPr>
                    <p:cNvPr id="544" name=""/>
                    <p:cNvGrpSpPr/>
                    <p:nvPr/>
                  </p:nvGrpSpPr>
                  <p:grpSpPr>
                    <a:xfrm>
                      <a:off x="5293440" y="3782880"/>
                      <a:ext cx="360" cy="91440"/>
                      <a:chOff x="5293440" y="3782880"/>
                      <a:chExt cx="360" cy="91440"/>
                    </a:xfrm>
                  </p:grpSpPr>
                  <p:sp>
                    <p:nvSpPr>
                      <p:cNvPr id="545" name="Line 44"/>
                      <p:cNvSpPr/>
                      <p:nvPr/>
                    </p:nvSpPr>
                    <p:spPr>
                      <a:xfrm>
                        <a:off x="5293440" y="3782880"/>
                        <a:ext cx="0" cy="914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"/>
                      <p:cNvSpPr txBox="1"/>
                      <p:nvPr/>
                    </p:nvSpPr>
                    <p:spPr>
                      <a:xfrm>
                        <a:off x="5293440" y="3782880"/>
                        <a:ext cx="360" cy="9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640" bIns="44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7" name=""/>
                    <p:cNvGrpSpPr/>
                    <p:nvPr/>
                  </p:nvGrpSpPr>
                  <p:grpSpPr>
                    <a:xfrm>
                      <a:off x="5305680" y="3782880"/>
                      <a:ext cx="720" cy="90720"/>
                      <a:chOff x="5305680" y="3782880"/>
                      <a:chExt cx="720" cy="90720"/>
                    </a:xfrm>
                  </p:grpSpPr>
                  <p:sp>
                    <p:nvSpPr>
                      <p:cNvPr id="548" name="Line 45"/>
                      <p:cNvSpPr/>
                      <p:nvPr/>
                    </p:nvSpPr>
                    <p:spPr>
                      <a:xfrm flipV="1">
                        <a:off x="5306040" y="3782880"/>
                        <a:ext cx="360" cy="907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"/>
                      <p:cNvSpPr txBox="1"/>
                      <p:nvPr/>
                    </p:nvSpPr>
                    <p:spPr>
                      <a:xfrm rot="10800000">
                        <a:off x="5305680" y="3782880"/>
                        <a:ext cx="360" cy="9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3920" bIns="43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0" name=""/>
                    <p:cNvGrpSpPr/>
                    <p:nvPr/>
                  </p:nvGrpSpPr>
                  <p:grpSpPr>
                    <a:xfrm>
                      <a:off x="5308920" y="3780360"/>
                      <a:ext cx="360" cy="91080"/>
                      <a:chOff x="5308920" y="3780360"/>
                      <a:chExt cx="360" cy="91080"/>
                    </a:xfrm>
                  </p:grpSpPr>
                  <p:sp>
                    <p:nvSpPr>
                      <p:cNvPr id="551" name="Line 46"/>
                      <p:cNvSpPr/>
                      <p:nvPr/>
                    </p:nvSpPr>
                    <p:spPr>
                      <a:xfrm flipV="1">
                        <a:off x="5309280" y="378036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"/>
                      <p:cNvSpPr txBox="1"/>
                      <p:nvPr/>
                    </p:nvSpPr>
                    <p:spPr>
                      <a:xfrm rot="10800000">
                        <a:off x="5308920" y="378036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3" name=""/>
                    <p:cNvGrpSpPr/>
                    <p:nvPr/>
                  </p:nvGrpSpPr>
                  <p:grpSpPr>
                    <a:xfrm>
                      <a:off x="5290200" y="3780360"/>
                      <a:ext cx="360" cy="91080"/>
                      <a:chOff x="5290200" y="3780360"/>
                      <a:chExt cx="360" cy="91080"/>
                    </a:xfrm>
                  </p:grpSpPr>
                  <p:sp>
                    <p:nvSpPr>
                      <p:cNvPr id="554" name="Line 47"/>
                      <p:cNvSpPr/>
                      <p:nvPr/>
                    </p:nvSpPr>
                    <p:spPr>
                      <a:xfrm flipV="1">
                        <a:off x="5290560" y="378036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5" name=""/>
                      <p:cNvSpPr txBox="1"/>
                      <p:nvPr/>
                    </p:nvSpPr>
                    <p:spPr>
                      <a:xfrm rot="10800000">
                        <a:off x="5290200" y="378036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56" name="Freeform 48"/>
                <p:cNvSpPr/>
                <p:nvPr/>
              </p:nvSpPr>
              <p:spPr>
                <a:xfrm>
                  <a:off x="5296680" y="3825360"/>
                  <a:ext cx="52560" cy="792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7" name="Rectangle 49"/>
              <p:cNvSpPr/>
              <p:nvPr/>
            </p:nvSpPr>
            <p:spPr>
              <a:xfrm>
                <a:off x="5166000" y="3936240"/>
                <a:ext cx="261720" cy="183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xjhsy3"/>
          <p:cNvGrpSpPr/>
          <p:nvPr/>
        </p:nvGrpSpPr>
        <p:grpSpPr>
          <a:xfrm>
            <a:off x="6516720" y="3213000"/>
            <a:ext cx="2016000" cy="718560"/>
            <a:chOff x="6516720" y="3213000"/>
            <a:chExt cx="2016000" cy="718560"/>
          </a:xfrm>
        </p:grpSpPr>
        <p:grpSp>
          <p:nvGrpSpPr>
            <p:cNvPr id="559" name="Group 51"/>
            <p:cNvGrpSpPr/>
            <p:nvPr/>
          </p:nvGrpSpPr>
          <p:grpSpPr>
            <a:xfrm>
              <a:off x="6516720" y="3569400"/>
              <a:ext cx="2016000" cy="362160"/>
              <a:chOff x="6516720" y="3569400"/>
              <a:chExt cx="2016000" cy="362160"/>
            </a:xfrm>
          </p:grpSpPr>
          <p:sp>
            <p:nvSpPr>
              <p:cNvPr id="560" name="Freeform 52"/>
              <p:cNvSpPr/>
              <p:nvPr/>
            </p:nvSpPr>
            <p:spPr>
              <a:xfrm flipV="1">
                <a:off x="6516720" y="3860280"/>
                <a:ext cx="2016000" cy="7092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53"/>
              <p:cNvSpPr/>
              <p:nvPr/>
            </p:nvSpPr>
            <p:spPr>
              <a:xfrm>
                <a:off x="8295840" y="3571920"/>
                <a:ext cx="172080" cy="2318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utoShape 54"/>
              <p:cNvSpPr/>
              <p:nvPr/>
            </p:nvSpPr>
            <p:spPr>
              <a:xfrm>
                <a:off x="6856200" y="3569400"/>
                <a:ext cx="172080" cy="2318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55"/>
            <p:cNvGrpSpPr/>
            <p:nvPr/>
          </p:nvGrpSpPr>
          <p:grpSpPr>
            <a:xfrm>
              <a:off x="7423560" y="3213000"/>
              <a:ext cx="293040" cy="588240"/>
              <a:chOff x="7423560" y="3213000"/>
              <a:chExt cx="293040" cy="588240"/>
            </a:xfrm>
          </p:grpSpPr>
          <p:grpSp>
            <p:nvGrpSpPr>
              <p:cNvPr id="564" name="Group 56"/>
              <p:cNvGrpSpPr/>
              <p:nvPr/>
            </p:nvGrpSpPr>
            <p:grpSpPr>
              <a:xfrm>
                <a:off x="7465320" y="3213000"/>
                <a:ext cx="218520" cy="460800"/>
                <a:chOff x="7465320" y="3213000"/>
                <a:chExt cx="218520" cy="460800"/>
              </a:xfrm>
            </p:grpSpPr>
            <p:grpSp>
              <p:nvGrpSpPr>
                <p:cNvPr id="565" name="Group 57"/>
                <p:cNvGrpSpPr/>
                <p:nvPr/>
              </p:nvGrpSpPr>
              <p:grpSpPr>
                <a:xfrm>
                  <a:off x="7524720" y="3565800"/>
                  <a:ext cx="98640" cy="108000"/>
                  <a:chOff x="7524720" y="3565800"/>
                  <a:chExt cx="98640" cy="108000"/>
                </a:xfrm>
              </p:grpSpPr>
              <p:grpSp>
                <p:nvGrpSpPr>
                  <p:cNvPr id="566" name="Group 58"/>
                  <p:cNvGrpSpPr/>
                  <p:nvPr/>
                </p:nvGrpSpPr>
                <p:grpSpPr>
                  <a:xfrm>
                    <a:off x="7524720" y="3565800"/>
                    <a:ext cx="98640" cy="108000"/>
                    <a:chOff x="7524720" y="3565800"/>
                    <a:chExt cx="98640" cy="108000"/>
                  </a:xfrm>
                </p:grpSpPr>
                <p:grpSp>
                  <p:nvGrpSpPr>
                    <p:cNvPr id="567" name="Group 59"/>
                    <p:cNvGrpSpPr/>
                    <p:nvPr/>
                  </p:nvGrpSpPr>
                  <p:grpSpPr>
                    <a:xfrm>
                      <a:off x="7549200" y="3648960"/>
                      <a:ext cx="53640" cy="24840"/>
                      <a:chOff x="7549200" y="3648960"/>
                      <a:chExt cx="53640" cy="24840"/>
                    </a:xfrm>
                  </p:grpSpPr>
                  <p:sp>
                    <p:nvSpPr>
                      <p:cNvPr id="568" name="Freeform 60"/>
                      <p:cNvSpPr/>
                      <p:nvPr/>
                    </p:nvSpPr>
                    <p:spPr>
                      <a:xfrm>
                        <a:off x="7549200" y="3648960"/>
                        <a:ext cx="5364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9" name="Freeform 61"/>
                      <p:cNvSpPr/>
                      <p:nvPr/>
                    </p:nvSpPr>
                    <p:spPr>
                      <a:xfrm>
                        <a:off x="7557480" y="3648960"/>
                        <a:ext cx="2376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0" name="Group 62"/>
                    <p:cNvGrpSpPr/>
                    <p:nvPr/>
                  </p:nvGrpSpPr>
                  <p:grpSpPr>
                    <a:xfrm>
                      <a:off x="7524720" y="3565800"/>
                      <a:ext cx="98640" cy="90000"/>
                      <a:chOff x="7524720" y="3565800"/>
                      <a:chExt cx="98640" cy="90000"/>
                    </a:xfrm>
                  </p:grpSpPr>
                  <p:sp>
                    <p:nvSpPr>
                      <p:cNvPr id="571" name="Freeform 63"/>
                      <p:cNvSpPr/>
                      <p:nvPr/>
                    </p:nvSpPr>
                    <p:spPr>
                      <a:xfrm>
                        <a:off x="7524720" y="3565800"/>
                        <a:ext cx="98640" cy="9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2" name="Freeform 64"/>
                      <p:cNvSpPr/>
                      <p:nvPr/>
                    </p:nvSpPr>
                    <p:spPr>
                      <a:xfrm>
                        <a:off x="7525080" y="3577680"/>
                        <a:ext cx="1188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3" name="Freeform 65"/>
                      <p:cNvSpPr/>
                      <p:nvPr/>
                    </p:nvSpPr>
                    <p:spPr>
                      <a:xfrm>
                        <a:off x="7525440" y="3593160"/>
                        <a:ext cx="158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Freeform 66"/>
                      <p:cNvSpPr/>
                      <p:nvPr/>
                    </p:nvSpPr>
                    <p:spPr>
                      <a:xfrm>
                        <a:off x="7524720" y="3606480"/>
                        <a:ext cx="1872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5" name="Freeform 67"/>
                      <p:cNvSpPr/>
                      <p:nvPr/>
                    </p:nvSpPr>
                    <p:spPr>
                      <a:xfrm>
                        <a:off x="7526880" y="3620880"/>
                        <a:ext cx="223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6" name="Freeform 68"/>
                      <p:cNvSpPr/>
                      <p:nvPr/>
                    </p:nvSpPr>
                    <p:spPr>
                      <a:xfrm>
                        <a:off x="7527240" y="3568680"/>
                        <a:ext cx="90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Freeform 69"/>
                      <p:cNvSpPr/>
                      <p:nvPr/>
                    </p:nvSpPr>
                    <p:spPr>
                      <a:xfrm>
                        <a:off x="7544160" y="3566520"/>
                        <a:ext cx="792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78" name="Group 70"/>
                  <p:cNvGrpSpPr/>
                  <p:nvPr/>
                </p:nvGrpSpPr>
                <p:grpSpPr>
                  <a:xfrm>
                    <a:off x="7590600" y="3580200"/>
                    <a:ext cx="23400" cy="54720"/>
                    <a:chOff x="7590600" y="3580200"/>
                    <a:chExt cx="23400" cy="54720"/>
                  </a:xfrm>
                </p:grpSpPr>
                <p:sp>
                  <p:nvSpPr>
                    <p:cNvPr id="579" name="Freeform 71"/>
                    <p:cNvSpPr/>
                    <p:nvPr/>
                  </p:nvSpPr>
                  <p:spPr>
                    <a:xfrm>
                      <a:off x="7594920" y="3594600"/>
                      <a:ext cx="1800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72"/>
                    <p:cNvSpPr/>
                    <p:nvPr/>
                  </p:nvSpPr>
                  <p:spPr>
                    <a:xfrm>
                      <a:off x="7598160" y="3608640"/>
                      <a:ext cx="158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Freeform 73"/>
                    <p:cNvSpPr/>
                    <p:nvPr/>
                  </p:nvSpPr>
                  <p:spPr>
                    <a:xfrm>
                      <a:off x="7597440" y="3625200"/>
                      <a:ext cx="162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Freeform 74"/>
                    <p:cNvSpPr/>
                    <p:nvPr/>
                  </p:nvSpPr>
                  <p:spPr>
                    <a:xfrm>
                      <a:off x="7590600" y="3580200"/>
                      <a:ext cx="183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83" name="Freeform 75"/>
                <p:cNvSpPr/>
                <p:nvPr/>
              </p:nvSpPr>
              <p:spPr>
                <a:xfrm>
                  <a:off x="7465320" y="3213000"/>
                  <a:ext cx="218520" cy="36504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Oval 76"/>
                <p:cNvSpPr/>
                <p:nvPr/>
              </p:nvSpPr>
              <p:spPr>
                <a:xfrm>
                  <a:off x="7526520" y="3536640"/>
                  <a:ext cx="95760" cy="3708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77"/>
                <p:cNvSpPr/>
                <p:nvPr/>
              </p:nvSpPr>
              <p:spPr>
                <a:xfrm>
                  <a:off x="7626600" y="3249720"/>
                  <a:ext cx="36360" cy="540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" name="Group 78"/>
                <p:cNvGrpSpPr/>
                <p:nvPr/>
              </p:nvGrpSpPr>
              <p:grpSpPr>
                <a:xfrm>
                  <a:off x="7544160" y="3322800"/>
                  <a:ext cx="60840" cy="226440"/>
                  <a:chOff x="7544160" y="3322800"/>
                  <a:chExt cx="60840" cy="226440"/>
                </a:xfrm>
              </p:grpSpPr>
              <p:sp>
                <p:nvSpPr>
                  <p:cNvPr id="587" name="Freeform 79"/>
                  <p:cNvSpPr/>
                  <p:nvPr/>
                </p:nvSpPr>
                <p:spPr>
                  <a:xfrm>
                    <a:off x="7555680" y="3417120"/>
                    <a:ext cx="374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Oval 80"/>
                  <p:cNvSpPr/>
                  <p:nvPr/>
                </p:nvSpPr>
                <p:spPr>
                  <a:xfrm>
                    <a:off x="7574760" y="3421440"/>
                    <a:ext cx="4680" cy="90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9" name="Group 81"/>
                  <p:cNvGrpSpPr/>
                  <p:nvPr/>
                </p:nvGrpSpPr>
                <p:grpSpPr>
                  <a:xfrm>
                    <a:off x="7544160" y="3322800"/>
                    <a:ext cx="60840" cy="103320"/>
                    <a:chOff x="7544160" y="3322800"/>
                    <a:chExt cx="60840" cy="103320"/>
                  </a:xfrm>
                </p:grpSpPr>
                <p:sp>
                  <p:nvSpPr>
                    <p:cNvPr id="590" name="Oval 82"/>
                    <p:cNvSpPr/>
                    <p:nvPr/>
                  </p:nvSpPr>
                  <p:spPr>
                    <a:xfrm>
                      <a:off x="7547760" y="3322800"/>
                      <a:ext cx="55800" cy="35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Freeform 83"/>
                    <p:cNvSpPr/>
                    <p:nvPr/>
                  </p:nvSpPr>
                  <p:spPr>
                    <a:xfrm>
                      <a:off x="7544160" y="3338640"/>
                      <a:ext cx="6084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Group 84"/>
                  <p:cNvGrpSpPr/>
                  <p:nvPr/>
                </p:nvGrpSpPr>
                <p:grpSpPr>
                  <a:xfrm>
                    <a:off x="7562880" y="3436200"/>
                    <a:ext cx="21240" cy="100800"/>
                    <a:chOff x="7562880" y="3436200"/>
                    <a:chExt cx="21240" cy="100800"/>
                  </a:xfrm>
                </p:grpSpPr>
                <p:grpSp>
                  <p:nvGrpSpPr>
                    <p:cNvPr id="593" name=""/>
                    <p:cNvGrpSpPr/>
                    <p:nvPr/>
                  </p:nvGrpSpPr>
                  <p:grpSpPr>
                    <a:xfrm>
                      <a:off x="7566480" y="3438720"/>
                      <a:ext cx="360" cy="98280"/>
                      <a:chOff x="7566480" y="3438720"/>
                      <a:chExt cx="360" cy="98280"/>
                    </a:xfrm>
                  </p:grpSpPr>
                  <p:sp>
                    <p:nvSpPr>
                      <p:cNvPr id="594" name="Line 85"/>
                      <p:cNvSpPr/>
                      <p:nvPr/>
                    </p:nvSpPr>
                    <p:spPr>
                      <a:xfrm>
                        <a:off x="7566480" y="3438720"/>
                        <a:ext cx="0" cy="982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"/>
                      <p:cNvSpPr txBox="1"/>
                      <p:nvPr/>
                    </p:nvSpPr>
                    <p:spPr>
                      <a:xfrm>
                        <a:off x="7566480" y="3438720"/>
                        <a:ext cx="360" cy="9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6" name=""/>
                    <p:cNvGrpSpPr/>
                    <p:nvPr/>
                  </p:nvGrpSpPr>
                  <p:grpSpPr>
                    <a:xfrm>
                      <a:off x="7580160" y="3438720"/>
                      <a:ext cx="720" cy="97920"/>
                      <a:chOff x="7580160" y="3438720"/>
                      <a:chExt cx="720" cy="97920"/>
                    </a:xfrm>
                  </p:grpSpPr>
                  <p:sp>
                    <p:nvSpPr>
                      <p:cNvPr id="597" name="Line 86"/>
                      <p:cNvSpPr/>
                      <p:nvPr/>
                    </p:nvSpPr>
                    <p:spPr>
                      <a:xfrm flipV="1">
                        <a:off x="7580520" y="3438720"/>
                        <a:ext cx="360" cy="979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"/>
                      <p:cNvSpPr txBox="1"/>
                      <p:nvPr/>
                    </p:nvSpPr>
                    <p:spPr>
                      <a:xfrm rot="10800000">
                        <a:off x="7580160" y="3438720"/>
                        <a:ext cx="360" cy="9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9" name=""/>
                    <p:cNvGrpSpPr/>
                    <p:nvPr/>
                  </p:nvGrpSpPr>
                  <p:grpSpPr>
                    <a:xfrm>
                      <a:off x="7583760" y="3436200"/>
                      <a:ext cx="360" cy="97920"/>
                      <a:chOff x="7583760" y="3436200"/>
                      <a:chExt cx="360" cy="97920"/>
                    </a:xfrm>
                  </p:grpSpPr>
                  <p:sp>
                    <p:nvSpPr>
                      <p:cNvPr id="600" name="Line 87"/>
                      <p:cNvSpPr/>
                      <p:nvPr/>
                    </p:nvSpPr>
                    <p:spPr>
                      <a:xfrm flipV="1">
                        <a:off x="7584120" y="3436200"/>
                        <a:ext cx="0" cy="979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"/>
                      <p:cNvSpPr txBox="1"/>
                      <p:nvPr/>
                    </p:nvSpPr>
                    <p:spPr>
                      <a:xfrm rot="10800000">
                        <a:off x="7583760" y="3436200"/>
                        <a:ext cx="360" cy="9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2" name=""/>
                    <p:cNvGrpSpPr/>
                    <p:nvPr/>
                  </p:nvGrpSpPr>
                  <p:grpSpPr>
                    <a:xfrm>
                      <a:off x="7562880" y="3436200"/>
                      <a:ext cx="360" cy="97920"/>
                      <a:chOff x="7562880" y="3436200"/>
                      <a:chExt cx="360" cy="97920"/>
                    </a:xfrm>
                  </p:grpSpPr>
                  <p:sp>
                    <p:nvSpPr>
                      <p:cNvPr id="603" name="Line 88"/>
                      <p:cNvSpPr/>
                      <p:nvPr/>
                    </p:nvSpPr>
                    <p:spPr>
                      <a:xfrm flipV="1">
                        <a:off x="7563240" y="3436200"/>
                        <a:ext cx="0" cy="979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"/>
                      <p:cNvSpPr txBox="1"/>
                      <p:nvPr/>
                    </p:nvSpPr>
                    <p:spPr>
                      <a:xfrm rot="10800000">
                        <a:off x="7562880" y="3436200"/>
                        <a:ext cx="360" cy="9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5" name="Freeform 89"/>
                <p:cNvSpPr/>
                <p:nvPr/>
              </p:nvSpPr>
              <p:spPr>
                <a:xfrm>
                  <a:off x="7570440" y="3484080"/>
                  <a:ext cx="59040" cy="8532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" name="Rectangle 90"/>
              <p:cNvSpPr/>
              <p:nvPr/>
            </p:nvSpPr>
            <p:spPr>
              <a:xfrm>
                <a:off x="7423560" y="3603240"/>
                <a:ext cx="293040" cy="1980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7" name="xjhsy4" descr="w3"/>
          <p:cNvPicPr/>
          <p:nvPr/>
        </p:nvPicPr>
        <p:blipFill>
          <a:blip r:embed="rId4"/>
          <a:stretch/>
        </p:blipFill>
        <p:spPr>
          <a:xfrm>
            <a:off x="3995640" y="5084640"/>
            <a:ext cx="2185920" cy="1082880"/>
          </a:xfrm>
          <a:prstGeom prst="rect">
            <a:avLst/>
          </a:prstGeom>
          <a:ln w="0">
            <a:noFill/>
          </a:ln>
        </p:spPr>
      </p:pic>
      <p:pic>
        <p:nvPicPr>
          <p:cNvPr id="608" name="xjhsy8" descr="w7"/>
          <p:cNvPicPr/>
          <p:nvPr/>
        </p:nvPicPr>
        <p:blipFill>
          <a:blip r:embed="rId5"/>
          <a:stretch/>
        </p:blipFill>
        <p:spPr>
          <a:xfrm>
            <a:off x="6804000" y="4797360"/>
            <a:ext cx="2087640" cy="1243080"/>
          </a:xfrm>
          <a:prstGeom prst="rect">
            <a:avLst/>
          </a:prstGeom>
          <a:ln w="0">
            <a:noFill/>
          </a:ln>
        </p:spPr>
      </p:pic>
      <p:sp>
        <p:nvSpPr>
          <p:cNvPr id="609" name="Freeform 110"/>
          <p:cNvSpPr/>
          <p:nvPr/>
        </p:nvSpPr>
        <p:spPr>
          <a:xfrm>
            <a:off x="7596360" y="2492280"/>
            <a:ext cx="1152360" cy="1152720"/>
          </a:xfrm>
          <a:custGeom>
            <a:avLst/>
            <a:gdLst/>
            <a:ahLst/>
            <a:rect l="l" t="t" r="r" b="b"/>
            <a:pathLst>
              <a:path w="529" h="1056">
                <a:moveTo>
                  <a:pt x="0" y="0"/>
                </a:moveTo>
                <a:cubicBezTo>
                  <a:pt x="33" y="4"/>
                  <a:pt x="92" y="8"/>
                  <a:pt x="128" y="22"/>
                </a:cubicBezTo>
                <a:cubicBezTo>
                  <a:pt x="240" y="64"/>
                  <a:pt x="101" y="25"/>
                  <a:pt x="213" y="54"/>
                </a:cubicBezTo>
                <a:cubicBezTo>
                  <a:pt x="244" y="74"/>
                  <a:pt x="264" y="85"/>
                  <a:pt x="288" y="118"/>
                </a:cubicBezTo>
                <a:cubicBezTo>
                  <a:pt x="351" y="208"/>
                  <a:pt x="244" y="99"/>
                  <a:pt x="320" y="171"/>
                </a:cubicBezTo>
                <a:cubicBezTo>
                  <a:pt x="327" y="192"/>
                  <a:pt x="329" y="216"/>
                  <a:pt x="341" y="235"/>
                </a:cubicBezTo>
                <a:cubicBezTo>
                  <a:pt x="359" y="263"/>
                  <a:pt x="366" y="267"/>
                  <a:pt x="373" y="299"/>
                </a:cubicBezTo>
                <a:cubicBezTo>
                  <a:pt x="378" y="320"/>
                  <a:pt x="379" y="342"/>
                  <a:pt x="384" y="363"/>
                </a:cubicBezTo>
                <a:cubicBezTo>
                  <a:pt x="392" y="396"/>
                  <a:pt x="410" y="426"/>
                  <a:pt x="416" y="459"/>
                </a:cubicBezTo>
                <a:cubicBezTo>
                  <a:pt x="419" y="477"/>
                  <a:pt x="419" y="495"/>
                  <a:pt x="426" y="512"/>
                </a:cubicBezTo>
                <a:cubicBezTo>
                  <a:pt x="430" y="522"/>
                  <a:pt x="441" y="527"/>
                  <a:pt x="448" y="534"/>
                </a:cubicBezTo>
                <a:cubicBezTo>
                  <a:pt x="451" y="548"/>
                  <a:pt x="452" y="563"/>
                  <a:pt x="458" y="576"/>
                </a:cubicBezTo>
                <a:cubicBezTo>
                  <a:pt x="463" y="585"/>
                  <a:pt x="475" y="589"/>
                  <a:pt x="480" y="598"/>
                </a:cubicBezTo>
                <a:cubicBezTo>
                  <a:pt x="486" y="611"/>
                  <a:pt x="486" y="626"/>
                  <a:pt x="490" y="640"/>
                </a:cubicBezTo>
                <a:cubicBezTo>
                  <a:pt x="497" y="662"/>
                  <a:pt x="505" y="683"/>
                  <a:pt x="512" y="704"/>
                </a:cubicBezTo>
                <a:cubicBezTo>
                  <a:pt x="516" y="715"/>
                  <a:pt x="522" y="736"/>
                  <a:pt x="522" y="736"/>
                </a:cubicBezTo>
                <a:cubicBezTo>
                  <a:pt x="517" y="806"/>
                  <a:pt x="529" y="882"/>
                  <a:pt x="480" y="939"/>
                </a:cubicBezTo>
                <a:cubicBezTo>
                  <a:pt x="467" y="954"/>
                  <a:pt x="448" y="965"/>
                  <a:pt x="437" y="982"/>
                </a:cubicBezTo>
                <a:cubicBezTo>
                  <a:pt x="430" y="993"/>
                  <a:pt x="424" y="1004"/>
                  <a:pt x="416" y="1014"/>
                </a:cubicBezTo>
                <a:cubicBezTo>
                  <a:pt x="407" y="1025"/>
                  <a:pt x="343" y="1056"/>
                  <a:pt x="373" y="10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96"/>
          <p:cNvSpPr/>
          <p:nvPr/>
        </p:nvSpPr>
        <p:spPr>
          <a:xfrm>
            <a:off x="3780000" y="4005360"/>
            <a:ext cx="863280" cy="1800000"/>
          </a:xfrm>
          <a:custGeom>
            <a:avLst/>
            <a:gdLst/>
            <a:ahLst/>
            <a:rect l="l" t="t" r="r" b="b"/>
            <a:pathLst>
              <a:path w="602" h="1099">
                <a:moveTo>
                  <a:pt x="602" y="0"/>
                </a:moveTo>
                <a:cubicBezTo>
                  <a:pt x="299" y="23"/>
                  <a:pt x="408" y="0"/>
                  <a:pt x="271" y="32"/>
                </a:cubicBezTo>
                <a:cubicBezTo>
                  <a:pt x="170" y="83"/>
                  <a:pt x="211" y="56"/>
                  <a:pt x="143" y="107"/>
                </a:cubicBezTo>
                <a:cubicBezTo>
                  <a:pt x="123" y="137"/>
                  <a:pt x="95" y="160"/>
                  <a:pt x="79" y="192"/>
                </a:cubicBezTo>
                <a:cubicBezTo>
                  <a:pt x="54" y="244"/>
                  <a:pt x="29" y="307"/>
                  <a:pt x="15" y="363"/>
                </a:cubicBezTo>
                <a:cubicBezTo>
                  <a:pt x="17" y="419"/>
                  <a:pt x="0" y="772"/>
                  <a:pt x="68" y="896"/>
                </a:cubicBezTo>
                <a:cubicBezTo>
                  <a:pt x="87" y="930"/>
                  <a:pt x="111" y="960"/>
                  <a:pt x="132" y="992"/>
                </a:cubicBezTo>
                <a:cubicBezTo>
                  <a:pt x="158" y="1032"/>
                  <a:pt x="232" y="1047"/>
                  <a:pt x="271" y="1067"/>
                </a:cubicBezTo>
                <a:cubicBezTo>
                  <a:pt x="330" y="1096"/>
                  <a:pt x="348" y="1099"/>
                  <a:pt x="420" y="109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93"/>
          <p:cNvSpPr/>
          <p:nvPr/>
        </p:nvSpPr>
        <p:spPr>
          <a:xfrm>
            <a:off x="5364000" y="5589720"/>
            <a:ext cx="1928880" cy="287280"/>
          </a:xfrm>
          <a:custGeom>
            <a:avLst/>
            <a:gdLst/>
            <a:ahLst/>
            <a:rect l="l" t="t" r="r" b="b"/>
            <a:pathLst>
              <a:path w="1034" h="161">
                <a:moveTo>
                  <a:pt x="0" y="108"/>
                </a:moveTo>
                <a:cubicBezTo>
                  <a:pt x="75" y="133"/>
                  <a:pt x="43" y="122"/>
                  <a:pt x="96" y="140"/>
                </a:cubicBezTo>
                <a:cubicBezTo>
                  <a:pt x="124" y="149"/>
                  <a:pt x="181" y="161"/>
                  <a:pt x="181" y="161"/>
                </a:cubicBezTo>
                <a:cubicBezTo>
                  <a:pt x="443" y="153"/>
                  <a:pt x="493" y="157"/>
                  <a:pt x="682" y="118"/>
                </a:cubicBezTo>
                <a:cubicBezTo>
                  <a:pt x="766" y="63"/>
                  <a:pt x="861" y="37"/>
                  <a:pt x="960" y="22"/>
                </a:cubicBezTo>
                <a:cubicBezTo>
                  <a:pt x="1027" y="0"/>
                  <a:pt x="1002" y="1"/>
                  <a:pt x="1034" y="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94"/>
          <p:cNvSpPr/>
          <p:nvPr/>
        </p:nvSpPr>
        <p:spPr>
          <a:xfrm>
            <a:off x="8388360" y="3716280"/>
            <a:ext cx="360360" cy="1873440"/>
          </a:xfrm>
          <a:custGeom>
            <a:avLst/>
            <a:gdLst/>
            <a:ahLst/>
            <a:rect l="l" t="t" r="r" b="b"/>
            <a:pathLst>
              <a:path w="593" h="1232">
                <a:moveTo>
                  <a:pt x="0" y="1232"/>
                </a:moveTo>
                <a:cubicBezTo>
                  <a:pt x="60" y="1229"/>
                  <a:pt x="121" y="1229"/>
                  <a:pt x="181" y="1222"/>
                </a:cubicBezTo>
                <a:cubicBezTo>
                  <a:pt x="232" y="1216"/>
                  <a:pt x="280" y="1198"/>
                  <a:pt x="331" y="1190"/>
                </a:cubicBezTo>
                <a:cubicBezTo>
                  <a:pt x="409" y="1136"/>
                  <a:pt x="399" y="1074"/>
                  <a:pt x="437" y="998"/>
                </a:cubicBezTo>
                <a:cubicBezTo>
                  <a:pt x="463" y="823"/>
                  <a:pt x="493" y="649"/>
                  <a:pt x="523" y="475"/>
                </a:cubicBezTo>
                <a:cubicBezTo>
                  <a:pt x="512" y="149"/>
                  <a:pt x="593" y="134"/>
                  <a:pt x="373" y="27"/>
                </a:cubicBezTo>
                <a:cubicBezTo>
                  <a:pt x="362" y="21"/>
                  <a:pt x="354" y="7"/>
                  <a:pt x="341" y="6"/>
                </a:cubicBezTo>
                <a:cubicBezTo>
                  <a:pt x="281" y="0"/>
                  <a:pt x="220" y="6"/>
                  <a:pt x="160" y="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95"/>
          <p:cNvSpPr/>
          <p:nvPr/>
        </p:nvSpPr>
        <p:spPr>
          <a:xfrm>
            <a:off x="5940360" y="3716280"/>
            <a:ext cx="936720" cy="422280"/>
          </a:xfrm>
          <a:custGeom>
            <a:avLst/>
            <a:gdLst/>
            <a:ahLst/>
            <a:rect l="l" t="t" r="r" b="b"/>
            <a:pathLst>
              <a:path w="683" h="266">
                <a:moveTo>
                  <a:pt x="683" y="0"/>
                </a:moveTo>
                <a:cubicBezTo>
                  <a:pt x="615" y="16"/>
                  <a:pt x="549" y="33"/>
                  <a:pt x="480" y="42"/>
                </a:cubicBezTo>
                <a:cubicBezTo>
                  <a:pt x="380" y="76"/>
                  <a:pt x="275" y="99"/>
                  <a:pt x="171" y="117"/>
                </a:cubicBezTo>
                <a:cubicBezTo>
                  <a:pt x="150" y="131"/>
                  <a:pt x="125" y="142"/>
                  <a:pt x="107" y="160"/>
                </a:cubicBezTo>
                <a:cubicBezTo>
                  <a:pt x="96" y="171"/>
                  <a:pt x="88" y="184"/>
                  <a:pt x="75" y="192"/>
                </a:cubicBezTo>
                <a:cubicBezTo>
                  <a:pt x="52" y="207"/>
                  <a:pt x="24" y="212"/>
                  <a:pt x="0" y="224"/>
                </a:cubicBezTo>
                <a:cubicBezTo>
                  <a:pt x="47" y="259"/>
                  <a:pt x="30" y="244"/>
                  <a:pt x="54" y="26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42"/>
          <p:cNvGrpSpPr/>
          <p:nvPr/>
        </p:nvGrpSpPr>
        <p:grpSpPr>
          <a:xfrm>
            <a:off x="468360" y="2276640"/>
            <a:ext cx="2952720" cy="2620800"/>
            <a:chOff x="468360" y="2276640"/>
            <a:chExt cx="2952720" cy="2620800"/>
          </a:xfrm>
        </p:grpSpPr>
        <p:grpSp>
          <p:nvGrpSpPr>
            <p:cNvPr id="615" name=""/>
            <p:cNvGrpSpPr/>
            <p:nvPr/>
          </p:nvGrpSpPr>
          <p:grpSpPr>
            <a:xfrm>
              <a:off x="538560" y="4361400"/>
              <a:ext cx="597600" cy="360"/>
              <a:chOff x="538560" y="4361400"/>
              <a:chExt cx="597600" cy="360"/>
            </a:xfrm>
          </p:grpSpPr>
          <p:sp>
            <p:nvSpPr>
              <p:cNvPr id="616" name="Line 143"/>
              <p:cNvSpPr/>
              <p:nvPr/>
            </p:nvSpPr>
            <p:spPr>
              <a:xfrm flipH="1">
                <a:off x="538560" y="4361400"/>
                <a:ext cx="59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 txBox="1"/>
              <p:nvPr/>
            </p:nvSpPr>
            <p:spPr>
              <a:xfrm>
                <a:off x="538560" y="4361400"/>
                <a:ext cx="597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Oval 144"/>
            <p:cNvSpPr/>
            <p:nvPr/>
          </p:nvSpPr>
          <p:spPr>
            <a:xfrm>
              <a:off x="2392920" y="4315320"/>
              <a:ext cx="83880" cy="91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145"/>
            <p:cNvGrpSpPr/>
            <p:nvPr/>
          </p:nvGrpSpPr>
          <p:grpSpPr>
            <a:xfrm>
              <a:off x="468360" y="2276640"/>
              <a:ext cx="2952720" cy="2620800"/>
              <a:chOff x="468360" y="2276640"/>
              <a:chExt cx="2952720" cy="2620800"/>
            </a:xfrm>
          </p:grpSpPr>
          <p:sp>
            <p:nvSpPr>
              <p:cNvPr id="620" name="Text Box 146"/>
              <p:cNvSpPr/>
              <p:nvPr/>
            </p:nvSpPr>
            <p:spPr>
              <a:xfrm>
                <a:off x="2214000" y="2745000"/>
                <a:ext cx="69444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147"/>
              <p:cNvSpPr/>
              <p:nvPr/>
            </p:nvSpPr>
            <p:spPr>
              <a:xfrm>
                <a:off x="1128240" y="2737440"/>
                <a:ext cx="69444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2" name=""/>
              <p:cNvGrpSpPr/>
              <p:nvPr/>
            </p:nvGrpSpPr>
            <p:grpSpPr>
              <a:xfrm>
                <a:off x="1195920" y="4359600"/>
                <a:ext cx="476640" cy="360"/>
                <a:chOff x="1195920" y="4359600"/>
                <a:chExt cx="476640" cy="360"/>
              </a:xfrm>
            </p:grpSpPr>
            <p:sp>
              <p:nvSpPr>
                <p:cNvPr id="623" name="Line 148"/>
                <p:cNvSpPr/>
                <p:nvPr/>
              </p:nvSpPr>
              <p:spPr>
                <a:xfrm>
                  <a:off x="1195920" y="4359600"/>
                  <a:ext cx="47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 txBox="1"/>
                <p:nvPr/>
              </p:nvSpPr>
              <p:spPr>
                <a:xfrm>
                  <a:off x="1195920" y="4359600"/>
                  <a:ext cx="47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Group 149"/>
              <p:cNvGrpSpPr/>
              <p:nvPr/>
            </p:nvGrpSpPr>
            <p:grpSpPr>
              <a:xfrm>
                <a:off x="1168200" y="2280240"/>
                <a:ext cx="375840" cy="396720"/>
                <a:chOff x="1168200" y="2280240"/>
                <a:chExt cx="375840" cy="396720"/>
              </a:xfrm>
            </p:grpSpPr>
            <p:sp>
              <p:nvSpPr>
                <p:cNvPr id="626" name="Oval 150"/>
                <p:cNvSpPr/>
                <p:nvPr/>
              </p:nvSpPr>
              <p:spPr>
                <a:xfrm>
                  <a:off x="1168200" y="2280240"/>
                  <a:ext cx="375840" cy="3967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7" name="Group 151"/>
                <p:cNvGrpSpPr/>
                <p:nvPr/>
              </p:nvGrpSpPr>
              <p:grpSpPr>
                <a:xfrm>
                  <a:off x="1225440" y="2341080"/>
                  <a:ext cx="260640" cy="274680"/>
                  <a:chOff x="1225440" y="2341080"/>
                  <a:chExt cx="260640" cy="274680"/>
                </a:xfrm>
              </p:grpSpPr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1225800" y="2341080"/>
                    <a:ext cx="260280" cy="274680"/>
                    <a:chOff x="1225800" y="2341080"/>
                    <a:chExt cx="260280" cy="274680"/>
                  </a:xfrm>
                </p:grpSpPr>
                <p:sp>
                  <p:nvSpPr>
                    <p:cNvPr id="629" name="Line 152"/>
                    <p:cNvSpPr/>
                    <p:nvPr/>
                  </p:nvSpPr>
                  <p:spPr>
                    <a:xfrm>
                      <a:off x="1225800" y="2341080"/>
                      <a:ext cx="260280" cy="27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"/>
                    <p:cNvSpPr txBox="1"/>
                    <p:nvPr/>
                  </p:nvSpPr>
                  <p:spPr>
                    <a:xfrm>
                      <a:off x="1225800" y="2341080"/>
                      <a:ext cx="26028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1" name=""/>
                  <p:cNvGrpSpPr/>
                  <p:nvPr/>
                </p:nvGrpSpPr>
                <p:grpSpPr>
                  <a:xfrm>
                    <a:off x="1225440" y="2341080"/>
                    <a:ext cx="260640" cy="274680"/>
                    <a:chOff x="1225440" y="2341080"/>
                    <a:chExt cx="260640" cy="274680"/>
                  </a:xfrm>
                </p:grpSpPr>
                <p:sp>
                  <p:nvSpPr>
                    <p:cNvPr id="632" name="Line 153"/>
                    <p:cNvSpPr/>
                    <p:nvPr/>
                  </p:nvSpPr>
                  <p:spPr>
                    <a:xfrm flipH="1">
                      <a:off x="1225440" y="2341080"/>
                      <a:ext cx="260280" cy="27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"/>
                    <p:cNvSpPr txBox="1"/>
                    <p:nvPr/>
                  </p:nvSpPr>
                  <p:spPr>
                    <a:xfrm>
                      <a:off x="1225800" y="2341080"/>
                      <a:ext cx="26028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34" name=""/>
              <p:cNvGrpSpPr/>
              <p:nvPr/>
            </p:nvGrpSpPr>
            <p:grpSpPr>
              <a:xfrm>
                <a:off x="538200" y="2467440"/>
                <a:ext cx="643680" cy="360"/>
                <a:chOff x="538200" y="2467440"/>
                <a:chExt cx="643680" cy="360"/>
              </a:xfrm>
            </p:grpSpPr>
            <p:sp>
              <p:nvSpPr>
                <p:cNvPr id="635" name="Line 154"/>
                <p:cNvSpPr/>
                <p:nvPr/>
              </p:nvSpPr>
              <p:spPr>
                <a:xfrm flipH="1">
                  <a:off x="538200" y="2467440"/>
                  <a:ext cx="643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 txBox="1"/>
                <p:nvPr/>
              </p:nvSpPr>
              <p:spPr>
                <a:xfrm>
                  <a:off x="538560" y="2467440"/>
                  <a:ext cx="643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2718000" y="2461320"/>
                <a:ext cx="629280" cy="360"/>
                <a:chOff x="2718000" y="2461320"/>
                <a:chExt cx="629280" cy="360"/>
              </a:xfrm>
            </p:grpSpPr>
            <p:sp>
              <p:nvSpPr>
                <p:cNvPr id="638" name="Line 155"/>
                <p:cNvSpPr/>
                <p:nvPr/>
              </p:nvSpPr>
              <p:spPr>
                <a:xfrm flipH="1">
                  <a:off x="2718000" y="2461320"/>
                  <a:ext cx="629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 txBox="1"/>
                <p:nvPr/>
              </p:nvSpPr>
              <p:spPr>
                <a:xfrm>
                  <a:off x="2718000" y="2461320"/>
                  <a:ext cx="629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2929320" y="4343760"/>
                <a:ext cx="418320" cy="360"/>
                <a:chOff x="2929320" y="4343760"/>
                <a:chExt cx="418320" cy="360"/>
              </a:xfrm>
            </p:grpSpPr>
            <p:sp>
              <p:nvSpPr>
                <p:cNvPr id="641" name="Line 156"/>
                <p:cNvSpPr/>
                <p:nvPr/>
              </p:nvSpPr>
              <p:spPr>
                <a:xfrm flipH="1">
                  <a:off x="2929320" y="4343760"/>
                  <a:ext cx="417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 txBox="1"/>
                <p:nvPr/>
              </p:nvSpPr>
              <p:spPr>
                <a:xfrm>
                  <a:off x="2929680" y="4343760"/>
                  <a:ext cx="417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347640" y="2463120"/>
                <a:ext cx="360" cy="1878480"/>
                <a:chOff x="3347640" y="2463120"/>
                <a:chExt cx="360" cy="1878480"/>
              </a:xfrm>
            </p:grpSpPr>
            <p:sp>
              <p:nvSpPr>
                <p:cNvPr id="644" name="Line 157"/>
                <p:cNvSpPr/>
                <p:nvPr/>
              </p:nvSpPr>
              <p:spPr>
                <a:xfrm>
                  <a:off x="3347640" y="2463120"/>
                  <a:ext cx="0" cy="1878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 txBox="1"/>
                <p:nvPr/>
              </p:nvSpPr>
              <p:spPr>
                <a:xfrm>
                  <a:off x="3347640" y="2463120"/>
                  <a:ext cx="360" cy="187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538560" y="2480040"/>
                <a:ext cx="360" cy="1880640"/>
                <a:chOff x="538560" y="2480040"/>
                <a:chExt cx="360" cy="1880640"/>
              </a:xfrm>
            </p:grpSpPr>
            <p:sp>
              <p:nvSpPr>
                <p:cNvPr id="647" name="Line 158"/>
                <p:cNvSpPr/>
                <p:nvPr/>
              </p:nvSpPr>
              <p:spPr>
                <a:xfrm>
                  <a:off x="538560" y="2480040"/>
                  <a:ext cx="0" cy="188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 txBox="1"/>
                <p:nvPr/>
              </p:nvSpPr>
              <p:spPr>
                <a:xfrm>
                  <a:off x="538560" y="2480040"/>
                  <a:ext cx="360" cy="188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2446560" y="4105800"/>
                <a:ext cx="490320" cy="223200"/>
                <a:chOff x="2446560" y="4105800"/>
                <a:chExt cx="490320" cy="223200"/>
              </a:xfrm>
            </p:grpSpPr>
            <p:sp>
              <p:nvSpPr>
                <p:cNvPr id="650" name="Line 159"/>
                <p:cNvSpPr/>
                <p:nvPr/>
              </p:nvSpPr>
              <p:spPr>
                <a:xfrm flipH="1">
                  <a:off x="2446560" y="4105800"/>
                  <a:ext cx="49032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 txBox="1"/>
                <p:nvPr/>
              </p:nvSpPr>
              <p:spPr>
                <a:xfrm>
                  <a:off x="2446560" y="4105800"/>
                  <a:ext cx="490320" cy="22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538560" y="3410280"/>
                <a:ext cx="1215000" cy="360"/>
                <a:chOff x="538560" y="3410280"/>
                <a:chExt cx="1215000" cy="360"/>
              </a:xfrm>
            </p:grpSpPr>
            <p:sp>
              <p:nvSpPr>
                <p:cNvPr id="653" name="Line 160"/>
                <p:cNvSpPr/>
                <p:nvPr/>
              </p:nvSpPr>
              <p:spPr>
                <a:xfrm>
                  <a:off x="538560" y="3410280"/>
                  <a:ext cx="1215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 txBox="1"/>
                <p:nvPr/>
              </p:nvSpPr>
              <p:spPr>
                <a:xfrm>
                  <a:off x="538560" y="3410280"/>
                  <a:ext cx="1215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2101680" y="3410280"/>
                <a:ext cx="1238040" cy="360"/>
                <a:chOff x="2101680" y="3410280"/>
                <a:chExt cx="1238040" cy="360"/>
              </a:xfrm>
            </p:grpSpPr>
            <p:sp>
              <p:nvSpPr>
                <p:cNvPr id="656" name="Line 161"/>
                <p:cNvSpPr/>
                <p:nvPr/>
              </p:nvSpPr>
              <p:spPr>
                <a:xfrm>
                  <a:off x="2101680" y="3410280"/>
                  <a:ext cx="1238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 txBox="1"/>
                <p:nvPr/>
              </p:nvSpPr>
              <p:spPr>
                <a:xfrm>
                  <a:off x="2101680" y="3410280"/>
                  <a:ext cx="1238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Group 162"/>
              <p:cNvGrpSpPr/>
              <p:nvPr/>
            </p:nvGrpSpPr>
            <p:grpSpPr>
              <a:xfrm>
                <a:off x="2314800" y="2276640"/>
                <a:ext cx="375480" cy="392760"/>
                <a:chOff x="2314800" y="2276640"/>
                <a:chExt cx="375480" cy="392760"/>
              </a:xfrm>
            </p:grpSpPr>
            <p:sp>
              <p:nvSpPr>
                <p:cNvPr id="659" name="Oval 163"/>
                <p:cNvSpPr/>
                <p:nvPr/>
              </p:nvSpPr>
              <p:spPr>
                <a:xfrm>
                  <a:off x="2314800" y="2276640"/>
                  <a:ext cx="375480" cy="3927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0" name="Group 164"/>
                <p:cNvGrpSpPr/>
                <p:nvPr/>
              </p:nvGrpSpPr>
              <p:grpSpPr>
                <a:xfrm>
                  <a:off x="2372400" y="2336760"/>
                  <a:ext cx="259920" cy="271800"/>
                  <a:chOff x="2372400" y="2336760"/>
                  <a:chExt cx="259920" cy="271800"/>
                </a:xfrm>
              </p:grpSpPr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2372400" y="2336760"/>
                    <a:ext cx="259920" cy="271800"/>
                    <a:chOff x="2372400" y="2336760"/>
                    <a:chExt cx="259920" cy="271800"/>
                  </a:xfrm>
                </p:grpSpPr>
                <p:sp>
                  <p:nvSpPr>
                    <p:cNvPr id="662" name="Line 165"/>
                    <p:cNvSpPr/>
                    <p:nvPr/>
                  </p:nvSpPr>
                  <p:spPr>
                    <a:xfrm>
                      <a:off x="2372400" y="2336760"/>
                      <a:ext cx="259920" cy="271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 txBox="1"/>
                    <p:nvPr/>
                  </p:nvSpPr>
                  <p:spPr>
                    <a:xfrm>
                      <a:off x="2372400" y="2336760"/>
                      <a:ext cx="259920" cy="271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2372400" y="2336760"/>
                    <a:ext cx="259920" cy="271800"/>
                    <a:chOff x="2372400" y="2336760"/>
                    <a:chExt cx="259920" cy="271800"/>
                  </a:xfrm>
                </p:grpSpPr>
                <p:sp>
                  <p:nvSpPr>
                    <p:cNvPr id="665" name="Line 166"/>
                    <p:cNvSpPr/>
                    <p:nvPr/>
                  </p:nvSpPr>
                  <p:spPr>
                    <a:xfrm flipH="1">
                      <a:off x="2372400" y="2336760"/>
                      <a:ext cx="259920" cy="271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 txBox="1"/>
                    <p:nvPr/>
                  </p:nvSpPr>
                  <p:spPr>
                    <a:xfrm>
                      <a:off x="2372400" y="2336760"/>
                      <a:ext cx="259920" cy="271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67" name=""/>
              <p:cNvGrpSpPr/>
              <p:nvPr/>
            </p:nvGrpSpPr>
            <p:grpSpPr>
              <a:xfrm>
                <a:off x="1736640" y="4359600"/>
                <a:ext cx="699120" cy="360"/>
                <a:chOff x="1736640" y="4359600"/>
                <a:chExt cx="699120" cy="360"/>
              </a:xfrm>
            </p:grpSpPr>
            <p:sp>
              <p:nvSpPr>
                <p:cNvPr id="668" name="Line 167"/>
                <p:cNvSpPr/>
                <p:nvPr/>
              </p:nvSpPr>
              <p:spPr>
                <a:xfrm flipH="1">
                  <a:off x="1736640" y="4359600"/>
                  <a:ext cx="698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 txBox="1"/>
                <p:nvPr/>
              </p:nvSpPr>
              <p:spPr>
                <a:xfrm>
                  <a:off x="1737000" y="4359600"/>
                  <a:ext cx="698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Group 168"/>
              <p:cNvGrpSpPr/>
              <p:nvPr/>
            </p:nvGrpSpPr>
            <p:grpSpPr>
              <a:xfrm>
                <a:off x="1136160" y="4169160"/>
                <a:ext cx="601200" cy="379080"/>
                <a:chOff x="1136160" y="4169160"/>
                <a:chExt cx="601200" cy="379080"/>
              </a:xfrm>
            </p:grpSpPr>
            <p:grpSp>
              <p:nvGrpSpPr>
                <p:cNvPr id="671" name=""/>
                <p:cNvGrpSpPr/>
                <p:nvPr/>
              </p:nvGrpSpPr>
              <p:grpSpPr>
                <a:xfrm>
                  <a:off x="1195920" y="4169160"/>
                  <a:ext cx="360" cy="379080"/>
                  <a:chOff x="1195920" y="4169160"/>
                  <a:chExt cx="360" cy="379080"/>
                </a:xfrm>
              </p:grpSpPr>
              <p:sp>
                <p:nvSpPr>
                  <p:cNvPr id="672" name="Line 169"/>
                  <p:cNvSpPr/>
                  <p:nvPr/>
                </p:nvSpPr>
                <p:spPr>
                  <a:xfrm>
                    <a:off x="1195920" y="4169160"/>
                    <a:ext cx="0" cy="379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 txBox="1"/>
                  <p:nvPr/>
                </p:nvSpPr>
                <p:spPr>
                  <a:xfrm>
                    <a:off x="1195920" y="4169160"/>
                    <a:ext cx="360" cy="379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1136160" y="4232160"/>
                  <a:ext cx="360" cy="252720"/>
                  <a:chOff x="1136160" y="4232160"/>
                  <a:chExt cx="360" cy="252720"/>
                </a:xfrm>
              </p:grpSpPr>
              <p:sp>
                <p:nvSpPr>
                  <p:cNvPr id="675" name="Line 170"/>
                  <p:cNvSpPr/>
                  <p:nvPr/>
                </p:nvSpPr>
                <p:spPr>
                  <a:xfrm>
                    <a:off x="1136160" y="4232160"/>
                    <a:ext cx="0" cy="252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 txBox="1"/>
                  <p:nvPr/>
                </p:nvSpPr>
                <p:spPr>
                  <a:xfrm>
                    <a:off x="1136160" y="4232160"/>
                    <a:ext cx="360" cy="25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"/>
                <p:cNvGrpSpPr/>
                <p:nvPr/>
              </p:nvGrpSpPr>
              <p:grpSpPr>
                <a:xfrm>
                  <a:off x="1737000" y="4169160"/>
                  <a:ext cx="360" cy="379080"/>
                  <a:chOff x="1737000" y="4169160"/>
                  <a:chExt cx="360" cy="379080"/>
                </a:xfrm>
              </p:grpSpPr>
              <p:sp>
                <p:nvSpPr>
                  <p:cNvPr id="678" name="Line 171"/>
                  <p:cNvSpPr/>
                  <p:nvPr/>
                </p:nvSpPr>
                <p:spPr>
                  <a:xfrm>
                    <a:off x="1737000" y="4169160"/>
                    <a:ext cx="0" cy="379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 txBox="1"/>
                  <p:nvPr/>
                </p:nvSpPr>
                <p:spPr>
                  <a:xfrm>
                    <a:off x="1737000" y="4169160"/>
                    <a:ext cx="360" cy="379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1676880" y="4232160"/>
                  <a:ext cx="360" cy="252720"/>
                  <a:chOff x="1676880" y="4232160"/>
                  <a:chExt cx="360" cy="252720"/>
                </a:xfrm>
              </p:grpSpPr>
              <p:sp>
                <p:nvSpPr>
                  <p:cNvPr id="681" name="Line 172"/>
                  <p:cNvSpPr/>
                  <p:nvPr/>
                </p:nvSpPr>
                <p:spPr>
                  <a:xfrm>
                    <a:off x="1676880" y="4232160"/>
                    <a:ext cx="0" cy="252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 txBox="1"/>
                  <p:nvPr/>
                </p:nvSpPr>
                <p:spPr>
                  <a:xfrm>
                    <a:off x="1676880" y="4232160"/>
                    <a:ext cx="360" cy="25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3" name=""/>
              <p:cNvGrpSpPr/>
              <p:nvPr/>
            </p:nvGrpSpPr>
            <p:grpSpPr>
              <a:xfrm>
                <a:off x="1544040" y="2469240"/>
                <a:ext cx="766080" cy="360"/>
                <a:chOff x="1544040" y="2469240"/>
                <a:chExt cx="766080" cy="360"/>
              </a:xfrm>
            </p:grpSpPr>
            <p:sp>
              <p:nvSpPr>
                <p:cNvPr id="684" name="Line 173"/>
                <p:cNvSpPr/>
                <p:nvPr/>
              </p:nvSpPr>
              <p:spPr>
                <a:xfrm flipH="1">
                  <a:off x="1544040" y="2469240"/>
                  <a:ext cx="766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 txBox="1"/>
                <p:nvPr/>
              </p:nvSpPr>
              <p:spPr>
                <a:xfrm>
                  <a:off x="1544040" y="2469240"/>
                  <a:ext cx="766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Oval 174"/>
              <p:cNvSpPr/>
              <p:nvPr/>
            </p:nvSpPr>
            <p:spPr>
              <a:xfrm>
                <a:off x="1740600" y="3228840"/>
                <a:ext cx="375120" cy="396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Text Box 175"/>
              <p:cNvSpPr/>
              <p:nvPr/>
            </p:nvSpPr>
            <p:spPr>
              <a:xfrm>
                <a:off x="1730880" y="3196440"/>
                <a:ext cx="69372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Text Box 176"/>
              <p:cNvSpPr/>
              <p:nvPr/>
            </p:nvSpPr>
            <p:spPr>
              <a:xfrm>
                <a:off x="2380680" y="4394520"/>
                <a:ext cx="69372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Oval 177"/>
              <p:cNvSpPr/>
              <p:nvPr/>
            </p:nvSpPr>
            <p:spPr>
              <a:xfrm>
                <a:off x="468360" y="3340440"/>
                <a:ext cx="1389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178"/>
              <p:cNvSpPr/>
              <p:nvPr/>
            </p:nvSpPr>
            <p:spPr>
              <a:xfrm>
                <a:off x="3282120" y="3348720"/>
                <a:ext cx="138960" cy="11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1" name="Freeform 101"/>
          <p:cNvSpPr/>
          <p:nvPr/>
        </p:nvSpPr>
        <p:spPr>
          <a:xfrm>
            <a:off x="4500720" y="2492280"/>
            <a:ext cx="2808000" cy="1441440"/>
          </a:xfrm>
          <a:custGeom>
            <a:avLst/>
            <a:gdLst/>
            <a:ahLst/>
            <a:rect l="l" t="t" r="r" b="b"/>
            <a:pathLst>
              <a:path w="1030" h="1165">
                <a:moveTo>
                  <a:pt x="1030" y="0"/>
                </a:moveTo>
                <a:cubicBezTo>
                  <a:pt x="963" y="34"/>
                  <a:pt x="899" y="43"/>
                  <a:pt x="828" y="64"/>
                </a:cubicBezTo>
                <a:cubicBezTo>
                  <a:pt x="750" y="88"/>
                  <a:pt x="680" y="119"/>
                  <a:pt x="604" y="149"/>
                </a:cubicBezTo>
                <a:cubicBezTo>
                  <a:pt x="494" y="254"/>
                  <a:pt x="362" y="333"/>
                  <a:pt x="262" y="448"/>
                </a:cubicBezTo>
                <a:cubicBezTo>
                  <a:pt x="224" y="491"/>
                  <a:pt x="216" y="484"/>
                  <a:pt x="188" y="533"/>
                </a:cubicBezTo>
                <a:cubicBezTo>
                  <a:pt x="156" y="588"/>
                  <a:pt x="135" y="645"/>
                  <a:pt x="113" y="704"/>
                </a:cubicBezTo>
                <a:cubicBezTo>
                  <a:pt x="108" y="718"/>
                  <a:pt x="106" y="732"/>
                  <a:pt x="102" y="746"/>
                </a:cubicBezTo>
                <a:cubicBezTo>
                  <a:pt x="96" y="767"/>
                  <a:pt x="81" y="810"/>
                  <a:pt x="81" y="810"/>
                </a:cubicBezTo>
                <a:cubicBezTo>
                  <a:pt x="72" y="868"/>
                  <a:pt x="61" y="924"/>
                  <a:pt x="49" y="981"/>
                </a:cubicBezTo>
                <a:cubicBezTo>
                  <a:pt x="60" y="1165"/>
                  <a:pt x="0" y="1162"/>
                  <a:pt x="70" y="116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8199"/>
          <p:cNvSpPr/>
          <p:nvPr/>
        </p:nvSpPr>
        <p:spPr>
          <a:xfrm>
            <a:off x="1486080" y="169056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1:22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35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