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3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type.wav" ContentType="audio/x-wav"/>
  <Override PartName="/ppt/media/image1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7.jpeg" ContentType="image/jpeg"/>
  <Override PartName="/ppt/media/image14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E90-7D9F-44E6-8EEB-9BCD622F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50D-80C3-408C-A98F-06962B8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867-9123-433F-9536-7EC65900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EFC-1844-41BB-AEBE-9E7A046B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1F02-8B71-47A7-8BC2-4B8A1FD0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5922-5C87-4430-AEF0-061C26E7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AE46-AB7F-4756-A8F3-DF839365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51B9-6D8F-4D07-B48B-ABCB6F16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8498-9110-46A5-A91B-E7CC976C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7121-75A1-4BAC-BE02-1239AE31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E8FF-E1F7-4A2C-A6BF-B792F450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217-2A75-4293-87EE-EEEE027E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60CD-4C99-4644-95A2-905ECA42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4A5F-D9DE-450D-94DA-A8FC9B33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EE4B-502E-4BFF-911B-91EF2AC4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495E-E161-4648-85CC-99713A6B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8482-276E-44D1-8B96-07277055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33D-6F83-40B6-B0C3-9352EB06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FFA-6272-46DD-85CB-155FB882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6F3-0197-4A3C-B227-D1A29003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84A-0E46-4E39-A847-7A53A567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688-513A-40D3-8D5F-F7F10D03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4EA-8F71-47B5-AF94-1386E663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176-00A3-4D7A-94A4-EE05B8DB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7F43-0EDF-451D-9A99-504D3FCF9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E874-6BBF-4F80-BC8D-F808072ED1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15" descr=""/>
          <p:cNvPicPr/>
          <p:nvPr/>
        </p:nvPicPr>
        <p:blipFill>
          <a:blip r:embed="rId2"/>
          <a:stretch/>
        </p:blipFill>
        <p:spPr>
          <a:xfrm>
            <a:off x="1398600" y="2055960"/>
            <a:ext cx="6561000" cy="206028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1403280" y="907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单元　经济重心的南移和民族关系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火统（1332年）"/>
          <p:cNvPicPr/>
          <p:nvPr/>
        </p:nvPicPr>
        <p:blipFill>
          <a:blip r:embed="rId2"/>
          <a:srcRect l="0" t="-12005" r="-11996" b="0"/>
          <a:stretch/>
        </p:blipFill>
        <p:spPr>
          <a:xfrm>
            <a:off x="4356000" y="620640"/>
            <a:ext cx="5040360" cy="414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200667115328501"/>
          <p:cNvPicPr/>
          <p:nvPr/>
        </p:nvPicPr>
        <p:blipFill>
          <a:blip r:embed="rId3"/>
          <a:stretch/>
        </p:blipFill>
        <p:spPr>
          <a:xfrm>
            <a:off x="179280" y="333360"/>
            <a:ext cx="4656240" cy="3432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932360" y="404640"/>
            <a:ext cx="28098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元代火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79280" y="333360"/>
            <a:ext cx="284652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突火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55640" y="4797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火药除了用于军事还有哪些用途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920" y="352440"/>
            <a:ext cx="230328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宋元火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宋A5"/>
          <p:cNvPicPr/>
          <p:nvPr/>
        </p:nvPicPr>
        <p:blipFill>
          <a:blip r:embed="rId2"/>
          <a:stretch/>
        </p:blipFill>
        <p:spPr>
          <a:xfrm>
            <a:off x="539640" y="1052640"/>
            <a:ext cx="4032360" cy="376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5" descr="nw051010022"/>
          <p:cNvPicPr/>
          <p:nvPr/>
        </p:nvPicPr>
        <p:blipFill>
          <a:blip r:embed="rId3"/>
          <a:stretch/>
        </p:blipFill>
        <p:spPr>
          <a:xfrm>
            <a:off x="5003640" y="1052640"/>
            <a:ext cx="3332160" cy="38163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5076720" y="333360"/>
            <a:ext cx="35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神六航天火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900000" y="501336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　　　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宋元时期的火箭发射与我们现在的火箭发射是否有相同之处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404640"/>
          <a:ext cx="8964720" cy="6581880"/>
        </p:xfrm>
        <a:graphic>
          <a:graphicData uri="http://schemas.openxmlformats.org/drawingml/2006/table">
            <a:tbl>
              <a:tblPr/>
              <a:tblGrid>
                <a:gridCol w="1403280"/>
                <a:gridCol w="1081080"/>
                <a:gridCol w="1871640"/>
                <a:gridCol w="4608720"/>
              </a:tblGrid>
              <a:tr h="57600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类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发明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朝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成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活字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刷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北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经济、省时，大大促进文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传播。比欧洲早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约四百年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 gridSpan="2" rowSpan="2"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指南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战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制成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司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这是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世界上最早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指南仪器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宋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北宋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，制成了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指南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并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开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用于航海事业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南宋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，指南针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广泛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用于航海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业，还由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阿拉伯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传入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欧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gridSpan="2" rowSpan="4"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火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火药是我国古代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炼丹家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发明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唐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火药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开始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于军事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宋元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火药武器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广泛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用于战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世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传入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阿拉伯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欧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457080" y="333360"/>
            <a:ext cx="3353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  <a:ea typeface="华文隶书"/>
              </a:rPr>
              <a:t>中国古代四大发明简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197000"/>
          <a:ext cx="8589960" cy="5530680"/>
        </p:xfrm>
        <a:graphic>
          <a:graphicData uri="http://schemas.openxmlformats.org/drawingml/2006/table">
            <a:tbl>
              <a:tblPr/>
              <a:tblGrid>
                <a:gridCol w="1322280"/>
                <a:gridCol w="1838520"/>
                <a:gridCol w="1842840"/>
                <a:gridCol w="3586320"/>
              </a:tblGrid>
              <a:tr h="988920"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琥珀"/>
                          <a:ea typeface="华文琥珀"/>
                        </a:rPr>
                        <a:t>名　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琥珀"/>
                          <a:ea typeface="华文琥珀"/>
                        </a:rPr>
                        <a:t>时　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琥珀"/>
                          <a:ea typeface="华文琥珀"/>
                        </a:rPr>
                        <a:t>发  明  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琥珀"/>
                          <a:ea typeface="华文琥珀"/>
                        </a:rPr>
                        <a:t>传　　　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造纸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印刷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指南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火　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7" name="Group 35"/>
          <p:cNvGrpSpPr/>
          <p:nvPr/>
        </p:nvGrpSpPr>
        <p:grpSpPr>
          <a:xfrm>
            <a:off x="2050920" y="5734080"/>
            <a:ext cx="6553080" cy="930240"/>
            <a:chOff x="2050920" y="5734080"/>
            <a:chExt cx="6553080" cy="930240"/>
          </a:xfrm>
        </p:grpSpPr>
        <p:sp>
          <p:nvSpPr>
            <p:cNvPr id="148" name="Rectangle 36"/>
            <p:cNvSpPr/>
            <p:nvPr/>
          </p:nvSpPr>
          <p:spPr>
            <a:xfrm>
              <a:off x="5370120" y="5734080"/>
              <a:ext cx="323388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3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仿宋"/>
                  <a:ea typeface="华文仿宋"/>
                </a:rPr>
                <a:t>～</a:t>
              </a:r>
              <a:r>
                <a:rPr b="1" lang="en-US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4</a:t>
              </a: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世纪火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传入阿拉伯和欧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7"/>
            <p:cNvSpPr/>
            <p:nvPr/>
          </p:nvSpPr>
          <p:spPr>
            <a:xfrm>
              <a:off x="3708000" y="5734080"/>
              <a:ext cx="166212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炼丹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>
              <a:off x="2050920" y="5734080"/>
              <a:ext cx="165708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9"/>
          <p:cNvGrpSpPr/>
          <p:nvPr/>
        </p:nvGrpSpPr>
        <p:grpSpPr>
          <a:xfrm>
            <a:off x="1763640" y="4724280"/>
            <a:ext cx="6575040" cy="1031760"/>
            <a:chOff x="1763640" y="4724280"/>
            <a:chExt cx="6575040" cy="1031760"/>
          </a:xfrm>
        </p:grpSpPr>
        <p:sp>
          <p:nvSpPr>
            <p:cNvPr id="152" name="Rectangle 40"/>
            <p:cNvSpPr/>
            <p:nvPr/>
          </p:nvSpPr>
          <p:spPr>
            <a:xfrm>
              <a:off x="5094000" y="4724280"/>
              <a:ext cx="324468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世纪经阿拉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传入欧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1"/>
            <p:cNvSpPr/>
            <p:nvPr/>
          </p:nvSpPr>
          <p:spPr>
            <a:xfrm>
              <a:off x="3426120" y="4724280"/>
              <a:ext cx="16675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劳动人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2"/>
            <p:cNvSpPr/>
            <p:nvPr/>
          </p:nvSpPr>
          <p:spPr>
            <a:xfrm>
              <a:off x="1763640" y="4724280"/>
              <a:ext cx="166248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战国司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北宋指南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3"/>
          <p:cNvGrpSpPr/>
          <p:nvPr/>
        </p:nvGrpSpPr>
        <p:grpSpPr>
          <a:xfrm>
            <a:off x="1763640" y="3284640"/>
            <a:ext cx="6768720" cy="1305000"/>
            <a:chOff x="1763640" y="3284640"/>
            <a:chExt cx="6768720" cy="1305000"/>
          </a:xfrm>
        </p:grpSpPr>
        <p:sp>
          <p:nvSpPr>
            <p:cNvPr id="156" name="Rectangle 44"/>
            <p:cNvSpPr/>
            <p:nvPr/>
          </p:nvSpPr>
          <p:spPr>
            <a:xfrm>
              <a:off x="5191920" y="3284640"/>
              <a:ext cx="334044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北宋时传到日本、朝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元朝时传到欧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"/>
            <p:cNvSpPr/>
            <p:nvPr/>
          </p:nvSpPr>
          <p:spPr>
            <a:xfrm>
              <a:off x="3475080" y="3284640"/>
              <a:ext cx="171684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劳动人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毕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>
              <a:off x="1763640" y="3284640"/>
              <a:ext cx="171144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隋唐雕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北宋活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7"/>
          <p:cNvGrpSpPr/>
          <p:nvPr/>
        </p:nvGrpSpPr>
        <p:grpSpPr>
          <a:xfrm>
            <a:off x="1692360" y="2276640"/>
            <a:ext cx="6766920" cy="998280"/>
            <a:chOff x="1692360" y="2276640"/>
            <a:chExt cx="6766920" cy="998280"/>
          </a:xfrm>
        </p:grpSpPr>
        <p:sp>
          <p:nvSpPr>
            <p:cNvPr id="160" name="Rectangle 48"/>
            <p:cNvSpPr/>
            <p:nvPr/>
          </p:nvSpPr>
          <p:spPr>
            <a:xfrm>
              <a:off x="5119920" y="2276640"/>
              <a:ext cx="3339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魏晋南北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9"/>
            <p:cNvSpPr/>
            <p:nvPr/>
          </p:nvSpPr>
          <p:spPr>
            <a:xfrm>
              <a:off x="3403440" y="2276640"/>
              <a:ext cx="17161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劳动人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蔡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0"/>
            <p:cNvSpPr/>
            <p:nvPr/>
          </p:nvSpPr>
          <p:spPr>
            <a:xfrm>
              <a:off x="1692360" y="2276640"/>
              <a:ext cx="171108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西汉发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东汉改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572000" y="115920"/>
            <a:ext cx="4427640" cy="2997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华文隶书"/>
                <a:ea typeface="华文隶书"/>
              </a:rPr>
              <a:t>　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印刷术、火药和指南针这三种东西，已改变了世界的面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第一种在文学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第二种在战争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第三种在航海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由此又引起了无数的变化。这种变化如此之大，以致没有一个帝国，没有一个宗教教派，没有一个赫赫有名的人物，能比这三种发明在人类的事业中产生更大的力量和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222200" y="5373720"/>
            <a:ext cx="22924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3300"/>
                </a:solidFill>
                <a:latin typeface="Times New Roman"/>
                <a:ea typeface="黑体"/>
              </a:rPr>
              <a:t>弗兰西斯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黑体"/>
              </a:rPr>
              <a:t>·</a:t>
            </a:r>
            <a:r>
              <a:rPr b="0" lang="zh-CN" sz="2000" spc="-1" strike="noStrike">
                <a:solidFill>
                  <a:srgbClr val="663300"/>
                </a:solidFill>
                <a:latin typeface="Times New Roman"/>
                <a:ea typeface="黑体"/>
              </a:rPr>
              <a:t>培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Francis Ba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1561.1.22</a:t>
            </a:r>
            <a:r>
              <a:rPr b="0" lang="en-US" sz="1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～</a:t>
            </a:r>
            <a:r>
              <a:rPr b="0" lang="en-US" sz="1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1626.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英国哲学家　科学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p"/>
          <p:cNvPicPr/>
          <p:nvPr/>
        </p:nvPicPr>
        <p:blipFill>
          <a:blip r:embed="rId2"/>
          <a:stretch/>
        </p:blipFill>
        <p:spPr>
          <a:xfrm>
            <a:off x="684360" y="549360"/>
            <a:ext cx="3570120" cy="468612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8198"/>
          <p:cNvSpPr/>
          <p:nvPr/>
        </p:nvSpPr>
        <p:spPr>
          <a:xfrm>
            <a:off x="895320" y="1159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D:\我的文档\My Pictures\课件素材\G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1584360" y="5000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四大发明传播的历史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24000" y="1341360"/>
            <a:ext cx="8820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造纸术的发明，为人类提供了经济、便利的书写材料，有利于文化的普及和传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印刷术的出现，加快了文化的传播，改变了只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等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才能读书的状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南针应用于航海，为环球航行和新大陆的发现提供了重要条件，促进了世界贸易的发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火药的使用，改变了作战方式，帮助资产阶级摧毁封建堡垒，加速了欧洲乃至全世界近代化的进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996920" y="98100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什么因素促使宋元时期科技得到如此发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24000" y="2133720"/>
            <a:ext cx="6696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宋元时期政治的发展，经济的繁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各民族各地区间经济文化的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承继隋唐时期文化和吸收外来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各族人民的聪明才智和辛勤的劳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430D-F297-40B4-BC9E-6053760FC9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印刷术、指南针、火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加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造纸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是我国古代人民的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四大发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，是中华民族对世界文明发展的重大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125360"/>
          <a:ext cx="8856720" cy="5514840"/>
        </p:xfrm>
        <a:graphic>
          <a:graphicData uri="http://schemas.openxmlformats.org/drawingml/2006/table">
            <a:tbl>
              <a:tblPr/>
              <a:tblGrid>
                <a:gridCol w="1152360"/>
                <a:gridCol w="4535640"/>
                <a:gridCol w="3168720"/>
              </a:tblGrid>
              <a:tr h="48564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科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发明或改进过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意义或地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活字印刷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北宋平民毕升发明，比欧洲早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大促进了文化的传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指南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战国时制成司南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北宋制成指南针，开始运用于航海事业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南宋时经阿拉伯人传到欧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广泛应用于航海，由阿拉伯人传入欧洲。为后来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欧洲航海家的航海活动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创造了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火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唐朝中期的书籍里有配方记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唐朝末年开始应用于军事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宋元时期火药武器广泛用于战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世纪传入阿拉伯和欧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火药和火器传到欧洲，不仅使他们的作战方法发生了变化，而且还对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资产阶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战胜封建主义起了一定作用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611280" y="134136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中国的四大发明指的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3933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造纸术、印刷术、指南针、火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图片1"/>
          <p:cNvPicPr/>
          <p:nvPr/>
        </p:nvPicPr>
        <p:blipFill>
          <a:blip r:embed="rId2"/>
          <a:stretch/>
        </p:blipFill>
        <p:spPr>
          <a:xfrm>
            <a:off x="0" y="404640"/>
            <a:ext cx="1752480" cy="10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774520" y="981000"/>
            <a:ext cx="3735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宋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时期是我国古代科技发展的高峰时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活字印刷术的发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南针的发明和广泛使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火药的广泛使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5"/>
          <p:cNvSpPr txBox="1"/>
          <p:nvPr/>
        </p:nvSpPr>
        <p:spPr>
          <a:xfrm>
            <a:off x="1763640" y="2997360"/>
            <a:ext cx="568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活字印刷术的发明</a:t>
            </a:r>
            <a:endParaRPr b="1" lang="en-US" sz="1800" spc="1" strike="noStrike">
              <a:ln w="2232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684360" y="765000"/>
            <a:ext cx="251460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探究新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0400" y="1052640"/>
            <a:ext cx="763596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雕版印刷术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83340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773440" y="1438200"/>
            <a:ext cx="934920" cy="360"/>
            <a:chOff x="2773440" y="1438200"/>
            <a:chExt cx="934920" cy="360"/>
          </a:xfrm>
        </p:grpSpPr>
        <p:sp>
          <p:nvSpPr>
            <p:cNvPr id="95" name="Line 7"/>
            <p:cNvSpPr/>
            <p:nvPr/>
          </p:nvSpPr>
          <p:spPr>
            <a:xfrm>
              <a:off x="2773440" y="1438200"/>
              <a:ext cx="9349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2773440" y="1438200"/>
              <a:ext cx="93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9"/>
          <p:cNvSpPr/>
          <p:nvPr/>
        </p:nvSpPr>
        <p:spPr>
          <a:xfrm>
            <a:off x="250920" y="333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印刷术的发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3492360" y="220500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latin typeface="隶书"/>
              </a:rPr>
              <a:t>现代印刷术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stretch/>
              </a:blipFill>
              <a:latin typeface="隶书"/>
              <a:ea typeface="隶书"/>
            </a:endParaRPr>
          </a:p>
        </p:txBody>
      </p:sp>
      <p:pic>
        <p:nvPicPr>
          <p:cNvPr id="99" name="Picture 11" descr="14577"/>
          <p:cNvPicPr/>
          <p:nvPr/>
        </p:nvPicPr>
        <p:blipFill>
          <a:blip r:embed="rId4"/>
          <a:stretch/>
        </p:blipFill>
        <p:spPr>
          <a:xfrm>
            <a:off x="306360" y="4076640"/>
            <a:ext cx="3041640" cy="2035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14581"/>
          <p:cNvPicPr/>
          <p:nvPr/>
        </p:nvPicPr>
        <p:blipFill>
          <a:blip r:embed="rId5"/>
          <a:stretch/>
        </p:blipFill>
        <p:spPr>
          <a:xfrm>
            <a:off x="3478320" y="4076640"/>
            <a:ext cx="2606400" cy="212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Dj12180b3"/>
          <p:cNvPicPr/>
          <p:nvPr/>
        </p:nvPicPr>
        <p:blipFill>
          <a:blip r:embed="rId6"/>
          <a:stretch/>
        </p:blipFill>
        <p:spPr>
          <a:xfrm>
            <a:off x="6216480" y="4076640"/>
            <a:ext cx="2532240" cy="2160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5"/>
          <p:cNvSpPr/>
          <p:nvPr/>
        </p:nvSpPr>
        <p:spPr>
          <a:xfrm>
            <a:off x="468360" y="3141720"/>
            <a:ext cx="8136000" cy="581400"/>
          </a:xfrm>
          <a:prstGeom prst="rect">
            <a:avLst/>
          </a:prstGeom>
          <a:solidFill>
            <a:srgbClr val="00ffff">
              <a:alpha val="7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电脑排版、激光照排、高速印刷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3606840" y="1052640"/>
            <a:ext cx="55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活字印刷术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643280" y="1628640"/>
            <a:ext cx="360" cy="675000"/>
            <a:chOff x="4643280" y="1628640"/>
            <a:chExt cx="360" cy="675000"/>
          </a:xfrm>
        </p:grpSpPr>
        <p:sp>
          <p:nvSpPr>
            <p:cNvPr id="105" name="Line 18"/>
            <p:cNvSpPr/>
            <p:nvPr/>
          </p:nvSpPr>
          <p:spPr>
            <a:xfrm>
              <a:off x="4643280" y="1628640"/>
              <a:ext cx="0" cy="675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643280" y="1628640"/>
              <a:ext cx="360" cy="67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2"/>
          <p:cNvGrpSpPr/>
          <p:nvPr/>
        </p:nvGrpSpPr>
        <p:grpSpPr>
          <a:xfrm>
            <a:off x="179280" y="1413000"/>
            <a:ext cx="3924360" cy="4049280"/>
            <a:chOff x="179280" y="1413000"/>
            <a:chExt cx="3924360" cy="4049280"/>
          </a:xfrm>
        </p:grpSpPr>
        <p:pic>
          <p:nvPicPr>
            <p:cNvPr id="108" name="Picture 2" descr="u=260472632,2126831066&amp;gp=8"/>
            <p:cNvPicPr/>
            <p:nvPr/>
          </p:nvPicPr>
          <p:blipFill>
            <a:blip r:embed="rId2"/>
            <a:stretch/>
          </p:blipFill>
          <p:spPr>
            <a:xfrm>
              <a:off x="755640" y="1413000"/>
              <a:ext cx="2612880" cy="33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3"/>
            <p:cNvSpPr/>
            <p:nvPr/>
          </p:nvSpPr>
          <p:spPr>
            <a:xfrm>
              <a:off x="179280" y="4941720"/>
              <a:ext cx="392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当代毕升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王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4"/>
          <p:cNvSpPr/>
          <p:nvPr/>
        </p:nvSpPr>
        <p:spPr>
          <a:xfrm>
            <a:off x="4716360" y="275796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王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汉字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激光照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系统的创始人和技术负责人。他所领导的科研集体研制出的汉字激光照排系统为新闻、出版全过程的计算机化奠定了基础，被誉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汉字印刷术的第二次发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王选又研制成功世界首套中文彩色照排系统。他被誉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当代毕升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激光照排之父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284720" y="0"/>
            <a:ext cx="360" cy="6858000"/>
            <a:chOff x="4284720" y="0"/>
            <a:chExt cx="360" cy="6858000"/>
          </a:xfrm>
        </p:grpSpPr>
        <p:sp>
          <p:nvSpPr>
            <p:cNvPr id="112" name="Line 11"/>
            <p:cNvSpPr/>
            <p:nvPr/>
          </p:nvSpPr>
          <p:spPr>
            <a:xfrm>
              <a:off x="4284720" y="0"/>
              <a:ext cx="0" cy="6858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4284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8198"/>
          <p:cNvSpPr/>
          <p:nvPr/>
        </p:nvSpPr>
        <p:spPr>
          <a:xfrm>
            <a:off x="755640" y="5842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1547640" y="2637000"/>
            <a:ext cx="5904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指南针和火药的应用</a:t>
            </a:r>
            <a:endParaRPr b="1" lang="en-US" sz="1800" spc="1" strike="noStrike">
              <a:ln w="2232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684360" y="765000"/>
            <a:ext cx="251460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探究新知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1116000" y="1700280"/>
            <a:ext cx="6696000" cy="3241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332000" y="30567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远离尘世的喧嚣，回归大自然的怀抱，旅游已经成为当今的时尚。假如你要去原始森林旅游，为防止迷失方向，你应该携带哪些物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324000" y="189000"/>
            <a:ext cx="5184720" cy="520560"/>
            <a:chOff x="324000" y="189000"/>
            <a:chExt cx="5184720" cy="520560"/>
          </a:xfrm>
        </p:grpSpPr>
        <p:sp>
          <p:nvSpPr>
            <p:cNvPr id="120" name="Rectangle 2"/>
            <p:cNvSpPr/>
            <p:nvPr/>
          </p:nvSpPr>
          <p:spPr>
            <a:xfrm>
              <a:off x="324000" y="189000"/>
              <a:ext cx="2879640" cy="503280"/>
            </a:xfrm>
            <a:prstGeom prst="rect">
              <a:avLst/>
            </a:prstGeom>
            <a:solidFill>
              <a:srgbClr val="ffff00"/>
            </a:solidFill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539640" y="189000"/>
              <a:ext cx="496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我要去旅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6"/>
          <p:cNvGrpSpPr/>
          <p:nvPr/>
        </p:nvGrpSpPr>
        <p:grpSpPr>
          <a:xfrm>
            <a:off x="755640" y="476280"/>
            <a:ext cx="3887640" cy="3617640"/>
            <a:chOff x="755640" y="476280"/>
            <a:chExt cx="3887640" cy="3617640"/>
          </a:xfrm>
        </p:grpSpPr>
        <p:pic>
          <p:nvPicPr>
            <p:cNvPr id="123" name="Picture 3" descr="CCB002P"/>
            <p:cNvPicPr/>
            <p:nvPr/>
          </p:nvPicPr>
          <p:blipFill>
            <a:blip r:embed="rId2"/>
            <a:stretch/>
          </p:blipFill>
          <p:spPr>
            <a:xfrm>
              <a:off x="755640" y="476280"/>
              <a:ext cx="3809880" cy="30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5"/>
            <p:cNvSpPr/>
            <p:nvPr/>
          </p:nvSpPr>
          <p:spPr>
            <a:xfrm>
              <a:off x="1692360" y="3573360"/>
              <a:ext cx="29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司南模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7"/>
          <p:cNvGrpSpPr/>
          <p:nvPr/>
        </p:nvGrpSpPr>
        <p:grpSpPr>
          <a:xfrm>
            <a:off x="4788000" y="476280"/>
            <a:ext cx="3809880" cy="3689280"/>
            <a:chOff x="4788000" y="476280"/>
            <a:chExt cx="3809880" cy="3689280"/>
          </a:xfrm>
        </p:grpSpPr>
        <p:pic>
          <p:nvPicPr>
            <p:cNvPr id="126" name="Picture 4" descr="CCB014P"/>
            <p:cNvPicPr/>
            <p:nvPr/>
          </p:nvPicPr>
          <p:blipFill>
            <a:blip r:embed="rId3"/>
            <a:stretch/>
          </p:blipFill>
          <p:spPr>
            <a:xfrm>
              <a:off x="4788000" y="476280"/>
              <a:ext cx="380988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6"/>
            <p:cNvSpPr/>
            <p:nvPr/>
          </p:nvSpPr>
          <p:spPr>
            <a:xfrm>
              <a:off x="5940360" y="3645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北宋罗盘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826920" y="4290840"/>
            <a:ext cx="7561440" cy="2233800"/>
            <a:chOff x="826920" y="4290840"/>
            <a:chExt cx="7561440" cy="2233800"/>
          </a:xfrm>
        </p:grpSpPr>
        <p:pic>
          <p:nvPicPr>
            <p:cNvPr id="129" name="Picture 9" descr="u=391865395,622678510&amp;gp=-16"/>
            <p:cNvPicPr/>
            <p:nvPr/>
          </p:nvPicPr>
          <p:blipFill>
            <a:blip r:embed="rId4"/>
            <a:stretch/>
          </p:blipFill>
          <p:spPr>
            <a:xfrm>
              <a:off x="826920" y="4292640"/>
              <a:ext cx="168444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0" descr="u=2962297776,4075493263&amp;gp=32"/>
            <p:cNvPicPr/>
            <p:nvPr/>
          </p:nvPicPr>
          <p:blipFill>
            <a:blip r:embed="rId5"/>
            <a:stretch/>
          </p:blipFill>
          <p:spPr>
            <a:xfrm>
              <a:off x="2700360" y="4292640"/>
              <a:ext cx="190008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1" descr="u=3889603505,2576852356&amp;gp=48"/>
            <p:cNvPicPr/>
            <p:nvPr/>
          </p:nvPicPr>
          <p:blipFill>
            <a:blip r:embed="rId6"/>
            <a:stretch/>
          </p:blipFill>
          <p:spPr>
            <a:xfrm>
              <a:off x="6732720" y="4292640"/>
              <a:ext cx="165564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2" descr="u=3135762266,3295182698&amp;gp=44"/>
            <p:cNvPicPr/>
            <p:nvPr/>
          </p:nvPicPr>
          <p:blipFill>
            <a:blip r:embed="rId7"/>
            <a:stretch/>
          </p:blipFill>
          <p:spPr>
            <a:xfrm>
              <a:off x="4788000" y="4290840"/>
              <a:ext cx="17287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13"/>
            <p:cNvSpPr/>
            <p:nvPr/>
          </p:nvSpPr>
          <p:spPr>
            <a:xfrm>
              <a:off x="3059280" y="5943600"/>
              <a:ext cx="32414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现在的指南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7:05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53Z</dcterms:modified>
  <cp:revision>46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